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6DD-C5E0-48D5-9481-F20659AC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0BDB-8E5A-4603-9597-400C7042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0C93-1443-4CC4-A2B4-F56BF2B0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F458-AEC8-4B35-85DB-6B1743A6E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8C78-037B-4BC3-B380-F6924B3D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C59D0-0FA4-4530-B216-07A3120BD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53AE-6F5F-43DD-85E2-EBBA07BA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570D7-DE5B-4C9F-9245-488AAB25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B10D-2F6E-4E42-9787-DC1E2911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9556-28D0-4AAD-A35D-09D49964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1AC6-E58C-4622-8236-E8855D45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90D0-F30B-4D1C-95DD-ED8C9862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2B332-472C-4061-8C00-C4681767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4549-232B-4972-AE10-326998B2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AB294-28D9-4C7F-957B-FA61B206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FC7-585D-4FF2-B253-70A75358D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EFF81-5FDA-4B4A-9574-E13E2D65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6BC-FD0D-4B16-8E03-F5DC7E90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F7FC-4778-4A3E-AE27-A2B5C75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E6A-6566-4948-A82E-035E5D68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B3E7-5C93-428F-9BAF-58495673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7D6-D4C4-4E2E-A27E-9B44630D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F076-DF96-4984-929F-792D087C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53E-13D7-4E6B-95AE-03FABA5F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D8BE-D660-44D2-92C7-C887D995CD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6573-4003-4D5A-8AA2-3CEDD193B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79200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Comic Sans MS"/>
              </a:rPr>
              <a:t>Составление простейших планов местности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148000" y="5084640"/>
            <a:ext cx="334476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9360">
            <a:solidFill>
              <a:srgbClr val="703d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703dff"/>
                </a:solidFill>
                <a:latin typeface="Comic Sans MS"/>
              </a:rPr>
              <a:t>Задание на дом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3141360"/>
            <a:ext cx="769608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1" lang="ru-RU" sz="72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7696080" cy="48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1" i="1" lang="ru-RU" sz="2000" spc="-1" strike="noStrike">
                <a:solidFill>
                  <a:srgbClr val="703dff"/>
                </a:solidFill>
                <a:latin typeface="Comic Sans MS"/>
              </a:rPr>
              <a:t>Виды съемок местности.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 Глазомерная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—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 местности, проводящаяся простыми приборами, расстояния оцениваются на глаз.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ъемка производится в последовательности: подготовка планшета— определение масштаба— определение направлений к предметам — измерение расстояний до них- изображение на планшете условными знакам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Глазомерную съемку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можно вести двумя способами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а)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нимать с одной точки —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олярная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б)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двигаться по выбранному маршруту - </a:t>
            </a: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маршрутная </a:t>
            </a: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съемка.</a:t>
            </a:r>
            <a:br>
              <a:rPr sz="2000"/>
            </a:b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4400" spc="-1" strike="noStrike">
                <a:solidFill>
                  <a:srgbClr val="703dff"/>
                </a:solidFill>
                <a:latin typeface="Comic Sans MS"/>
              </a:rPr>
              <a:t>Оформление плана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дписывается название работ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  верхнем   левом   углу   листа   изображается   вертикальная стрелка, показывающая направление «север—юг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 правом углу надписывают масштаб (масштаб 1: 100.000;  в 1 см – 1 км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687204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Составление плана местности по описанию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2420640"/>
            <a:ext cx="3776760" cy="30654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территории данной местности в направлении с севера на юг проходит шоссе. Его пересекает грунтовая дорога, тянущаяся с юго-запада на северо-восток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05480" y="2420640"/>
            <a:ext cx="3776400" cy="30654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яемые действия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центре листа обозначают точку, которая будет точкой пересечения шоссе и грунтовой дорог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этой точки определяют направление на север и обозначают шоссе, проходящее с севера на ю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з этой же точки определяют направление на юго-запад и северо-восток и обозначают грунтовую дорогу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25636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5 км к северу от пересечения шоссе с грунтовой дорогой расположен сельский поселок Сорокино, который тянется вдоль шоссе на 1,5 км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691920"/>
            <a:ext cx="4038480" cy="567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ответствии с величиной масштаба из точки пересечения шоссе с грунтовой дорогой откладывают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5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на север и определяют южную границу поселка. Затем откладывают еще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1,5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определяют его северную границу. Обозначают поселок условным знаком по обе стороны шоссе. Подписывают название поселк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8920" y="907920"/>
            <a:ext cx="37450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держание зад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доль западной окраины поселка расположен сад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067280" y="907920"/>
            <a:ext cx="396072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яют западную окраину поселка и условным знаком обозначают сад, четко показав его северную, южную и восточную границы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038480" cy="52578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3 км к югу от места пересечения шоссе и грунтовой дороги построен металлический мост через реку, которая течет в юго-западном направлении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140360" y="836280"/>
            <a:ext cx="4038480" cy="53290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точки пересечения шоссе с грунтовой дорогой откладывают к югу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3 с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и обозначают металлический мост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з центра моста определяют направление на юго-запад и обозначают реку. Стрелкой показывают направление ее течени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0" y="0"/>
            <a:ext cx="40384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правом берегу реки лежит луг, а вдоль левого тянется смешанный лес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11640" y="220500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яют правый и левый берег реки. Вдоль правого берега обозначают луг, вдоль левого - смешанный лес, не указывая точные границы их распространения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4038480" cy="45259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Содержание задания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доль шоссе от моста до поселка протянулась полоса кустарника шириной до 500 м по обе стороны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038480" cy="4525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полняемые действия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 соответствии с величиной масштаба на расстоянии 0,5 см к западу и востоку от шоссе рисуют границу распространения кустарника и обозначают его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20:03:54Z</dcterms:created>
  <dc:creator>Demon</dc:creator>
  <dc:description/>
  <dc:language>en-US</dc:language>
  <cp:lastModifiedBy>Пользователь Windows</cp:lastModifiedBy>
  <dcterms:modified xsi:type="dcterms:W3CDTF">2024-01-08T12:38:41Z</dcterms:modified>
  <cp:revision>4</cp:revision>
  <dc:subject/>
  <dc:title>Составление простейших планов местности.</dc:title>
</cp:coreProperties>
</file>