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940-7B92-46C4-86DC-155DA91D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B93-26E5-4318-9875-28E1B9A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5024-84E2-42E6-B341-04030FE8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C56-EB94-4358-9DE0-E7C80AC4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0EF-5A7F-455C-BE67-1BB5E2AC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E8CA-2566-42E7-96E2-860E685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F098-E855-4BD9-A751-DDE5756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A46B-81A5-4AFD-962D-92DBB5EF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6C25-91CC-4416-93B6-CF48C7D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C044-44DB-4F73-8D3E-29F8024D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EA41-BB23-4002-8315-C7894E0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560-3B62-41C9-AEFA-012698CC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4511-2C13-464A-9393-F907501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E61B-591E-4A8F-90E6-DA796FB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336-0B77-4A76-B732-87907A6D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4A9F-BEDA-471A-8DB3-8EF84F26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AD9A-24AE-460D-95F7-509744B1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B50-9128-4612-95EB-726048E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63A-C649-4C2F-9818-BB48581B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E85-B62C-49B1-A89D-230DA71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317-1D1F-43A1-AE0F-7FF16E1E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A18-3EC1-4E1D-9EBB-E952D07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580-B87E-49BE-8877-85CAA1CD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229-2F0A-436B-B78B-7AFFD1F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249F-DC30-42AF-A950-8F40848FC8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480-7A66-4D6C-9D4F-7CCDE316B5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9200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omic Sans MS"/>
              </a:rPr>
              <a:t>Составление простейших планов местности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148000" y="5084640"/>
            <a:ext cx="334476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dff"/>
                </a:solidFill>
                <a:latin typeface="Comic Sans MS"/>
              </a:rPr>
              <a:t>Задание на д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141360"/>
            <a:ext cx="76960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76960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Виды съемок местности.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Глазомерна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 местности, проводящаяся простыми приборами, расстояния оцениваются на глаз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ъемка производится в последовательности: подготовка планшета— определение масштаба— определение направлений к предметам — измерение расстояний до них- изображение на планшете условными зна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лазомерную съемк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ожно вести двумя способ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нимать с одной точки —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лярная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вигаться по выбранному маршруту -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ршрутная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Оформление пла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писывается название рабо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  верхнем   левом   углу   листа   изображается   вертикальная стрелка, показывающая направление «север—юг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авом углу надписывают масштаб (масштаб 1: 100.000;  в 1 см – 1 км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68720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оставление плана местности по описани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3776760" cy="3065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территории данной местности в направлении с севера на юг проходит шоссе. Его пересекает грунтовая дорога, тянущаяся с юго-запада на северо-восто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5480" y="2420640"/>
            <a:ext cx="3776400" cy="3065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яемы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нтре листа обозначают точку, которая будет точкой пересечения шоссе и грунтовой дорог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этой точки определяют направление на север и обозначают шоссе, проходящее с севера на ю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этой же точки определяют направление на юго-запад и северо-восток и обозначают грунтовую дорог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256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5 км к северу от пересечения шоссе с грунтовой дорогой расположен сельский поселок Сорокино, который тянется вдоль шоссе на 1,5 к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691920"/>
            <a:ext cx="4038480" cy="567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ответствии с величиной масштаба из точки пересечения шоссе с грунтовой дорогой откладывают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север и определяют южную границу поселка. Затем откладывают ещ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,5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определяют его северную границу. Обозначают поселок условным знаком по обе стороны шоссе. Подписывают название посел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37450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доль западной окраины поселка расположен сад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396072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яют западную окраину поселка и условным знаком обозначают сад, четко показав его северную, южную и восточную границы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2578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3 км к югу от места пересечения шоссе и грунтовой дороги построен металлический мост через реку, которая течет в юго-западном направлен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360" y="836280"/>
            <a:ext cx="4038480" cy="5329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точки пересечения шоссе с грунтовой дорогой откладывают к югу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обозначают металлический мо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центра моста определяют направление на юго-запад и обозначают реку. Стрелкой показывают направление ее теч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авом берегу реки лежит луг, а вдоль левого тянется смешанный ле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640" y="220500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яют правый и левый берег реки. Вдоль правого берега обозначают луг, вдоль левого - смешанный лес, не указывая точные границы их распростран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40384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доль шоссе от моста до поселка протянулась полоса кустарника шириной до 500 м по обе сторон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ответствии с величиной масштаба на расстоянии 0,5 см к западу и востоку от шоссе рисуют границу распространения кустарника и обозначают ег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0:03:54Z</dcterms:created>
  <dc:creator>Demon</dc:creator>
  <dc:description/>
  <dc:language>en-US</dc:language>
  <cp:lastModifiedBy>Пользователь Windows</cp:lastModifiedBy>
  <dcterms:modified xsi:type="dcterms:W3CDTF">2024-01-08T12:38:41Z</dcterms:modified>
  <cp:revision>4</cp:revision>
  <dc:subject/>
  <dc:title>Составление простейших планов местности.</dc:title>
</cp:coreProperties>
</file>