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C8A-6316-4ED8-8F82-639F9797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607-683A-4488-B4F0-E4DFF7D3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BC9B-03B4-4DC1-BC50-735159D2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ADA7-5ADA-41D0-980A-4BE48241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0B21-29FF-4DBF-BF0C-867DE1E0F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ED4F-BE28-44DC-A34E-D104CAFC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E1014-97C2-449E-BF44-2543D019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B5DC-7E54-4373-A3F8-FE256B23E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837B-21F6-4B30-A8C6-86AEBD57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3348-ABE8-4A5F-A2B6-80BB7C92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1C04-67C5-462F-8125-780B7A74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50EE-4BFB-4FB8-9F0B-D2E2CBFBA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DE66-62F5-4C85-8DF0-3C2BD487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03DD-1EA8-496B-886A-BF4DB67DE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E37E-8B92-436F-B446-5675395D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B95A-D9D0-405E-923E-D38C6DB6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1135-807A-44FC-8845-E16F74DD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F1FA-8AAC-460A-B690-569702FB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5CE-9C04-40C2-B502-AD49ECC38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DBC6-0B16-4C00-84AB-CAA7A502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B6EA-7881-427C-98EB-58CDE0EF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357-4D9A-4316-BBCF-DB0FCE15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904-848B-4872-8B3C-BCCA1AA3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6CB9-6DF9-4761-9B20-ED511C53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C841-5607-4ACA-A722-97D0F9D05893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6778-BC99-4542-8C72-363E4717507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1371600" y="1143000"/>
            <a:ext cx="6095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умножали в старин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3962520" y="5943600"/>
            <a:ext cx="50292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Вопросы анкет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582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ужно ли современному человеку уметь умножать числа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ете ли Вы как умножали в древности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наете ли Вы такие способы умнож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) Умножение на пальцах однозначных чисел от 6 до 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) Умножение на 9 на пальц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) Индийский способ умн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) Умножение способом «МАЛЕНЬКИЙ ЗАМО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) Умножение чисел методом «Ревность или решетчатое умножени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) Графический способ умножения по - японс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ж) Русский крестьянский способ умно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1 и 2 вопрос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Диаграмма 4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925040" cy="4343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езультаты 3 вопро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Диаграмма 4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543800" cy="5410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9" descr="думающий.gif"/>
          <p:cNvPicPr/>
          <p:nvPr/>
        </p:nvPicPr>
        <p:blipFill>
          <a:blip r:embed="rId1"/>
          <a:stretch/>
        </p:blipFill>
        <p:spPr>
          <a:xfrm>
            <a:off x="7500960" y="4572000"/>
            <a:ext cx="1643040" cy="21099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808200" y="380880"/>
            <a:ext cx="8183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ть  различными   способами умножения и познакомить с ними своих одноклассников и других учеников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дач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Изучить научную литературу по выбранной теме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йти старинные способы умн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учиться их прим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яснить с помощью анкеты, знают ли об этих способах умножения  мои одноклассники и другие ученики нашей шк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Подготовить презентацию по теме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ступить по теме работы перед одноклассниками свое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ыступить на школьной научно-практической конференции НОУ «Поиск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1523880" y="60948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Georgia"/>
              </a:rPr>
              <a:t>Умножение на пальцах однозначных чисел от 6 до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"/>
          <p:cNvPicPr/>
          <p:nvPr/>
        </p:nvPicPr>
        <p:blipFill>
          <a:blip r:embed="rId1"/>
          <a:srcRect l="0" t="2796" r="0" b="0"/>
          <a:stretch/>
        </p:blipFill>
        <p:spPr>
          <a:xfrm>
            <a:off x="1447920" y="2057400"/>
            <a:ext cx="6629400" cy="3886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Georgia"/>
              </a:rPr>
              <a:t>Умножение на 9 на пальц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Рисунок 4" descr="C:\Users\Админ\Desktop\Безымянный.png"/>
          <p:cNvPicPr/>
          <p:nvPr/>
        </p:nvPicPr>
        <p:blipFill>
          <a:blip r:embed="rId1"/>
          <a:srcRect l="1555" t="1708" r="36015" b="50878"/>
          <a:stretch/>
        </p:blipFill>
        <p:spPr>
          <a:xfrm>
            <a:off x="762120" y="2174760"/>
            <a:ext cx="7924680" cy="324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Georgia"/>
              </a:rPr>
              <a:t>Индийский способ умнож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7504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4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5     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4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∙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75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97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996633"/>
                </a:solidFill>
                <a:latin typeface="Georgia"/>
              </a:rPr>
              <a:t>Умножение способом «МАЛЕНЬКИЙ ЗАМОК»</a:t>
            </a:r>
            <a:br>
              <a:rPr sz="40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4" descr="Маленький замок"/>
          <p:cNvPicPr/>
          <p:nvPr/>
        </p:nvPicPr>
        <p:blipFill>
          <a:blip r:embed="rId1"/>
          <a:stretch/>
        </p:blipFill>
        <p:spPr>
          <a:xfrm>
            <a:off x="838080" y="1676520"/>
            <a:ext cx="3353040" cy="4495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5"/>
          <p:cNvSpPr/>
          <p:nvPr/>
        </p:nvSpPr>
        <p:spPr>
          <a:xfrm>
            <a:off x="4648320" y="1819440"/>
            <a:ext cx="4038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им 1998 на 9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× 987 = 987 и приписываем 000 за разряды – сотни, десятки,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× 987 = 8883 и приписываем 00 за разряды – десятки,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× 987 = 8883 и приписываем 0 за разряд – еди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× 987 = 789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результаты склады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14200"/>
            <a:ext cx="84582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Georgia"/>
              </a:rPr>
              <a:t>Умножение чисел методом «Ревность или решетчатое умнож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676440" y="1447920"/>
            <a:ext cx="37335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уем прямоугольник, разделённый на квадраты, причём размеры сторон прямоугольника соответствуют числу десятичных знаков у множимого и множите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квадратные клетки, делятся по диагонали, и «…получается картинка, похожая на решётчатые ставни-жалюз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над ней число – первый множитель 347, а справа число – второй множитель 2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ую строчку запишем произведение цифр, стоящих над этой клеткой и справа от нее, при этом цифру десятков произведения напишем над косой чертой, а цифру единиц – под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1"/>
          <p:cNvSpPr/>
          <p:nvPr/>
        </p:nvSpPr>
        <p:spPr>
          <a:xfrm>
            <a:off x="4800600" y="1523880"/>
            <a:ext cx="410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складываем числа в каждой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о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осе, выполняя эту операцию, справа налево. Если сумма окажется меньше 10, то ее пишем под нижней цифрой полосы. Если же она окажется больше, чем 10, то пишем только цифру единиц суммы, а цифру десятков прибавляем к следующей сумме. В результате получаем искомое  произведение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6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99080" y="4724280"/>
          <a:ext cx="3768480" cy="1600200"/>
        </p:xfrm>
        <a:graphic>
          <a:graphicData uri="http://schemas.openxmlformats.org/drawingml/2006/table">
            <a:tbl>
              <a:tblPr/>
              <a:tblGrid>
                <a:gridCol w="1255680"/>
                <a:gridCol w="1257120"/>
                <a:gridCol w="1255680"/>
              </a:tblGrid>
              <a:tr h="800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Прямая соединительная линия 32"/>
          <p:cNvSpPr/>
          <p:nvPr/>
        </p:nvSpPr>
        <p:spPr>
          <a:xfrm flipH="1">
            <a:off x="4699080" y="4724280"/>
            <a:ext cx="121752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ая соединительная линия 34"/>
          <p:cNvSpPr/>
          <p:nvPr/>
        </p:nvSpPr>
        <p:spPr>
          <a:xfrm flipH="1">
            <a:off x="5964120" y="4724280"/>
            <a:ext cx="130032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ая соединительная линия 37"/>
          <p:cNvSpPr/>
          <p:nvPr/>
        </p:nvSpPr>
        <p:spPr>
          <a:xfrm flipH="1">
            <a:off x="7264440" y="4724280"/>
            <a:ext cx="119376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ая соединительная линия 40"/>
          <p:cNvSpPr/>
          <p:nvPr/>
        </p:nvSpPr>
        <p:spPr>
          <a:xfrm flipH="1">
            <a:off x="4699080" y="5524560"/>
            <a:ext cx="126504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42"/>
          <p:cNvSpPr/>
          <p:nvPr/>
        </p:nvSpPr>
        <p:spPr>
          <a:xfrm flipH="1">
            <a:off x="5964120" y="5524560"/>
            <a:ext cx="130032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ая соединительная линия 44"/>
          <p:cNvSpPr/>
          <p:nvPr/>
        </p:nvSpPr>
        <p:spPr>
          <a:xfrm flipH="1">
            <a:off x="7264440" y="5524560"/>
            <a:ext cx="1193760" cy="79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5"/>
          <p:cNvSpPr/>
          <p:nvPr/>
        </p:nvSpPr>
        <p:spPr>
          <a:xfrm>
            <a:off x="4800600" y="438624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                    4                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6"/>
          <p:cNvSpPr/>
          <p:nvPr/>
        </p:nvSpPr>
        <p:spPr>
          <a:xfrm>
            <a:off x="8534520" y="4724280"/>
            <a:ext cx="371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7"/>
          <p:cNvSpPr/>
          <p:nvPr/>
        </p:nvSpPr>
        <p:spPr>
          <a:xfrm>
            <a:off x="5486400" y="512460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6705720" y="512460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7424640" y="475920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0"/>
          <p:cNvSpPr/>
          <p:nvPr/>
        </p:nvSpPr>
        <p:spPr>
          <a:xfrm>
            <a:off x="8028000" y="509256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1"/>
          <p:cNvSpPr/>
          <p:nvPr/>
        </p:nvSpPr>
        <p:spPr>
          <a:xfrm>
            <a:off x="4867200" y="554832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2"/>
          <p:cNvSpPr/>
          <p:nvPr/>
        </p:nvSpPr>
        <p:spPr>
          <a:xfrm>
            <a:off x="5486400" y="591192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3"/>
          <p:cNvSpPr/>
          <p:nvPr/>
        </p:nvSpPr>
        <p:spPr>
          <a:xfrm>
            <a:off x="6200640" y="555480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54"/>
          <p:cNvSpPr/>
          <p:nvPr/>
        </p:nvSpPr>
        <p:spPr>
          <a:xfrm>
            <a:off x="6705720" y="584676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5"/>
          <p:cNvSpPr/>
          <p:nvPr/>
        </p:nvSpPr>
        <p:spPr>
          <a:xfrm>
            <a:off x="7597800" y="554184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56"/>
          <p:cNvSpPr/>
          <p:nvPr/>
        </p:nvSpPr>
        <p:spPr>
          <a:xfrm>
            <a:off x="8028000" y="5948280"/>
            <a:ext cx="4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57"/>
          <p:cNvSpPr/>
          <p:nvPr/>
        </p:nvSpPr>
        <p:spPr>
          <a:xfrm>
            <a:off x="4114800" y="63244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             0                   6        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a4f"/>
                </a:solidFill>
                <a:latin typeface="Georgia"/>
              </a:rPr>
              <a:t>Русский крестьянский способ умн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4" descr="Рисунок5"/>
          <p:cNvPicPr/>
          <p:nvPr/>
        </p:nvPicPr>
        <p:blipFill>
          <a:blip r:embed="rId1"/>
          <a:stretch/>
        </p:blipFill>
        <p:spPr>
          <a:xfrm>
            <a:off x="3352680" y="1523880"/>
            <a:ext cx="3429000" cy="42674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2774520" y="5943600"/>
            <a:ext cx="454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+ 70 + 140 + 280 + 1120 = 16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58a4f"/>
                </a:solidFill>
                <a:latin typeface="Georgia"/>
                <a:ea typeface="Times New Roman"/>
              </a:rPr>
              <a:t>Графический способ умн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0" descr=""/>
          <p:cNvPicPr/>
          <p:nvPr/>
        </p:nvPicPr>
        <p:blipFill>
          <a:blip r:embed="rId1"/>
          <a:stretch/>
        </p:blipFill>
        <p:spPr>
          <a:xfrm>
            <a:off x="1581120" y="1390680"/>
            <a:ext cx="6904080" cy="4705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23</dc:creator>
  <dc:description/>
  <dc:language>en-US</dc:language>
  <cp:lastModifiedBy>1</cp:lastModifiedBy>
  <dcterms:modified xsi:type="dcterms:W3CDTF">2022-01-16T09:36:11Z</dcterms:modified>
  <cp:revision>1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