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A47-1BD8-4EC3-A5C1-9C472715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2D0-5569-446D-BA06-F0D016A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7C9-4D8A-4CD7-A183-AF4F1A36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D6C-A361-4387-AF83-4B29DA22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CE11-69A9-4EFF-ABDC-884386AF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270-FB84-4402-926D-CC95CD42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570E-5BE0-47B1-8542-C5D95B55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C626-6289-4879-AE1A-79BDC17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2A13-52ED-4A21-84EE-88EEABA9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9140-E882-43B0-90CD-7641965F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702F-14EE-4874-87FA-8BC4514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E8E-9A64-424D-8348-D61B0D9F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2249-E032-43D1-80AA-CF47BD1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808D-F2C2-44BF-BA81-5DEB0CE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6A19-E977-46D8-AAE6-B382447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D074-87C3-4379-AE35-309929E3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696-7174-4D52-AF78-FD3D16E6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E40-7692-454B-9CA7-EB54C7A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9B9-5896-4480-B29C-0300DA4B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B4A-CDC9-49E0-8B2E-8C910188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8B2-8ACF-49BD-85CD-531B808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E19-608D-44BB-B6B0-F52E593A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FBA1-726A-4F12-92AE-9C7A52B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BB1-7A50-4FFE-8169-A43A67F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AAFC-E093-4B25-B38B-DC708E81648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D98E-D852-4F6F-A86C-BE59BD76DD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371600" y="1143000"/>
            <a:ext cx="60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умножали в старин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3962520" y="5943600"/>
            <a:ext cx="5029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анке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ли современному человеку уметь умножать чис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е ли Вы как умножали в древност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е ли Вы такие способы умн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Умножение на пальцах однозначных чисел от 6 до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Умножение на 9 на пальц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) Индийский способ умн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) Умножение способом «МАЛЕНЬКИЙ ЗА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) Умножение чисел методом «Ревность или решетчатое умножен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) Графический способ умножения по - япон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) Русский крестьянский способ умн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1 и 2 воп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Диаграмма 4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3 вопр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Диаграмма 4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9" descr="думающий.gif"/>
          <p:cNvPicPr/>
          <p:nvPr/>
        </p:nvPicPr>
        <p:blipFill>
          <a:blip r:embed="rId1"/>
          <a:stretch/>
        </p:blipFill>
        <p:spPr>
          <a:xfrm>
            <a:off x="7500960" y="4572000"/>
            <a:ext cx="1643040" cy="21099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808200" y="380880"/>
            <a:ext cx="8183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ть  различными   способами умножения и познакомить с ними своих одноклассников и других учеников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ить научную литературу по выбранной тем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йти старинные способы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учиться их при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яснить с помощью анкеты, знают ли об этих способах умножения  мои одноклассники и другие ученики на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готовить презентацию по тем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ступить по теме работы перед одноклассниками сво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ступить на школьной научно-практической конференции НОУ «Поис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523880" y="609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Georgia"/>
              </a:rPr>
              <a:t>Умножение на пальцах однозначных чисел от 6 до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1"/>
          <a:srcRect l="0" t="2796" r="0" b="0"/>
          <a:stretch/>
        </p:blipFill>
        <p:spPr>
          <a:xfrm>
            <a:off x="1447920" y="2057400"/>
            <a:ext cx="662940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Georgia"/>
              </a:rPr>
              <a:t>Умножение на 9 на пальц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C:\Users\Админ\Desktop\Безымянный.png"/>
          <p:cNvPicPr/>
          <p:nvPr/>
        </p:nvPicPr>
        <p:blipFill>
          <a:blip r:embed="rId1"/>
          <a:srcRect l="1555" t="1708" r="36015" b="50878"/>
          <a:stretch/>
        </p:blipFill>
        <p:spPr>
          <a:xfrm>
            <a:off x="762120" y="2174760"/>
            <a:ext cx="7924680" cy="32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Georgia"/>
              </a:rPr>
              <a:t>Индийский способ умнож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    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7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6633"/>
                </a:solidFill>
                <a:latin typeface="Georgia"/>
              </a:rPr>
              <a:t>Умножение способом «МАЛЕНЬКИЙ ЗАМОК»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4" descr="Маленький замок"/>
          <p:cNvPicPr/>
          <p:nvPr/>
        </p:nvPicPr>
        <p:blipFill>
          <a:blip r:embed="rId1"/>
          <a:stretch/>
        </p:blipFill>
        <p:spPr>
          <a:xfrm>
            <a:off x="838080" y="1676520"/>
            <a:ext cx="3353040" cy="4495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4648320" y="181944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м 1998 на 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× 987 = 987 и приписываем 000 за разряды – сотни, десятки,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× 987 = 8883 и приписываем 00 за разряды – десятки,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× 987 = 8883 и приписываем 0 за разряд –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× 987 = 78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результаты склад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4582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Georgia"/>
              </a:rPr>
              <a:t>Умножение чисел методом «Ревность или решетчатое умнож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76440" y="1447920"/>
            <a:ext cx="3733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прямоугольник, разделённый на квадраты, причём размеры сторон прямоугольника соответствуют числу десятичных знаков у множимого и множ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квадратные клетки, делятся по диагонали, и «…получается картинка, похожая на решётчатые ставни-жалюз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над ней число – первый множитель 347, а справа число – второй множитель 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трочку запишем произведение цифр, стоящих над этой клеткой и справа от нее, при этом цифру десятков произведения напишем над косой чертой, а цифру единиц – под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4800600" y="1523880"/>
            <a:ext cx="41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складываем числа в кажд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осе, выполняя эту операцию, справа налево. Если сумма окажется меньше 10, то ее пишем под нижней цифрой полосы. Если же она окажется больше, чем 10, то пишем только цифру единиц суммы, а цифру десятков прибавляем к следующей сумме. В результате получаем искомое  произвед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6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99080" y="4724280"/>
          <a:ext cx="3768480" cy="1600200"/>
        </p:xfrm>
        <a:graphic>
          <a:graphicData uri="http://schemas.openxmlformats.org/drawingml/2006/table">
            <a:tbl>
              <a:tblPr/>
              <a:tblGrid>
                <a:gridCol w="1255680"/>
                <a:gridCol w="1257120"/>
                <a:gridCol w="1255680"/>
              </a:tblGrid>
              <a:tr h="800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ая соединительная линия 32"/>
          <p:cNvSpPr/>
          <p:nvPr/>
        </p:nvSpPr>
        <p:spPr>
          <a:xfrm flipH="1">
            <a:off x="4699080" y="4724280"/>
            <a:ext cx="121752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4"/>
          <p:cNvSpPr/>
          <p:nvPr/>
        </p:nvSpPr>
        <p:spPr>
          <a:xfrm flipH="1">
            <a:off x="5964120" y="4724280"/>
            <a:ext cx="130032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7"/>
          <p:cNvSpPr/>
          <p:nvPr/>
        </p:nvSpPr>
        <p:spPr>
          <a:xfrm flipH="1">
            <a:off x="7264440" y="4724280"/>
            <a:ext cx="119376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0"/>
          <p:cNvSpPr/>
          <p:nvPr/>
        </p:nvSpPr>
        <p:spPr>
          <a:xfrm flipH="1">
            <a:off x="4699080" y="5524560"/>
            <a:ext cx="12650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2"/>
          <p:cNvSpPr/>
          <p:nvPr/>
        </p:nvSpPr>
        <p:spPr>
          <a:xfrm flipH="1">
            <a:off x="5964120" y="5524560"/>
            <a:ext cx="130032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4"/>
          <p:cNvSpPr/>
          <p:nvPr/>
        </p:nvSpPr>
        <p:spPr>
          <a:xfrm flipH="1">
            <a:off x="7264440" y="5524560"/>
            <a:ext cx="119376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5"/>
          <p:cNvSpPr/>
          <p:nvPr/>
        </p:nvSpPr>
        <p:spPr>
          <a:xfrm>
            <a:off x="4800600" y="438624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             4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6"/>
          <p:cNvSpPr/>
          <p:nvPr/>
        </p:nvSpPr>
        <p:spPr>
          <a:xfrm>
            <a:off x="8534520" y="4724280"/>
            <a:ext cx="37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7"/>
          <p:cNvSpPr/>
          <p:nvPr/>
        </p:nvSpPr>
        <p:spPr>
          <a:xfrm>
            <a:off x="5486400" y="51246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6705720" y="51246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7424640" y="47592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0"/>
          <p:cNvSpPr/>
          <p:nvPr/>
        </p:nvSpPr>
        <p:spPr>
          <a:xfrm>
            <a:off x="8028000" y="509256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1"/>
          <p:cNvSpPr/>
          <p:nvPr/>
        </p:nvSpPr>
        <p:spPr>
          <a:xfrm>
            <a:off x="4867200" y="554832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2"/>
          <p:cNvSpPr/>
          <p:nvPr/>
        </p:nvSpPr>
        <p:spPr>
          <a:xfrm>
            <a:off x="5486400" y="591192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3"/>
          <p:cNvSpPr/>
          <p:nvPr/>
        </p:nvSpPr>
        <p:spPr>
          <a:xfrm>
            <a:off x="6200640" y="55548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4"/>
          <p:cNvSpPr/>
          <p:nvPr/>
        </p:nvSpPr>
        <p:spPr>
          <a:xfrm>
            <a:off x="6705720" y="584676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5"/>
          <p:cNvSpPr/>
          <p:nvPr/>
        </p:nvSpPr>
        <p:spPr>
          <a:xfrm>
            <a:off x="7597800" y="554184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6"/>
          <p:cNvSpPr/>
          <p:nvPr/>
        </p:nvSpPr>
        <p:spPr>
          <a:xfrm>
            <a:off x="8028000" y="594828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7"/>
          <p:cNvSpPr/>
          <p:nvPr/>
        </p:nvSpPr>
        <p:spPr>
          <a:xfrm>
            <a:off x="4114800" y="63244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            0                   6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a4f"/>
                </a:solidFill>
                <a:latin typeface="Georgia"/>
              </a:rPr>
              <a:t>Русский крестьянский способ умн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Рисунок5"/>
          <p:cNvPicPr/>
          <p:nvPr/>
        </p:nvPicPr>
        <p:blipFill>
          <a:blip r:embed="rId1"/>
          <a:stretch/>
        </p:blipFill>
        <p:spPr>
          <a:xfrm>
            <a:off x="3352680" y="1523880"/>
            <a:ext cx="3429000" cy="42674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774520" y="594360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+ 70 + 140 + 280 + 1120 = 16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a4f"/>
                </a:solidFill>
                <a:latin typeface="Georgia"/>
                <a:ea typeface="Times New Roman"/>
              </a:rPr>
              <a:t>Графический способ умн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0" descr=""/>
          <p:cNvPicPr/>
          <p:nvPr/>
        </p:nvPicPr>
        <p:blipFill>
          <a:blip r:embed="rId1"/>
          <a:stretch/>
        </p:blipFill>
        <p:spPr>
          <a:xfrm>
            <a:off x="1581120" y="1390680"/>
            <a:ext cx="6904080" cy="470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</cp:lastModifiedBy>
  <dcterms:modified xsi:type="dcterms:W3CDTF">2022-01-16T09:36:11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