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9EF-4F78-4B32-BF4D-B5150CF7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99E-8A9B-442C-A568-33B96C0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693-FABD-48C2-9595-25E5503A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3DC-2278-4C4E-8FFD-3ADD5D67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953-682C-4FC6-9070-9492CE60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E266-A165-44DC-A67E-15F22F1F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0B45-B552-4ECF-B8BB-BCEB0FE3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C964-CC6E-41F2-831B-1DD097D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DD7B-9AD8-4BC7-B583-45F39E17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4BB2-2113-4314-97CD-EC9970B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C6D-55A5-414D-AB67-1F2BB63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12E-D36B-4604-9675-39C2D8ED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04CA-14FE-48B7-9445-A5EC07C9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62D9-9FF2-4509-975C-B6FD179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D2B4-76A5-4D7F-AA8E-F7481AA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74C5-31D1-4C48-A412-0D61FE91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E13E-E723-4ABD-BF23-219DADC2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BE5-A370-4961-B711-BC7422D7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08-4040-4866-86D9-81F4C3D7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DE3-A8D7-4E6C-9292-2DFA270C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4E8-1195-4EF0-8547-02B5D36A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881F-7DA4-4C8A-99E8-F362C0B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F43B-9174-4114-8EA2-D5B36C57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06F-9627-4047-B01A-4DF5874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F4A9-8EE8-4A89-BBB6-6878ECD38A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29E6-DEA4-484C-9FEB-C90558FE89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сический дикт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28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Лексика, лексикон, толковый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днозначные, многозначны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сическая задач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артизаны отразили все ... против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природа ждала ... вес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а, наступл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итель регулярно проводил ...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латил на почте ... по телефо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, разгов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з окна открывался красивый ... на мор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в романах Тургенева играет важную ро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, пейза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692280"/>
            <a:ext cx="6172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ИНОНИ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63640" y="4941720"/>
            <a:ext cx="538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полнила учитель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БОУ школа 212 Поспелова И.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.Я.Маршака «Вьюга»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отрывок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7640" y="2276280"/>
            <a:ext cx="4541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ьюга снежная, пург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пряди нам пряж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збей пушистые сне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овно пух лебяж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, проворные ткачи,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ихри и метел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радужной парч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косматых 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http://img01.chitalnya.ru/upload2/540/9654961200430.jpg"/>
          <p:cNvPicPr/>
          <p:nvPr/>
        </p:nvPicPr>
        <p:blipFill>
          <a:blip r:embed="rId1"/>
          <a:stretch/>
        </p:blipFill>
        <p:spPr>
          <a:xfrm>
            <a:off x="611280" y="2276640"/>
            <a:ext cx="36655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ктику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2565000"/>
            <a:ext cx="756108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схищаться, хвалить, превозносить, одобря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Шептать, кричать, сказать, воскликну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дактирование текс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343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т более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робког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животного, чем заяц. Даже при слабом шуме он пугается и бежит. Только поздно вечером или ночью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робки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зайчишка выходит из своего убежища, а с рассветом прячется в каком-нибудь укромном уголке. Много у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робког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зайчика врагов. За ним охотятся и голодный волк, и хищный ястреб, и охотник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Слова для справок: робкий, пуглив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трусливый, боязливый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флекс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годня на уроке мы повторили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ы узнали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лис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ым интересным мне показался тот момент, когда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удным для меня стал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онимы – это …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нонимический ряд – это …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синонимов в речи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9:02:54Z</dcterms:created>
  <dc:creator>Vladimir</dc:creator>
  <dc:description/>
  <dc:language>en-US</dc:language>
  <cp:lastModifiedBy>Vladimir</cp:lastModifiedBy>
  <dcterms:modified xsi:type="dcterms:W3CDTF">2021-11-16T20:54:44Z</dcterms:modified>
  <cp:revision>8</cp:revision>
  <dc:subject/>
  <dc:title>Лексический диктант</dc:title>
</cp:coreProperties>
</file>