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D0F4-258E-42E9-BCD3-C1E5CE59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8B2B-CBD0-4590-A1A6-C0EBF50B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D71-FFEE-4722-A1A1-4864DCF83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A8C3-13B5-4890-870F-1166B5FC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01B5-B00E-40FD-8196-FF7A39879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A92E-5931-4878-ACC9-65669FC7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5AFE-0C93-4594-B943-84A180F4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A838E-2A12-46AC-9BDC-346EFB79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89C1-AEA6-43F0-B700-AF58371E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80A7-FF20-4F27-B0A4-0F7E58BB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D10A-E282-4324-AED2-004B25E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042-F298-4447-B919-83D7C206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732E7-875A-4D0C-A2DC-CCD8DB79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2CCD-4849-4C0E-B359-FDFE179B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DE99-95E4-431B-8135-EEA079EC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6199-3843-413B-886F-E67198BA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4983-8027-4DA0-AA73-BA4C59E25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A1C8-3311-49EA-8748-3A09C070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371-14D7-4DA5-9C31-686ACD46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72B4-73E0-48A0-AC32-8E6263BB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A113-F819-4EB9-B456-32B1466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C24-7E1D-4AEA-B99B-78FD768D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8702-BB57-4135-890F-04B817BC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A5F-B827-4626-992B-E7904ABC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12C-C365-486C-B599-6522DE29EC2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CDBD-1143-40E1-BCF6-542D2EA05C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сический диктан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0000" y="285228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Лексика, лексикон, толковый,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однозначные, многозначны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ксическая задач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артизаны отразили все ... противни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я природа ждала ... вес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ака, наступлени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итель регулярно проводил ...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латил на почте ... по телефон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а, разгово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з окна открывался красивый ... на мор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в романах Тургенева играет важную рол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, пейза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5640" y="692280"/>
            <a:ext cx="61722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ИНОНИ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563640" y="4941720"/>
            <a:ext cx="53816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ыполнила учитель русского языка и литератур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БОУ школа 212 Поспелова И.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6000" y="214200"/>
            <a:ext cx="782784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С.Я.Маршака «Вьюга»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отрывок)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27640" y="2276280"/>
            <a:ext cx="454176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ьюга снежная, пурга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пряди нам пряж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збей пушистые снег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ловно пух лебяж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ы, проворные ткачи,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ихри и метели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айте радужной парч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Для косматых еле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2" descr="http://img01.chitalnya.ru/upload2/540/9654961200430.jpg"/>
          <p:cNvPicPr/>
          <p:nvPr/>
        </p:nvPicPr>
        <p:blipFill>
          <a:blip r:embed="rId1"/>
          <a:stretch/>
        </p:blipFill>
        <p:spPr>
          <a:xfrm>
            <a:off x="611280" y="2276640"/>
            <a:ext cx="36655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актику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2565000"/>
            <a:ext cx="756108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осхищаться, хвалить, превозносить, одобря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Шептать, кричать, сказать, воскликнуть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дактирование текста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844280"/>
            <a:ext cx="8343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т более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ог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животного, чем заяц. Даже при слабом шуме он пугается и бежит. Только поздно вечером или ночью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и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зайчишка выходит из своего убежища, а с рассветом прячется в каком-нибудь укромном уголке. Много у </a:t>
            </a:r>
            <a:r>
              <a:rPr b="0" i="1" lang="en-US" sz="2800" spc="-1" strike="noStrike">
                <a:solidFill>
                  <a:srgbClr val="3333cc"/>
                </a:solidFill>
                <a:latin typeface="Tahoma"/>
              </a:rPr>
              <a:t>робкого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зайчика врагов. За ним охотятся и голодный волк, и хищный ястреб, и охотник.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Слова для справок: робкий, пугливый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трусливый, боязливый.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ефлекси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годня на уроке мы повторили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ы узнали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ились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амым интересным мне показался тот момент, когда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удным для меня стало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ыв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инонимы – это …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инонимический ряд – это …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Роль синонимов в речи…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9:02:54Z</dcterms:created>
  <dc:creator>Vladimir</dc:creator>
  <dc:description/>
  <dc:language>en-US</dc:language>
  <cp:lastModifiedBy>Vladimir</cp:lastModifiedBy>
  <dcterms:modified xsi:type="dcterms:W3CDTF">2021-11-16T20:54:44Z</dcterms:modified>
  <cp:revision>8</cp:revision>
  <dc:subject/>
  <dc:title>Лексический диктант</dc:title>
</cp:coreProperties>
</file>