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111-C02F-49F9-80ED-1B177F5F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845-9967-43B8-8C72-13E72312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0DA-93F7-4FF9-9AAB-735E1885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BAE-7174-4EDA-8143-568C7BBA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B65-9F6B-40D5-BADB-BF6ABA5B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153-DEB7-4A0A-B01A-8E294CBD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FFC-F33E-4BE4-87AF-09B9897E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D58-C220-4AEC-BEB9-40B19135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471-5FF3-4C4D-B7A0-527BB26E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9BFB-E792-4409-B284-1DB4E6A3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185-C985-4E36-B778-9D5823B1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138A-4318-49D4-9880-62DBBCDA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8822-0470-42CC-A6FD-245521E67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xf1UjUNPnRw" TargetMode="Externa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исание признаков предметов и явлений окружающего ми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рок развития речи. 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ыразительности (троп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— троп, в котором происходит уподобление одного предмета или явления другому по какому-либо общему для них призна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афо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— слово или выражение, употребляемое в переносном значении, в основе которого лежит неназванное сравнение предмета с каким-либо другим на основании их общего призн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йзажные зарис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076720" y="1773360"/>
            <a:ext cx="34275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и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ершенствовать навыки работы с художественными текст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ния вычленять элементы описания, представленные художественными средствами язы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рабатывать навыки создания пейзажных зарисовок на основе художественных текс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йзажи худож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85840" y="2637000"/>
            <a:ext cx="418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родейкою Зим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олдован, лес стоит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од снежной бахром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одвижною, нем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удной жизнью он блес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.И. Тютч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3979800" cy="2981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13280" y="539280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расов П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йзажи худож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440840" cy="418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11120" y="604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12320" y="5950080"/>
            <a:ext cx="522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www.youtube.com/watch?v=xf1UjUNPn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има глазами худож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йзаж (фр.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вид какой-нибудь мест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картина, изображающая природ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описание природы в художественном произвед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7640" y="1052280"/>
            <a:ext cx="5419800" cy="849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Ы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95480" y="272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789360"/>
            <a:ext cx="25923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пис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5013360"/>
            <a:ext cx="338472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ств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3789360"/>
            <a:ext cx="28080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у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2060640"/>
            <a:ext cx="358560" cy="2376360"/>
          </a:xfrm>
          <a:prstGeom prst="downArrow">
            <a:avLst>
              <a:gd name="adj1" fmla="val 50000"/>
              <a:gd name="adj2" fmla="val 1656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531400">
            <a:off x="5508720" y="2781360"/>
            <a:ext cx="2089080" cy="311040"/>
          </a:xfrm>
          <a:prstGeom prst="rightArrow">
            <a:avLst>
              <a:gd name="adj1" fmla="val 50000"/>
              <a:gd name="adj2" fmla="val 1679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8447600">
            <a:off x="1637280" y="2691360"/>
            <a:ext cx="1757520" cy="352440"/>
          </a:xfrm>
          <a:prstGeom prst="leftArrow">
            <a:avLst>
              <a:gd name="adj1" fmla="val 50000"/>
              <a:gd name="adj2" fmla="val 1246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1125162_10"/>
          <p:cNvPicPr/>
          <p:nvPr/>
        </p:nvPicPr>
        <p:blipFill>
          <a:blip r:embed="rId2"/>
          <a:stretch/>
        </p:blipFill>
        <p:spPr>
          <a:xfrm>
            <a:off x="611280" y="282600"/>
            <a:ext cx="799308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68025734_15"/>
          <p:cNvPicPr/>
          <p:nvPr/>
        </p:nvPicPr>
        <p:blipFill>
          <a:blip r:embed="rId2"/>
          <a:stretch/>
        </p:blipFill>
        <p:spPr>
          <a:xfrm>
            <a:off x="2205000" y="309600"/>
            <a:ext cx="47340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ыразительности (троп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пит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- это образное определение, которое дает художественную характеристику явлению или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лицетвор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— троп, приписывание свойств и признаков одушевлённых предметов неодушевлённым. Весьма часто олицетворение применяется при изображении природы, которая наделяется теми или иными человеческими чер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5T21:24:31Z</dcterms:created>
  <dc:creator>Vladimir</dc:creator>
  <dc:description/>
  <dc:language>en-US</dc:language>
  <cp:lastModifiedBy>Vladimir</cp:lastModifiedBy>
  <dcterms:modified xsi:type="dcterms:W3CDTF">2023-01-15T22:42:41Z</dcterms:modified>
  <cp:revision>10</cp:revision>
  <dc:subject/>
  <dc:title>Описание признаков предметов и явлений окружающего мира </dc:title>
</cp:coreProperties>
</file>