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667-131C-4E33-83B2-226599F42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1F7-68EF-4EF8-BC21-21E6831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D7B-3A71-462A-8D4E-8C40B713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4B9-0AF1-4B76-B69C-A6D61D751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8A86-33D4-4B88-9511-91334968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F43-172B-44DD-AE52-75B3E235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67E0-A527-4AC3-9484-45872AB8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86DE-6672-45A5-B042-7CDF2BBF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C39-493F-474A-A955-BA02712F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895-15B0-44D9-B286-D70C9F60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3BA-9A11-44FA-8048-8B7768BB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46B-7806-4A9C-A1C2-DA97A24B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6A9-AFE5-4AE4-AA4D-EBCCE4006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xf1UjUNPnRw" TargetMode="External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писание признаков предметов и явлений окружающего мир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рок развития речи.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ыразительности (троп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— троп, в котором происходит уподобление одного предмета или явления другому по какому-либо общему для них призна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тафо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— слово или выражение, употребляемое в переносном значении, в основе которого лежит неназванное сравнение предмета с каким-либо другим на основании их общего призна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ные зарисов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177336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076720" y="1773360"/>
            <a:ext cx="342756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Цели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овершенствовать навыки работы с художественными текстам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мения вычленять элементы описания, представленные художественными средствами язы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рабатывать навыки создания пейзажных зарисовок на основе художественных текс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и худож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5840" y="2637000"/>
            <a:ext cx="418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ародейкою Зим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колдован, лес стоит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под снежной бахром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одвижною, нем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удной жизнью он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.И. Тютч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9640" y="2492280"/>
            <a:ext cx="3979800" cy="2981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13280" y="539280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рас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ейзажи худож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826920" y="1413000"/>
            <a:ext cx="7440840" cy="4184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11120" y="6040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12320" y="5950080"/>
            <a:ext cx="522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www.youtube.com/watch?v=xf1UjUNPnR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има глазами худож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йзаж (фр.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вид какой-нибудь местн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картина, изображающая природу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описание природы в художественном произведе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7640" y="1052280"/>
            <a:ext cx="5419800" cy="8492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ИПЫ РЕ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95480" y="272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789360"/>
            <a:ext cx="259236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771640" y="5013360"/>
            <a:ext cx="3384720" cy="9144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еств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2000" y="3789360"/>
            <a:ext cx="2808000" cy="914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ссу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2060640"/>
            <a:ext cx="358560" cy="2376360"/>
          </a:xfrm>
          <a:prstGeom prst="downArrow">
            <a:avLst>
              <a:gd name="adj1" fmla="val 50000"/>
              <a:gd name="adj2" fmla="val 16568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531400">
            <a:off x="5508720" y="2781360"/>
            <a:ext cx="2089080" cy="311040"/>
          </a:xfrm>
          <a:prstGeom prst="rightArrow">
            <a:avLst>
              <a:gd name="adj1" fmla="val 50000"/>
              <a:gd name="adj2" fmla="val 1679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8447600">
            <a:off x="1637280" y="2691360"/>
            <a:ext cx="1757520" cy="352440"/>
          </a:xfrm>
          <a:prstGeom prst="leftArrow">
            <a:avLst>
              <a:gd name="adj1" fmla="val 50000"/>
              <a:gd name="adj2" fmla="val 1246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1125162_10"/>
          <p:cNvPicPr/>
          <p:nvPr/>
        </p:nvPicPr>
        <p:blipFill>
          <a:blip r:embed="rId2"/>
          <a:stretch/>
        </p:blipFill>
        <p:spPr>
          <a:xfrm>
            <a:off x="611280" y="282600"/>
            <a:ext cx="7993080" cy="63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68025734_15"/>
          <p:cNvPicPr/>
          <p:nvPr/>
        </p:nvPicPr>
        <p:blipFill>
          <a:blip r:embed="rId2"/>
          <a:stretch/>
        </p:blipFill>
        <p:spPr>
          <a:xfrm>
            <a:off x="2205000" y="309600"/>
            <a:ext cx="473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редства выразительности (троп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пит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- это образное определение, которое дает художественную характеристику явлению или предм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лицетвор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 — троп, приписывание свойств и признаков одушевлённых предметов неодушевлённым. Весьма часто олицетворение применяется при изображении природы, которая наделяется теми или иными человеческими чер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1-15T21:24:31Z</dcterms:created>
  <dc:creator>Vladimir</dc:creator>
  <dc:description/>
  <dc:language>en-US</dc:language>
  <cp:lastModifiedBy>Vladimir</cp:lastModifiedBy>
  <dcterms:modified xsi:type="dcterms:W3CDTF">2023-01-15T22:42:41Z</dcterms:modified>
  <cp:revision>10</cp:revision>
  <dc:subject/>
  <dc:title>Описание признаков предметов и явлений окружающего мира </dc:title>
</cp:coreProperties>
</file>