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0.jpeg" ContentType="image/jpeg"/>
  <Override PartName="/ppt/media/image3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B6C-C391-4DAC-A7D8-B7F67B4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E5C-8850-4DA7-BAE7-9C427FDD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7FE-7F87-4BC7-9D15-BE945139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0D8-4E70-49F5-85EF-B7016B8A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FE2-8D45-4766-8578-7DE7A13F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937-4948-4B82-A185-6176A0BA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CCB-B390-49FE-AA73-79033900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1A9-29E6-47E2-B88A-FCFCB52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E1EC-DB7F-47EE-AEF1-674EACE0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F88-D242-4813-909C-D9DF9765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4C8-75CC-4D8A-AC31-68F378E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ABB-EDF7-4C42-97D6-81EFF21F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C396-81FA-4C72-8FC1-2FB5EF73E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1987560"/>
            <a:ext cx="6450120" cy="927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572000" y="4943520"/>
            <a:ext cx="3365640" cy="920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2"/>
          <a:stretch/>
        </p:blipFill>
        <p:spPr>
          <a:xfrm>
            <a:off x="2401920" y="5730840"/>
            <a:ext cx="1096920" cy="925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3"/>
          <a:stretch/>
        </p:blipFill>
        <p:spPr>
          <a:xfrm>
            <a:off x="6870600" y="5803920"/>
            <a:ext cx="1670040" cy="925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614240" y="260280"/>
            <a:ext cx="522504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ью бензин и масло ем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ь не голодно совсе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без них я так болею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ехать не суме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2" descr=""/>
          <p:cNvPicPr/>
          <p:nvPr/>
        </p:nvPicPr>
        <p:blipFill>
          <a:blip r:embed="rId1"/>
          <a:stretch/>
        </p:blipFill>
        <p:spPr>
          <a:xfrm>
            <a:off x="890640" y="5072040"/>
            <a:ext cx="7278480" cy="1347840"/>
          </a:xfrm>
          <a:prstGeom prst="rect">
            <a:avLst/>
          </a:prstGeom>
          <a:ln w="0">
            <a:noFill/>
          </a:ln>
        </p:spPr>
      </p:pic>
      <p:sp>
        <p:nvSpPr>
          <p:cNvPr id="76" name="Минус 3"/>
          <p:cNvSpPr/>
          <p:nvPr/>
        </p:nvSpPr>
        <p:spPr>
          <a:xfrm rot="17916600">
            <a:off x="5751720" y="4809600"/>
            <a:ext cx="865080" cy="576000"/>
          </a:xfrm>
          <a:custGeom>
            <a:avLst/>
            <a:gdLst/>
            <a:ahLst/>
            <a:rect l="l" t="t" r="r" b="b"/>
            <a:pathLst>
              <a:path w="865187" h="576263">
                <a:moveTo>
                  <a:pt x="114681" y="220363"/>
                </a:moveTo>
                <a:lnTo>
                  <a:pt x="750506" y="220363"/>
                </a:lnTo>
                <a:lnTo>
                  <a:pt x="750506" y="355900"/>
                </a:lnTo>
                <a:lnTo>
                  <a:pt x="114681" y="355900"/>
                </a:lnTo>
                <a:lnTo>
                  <a:pt x="114681" y="220363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клипарты\трансрорт\0_4f968_357f227b_L.png"/>
          <p:cNvPicPr/>
          <p:nvPr/>
        </p:nvPicPr>
        <p:blipFill>
          <a:blip r:embed="rId2"/>
          <a:stretch/>
        </p:blipFill>
        <p:spPr>
          <a:xfrm>
            <a:off x="2050920" y="2565360"/>
            <a:ext cx="5048280" cy="2422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клипарты\трансрорт\1 (23).png"/>
          <p:cNvPicPr/>
          <p:nvPr/>
        </p:nvPicPr>
        <p:blipFill>
          <a:blip r:embed="rId1"/>
          <a:stretch/>
        </p:blipFill>
        <p:spPr>
          <a:xfrm>
            <a:off x="5473800" y="1052640"/>
            <a:ext cx="3309840" cy="2733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95280" y="4221000"/>
            <a:ext cx="83534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ходная машина с двиг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утреннего сгорания для перевоз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ссажиров и грузов по безрельс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рог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32160" y="476280"/>
            <a:ext cx="460332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автомоби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89160" y="189000"/>
            <a:ext cx="61531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шите текст. Вставьте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79280" y="692280"/>
            <a:ext cx="882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Мы выехали из города ранн…. утром. На ал…  небосклон…   пылала утренн… заря. Перед нами было бел… поле.  Сне…   л…жал    лёгк… пушист…  ковром.  Дальн…  лес стоял перед нами  тёмн…  стено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79080" y="189000"/>
            <a:ext cx="8087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йте от имён существительных имена прилага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24000" y="9493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Храбрость, смелость, силач,  доброта, умница, старик, до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хвастун, крепыш, гордость,  ловк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08240" y="260280"/>
            <a:ext cx="6215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имена прилагательные в 3 столб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24000" y="105264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Еловая ветка, туманный день, круглое яблоко, трухлявый пен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глубокое озеро, старая вещь, прозрачный зонтик мохнатый пё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24000" y="2060640"/>
            <a:ext cx="842472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жась легко и неумело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нежинка села на стекло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ел ночью снег густой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ый 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т снега в комнате свет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695160" y="324000"/>
            <a:ext cx="6778800" cy="944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76800" y="2852640"/>
            <a:ext cx="3847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ерите слова по соста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11120" y="4437000"/>
            <a:ext cx="64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ратский,   прекрас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ребристый,  хвостат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алантливый, безвред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24000" y="1052640"/>
            <a:ext cx="6175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снился как-то Грише с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служит на границе 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о своим служебным псо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ёт в дозор ненастным днё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дозоре не попьёшь чайк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ь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олжен быть ты начеку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95280" y="5300640"/>
            <a:ext cx="84247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Быть начеку»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быть наготове, находиться в ожид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go3.imgsmail.ru/imgpreview?key=4eabc37393552a67&amp;mb=imgdb_preview_1944"/>
          <p:cNvPicPr/>
          <p:nvPr/>
        </p:nvPicPr>
        <p:blipFill>
          <a:blip r:embed="rId1"/>
          <a:stretch/>
        </p:blipFill>
        <p:spPr>
          <a:xfrm>
            <a:off x="6094440" y="189000"/>
            <a:ext cx="288432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4" descr="http://img-fotki.yandex.ru/get/4405/leulens.0/0_5c9b0_cc69db27_L.jpg"/>
          <p:cNvPicPr/>
          <p:nvPr/>
        </p:nvPicPr>
        <p:blipFill>
          <a:blip r:embed="rId2"/>
          <a:srcRect l="20950" t="11599" r="20021" b="0"/>
          <a:stretch/>
        </p:blipFill>
        <p:spPr>
          <a:xfrm>
            <a:off x="6300720" y="2205000"/>
            <a:ext cx="2232000" cy="27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539640" y="40464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ёша мастер на все ру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з дела не привык скуч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 мастерит такие штуки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з невозможно оторв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если Лёше волю дать,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лоху сумеет подков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8360" y="4941720"/>
            <a:ext cx="83516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Блоху подковать»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значает проявить необыкновенную выдумку в каком-нибудь деле, умение, тонкое масте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www.terra-z.ru/wp-content/uploads/2011/02/244.jpg"/>
          <p:cNvPicPr/>
          <p:nvPr/>
        </p:nvPicPr>
        <p:blipFill>
          <a:blip r:embed="rId1"/>
          <a:stretch/>
        </p:blipFill>
        <p:spPr>
          <a:xfrm>
            <a:off x="5580000" y="828720"/>
            <a:ext cx="3564000" cy="4064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липарты\цифры буквы\цифры запятые точки\0_4bc3a_c392e0c9_L.png"/>
          <p:cNvPicPr/>
          <p:nvPr/>
        </p:nvPicPr>
        <p:blipFill>
          <a:blip r:embed="rId2"/>
          <a:stretch/>
        </p:blipFill>
        <p:spPr>
          <a:xfrm>
            <a:off x="7164360" y="260280"/>
            <a:ext cx="1590840" cy="1590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281680" y="4653000"/>
            <a:ext cx="412632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о трудн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ыполнял(а) задан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, 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могу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50920" y="1700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Что такое имя прилага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Какую роль играют имена прилагательные в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 помощью каких суффиксов могут образовы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на 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5"/>
          <p:cNvSpPr/>
          <p:nvPr/>
        </p:nvSpPr>
        <p:spPr>
          <a:xfrm>
            <a:off x="238320" y="189000"/>
            <a:ext cx="7463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имена прилагательные, состоящие из 3 сл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342000" y="1125360"/>
            <a:ext cx="324828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озов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7"/>
          <p:cNvSpPr/>
          <p:nvPr/>
        </p:nvSpPr>
        <p:spPr>
          <a:xfrm>
            <a:off x="558000" y="3789360"/>
            <a:ext cx="326196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зер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556200" y="2421000"/>
            <a:ext cx="290700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ыстр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550080" y="5373720"/>
            <a:ext cx="310356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3863880" y="1125360"/>
            <a:ext cx="20444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о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4229640" y="2421000"/>
            <a:ext cx="325152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ыстр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4149360" y="3789360"/>
            <a:ext cx="29282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мел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4224240" y="5445000"/>
            <a:ext cx="29480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обр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6669720" y="1052640"/>
            <a:ext cx="18860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ал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1"/>
          <p:cNvSpPr/>
          <p:nvPr/>
        </p:nvSpPr>
        <p:spPr>
          <a:xfrm>
            <a:off x="468360" y="2349360"/>
            <a:ext cx="324180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5"/>
          <p:cNvSpPr/>
          <p:nvPr/>
        </p:nvSpPr>
        <p:spPr>
          <a:xfrm>
            <a:off x="3780000" y="1052640"/>
            <a:ext cx="230472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6"/>
          <p:cNvSpPr/>
          <p:nvPr/>
        </p:nvSpPr>
        <p:spPr>
          <a:xfrm>
            <a:off x="468360" y="5300640"/>
            <a:ext cx="324000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2080" y="189000"/>
            <a:ext cx="5749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каждой сточки выпишите лишне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4640" y="1268280"/>
            <a:ext cx="903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ыбё…ка,  поса…ка, прово…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оро…к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 В….дить, б…днеть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…здушный,  уд…л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 Поз…но, счас...лив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елес…но, ненас…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4. С…едобный,  в…ехал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ед…явил,  с…ёжил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669960" y="390600"/>
            <a:ext cx="764532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890640" y="1401840"/>
            <a:ext cx="7242120" cy="731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128520" y="2822400"/>
            <a:ext cx="3340080" cy="2219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3730680" y="2822400"/>
            <a:ext cx="2298600" cy="22194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6467400" y="2822400"/>
            <a:ext cx="2335320" cy="22194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2468520" y="5218200"/>
            <a:ext cx="4334040" cy="146844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низ 8"/>
          <p:cNvSpPr/>
          <p:nvPr/>
        </p:nvSpPr>
        <p:spPr>
          <a:xfrm rot="1269000">
            <a:off x="1698480" y="2252520"/>
            <a:ext cx="360360" cy="5050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9"/>
          <p:cNvSpPr/>
          <p:nvPr/>
        </p:nvSpPr>
        <p:spPr>
          <a:xfrm rot="20103600">
            <a:off x="7182000" y="2185560"/>
            <a:ext cx="360360" cy="503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0"/>
          <p:cNvSpPr/>
          <p:nvPr/>
        </p:nvSpPr>
        <p:spPr>
          <a:xfrm>
            <a:off x="4506840" y="2252520"/>
            <a:ext cx="360360" cy="5050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914400" y="176040"/>
            <a:ext cx="6997680" cy="1225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842040" y="1557360"/>
            <a:ext cx="738468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Часть ре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Начальная фор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 И.п.,  ед. ч., м.р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Падеж (непост. призн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Число (непост. призн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Род (в ед.ч.) (непост. призна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Роль в предложен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shopedu.ru/uploaded_files/shop_images/1176.jpg"/>
          <p:cNvPicPr/>
          <p:nvPr/>
        </p:nvPicPr>
        <p:blipFill>
          <a:blip r:embed="rId1"/>
          <a:stretch/>
        </p:blipFill>
        <p:spPr>
          <a:xfrm>
            <a:off x="312840" y="333360"/>
            <a:ext cx="8464320" cy="604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06:29:13Z</dcterms:created>
  <dc:creator>Admin</dc:creator>
  <dc:description/>
  <dc:language>en-US</dc:language>
  <cp:lastModifiedBy>Admin</cp:lastModifiedBy>
  <dcterms:modified xsi:type="dcterms:W3CDTF">2024-01-08T11:18:50Z</dcterms:modified>
  <cp:revision>18</cp:revision>
  <dc:subject/>
  <dc:title>Слайд 1</dc:title>
</cp:coreProperties>
</file>