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8.png" ContentType="image/png"/>
  <Override PartName="/ppt/media/image13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9.png" ContentType="image/png"/>
  <Override PartName="/ppt/media/image30.jpeg" ContentType="image/jpeg"/>
  <Override PartName="/ppt/media/image3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9DEC-0BF7-4407-841B-7F044733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53B0-5DEA-4CDF-80D6-F4FEBAB9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8D2-B00D-4D46-9CC9-53D3074C7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99F-7428-4624-8D1E-AEC12FA6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B2B-6DCA-4EBC-BDAB-118AD639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6277-83FF-447E-91D7-810BD827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645E-6ACB-40A8-99B5-64449E93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ACE-4543-45D2-B15B-A5FFC79C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A6ED-624D-40C2-BB79-B5FFB908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44AD-5A9A-46D1-BBFF-1524C5C0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71E-CB6E-4212-8E5F-E1CCCC477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CD5A-017C-4F33-959D-5F8034D1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EC75-F086-49E1-A082-B76DF3E66A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2"/>
          <a:stretch/>
        </p:blipFill>
        <p:spPr>
          <a:xfrm>
            <a:off x="1189080" y="1987560"/>
            <a:ext cx="6450120" cy="927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3"/>
          <a:stretch/>
        </p:blipFill>
        <p:spPr>
          <a:xfrm>
            <a:off x="4572000" y="4943520"/>
            <a:ext cx="3365640" cy="9208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Прямоугольник 1" descr=""/>
          <p:cNvPicPr/>
          <p:nvPr/>
        </p:nvPicPr>
        <p:blipFill>
          <a:blip r:embed="rId2"/>
          <a:stretch/>
        </p:blipFill>
        <p:spPr>
          <a:xfrm>
            <a:off x="2401920" y="5730840"/>
            <a:ext cx="1096920" cy="92556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2" descr=""/>
          <p:cNvPicPr/>
          <p:nvPr/>
        </p:nvPicPr>
        <p:blipFill>
          <a:blip r:embed="rId3"/>
          <a:stretch/>
        </p:blipFill>
        <p:spPr>
          <a:xfrm>
            <a:off x="6870600" y="5803920"/>
            <a:ext cx="1670040" cy="9255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1"/>
          <p:cNvSpPr/>
          <p:nvPr/>
        </p:nvSpPr>
        <p:spPr>
          <a:xfrm>
            <a:off x="1614240" y="260280"/>
            <a:ext cx="522504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ью бензин и масло ем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оть не голодно совсем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 без них я так болею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 поехать не суме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Прямоугольник 2" descr=""/>
          <p:cNvPicPr/>
          <p:nvPr/>
        </p:nvPicPr>
        <p:blipFill>
          <a:blip r:embed="rId1"/>
          <a:stretch/>
        </p:blipFill>
        <p:spPr>
          <a:xfrm>
            <a:off x="890640" y="5072040"/>
            <a:ext cx="7278480" cy="1347840"/>
          </a:xfrm>
          <a:prstGeom prst="rect">
            <a:avLst/>
          </a:prstGeom>
          <a:ln w="0">
            <a:noFill/>
          </a:ln>
        </p:spPr>
      </p:pic>
      <p:sp>
        <p:nvSpPr>
          <p:cNvPr id="76" name="Минус 3"/>
          <p:cNvSpPr/>
          <p:nvPr/>
        </p:nvSpPr>
        <p:spPr>
          <a:xfrm rot="17916600">
            <a:off x="5751720" y="4809600"/>
            <a:ext cx="865080" cy="576000"/>
          </a:xfrm>
          <a:custGeom>
            <a:avLst/>
            <a:gdLst/>
            <a:ahLst/>
            <a:rect l="l" t="t" r="r" b="b"/>
            <a:pathLst>
              <a:path w="865187" h="576263">
                <a:moveTo>
                  <a:pt x="114681" y="220363"/>
                </a:moveTo>
                <a:lnTo>
                  <a:pt x="750506" y="220363"/>
                </a:lnTo>
                <a:lnTo>
                  <a:pt x="750506" y="355900"/>
                </a:lnTo>
                <a:lnTo>
                  <a:pt x="114681" y="355900"/>
                </a:lnTo>
                <a:lnTo>
                  <a:pt x="114681" y="220363"/>
                </a:lnTo>
                <a:close/>
              </a:path>
            </a:pathLst>
          </a:custGeom>
          <a:solidFill>
            <a:srgbClr val="00206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D:\клипарты\трансрорт\0_4f968_357f227b_L.png"/>
          <p:cNvPicPr/>
          <p:nvPr/>
        </p:nvPicPr>
        <p:blipFill>
          <a:blip r:embed="rId2"/>
          <a:stretch/>
        </p:blipFill>
        <p:spPr>
          <a:xfrm>
            <a:off x="2050920" y="2565360"/>
            <a:ext cx="5048280" cy="24224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D:\клипарты\трансрорт\1 (23).png"/>
          <p:cNvPicPr/>
          <p:nvPr/>
        </p:nvPicPr>
        <p:blipFill>
          <a:blip r:embed="rId1"/>
          <a:stretch/>
        </p:blipFill>
        <p:spPr>
          <a:xfrm>
            <a:off x="5473800" y="1052640"/>
            <a:ext cx="3309840" cy="2733480"/>
          </a:xfrm>
          <a:prstGeom prst="rect">
            <a:avLst/>
          </a:prstGeom>
          <a:ln w="0">
            <a:noFill/>
          </a:ln>
        </p:spPr>
      </p:pic>
      <p:sp>
        <p:nvSpPr>
          <p:cNvPr id="79" name="TextBox 3"/>
          <p:cNvSpPr/>
          <p:nvPr/>
        </p:nvSpPr>
        <p:spPr>
          <a:xfrm>
            <a:off x="395280" y="4221000"/>
            <a:ext cx="835344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амоходная машина с двигател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утреннего сгорания для перевоз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ассажиров и грузов по безрельсовы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дорога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632160" y="476280"/>
            <a:ext cx="460332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libri"/>
              </a:rPr>
              <a:t>автомобил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89160" y="189000"/>
            <a:ext cx="61531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ишите текст. Вставьте пропущенные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79280" y="692280"/>
            <a:ext cx="8820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Мы выехали из города ранн…. утром. На ал…  небосклон…   пылала утренн… заря. Перед нами было бел… поле.  Сне…   л…жал    лёгк… пушист…  ковром.  Дальн…  лес стоял перед нами  тёмн…  стеной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379080" y="189000"/>
            <a:ext cx="8087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разуйте от имён существительных имена прилагатель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324000" y="949320"/>
            <a:ext cx="864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Храбрость, смелость, силач,  доброта, умница, старик, дом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  <a:ea typeface="Arial"/>
              </a:rPr>
              <a:t>хвастун, крепыш, гордость,  ловкос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08240" y="260280"/>
            <a:ext cx="6215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шите имена прилагательные в 3 столб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"/>
          <p:cNvSpPr/>
          <p:nvPr/>
        </p:nvSpPr>
        <p:spPr>
          <a:xfrm>
            <a:off x="324000" y="1052640"/>
            <a:ext cx="856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Еловая ветка, туманный день, круглое яблоко, трухлявый пень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глубокое озеро, старая вещь, прозрачный зонтик мохнатый пёс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324000" y="2060640"/>
            <a:ext cx="8424720" cy="3750840"/>
          </a:xfrm>
          <a:prstGeom prst="rect">
            <a:avLst/>
          </a:prstGeom>
          <a:solidFill>
            <a:srgbClr val="ffffff"/>
          </a:solidFill>
          <a:ln w="7632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ружась легко и неумело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нежинка села на стекло.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Шел ночью снег густой 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лый -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От снега в комнате светл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" descr=""/>
          <p:cNvPicPr/>
          <p:nvPr/>
        </p:nvPicPr>
        <p:blipFill>
          <a:blip r:embed="rId2"/>
          <a:stretch/>
        </p:blipFill>
        <p:spPr>
          <a:xfrm>
            <a:off x="695160" y="324000"/>
            <a:ext cx="6778800" cy="9442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676800" y="2852640"/>
            <a:ext cx="3847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ерите слова по соста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"/>
          <p:cNvSpPr/>
          <p:nvPr/>
        </p:nvSpPr>
        <p:spPr>
          <a:xfrm>
            <a:off x="411120" y="4437000"/>
            <a:ext cx="641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Братский,   прекрасн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серебристый,  хвостаты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талантливый, безвредны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324000" y="1052640"/>
            <a:ext cx="6175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иснился как-то Грише с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Что служит на границе он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 со своим служебным псом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дёт в дозор ненастным днё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дозоре не попьёшь чайку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едь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должен быть ты начеку.</a:t>
            </a: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395280" y="5300640"/>
            <a:ext cx="842472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Быть начеку»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значит быть наготове, находиться в ожид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go3.imgsmail.ru/imgpreview?key=4eabc37393552a67&amp;mb=imgdb_preview_1944"/>
          <p:cNvPicPr/>
          <p:nvPr/>
        </p:nvPicPr>
        <p:blipFill>
          <a:blip r:embed="rId1"/>
          <a:stretch/>
        </p:blipFill>
        <p:spPr>
          <a:xfrm>
            <a:off x="6094440" y="189000"/>
            <a:ext cx="2884320" cy="201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2" name="Picture 4" descr="http://img-fotki.yandex.ru/get/4405/leulens.0/0_5c9b0_cc69db27_L.jpg"/>
          <p:cNvPicPr/>
          <p:nvPr/>
        </p:nvPicPr>
        <p:blipFill>
          <a:blip r:embed="rId2"/>
          <a:srcRect l="20950" t="11599" r="20021" b="0"/>
          <a:stretch/>
        </p:blipFill>
        <p:spPr>
          <a:xfrm>
            <a:off x="6300720" y="2205000"/>
            <a:ext cx="2232000" cy="274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1"/>
          <p:cNvSpPr/>
          <p:nvPr/>
        </p:nvSpPr>
        <p:spPr>
          <a:xfrm>
            <a:off x="539640" y="40464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лёша мастер на все руки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ез дела не привык скуч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н мастерит такие штуки –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з невозможно оторва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 если Лёше волю дать,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Блоху сумеет подкова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"/>
          <p:cNvSpPr/>
          <p:nvPr/>
        </p:nvSpPr>
        <p:spPr>
          <a:xfrm>
            <a:off x="468360" y="4941720"/>
            <a:ext cx="8351640" cy="1556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«Блоху подковать»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означает проявить необыкновенную выдумку в каком-нибудь деле, умение, тонкое мастер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www.terra-z.ru/wp-content/uploads/2011/02/244.jpg"/>
          <p:cNvPicPr/>
          <p:nvPr/>
        </p:nvPicPr>
        <p:blipFill>
          <a:blip r:embed="rId1"/>
          <a:stretch/>
        </p:blipFill>
        <p:spPr>
          <a:xfrm>
            <a:off x="5580000" y="828720"/>
            <a:ext cx="3564000" cy="40640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:\клипарты\цифры буквы\цифры запятые точки\0_4bc3a_c392e0c9_L.png"/>
          <p:cNvPicPr/>
          <p:nvPr/>
        </p:nvPicPr>
        <p:blipFill>
          <a:blip r:embed="rId2"/>
          <a:stretch/>
        </p:blipFill>
        <p:spPr>
          <a:xfrm>
            <a:off x="7164360" y="260280"/>
            <a:ext cx="1590840" cy="159084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2281680" y="4653000"/>
            <a:ext cx="4126320" cy="1922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годня я узна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ыло трудно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выполнял(а) задани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понял, ч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перь я могу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50920" y="1700280"/>
            <a:ext cx="691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Что такое имя прилагательно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Какую роль играют имена прилагательные в реч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 С помощью каких суффиксов могут образовыва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на прилагательны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5"/>
          <p:cNvSpPr/>
          <p:nvPr/>
        </p:nvSpPr>
        <p:spPr>
          <a:xfrm>
            <a:off x="238320" y="189000"/>
            <a:ext cx="7463880" cy="703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йдите имена прилагательные, состоящие из 3 слог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ь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6"/>
          <p:cNvSpPr/>
          <p:nvPr/>
        </p:nvSpPr>
        <p:spPr>
          <a:xfrm>
            <a:off x="342000" y="1125360"/>
            <a:ext cx="324828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озов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7"/>
          <p:cNvSpPr/>
          <p:nvPr/>
        </p:nvSpPr>
        <p:spPr>
          <a:xfrm>
            <a:off x="558000" y="3789360"/>
            <a:ext cx="326196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зерны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8"/>
          <p:cNvSpPr/>
          <p:nvPr/>
        </p:nvSpPr>
        <p:spPr>
          <a:xfrm>
            <a:off x="556200" y="2421000"/>
            <a:ext cx="290700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ыстр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9"/>
          <p:cNvSpPr/>
          <p:nvPr/>
        </p:nvSpPr>
        <p:spPr>
          <a:xfrm>
            <a:off x="550080" y="5373720"/>
            <a:ext cx="310356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оброт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0"/>
          <p:cNvSpPr/>
          <p:nvPr/>
        </p:nvSpPr>
        <p:spPr>
          <a:xfrm>
            <a:off x="3863880" y="1125360"/>
            <a:ext cx="20444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ро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1"/>
          <p:cNvSpPr/>
          <p:nvPr/>
        </p:nvSpPr>
        <p:spPr>
          <a:xfrm>
            <a:off x="4229640" y="2421000"/>
            <a:ext cx="325152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быстр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2"/>
          <p:cNvSpPr/>
          <p:nvPr/>
        </p:nvSpPr>
        <p:spPr>
          <a:xfrm>
            <a:off x="4149360" y="3789360"/>
            <a:ext cx="29282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мел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3"/>
          <p:cNvSpPr/>
          <p:nvPr/>
        </p:nvSpPr>
        <p:spPr>
          <a:xfrm>
            <a:off x="4224240" y="5445000"/>
            <a:ext cx="29480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обр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4"/>
          <p:cNvSpPr/>
          <p:nvPr/>
        </p:nvSpPr>
        <p:spPr>
          <a:xfrm>
            <a:off x="6669720" y="1052640"/>
            <a:ext cx="1886040" cy="1008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ал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11"/>
          <p:cNvSpPr/>
          <p:nvPr/>
        </p:nvSpPr>
        <p:spPr>
          <a:xfrm>
            <a:off x="468360" y="2349360"/>
            <a:ext cx="324180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25"/>
          <p:cNvSpPr/>
          <p:nvPr/>
        </p:nvSpPr>
        <p:spPr>
          <a:xfrm>
            <a:off x="3780000" y="1052640"/>
            <a:ext cx="2304720" cy="1152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26"/>
          <p:cNvSpPr/>
          <p:nvPr/>
        </p:nvSpPr>
        <p:spPr>
          <a:xfrm>
            <a:off x="468360" y="5300640"/>
            <a:ext cx="3240000" cy="1152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1"/>
          <p:cNvSpPr/>
          <p:nvPr/>
        </p:nvSpPr>
        <p:spPr>
          <a:xfrm>
            <a:off x="262080" y="189000"/>
            <a:ext cx="5749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каждой сточки выпишите лишнее сло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44640" y="1268280"/>
            <a:ext cx="90324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Рыбё…ка,  поса…ка, прово…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оро…к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2. В….дить, б…днеть,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в…здушный,  уд…ля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3. Поз…но, счас...ливы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елес…но, ненас…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4. С…едобный,  в…ехал,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пред…явил,  с…ёжилс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Прямоугольник 2" descr=""/>
          <p:cNvPicPr/>
          <p:nvPr/>
        </p:nvPicPr>
        <p:blipFill>
          <a:blip r:embed="rId1"/>
          <a:stretch/>
        </p:blipFill>
        <p:spPr>
          <a:xfrm>
            <a:off x="669960" y="390600"/>
            <a:ext cx="7645320" cy="9507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3" descr=""/>
          <p:cNvPicPr/>
          <p:nvPr/>
        </p:nvPicPr>
        <p:blipFill>
          <a:blip r:embed="rId2"/>
          <a:stretch/>
        </p:blipFill>
        <p:spPr>
          <a:xfrm>
            <a:off x="890640" y="1401840"/>
            <a:ext cx="7242120" cy="73188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4" descr=""/>
          <p:cNvPicPr/>
          <p:nvPr/>
        </p:nvPicPr>
        <p:blipFill>
          <a:blip r:embed="rId3"/>
          <a:stretch/>
        </p:blipFill>
        <p:spPr>
          <a:xfrm>
            <a:off x="128520" y="2822400"/>
            <a:ext cx="3340080" cy="221940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5" descr=""/>
          <p:cNvPicPr/>
          <p:nvPr/>
        </p:nvPicPr>
        <p:blipFill>
          <a:blip r:embed="rId4"/>
          <a:stretch/>
        </p:blipFill>
        <p:spPr>
          <a:xfrm>
            <a:off x="3730680" y="2822400"/>
            <a:ext cx="2298600" cy="221940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6" descr=""/>
          <p:cNvPicPr/>
          <p:nvPr/>
        </p:nvPicPr>
        <p:blipFill>
          <a:blip r:embed="rId5"/>
          <a:stretch/>
        </p:blipFill>
        <p:spPr>
          <a:xfrm>
            <a:off x="6467400" y="2822400"/>
            <a:ext cx="2335320" cy="221940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7" descr=""/>
          <p:cNvPicPr/>
          <p:nvPr/>
        </p:nvPicPr>
        <p:blipFill>
          <a:blip r:embed="rId6"/>
          <a:stretch/>
        </p:blipFill>
        <p:spPr>
          <a:xfrm>
            <a:off x="2468520" y="5218200"/>
            <a:ext cx="4334040" cy="1468440"/>
          </a:xfrm>
          <a:prstGeom prst="rect">
            <a:avLst/>
          </a:prstGeom>
          <a:ln w="0">
            <a:noFill/>
          </a:ln>
        </p:spPr>
      </p:pic>
      <p:sp>
        <p:nvSpPr>
          <p:cNvPr id="66" name="Стрелка вниз 8"/>
          <p:cNvSpPr/>
          <p:nvPr/>
        </p:nvSpPr>
        <p:spPr>
          <a:xfrm rot="1269000">
            <a:off x="1698480" y="2252520"/>
            <a:ext cx="360360" cy="5050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трелка вниз 9"/>
          <p:cNvSpPr/>
          <p:nvPr/>
        </p:nvSpPr>
        <p:spPr>
          <a:xfrm rot="20103600">
            <a:off x="7182000" y="2185560"/>
            <a:ext cx="360360" cy="5032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низ 10"/>
          <p:cNvSpPr/>
          <p:nvPr/>
        </p:nvSpPr>
        <p:spPr>
          <a:xfrm>
            <a:off x="4506840" y="2252520"/>
            <a:ext cx="360360" cy="50508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Прямоугольник 1" descr=""/>
          <p:cNvPicPr/>
          <p:nvPr/>
        </p:nvPicPr>
        <p:blipFill>
          <a:blip r:embed="rId1"/>
          <a:stretch/>
        </p:blipFill>
        <p:spPr>
          <a:xfrm>
            <a:off x="914400" y="176040"/>
            <a:ext cx="6997680" cy="12258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842040" y="1557360"/>
            <a:ext cx="7384680" cy="4360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. Часть реч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2. Начальная фор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( И.п.,  ед. ч., м.р.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3. Падеж (непост. призна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4. Число (непост. признак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5. Род (в ед.ч.) (непост. признак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6. Роль в предложени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shopedu.ru/uploaded_files/shop_images/1176.jpg"/>
          <p:cNvPicPr/>
          <p:nvPr/>
        </p:nvPicPr>
        <p:blipFill>
          <a:blip r:embed="rId1"/>
          <a:stretch/>
        </p:blipFill>
        <p:spPr>
          <a:xfrm>
            <a:off x="312840" y="333360"/>
            <a:ext cx="8464320" cy="6048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5T06:29:13Z</dcterms:created>
  <dc:creator>Admin</dc:creator>
  <dc:description/>
  <dc:language>en-US</dc:language>
  <cp:lastModifiedBy>Admin</cp:lastModifiedBy>
  <dcterms:modified xsi:type="dcterms:W3CDTF">2024-01-08T11:18:50Z</dcterms:modified>
  <cp:revision>18</cp:revision>
  <dc:subject/>
  <dc:title>Слайд 1</dc:title>
</cp:coreProperties>
</file>