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096E-21B6-44D7-939B-6C49E0FB03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E3F-D7D8-4F2C-AF4A-9D2C148EB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по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C67-3AF3-4AEC-869B-DCB71A2E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8D1-4032-4F44-A2D5-92AF13BB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F61-7C74-42DA-A148-D64AD131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088-4B82-48C0-B3C9-A991BE24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B6DB-1D8C-42F1-9D1C-E80356B6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582-6DFF-422B-A38B-A3C1558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051-1BF9-48E2-8ABA-1BA265EF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17A-D97E-4154-9513-31C0842C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2DE-C266-448C-88F5-7451B409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120-4142-4FAD-A3BF-70E7CD1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0D9-B7C4-4D84-851A-0E251FC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5EA6-D5E9-4641-8D39-A3B7B48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7DEC-A028-4AEB-BA50-C0A32024D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900000" y="836640"/>
            <a:ext cx="741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чающе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826920" y="3146400"/>
            <a:ext cx="7417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лож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9" descr="053"/>
          <p:cNvPicPr/>
          <p:nvPr/>
        </p:nvPicPr>
        <p:blipFill>
          <a:blip r:embed="rId2"/>
          <a:stretch/>
        </p:blipFill>
        <p:spPr>
          <a:xfrm>
            <a:off x="2987640" y="4653000"/>
            <a:ext cx="2664000" cy="1428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619280" y="549360"/>
            <a:ext cx="6337440" cy="2374920"/>
          </a:xfrm>
          <a:prstGeom prst="cloudCallout">
            <a:avLst>
              <a:gd name="adj1" fmla="val -40958"/>
              <a:gd name="adj2" fmla="val 104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теперь послушайте текст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419640" y="3357720"/>
            <a:ext cx="5113080" cy="1295280"/>
          </a:xfrm>
          <a:prstGeom prst="cloudCallout">
            <a:avLst>
              <a:gd name="adj1" fmla="val -48884"/>
              <a:gd name="adj2" fmla="val 128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пишите текст в тетрад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08472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468360" y="476280"/>
            <a:ext cx="4608360" cy="367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л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у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учи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332000" y="465300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08472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971640" y="1484280"/>
            <a:ext cx="504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му учит этот рассказ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900000" y="620640"/>
            <a:ext cx="720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ьно ли поступил мальчик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539640" y="2492280"/>
            <a:ext cx="8115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и ли в вашей жизни такие случаи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Picture 10" descr="book20"/>
          <p:cNvPicPr/>
          <p:nvPr/>
        </p:nvPicPr>
        <p:blipFill>
          <a:blip r:embed="rId3"/>
          <a:stretch/>
        </p:blipFill>
        <p:spPr>
          <a:xfrm>
            <a:off x="3203640" y="3429000"/>
            <a:ext cx="1800000" cy="1093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2987640" y="3357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1692360" y="476280"/>
            <a:ext cx="626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 новых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2916360" y="1989000"/>
            <a:ext cx="403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реч!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ckgrounds_00045"/>
          <p:cNvPicPr/>
          <p:nvPr/>
        </p:nvPicPr>
        <p:blipFill>
          <a:blip r:embed="rId1"/>
          <a:stretch/>
        </p:blipFill>
        <p:spPr>
          <a:xfrm>
            <a:off x="214200" y="147600"/>
            <a:ext cx="8643960" cy="6424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786200" y="1357200"/>
            <a:ext cx="328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Ротанёва Виктория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Контанистова Л.Ф    Республика САХА Якутия г.Уда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33564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324000" y="333360"/>
            <a:ext cx="7200720" cy="3527280"/>
          </a:xfrm>
          <a:prstGeom prst="cloudCallout">
            <a:avLst>
              <a:gd name="adj1" fmla="val 43254"/>
              <a:gd name="adj2" fmla="val 52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годня вы узнаете историю, которая однажды произошла с такими ребятами как вы мальчиком и девочкой, и напишите изложение (пересказ) эт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33564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>
            <a:off x="468360" y="692280"/>
            <a:ext cx="7488360" cy="2449440"/>
          </a:xfrm>
          <a:prstGeom prst="cloudCallout">
            <a:avLst>
              <a:gd name="adj1" fmla="val 40101"/>
              <a:gd name="adj2" fmla="val 84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текст изложения вы добавите название города (села), в котором могло произойти описываемое собы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95280" y="3860640"/>
            <a:ext cx="5545080" cy="1944720"/>
          </a:xfrm>
          <a:prstGeom prst="cloudCallout">
            <a:avLst>
              <a:gd name="adj1" fmla="val 72185"/>
              <a:gd name="adj2" fmla="val 26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ак же дадите имена детям, о которых говорится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1835280" y="54936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омощь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школы шли мальчик и девочка. Впереди них шла старушка. На улице было скользко. Старушка поскользнулась и упала. Мальчик передал девочке портфель и помог старушке вс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51"/>
          <p:cNvPicPr/>
          <p:nvPr/>
        </p:nvPicPr>
        <p:blipFill>
          <a:blip r:embed="rId2"/>
          <a:stretch/>
        </p:blipFill>
        <p:spPr>
          <a:xfrm>
            <a:off x="7164360" y="522936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611280" y="549360"/>
            <a:ext cx="7921440" cy="3743280"/>
          </a:xfrm>
          <a:prstGeom prst="wedgeRectCallout">
            <a:avLst>
              <a:gd name="adj1" fmla="val -28699"/>
              <a:gd name="adj2" fmla="val 9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 чем идёт речь в тексте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ой это вид текс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овите тему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ая главная мысль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4140360" y="1484280"/>
            <a:ext cx="41432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вествование)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8"/>
          <p:cNvSpPr txBox="1"/>
          <p:nvPr/>
        </p:nvSpPr>
        <p:spPr>
          <a:xfrm>
            <a:off x="3492360" y="2637000"/>
            <a:ext cx="4724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мощь старушке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611280" y="3573360"/>
            <a:ext cx="799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жилым нужно оказывать помощь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11"/>
          <p:cNvSpPr txBox="1"/>
          <p:nvPr/>
        </p:nvSpPr>
        <p:spPr>
          <a:xfrm>
            <a:off x="3780000" y="5229360"/>
            <a:ext cx="43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76720" y="620280"/>
            <a:ext cx="58672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название города (села), в котором могло произойти это собы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назовёте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уда шли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шёл впереди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ыла опасна ул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лучилось со старуш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дел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думаете, что сделала стар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0" y="476280"/>
            <a:ext cx="3492360" cy="2305080"/>
          </a:xfrm>
          <a:prstGeom prst="cloudCallout">
            <a:avLst>
              <a:gd name="adj1" fmla="val 92"/>
              <a:gd name="adj2" fmla="val 118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е нравятся имена Миша и Л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2484360" y="602136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лагодарила дете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/>
          <p:cNvSpPr/>
          <p:nvPr/>
        </p:nvSpPr>
        <p:spPr>
          <a:xfrm>
            <a:off x="1258920" y="549360"/>
            <a:ext cx="6913440" cy="2193840"/>
          </a:xfrm>
          <a:prstGeom prst="wedgeEllipseCallout">
            <a:avLst>
              <a:gd name="adj1" fmla="val -24717"/>
              <a:gd name="adj2" fmla="val 150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ьмите простой карандаш и в каждом слове выделите орф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539640" y="333360"/>
            <a:ext cx="8209080" cy="2374920"/>
          </a:xfrm>
          <a:prstGeom prst="wedgeEllipseCallout">
            <a:avLst>
              <a:gd name="adj1" fmla="val -32226"/>
              <a:gd name="adj2" fmla="val 119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ловах для справок указаны слова, написание которых вы должны запомнить, так как объяснить написание орфограмм вы ещё не смож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3348000" y="3500280"/>
            <a:ext cx="518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ова для справок: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3635280" y="429264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перед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3564000" y="4941720"/>
            <a:ext cx="4248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кользнулас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1187280" y="0"/>
            <a:ext cx="6769440" cy="1484280"/>
          </a:xfrm>
          <a:prstGeom prst="cloudCallout">
            <a:avLst>
              <a:gd name="adj1" fmla="val -46435"/>
              <a:gd name="adj2" fmla="val 15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яем план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4284720" y="2205000"/>
            <a:ext cx="273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ла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2733840" y="3170160"/>
            <a:ext cx="42145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Дорога домо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2700360" y="3716280"/>
            <a:ext cx="45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Опасная дорог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2124000" y="4221000"/>
            <a:ext cx="66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Проишествие со старушко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1"/>
          <p:cNvSpPr txBox="1"/>
          <p:nvPr/>
        </p:nvSpPr>
        <p:spPr>
          <a:xfrm>
            <a:off x="2627280" y="4869000"/>
            <a:ext cx="41623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Поступок Миш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3:16:36Z</dcterms:created>
  <dc:creator>SamLab.ws</dc:creator>
  <dc:description/>
  <dc:language>en-US</dc:language>
  <cp:lastModifiedBy>Домашний компьютер</cp:lastModifiedBy>
  <dcterms:modified xsi:type="dcterms:W3CDTF">2024-01-08T11:26:36Z</dcterms:modified>
  <cp:revision>4</cp:revision>
  <dc:subject/>
  <dc:title>Слайд 1</dc:title>
</cp:coreProperties>
</file>