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541F-8B6B-4B5B-A793-66BF6267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81FA-D923-4B56-ADA5-EBAB3D305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1AF8-0EF6-4E43-A67E-71147B429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EEC-2ACC-49EA-AB81-57D5DE25B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818A-7802-4E77-A4B2-8898A3C53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993F-651D-4311-9BDD-C6FEBEF2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A999-E455-455F-B2AC-F682652C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BB27-D91F-418D-ABD4-E703461D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FCC8-A4A7-4D95-A6BD-EB3CA76E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76A7-E075-464A-9500-CA599D6D6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C649-8BBD-4507-A1B5-825FC42D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4E6-2E2F-4347-8970-48DFEF1FA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1252-EE68-4890-84EC-FC11B87A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00424-06FC-4F83-B650-E6D3365F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1426-3106-4261-9406-464DC8EA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AAB6-294A-4286-ADCC-DBB4CDFEB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DD91-E105-46CA-A0ED-43A1C135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AD5D4-49C1-4132-9FED-12FF4680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EEE44-AD34-4CBF-95F8-A4F771B2E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44999-136F-46F3-BBDC-0A3CEABB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CF29A-743E-4084-BFEF-3CBD0C883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B2C04-B9B6-4030-AE57-E52D3B8E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9A3-622B-4AE3-983E-1BE507696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E784D-CFB1-442A-97FC-DCC433CE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DF52E-7C87-4DA9-91CE-17980F33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47715-367A-41A7-B66C-16A27619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1EE9F-0727-4008-8A8E-2CDCA775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6B1BA-CEE6-44E6-BBE8-DEE5C29E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964A5-70C1-4DA2-A3F6-54981F9D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BB89-68A6-4EE4-88CF-46986E2EE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142E5-908F-485E-8BA1-10971BFF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145A2-FC65-4FB9-B295-55EEB6A19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09E81-F3D2-458C-9175-CA5C182D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016-C8AB-46C4-A3A6-194FFE2C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B88D5-AF69-4104-A038-E265BF42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FBDB6-54D0-4EAE-8B21-8B9B854A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12F84-B1B3-4BE4-B5A6-AE7FAD1D9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6DC37-B3F5-4170-8E40-1700B038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E152C-1267-4DC9-8900-846B15C2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84A9D-B08D-486F-A50B-15630BBE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B23A1-34E5-4497-A279-1B986510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3EF11-38C9-433B-ACED-E3889C5FB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46353-8E95-4F76-8D10-B46847E0F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B7BAF-D38B-4CF9-97CF-7E8AF5B25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0F27-440D-4D52-ADBA-CFF60F09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95068-6446-46CD-96A3-5EC24F49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F22B5-37C5-4136-AEFF-E71132C4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97234-DD77-480A-A75C-17CEE108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EE18C-E6FA-4F4C-9C62-3DDE1164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8358D-75A0-46CF-9AB7-AA3F7EA7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FFA18-17CD-4838-BA71-71A3A0744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83DFB-66A8-410E-815E-383873B7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8DE4B-02DB-4CD1-A195-7773AC9D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B3EA5-3F03-4E9D-8C43-DACE2CEA2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16F7D-0EE0-417E-9654-EC3D86C1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1D4B-EC33-4CFA-B1E3-FFAB1272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6DDF7-5C25-499C-8CB4-020630270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41C53-B6B7-4E4C-8622-AFD816F82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8B240-0941-4765-8DCA-B07C194B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4ADF3-0786-405A-92E5-5CF651EF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D81D5-E8B2-4243-9D53-D85BDC53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6685BE-82F6-4F18-A1BD-EEB40DFB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CE715-A00D-47AC-9268-AE68B2DCF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2CED3-E01B-40DE-8D6F-07AA1586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A1B85-0148-41DB-BFC0-0B021280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6B6568-4E71-4B1B-8ED7-E6A1FE12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FF6-E811-4F20-B6AF-55BAF063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B0EE0-F7F6-492C-AF80-707099E0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01DE0-5767-46AC-8098-F63B65D8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7EB647-27FC-44B6-9311-10F921A6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BA7D2-28DD-429C-B30B-E655B0D4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28F75-A84F-4662-9175-CDBEE376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EC9A9-94CA-437F-BDEF-7A515975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F535E-B114-4B43-B643-521F5F05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A7561-69CC-4B78-8025-46568F8C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EF2BF-379B-4878-834D-47B75B44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579F4-A9EE-4FC6-B2D0-7C9CFA85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93AE-1D8B-4840-89F2-085242BD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8CD0A-BD9A-45D4-BD22-9FE83C04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D11B15-9C5C-467B-BD17-AA166AE3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9640A-740B-417F-9BE3-3E8F3E92D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A84F69-5594-453A-9CD9-C33550E5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7502A-AFE3-4A28-9F7A-1F633E7E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0F019-03DE-474D-8026-CF23A1F0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1D61D-2556-4C26-85AD-E4FC51D9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4F11F-38D8-4D9C-A86A-DAE123F2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815A3-3776-4D33-97D0-0051BF5C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BE144-74E6-4813-81B5-71F836DD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BFF8-5DE7-45B4-9B72-E150C5A6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40EC62-938B-4DB9-A670-52BF847AA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395F7-CB68-4756-8712-76D7DD6B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4A09C1-413B-40CE-B74E-50196DDB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FED07-08B1-46F6-BD13-50DDA8B4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75A6C-F5EC-42CE-82D5-FAFEC443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42B73-275C-4B69-82D6-0D7EAB6D3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22D54B-DE0B-42ED-81E0-24D4B26FA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AAE5-A68B-46AB-B7BB-7C4158AE118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C969-C96B-4FC6-AA2F-DAEF7213BCA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9109-EA5A-40CB-9E8A-528B86F3824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C439-FA9D-4B7A-9883-7980D5FFD0D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1D44-0C14-4E4B-8F39-8CFE5201134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0B04-B7C8-409F-A1CE-83486076D08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9E79-CCFE-4395-B353-CAD6CA0B8A3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2F6C-A218-474D-99B2-57CF38F146B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828720"/>
            <a:ext cx="8259840" cy="2036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Lucida Sans Unicode"/>
              </a:rPr>
              <a:t>Выполнила: Городецкая Алин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65160"/>
                </a:solidFill>
                <a:latin typeface="Lucida Sans Unicode"/>
              </a:rPr>
              <a:t>9б клас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Прямоугольник 1"/>
          <p:cNvSpPr/>
          <p:nvPr/>
        </p:nvSpPr>
        <p:spPr>
          <a:xfrm>
            <a:off x="179280" y="549360"/>
            <a:ext cx="864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По обеспечению мира военными кораблями Россия сейчас занимает второе место в мире после США, на ее долю приходится 12% в мировом военном кораблестроении. В настоящее время судостроительные предприятия, которые пребывали в кризисе на протяжении 90-х и даже "нулевых" годов, обеспечены заказами в полной мере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b4a76"/>
                </a:solidFill>
                <a:latin typeface="Lucida Sans Unicode"/>
              </a:rPr>
              <a:t>На территории современного Российского государства судостроение развито с давних времен. Самое древнее судно из тех, что были найдены, относится к 5-му веку до нашей эры. Первую известную верфь основали в Соловецком монастыре: здесь делали промысловые суда. Преимущественно на Руси строили однопалубные торговые речные суда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b4a76"/>
                </a:solidFill>
                <a:latin typeface="Lucida Sans Unicode"/>
              </a:rPr>
              <a:t>В 1693 году Петр Первый заложил в Архангельске первую верфь для сооружения кораблей военных. В первую военную русскую флотилию вошли собранные в этих местах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b4a76"/>
                </a:solidFill>
                <a:latin typeface="Lucida Sans Unicode"/>
              </a:rPr>
              <a:t>● </a:t>
            </a:r>
            <a:r>
              <a:rPr b="0" lang="ru-RU" sz="2200" spc="-1" strike="noStrike">
                <a:solidFill>
                  <a:srgbClr val="2b4a76"/>
                </a:solidFill>
                <a:latin typeface="Lucida Sans Unicode"/>
              </a:rPr>
              <a:t>корабль «Апостол Павел» с 24 пушками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b4a76"/>
                </a:solidFill>
                <a:latin typeface="Lucida Sans Unicode"/>
              </a:rPr>
              <a:t>● </a:t>
            </a:r>
            <a:r>
              <a:rPr b="0" lang="ru-RU" sz="2200" spc="-1" strike="noStrike">
                <a:solidFill>
                  <a:srgbClr val="2b4a76"/>
                </a:solidFill>
                <a:latin typeface="Lucida Sans Unicode"/>
              </a:rPr>
              <a:t>фрегат «Святое Пророчество»;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b4a76"/>
                </a:solidFill>
                <a:latin typeface="Lucida Sans Unicode"/>
              </a:rPr>
              <a:t>● </a:t>
            </a:r>
            <a:r>
              <a:rPr b="0" lang="ru-RU" sz="2200" spc="-1" strike="noStrike">
                <a:solidFill>
                  <a:srgbClr val="2b4a76"/>
                </a:solidFill>
                <a:latin typeface="Lucida Sans Unicode"/>
              </a:rPr>
              <a:t>транспортное судно «Фламов».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Парусник гото Предестинация"/>
          <p:cNvPicPr/>
          <p:nvPr/>
        </p:nvPicPr>
        <p:blipFill>
          <a:blip r:embed="rId1"/>
          <a:stretch/>
        </p:blipFill>
        <p:spPr>
          <a:xfrm>
            <a:off x="1835280" y="122400"/>
            <a:ext cx="6697440" cy="60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684360" y="476280"/>
            <a:ext cx="720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В 1700 – 1702 гг. на воду спустили еще несколько фрегатов и кораблей. А в 1703 г. центром нового города Санкт-Петербург стало Адмиралтейство – крупнейшая в стране судостроительная верфь. Первое большое судно, которое здесь возвели – корабль «Полтава» с 54 пушками. Уже через 11 лет после основания верфи у страны был собственный парусный флот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Picture 2" descr="Полтава корабль Петра 1"/>
          <p:cNvPicPr/>
          <p:nvPr/>
        </p:nvPicPr>
        <p:blipFill>
          <a:blip r:embed="rId1"/>
          <a:stretch/>
        </p:blipFill>
        <p:spPr>
          <a:xfrm>
            <a:off x="3635280" y="2852640"/>
            <a:ext cx="38880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Прямоугольник 1"/>
          <p:cNvSpPr/>
          <p:nvPr/>
        </p:nvSpPr>
        <p:spPr>
          <a:xfrm>
            <a:off x="1187280" y="260280"/>
            <a:ext cx="67694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После смерти Петра I в истории развития кораблестроения России наметилось некоторое затишье, но оно сменилось новым подъемом во второй половине XVIII века. Его итогом стало создание полноценного Черноморского флота. В XIX веке появилась классификация судов, которая была технически обоснована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 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Во времена правления императора Александра I судостроительные работы сокращались, активно велось только речное судостроение. В то время как раз появилась расшива - совершенное для своего времени деревянное грузовое судно. В 1815 году был спущен на воду первый рейсовый пароход, который начал курсировать между Петербургом и Кронштадтом. 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 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В 1830 году в столице российской империи было введено в эксплуатацию грузопассажирское судно "Нева", которое имело и паруса, и две паровые машины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 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В 1838 году успешно прошел испытания на Неве первый на планете электроход. Через десять лет инженер-генерал Иван Афанасьевич Амосов построил первый винтовой фрегат, который назвали "Архимед</a:t>
            </a:r>
            <a:r>
              <a:rPr b="0" lang="en-US" sz="1800" spc="-1" strike="noStrike">
                <a:solidFill>
                  <a:srgbClr val="2b4a76"/>
                </a:solidFill>
                <a:latin typeface="Lucida Sans Unicode"/>
              </a:rPr>
              <a:t>”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1"/>
          <p:cNvSpPr/>
          <p:nvPr/>
        </p:nvSpPr>
        <p:spPr>
          <a:xfrm>
            <a:off x="324000" y="115920"/>
            <a:ext cx="871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После отмены крепостного права в 1861 году началось особенно бурное развитие пароходства на Волге. В то время ключевым судостроительным предприятием становится Сормовский завод, основанный в 1849 году. Именно на нем были построены первые в стране товаро-пассажирский пароход и железная баржа.       Примечательно, что именно в России впервые в мире была применен двигатель на речном судне. Произошло это в 1903 году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  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Тенденцией второй половины XIX века стал переход от деревянных кораблей на железные. Интересно, что в нашей стране первыми металлическими военными судами стали подводные лодки, спущенные на воду в 1834 году. На следующий год начались работы по строительству полуподводного судна "Отважный", которое могло погружаться под воду практически полностью, оставляя на поверхности только дымовую трубу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 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В XIX веке на судах начинают активно использовать паровые машины. Настоящей революцией в истории развития кораблестроения в России становится применение кованого железа, а затем и прокатной стали в качестве основного материала для конструкции кораблей. После перехода от деревянных кораблей к железным началось полное переоборудование всех заводов. Им теперь предстояло отвечать новым требования технологического прогресса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1"/>
          <p:cNvSpPr/>
          <p:nvPr/>
        </p:nvSpPr>
        <p:spPr>
          <a:xfrm>
            <a:off x="395280" y="1341360"/>
            <a:ext cx="820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В 1864 году в России была построена первая броненосная плавучая батарея. Через шесть лет в составе Балтийского флота было уже 23 таких корабля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 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А в 1872 году в состав отечественного военно-морского флота вошел броненосец "Петр Великий", который считался одним из сильнейших кораблей в мире на тот момент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 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Именно в России были сконструированы первые в мире торпедные катера. Опытные разработки в 1877 году завершил Степан Осипович Макаров. В том же году в эксплуатацию был введен первый мореходный миноносец "Взрыв"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Прямоугольник 1"/>
          <p:cNvSpPr/>
          <p:nvPr/>
        </p:nvSpPr>
        <p:spPr>
          <a:xfrm>
            <a:off x="250920" y="26028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Во времена Советского Союза именно в нашей стране был создан первый в мире рыбопромышленный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флот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Прямоугольник 2"/>
          <p:cNvSpPr/>
          <p:nvPr/>
        </p:nvSpPr>
        <p:spPr>
          <a:xfrm>
            <a:off x="324000" y="1268280"/>
            <a:ext cx="7848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После распада Советского Союза все судостроение оказалось в кризисе. Например, к 2000 году количество списанного транспортного флота превысило число новых судов в 13 раз.  Более того, большинство заказов на новые суда отечественные заказчики были вынуждены размещать на зарубежных верфях.       Ситуация начала исправляться с 2007 года, когда Владимир Путин подписал указ о создании Объединенной судостроительной корпорации. Ее основной целью стало как раз гражданское судостроение. Также была принята федеральная целевая программа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Прямоугольник 1"/>
          <p:cNvSpPr/>
          <p:nvPr/>
        </p:nvSpPr>
        <p:spPr>
          <a:xfrm>
            <a:off x="395280" y="47628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4a76"/>
                </a:solidFill>
                <a:latin typeface="Lucida Sans Unicode"/>
              </a:rPr>
              <a:t>На протяжении второго десятилетия XXI века, говоря о развитии судостроения в стране, в первую очередь, речь идет о военном флоте. На военно-морскую технику приходится до 70 процентов всех заказов, поступающих на заводы. При этом значительная часть военных кораблей отправляется на экспорт.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Picture 2" descr="ВМФ России"/>
          <p:cNvPicPr/>
          <p:nvPr/>
        </p:nvPicPr>
        <p:blipFill>
          <a:blip r:embed="rId1"/>
          <a:stretch/>
        </p:blipFill>
        <p:spPr>
          <a:xfrm>
            <a:off x="1476360" y="2060640"/>
            <a:ext cx="54896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2-20T08:23:05Z</dcterms:created>
  <dc:creator>root</dc:creator>
  <dc:description/>
  <dc:language>en-US</dc:language>
  <cp:lastModifiedBy>root</cp:lastModifiedBy>
  <dcterms:modified xsi:type="dcterms:W3CDTF">2023-12-20T08:45:14Z</dcterms:modified>
  <cp:revision>16</cp:revision>
  <dc:subject/>
  <dc:title>История развития судостроения в России</dc:title>
</cp:coreProperties>
</file>