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DF42-72DB-405E-A179-D397A4532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48B3-FB34-488B-AC0C-031297244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F988-A30A-4B24-B8E5-D6E6C7F91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9032-8E1A-4BBB-AFD1-65C70CB08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C28E8-7CE4-4B66-994D-91E4F4C43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E2F9A-C607-483D-B39A-ECAB8980A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892D2-2CAB-4E6F-AD7F-66EBC1E04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FC4FA-9DF8-4122-A5B1-CF75E65B1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CFBE9-0FD9-4531-8254-63AE9BCE1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83B56-EC7A-42E7-A3B1-EB667525F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CE24C-11D6-49E7-96FA-471EA751C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4FAC-C87B-4C06-926A-BEC863A9F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5AA10-98E3-4432-896B-0AA6D3B45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C7498-2EE4-4304-8B06-EF6BC3B8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75B0C-C8A8-4D0B-A55A-F9E92F3FA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ED5BC-05CD-4F7A-B910-C13834D18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EFB1E-D26B-48F2-8AE8-C4A70FAEF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DBA1B-9444-4E6E-B112-7DAA2944B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252D4-83F5-408B-896F-1BD790BD3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EF0CB-4D4B-4B09-B37C-FE6292F62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0B0B1-03B8-4D8B-B57E-3A2BFB35E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73F75-64DC-4327-856C-8F22B75A6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9D50-5EA7-4252-975B-A8F39AF65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50467-508D-4C64-9B4F-15F6D8DE0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83A4E-06BA-46D1-829A-B3B8FDC63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DAF79-82AE-4D0C-856B-BC7E4F14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AD339-E14F-4FC9-8814-9C1215E57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2FEEA-347A-4D49-AC4A-278A3D26B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CFF09-413C-46C4-A1F9-33EE1075E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2881A-F301-4BED-AB43-7C9821B8C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1BBBB-7885-455C-8470-FA6DDE49A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2E6C7-FE99-4BEA-9CAB-B9423774F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4AB8A-80E7-44FC-A883-0223CC10C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0747-1F3C-4C52-8EC4-236624A63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8FB8E-8C05-4780-AA55-15718D9B4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40FFE-6BE8-43AF-8F6C-1EB8EB264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91797-C7EC-41A0-8385-B52A5A1B2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64DD3-9CB6-409F-B449-DA680A5ED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763C9-BA73-4C43-B686-9779AB3D5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17968-541D-4FC3-8C5C-790CD1C1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01580-B5A0-4643-882A-6AD18AC88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79445-AB59-42E5-A75D-D0BDBFAED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FF7BE-58CA-427F-87E6-028D666F3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FB77F5-8113-4433-943A-969491F5F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5961-6362-4680-9528-F1B342AD6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95838-EE22-4614-B1FF-2AE6740BB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7E7E60-D2E9-4AC0-91FA-628AAB6B1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5A6BA0-38CD-423C-BD4F-588886591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487CE-3F24-4A29-9C6D-D9CFB2A99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ED4A5-E7D9-4ED5-98C2-05EA03BA5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D41699-9EAC-4C4B-8738-5181B0509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DA35D-FC4F-4E1E-9B58-F963D694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30716-1757-407E-87D8-3E5C5A618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A06C49-767A-40C8-A472-1A12A10DA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635A4E-A4FB-47AA-9639-86360C648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1FC4-8823-4889-AB53-1E66D3840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A61B6D-863E-4075-AB79-3B5F2CC4E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87579-BA11-4708-9ECB-808256A47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A90436-4177-4511-9D02-F8B842813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D4701D-D102-4E5E-ABF3-0C6BD3D71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D4A315-CDB8-44C1-BEDA-5DDCE6F36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1C40B0-0494-4758-9D59-928C12192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13E7D5-AA3B-4B7B-9013-0B6D9B7F5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C04FEF-25CE-4BF1-8004-AD17598A6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D6BDCC-BE55-48FF-AE47-6BCE2472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86DCF5-165F-4BF9-A073-10CF0FDF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17CE-38D4-4915-8095-EF0F3284F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CEE444-1ED4-4B83-9ADD-432CC51A5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62DB22-A8AE-4911-8C54-A42A0E2FE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4DD9F-514C-4FF7-A34C-C6E858404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BE2696-BEBD-42F3-B2B2-57EE6D441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3EA789-CD5F-437F-89DD-7EA606F38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47CDBD-E5EF-412B-A359-BE63855B2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40B68E-DAEC-4715-96CE-8374BC1D3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BA08F7-F8F9-4026-B290-1B8A47C32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2BD251-3605-4E75-A35C-F121065A3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0DEC85-ED46-4585-B7AE-E3DDCCC3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8A58-EE61-4BA3-8C7B-CA16EDEC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8CD153-8DD2-445D-980E-C1CAF559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58DDBF-FDF5-4E13-9560-0B7E9A745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DF7532-8B3C-4BBC-9D69-1988A310C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3723DB-1E89-4C06-BC3C-96370C666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FAB476-D47C-4FB8-81E2-B2B798E3A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80536C-0D71-4F33-B40A-1281EA074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90945A-0257-4906-8A6A-3F751A1CE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6988CE-85BA-46D9-8A3B-468397511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CA3AC7-65F5-430D-9C8A-70A1F8E9C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BE1614-E2C9-4557-BD69-5EFEDECA1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C809-73DA-436A-B333-3098C5CC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2355AA-5988-4009-BD61-3FD9C6AB8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A7BBBE-9045-47BC-8E58-413F84C9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A7202D-E943-4954-B34B-E8E2383A2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D995CC-812C-4AC9-B1AD-5B5CA1EBA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65A0DE-60EA-4AA7-AD88-F83049B35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056BE9-9FDD-4430-9DBC-3D4A280EE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E78D50-3B04-43B7-A0FD-E9D6568A4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34181-745E-4961-BEF9-217EC00FC5F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4D55A-00B2-4246-A7C7-0EF31ED64C8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ABAE4-6F3E-420A-85C8-5BE174FEDEE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07C33-4AE5-4B39-9FEE-0CC2C91A9F6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22C30-4866-479F-B801-F80A73FF46B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102BB-6099-4C9B-BBF4-530B2634821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86EBA-30E7-48E2-A3E2-AFABEB93749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DB068-BA18-4D6B-922C-B056CD1FE4D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682560" y="828720"/>
            <a:ext cx="8259840" cy="203688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5160"/>
                </a:solidFill>
                <a:latin typeface="Lucida Sans Unicode"/>
              </a:rPr>
              <a:t>Выполнила: Городецкая Алина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5160"/>
                </a:solidFill>
                <a:latin typeface="Lucida Sans Unicode"/>
              </a:rPr>
              <a:t>9б класс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Прямоугольник 1"/>
          <p:cNvSpPr/>
          <p:nvPr/>
        </p:nvSpPr>
        <p:spPr>
          <a:xfrm>
            <a:off x="179280" y="549360"/>
            <a:ext cx="864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4a76"/>
                </a:solidFill>
                <a:latin typeface="Lucida Sans Unicode"/>
              </a:rPr>
              <a:t>По обеспечению мира военными кораблями Россия сейчас занимает второе место в мире после США, на ее долю приходится 12% в мировом военном кораблестроении. В настоящее время судостроительные предприятия, которые пребывали в кризисе на протяжении 90-х и даже "нулевых" годов, обеспечены заказами в полной мере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549360"/>
            <a:ext cx="8229600" cy="54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b4a76"/>
                </a:solidFill>
                <a:latin typeface="Lucida Sans Unicode"/>
              </a:rPr>
              <a:t>На территории современного Российского государства судостроение развито с давних времен. Самое древнее судно из тех, что были найдены, относится к 5-му веку до нашей эры. Первую известную верфь основали в Соловецком монастыре: здесь делали промысловые суда. Преимущественно на Руси строили однопалубные торговые речные суда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b4a76"/>
                </a:solidFill>
                <a:latin typeface="Lucida Sans Unicode"/>
              </a:rPr>
              <a:t>В 1693 году Петр Первый заложил в Архангельске первую верфь для сооружения кораблей военных. В первую военную русскую флотилию вошли собранные в этих местах: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b4a76"/>
                </a:solidFill>
                <a:latin typeface="Lucida Sans Unicode"/>
              </a:rPr>
              <a:t>● </a:t>
            </a:r>
            <a:r>
              <a:rPr b="0" lang="ru-RU" sz="2200" spc="-1" strike="noStrike">
                <a:solidFill>
                  <a:srgbClr val="2b4a76"/>
                </a:solidFill>
                <a:latin typeface="Lucida Sans Unicode"/>
              </a:rPr>
              <a:t>корабль «Апостол Павел» с 24 пушками;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b4a76"/>
                </a:solidFill>
                <a:latin typeface="Lucida Sans Unicode"/>
              </a:rPr>
              <a:t>● </a:t>
            </a:r>
            <a:r>
              <a:rPr b="0" lang="ru-RU" sz="2200" spc="-1" strike="noStrike">
                <a:solidFill>
                  <a:srgbClr val="2b4a76"/>
                </a:solidFill>
                <a:latin typeface="Lucida Sans Unicode"/>
              </a:rPr>
              <a:t>фрегат «Святое Пророчество»;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b4a76"/>
                </a:solidFill>
                <a:latin typeface="Lucida Sans Unicode"/>
              </a:rPr>
              <a:t>● </a:t>
            </a:r>
            <a:r>
              <a:rPr b="0" lang="ru-RU" sz="2200" spc="-1" strike="noStrike">
                <a:solidFill>
                  <a:srgbClr val="2b4a76"/>
                </a:solidFill>
                <a:latin typeface="Lucida Sans Unicode"/>
              </a:rPr>
              <a:t>транспортное судно «Фламов»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Парусник гото Предестинация"/>
          <p:cNvPicPr/>
          <p:nvPr/>
        </p:nvPicPr>
        <p:blipFill>
          <a:blip r:embed="rId1"/>
          <a:stretch/>
        </p:blipFill>
        <p:spPr>
          <a:xfrm>
            <a:off x="1835280" y="122400"/>
            <a:ext cx="6697440" cy="60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Прямоугольник 1"/>
          <p:cNvSpPr/>
          <p:nvPr/>
        </p:nvSpPr>
        <p:spPr>
          <a:xfrm>
            <a:off x="684360" y="476280"/>
            <a:ext cx="7200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4a76"/>
                </a:solidFill>
                <a:latin typeface="Lucida Sans Unicode"/>
              </a:rPr>
              <a:t>В 1700 – 1702 гг. на воду спустили еще несколько фрегатов и кораблей. А в 1703 г. центром нового города Санкт-Петербург стало Адмиралтейство – крупнейшая в стране судостроительная верфь. Первое большое судно, которое здесь возвели – корабль «Полтава» с 54 пушками. Уже через 11 лет после основания верфи у страны был собственный парусный флот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Picture 2" descr="Полтава корабль Петра 1"/>
          <p:cNvPicPr/>
          <p:nvPr/>
        </p:nvPicPr>
        <p:blipFill>
          <a:blip r:embed="rId1"/>
          <a:stretch/>
        </p:blipFill>
        <p:spPr>
          <a:xfrm>
            <a:off x="3635280" y="2852640"/>
            <a:ext cx="3888000" cy="32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Прямоугольник 1"/>
          <p:cNvSpPr/>
          <p:nvPr/>
        </p:nvSpPr>
        <p:spPr>
          <a:xfrm>
            <a:off x="1187280" y="260280"/>
            <a:ext cx="67694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800" spc="-1" strike="noStrike">
                <a:solidFill>
                  <a:srgbClr val="2b4a76"/>
                </a:solidFill>
                <a:latin typeface="Lucida Sans Unicode"/>
              </a:rPr>
              <a:t>После смерти Петра I в истории развития кораблестроения России наметилось некоторое затишье, но оно сменилось новым подъемом во второй половине XVIII века. Его итогом стало создание полноценного Черноморского флота. В XIX веке появилась классификация судов, которая была технически обоснована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4a76"/>
                </a:solidFill>
                <a:latin typeface="Lucida Sans Unicode"/>
              </a:rPr>
              <a:t>  </a:t>
            </a:r>
            <a:r>
              <a:rPr b="0" lang="ru-RU" sz="1800" spc="-1" strike="noStrike">
                <a:solidFill>
                  <a:srgbClr val="2b4a76"/>
                </a:solidFill>
                <a:latin typeface="Lucida Sans Unicode"/>
              </a:rPr>
              <a:t>Во времена правления императора Александра I судостроительные работы сокращались, активно велось только речное судостроение. В то время как раз появилась расшива - совершенное для своего времени деревянное грузовое судно. В 1815 году был спущен на воду первый рейсовый пароход, который начал курсировать между Петербургом и Кронштадтом. 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4a76"/>
                </a:solidFill>
                <a:latin typeface="Lucida Sans Unicode"/>
              </a:rPr>
              <a:t>  </a:t>
            </a:r>
            <a:r>
              <a:rPr b="0" lang="ru-RU" sz="1800" spc="-1" strike="noStrike">
                <a:solidFill>
                  <a:srgbClr val="2b4a76"/>
                </a:solidFill>
                <a:latin typeface="Lucida Sans Unicode"/>
              </a:rPr>
              <a:t>В 1830 году в столице российской империи было введено в эксплуатацию грузопассажирское судно "Нева", которое имело и паруса, и две паровые машины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4a76"/>
                </a:solidFill>
                <a:latin typeface="Lucida Sans Unicode"/>
              </a:rPr>
              <a:t>  </a:t>
            </a:r>
            <a:r>
              <a:rPr b="0" lang="ru-RU" sz="1800" spc="-1" strike="noStrike">
                <a:solidFill>
                  <a:srgbClr val="2b4a76"/>
                </a:solidFill>
                <a:latin typeface="Lucida Sans Unicode"/>
              </a:rPr>
              <a:t>В 1838 году успешно прошел испытания на Неве первый на планете электроход. Через десять лет инженер-генерал Иван Афанасьевич Амосов построил первый винтовой фрегат, который назвали "Архимед</a:t>
            </a:r>
            <a:r>
              <a:rPr b="0" lang="en-US" sz="1800" spc="-1" strike="noStrike">
                <a:solidFill>
                  <a:srgbClr val="2b4a76"/>
                </a:solidFill>
                <a:latin typeface="Lucida Sans Unicode"/>
              </a:rPr>
              <a:t>”</a:t>
            </a:r>
            <a:r>
              <a:rPr b="0" lang="ru-RU" sz="1800" spc="-1" strike="noStrike">
                <a:solidFill>
                  <a:srgbClr val="2b4a76"/>
                </a:solidFill>
                <a:latin typeface="Lucida Sans Unicod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Прямоугольник 1"/>
          <p:cNvSpPr/>
          <p:nvPr/>
        </p:nvSpPr>
        <p:spPr>
          <a:xfrm>
            <a:off x="324000" y="115920"/>
            <a:ext cx="8712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ru-RU" sz="1800" spc="-1" strike="noStrike">
                <a:solidFill>
                  <a:srgbClr val="2b4a76"/>
                </a:solidFill>
                <a:latin typeface="Lucida Sans Unicode"/>
              </a:rPr>
              <a:t>После отмены крепостного права в 1861 году началось особенно бурное развитие пароходства на Волге. В то время ключевым судостроительным предприятием становится Сормовский завод, основанный в 1849 году. Именно на нем были построены первые в стране товаро-пассажирский пароход и железная баржа.       Примечательно, что именно в России впервые в мире была применен двигатель на речном судне. Произошло это в 1903 году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4a76"/>
                </a:solidFill>
                <a:latin typeface="Lucida Sans Unicode"/>
              </a:rPr>
              <a:t>   </a:t>
            </a:r>
            <a:r>
              <a:rPr b="0" lang="ru-RU" sz="1800" spc="-1" strike="noStrike">
                <a:solidFill>
                  <a:srgbClr val="2b4a76"/>
                </a:solidFill>
                <a:latin typeface="Lucida Sans Unicode"/>
              </a:rPr>
              <a:t>Тенденцией второй половины XIX века стал переход от деревянных кораблей на железные. Интересно, что в нашей стране первыми металлическими военными судами стали подводные лодки, спущенные на воду в 1834 году. На следующий год начались работы по строительству полуподводного судна "Отважный", которое могло погружаться под воду практически полностью, оставляя на поверхности только дымовую трубу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4a76"/>
                </a:solidFill>
                <a:latin typeface="Lucida Sans Unicode"/>
              </a:rPr>
              <a:t>  </a:t>
            </a:r>
            <a:r>
              <a:rPr b="0" lang="ru-RU" sz="1800" spc="-1" strike="noStrike">
                <a:solidFill>
                  <a:srgbClr val="2b4a76"/>
                </a:solidFill>
                <a:latin typeface="Lucida Sans Unicode"/>
              </a:rPr>
              <a:t>В XIX веке на судах начинают активно использовать паровые машины. Настоящей революцией в истории развития кораблестроения в России становится применение кованого железа, а затем и прокатной стали в качестве основного материала для конструкции кораблей. После перехода от деревянных кораблей к железным началось полное переоборудование всех заводов. Им теперь предстояло отвечать новым требования технологического прогресса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Прямоугольник 1"/>
          <p:cNvSpPr/>
          <p:nvPr/>
        </p:nvSpPr>
        <p:spPr>
          <a:xfrm>
            <a:off x="395280" y="1341360"/>
            <a:ext cx="8209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800" spc="-1" strike="noStrike">
                <a:solidFill>
                  <a:srgbClr val="2b4a76"/>
                </a:solidFill>
                <a:latin typeface="Lucida Sans Unicode"/>
              </a:rPr>
              <a:t>В 1864 году в России была построена первая броненосная плавучая батарея. Через шесть лет в составе Балтийского флота было уже 23 таких корабля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4a76"/>
                </a:solidFill>
                <a:latin typeface="Lucida Sans Unicode"/>
              </a:rPr>
              <a:t>  </a:t>
            </a:r>
            <a:r>
              <a:rPr b="0" lang="ru-RU" sz="1800" spc="-1" strike="noStrike">
                <a:solidFill>
                  <a:srgbClr val="2b4a76"/>
                </a:solidFill>
                <a:latin typeface="Lucida Sans Unicode"/>
              </a:rPr>
              <a:t>А в 1872 году в состав отечественного военно-морского флота вошел броненосец "Петр Великий", который считался одним из сильнейших кораблей в мире на тот момент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4a76"/>
                </a:solidFill>
                <a:latin typeface="Lucida Sans Unicode"/>
              </a:rPr>
              <a:t>  </a:t>
            </a:r>
            <a:r>
              <a:rPr b="0" lang="ru-RU" sz="1800" spc="-1" strike="noStrike">
                <a:solidFill>
                  <a:srgbClr val="2b4a76"/>
                </a:solidFill>
                <a:latin typeface="Lucida Sans Unicode"/>
              </a:rPr>
              <a:t>Именно в России были сконструированы первые в мире торпедные катера. Опытные разработки в 1877 году завершил Степан Осипович Макаров. В том же году в эксплуатацию был введен первый мореходный миноносец "Взрыв"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Прямоугольник 1"/>
          <p:cNvSpPr/>
          <p:nvPr/>
        </p:nvSpPr>
        <p:spPr>
          <a:xfrm>
            <a:off x="250920" y="260280"/>
            <a:ext cx="82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4a76"/>
                </a:solidFill>
                <a:latin typeface="Lucida Sans Unicode"/>
              </a:rPr>
              <a:t>Во времена Советского Союза именно в нашей стране был создан первый в мире рыбопромышленный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флот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Прямоугольник 2"/>
          <p:cNvSpPr/>
          <p:nvPr/>
        </p:nvSpPr>
        <p:spPr>
          <a:xfrm>
            <a:off x="324000" y="1268280"/>
            <a:ext cx="7848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ru-RU" sz="1800" spc="-1" strike="noStrike">
                <a:solidFill>
                  <a:srgbClr val="2b4a76"/>
                </a:solidFill>
                <a:latin typeface="Lucida Sans Unicode"/>
              </a:rPr>
              <a:t>После распада Советского Союза все судостроение оказалось в кризисе. Например, к 2000 году количество списанного транспортного флота превысило число новых судов в 13 раз.  Более того, большинство заказов на новые суда отечественные заказчики были вынуждены размещать на зарубежных верфях.       Ситуация начала исправляться с 2007 года, когда Владимир Путин подписал указ о создании Объединенной судостроительной корпорации. Ее основной целью стало как раз гражданское судостроение. Также была принята федеральная целевая программа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Прямоугольник 1"/>
          <p:cNvSpPr/>
          <p:nvPr/>
        </p:nvSpPr>
        <p:spPr>
          <a:xfrm>
            <a:off x="395280" y="476280"/>
            <a:ext cx="828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4a76"/>
                </a:solidFill>
                <a:latin typeface="Lucida Sans Unicode"/>
              </a:rPr>
              <a:t>На протяжении второго десятилетия XXI века, говоря о развитии судостроения в стране, в первую очередь, речь идет о военном флоте. На военно-морскую технику приходится до 70 процентов всех заказов, поступающих на заводы. При этом значительная часть военных кораблей отправляется на экспорт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Picture 2" descr="ВМФ России"/>
          <p:cNvPicPr/>
          <p:nvPr/>
        </p:nvPicPr>
        <p:blipFill>
          <a:blip r:embed="rId1"/>
          <a:stretch/>
        </p:blipFill>
        <p:spPr>
          <a:xfrm>
            <a:off x="1476360" y="2060640"/>
            <a:ext cx="548964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12-20T08:23:05Z</dcterms:created>
  <dc:creator>root</dc:creator>
  <dc:description/>
  <dc:language>en-US</dc:language>
  <cp:lastModifiedBy>root</cp:lastModifiedBy>
  <dcterms:modified xsi:type="dcterms:W3CDTF">2023-12-20T08:45:14Z</dcterms:modified>
  <cp:revision>16</cp:revision>
  <dc:subject/>
  <dc:title>История развития судостроения в России</dc:title>
</cp:coreProperties>
</file>