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2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DA2-9B65-42B1-ADD6-BE8D900E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F41-C997-4707-8CCA-EDFB6C15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438-45F9-480C-BADE-4E681925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6A6-60DB-405D-A511-073A1CA3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2BB1-D9AA-42C5-AB64-907F76D5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0757-3BB3-4DAD-A218-FAF79FC4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804-2D1C-4F26-AC27-C2BEB539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0382-781E-42C3-93C8-6EA064A2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68C1-B0E2-4A48-A0EC-AC93AFF8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6FDA-E8E1-45FB-8C67-AC5E82A3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FCB4-0C90-40D4-9A92-61278817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6D2-C740-4099-AD32-63505E5D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D57-D2F3-4810-B17E-DE43148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A743-CE73-4AD1-9314-9DFBEDD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6EC3-7B21-4B89-9130-86033185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18EF-EE69-425F-855A-58BD4DD0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2A74-2672-4625-9A14-CDFE47E0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2DA-FCE7-4FBD-B274-9E3A7C1C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3A0-A4F8-406B-AB9B-623A6E2F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B9F-9196-4C7A-924D-94C4A384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B78-C3B8-4CD9-BC02-7E4B1238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ADB-D747-429A-AD54-B1C31B1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880-10DC-43A7-BCF6-D293E217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26D-4563-4BBB-BFEB-D5F42EE4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51240" y="44852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65200" y="43092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45680" y="40125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53520" y="37537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52720" y="34369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64160" y="31827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21880" y="26395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4080" y="23688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89320" y="208440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391040" y="18291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598760" y="429480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4857-5184-40FD-AEE2-4A1D5A1491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51240" y="44852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65200" y="43092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45680" y="40125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53520" y="37537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52720" y="34369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64160" y="31827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21880" y="26395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94080" y="23688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89320" y="208440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91040" y="18291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8760" y="429480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89" name="Group 2"/>
          <p:cNvGrpSpPr/>
          <p:nvPr/>
        </p:nvGrpSpPr>
        <p:grpSpPr>
          <a:xfrm>
            <a:off x="-299160" y="798480"/>
            <a:ext cx="7069320" cy="6846840"/>
            <a:chOff x="-299160" y="798480"/>
            <a:chExt cx="7069320" cy="6846840"/>
          </a:xfrm>
        </p:grpSpPr>
        <p:grpSp>
          <p:nvGrpSpPr>
            <p:cNvPr id="290" name="Group 3"/>
            <p:cNvGrpSpPr/>
            <p:nvPr/>
          </p:nvGrpSpPr>
          <p:grpSpPr>
            <a:xfrm>
              <a:off x="-299160" y="798480"/>
              <a:ext cx="7069320" cy="6846840"/>
              <a:chOff x="-299160" y="798480"/>
              <a:chExt cx="7069320" cy="6846840"/>
            </a:xfrm>
          </p:grpSpPr>
          <p:grpSp>
            <p:nvGrpSpPr>
              <p:cNvPr id="291" name="Group 4"/>
              <p:cNvGrpSpPr/>
              <p:nvPr/>
            </p:nvGrpSpPr>
            <p:grpSpPr>
              <a:xfrm>
                <a:off x="-299160" y="798480"/>
                <a:ext cx="7069320" cy="6846840"/>
                <a:chOff x="-299160" y="798480"/>
                <a:chExt cx="7069320" cy="6846840"/>
              </a:xfrm>
            </p:grpSpPr>
            <p:sp>
              <p:nvSpPr>
                <p:cNvPr id="29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3" name="Group 6"/>
                <p:cNvGrpSpPr/>
                <p:nvPr/>
              </p:nvGrpSpPr>
              <p:grpSpPr>
                <a:xfrm>
                  <a:off x="-299160" y="798480"/>
                  <a:ext cx="7069320" cy="6846840"/>
                  <a:chOff x="-299160" y="798480"/>
                  <a:chExt cx="7069320" cy="6846840"/>
                </a:xfrm>
              </p:grpSpPr>
              <p:sp>
                <p:nvSpPr>
                  <p:cNvPr id="29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97" name="Group 10"/>
                  <p:cNvGrpSpPr/>
                  <p:nvPr/>
                </p:nvGrpSpPr>
                <p:grpSpPr>
                  <a:xfrm>
                    <a:off x="-299160" y="798480"/>
                    <a:ext cx="7069320" cy="6846840"/>
                    <a:chOff x="-299160" y="798480"/>
                    <a:chExt cx="7069320" cy="6846840"/>
                  </a:xfrm>
                </p:grpSpPr>
                <p:sp>
                  <p:nvSpPr>
                    <p:cNvPr id="29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299" name="Group 12"/>
                    <p:cNvGrpSpPr/>
                    <p:nvPr/>
                  </p:nvGrpSpPr>
                  <p:grpSpPr>
                    <a:xfrm>
                      <a:off x="-299160" y="805680"/>
                      <a:ext cx="7059600" cy="6839640"/>
                      <a:chOff x="-299160" y="805680"/>
                      <a:chExt cx="7059600" cy="6839640"/>
                    </a:xfrm>
                  </p:grpSpPr>
                  <p:sp>
                    <p:nvSpPr>
                      <p:cNvPr id="30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301" name="Group 14"/>
                      <p:cNvGrpSpPr/>
                      <p:nvPr/>
                    </p:nvGrpSpPr>
                    <p:grpSpPr>
                      <a:xfrm>
                        <a:off x="-299160" y="805680"/>
                        <a:ext cx="7059600" cy="6839640"/>
                        <a:chOff x="-299160" y="805680"/>
                        <a:chExt cx="7059600" cy="6839640"/>
                      </a:xfrm>
                    </p:grpSpPr>
                    <p:sp>
                      <p:nvSpPr>
                        <p:cNvPr id="30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338" name="Group 51"/>
                        <p:cNvGrpSpPr/>
                        <p:nvPr/>
                      </p:nvGrpSpPr>
                      <p:grpSpPr>
                        <a:xfrm>
                          <a:off x="-299160" y="1267920"/>
                          <a:ext cx="6462720" cy="6377400"/>
                          <a:chOff x="-299160" y="1267920"/>
                          <a:chExt cx="6462720" cy="6377400"/>
                        </a:xfrm>
                      </p:grpSpPr>
                      <p:sp>
                        <p:nvSpPr>
                          <p:cNvPr id="339" name="Oval 52"/>
                          <p:cNvSpPr/>
                          <p:nvPr/>
                        </p:nvSpPr>
                        <p:spPr>
                          <a:xfrm rot="18780000">
                            <a:off x="2459520" y="45057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0" name="Oval 53"/>
                          <p:cNvSpPr/>
                          <p:nvPr/>
                        </p:nvSpPr>
                        <p:spPr>
                          <a:xfrm rot="18780000">
                            <a:off x="2357280" y="432972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1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2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3" name="Oval 56"/>
                          <p:cNvSpPr/>
                          <p:nvPr/>
                        </p:nvSpPr>
                        <p:spPr>
                          <a:xfrm rot="18780000">
                            <a:off x="2046600" y="345780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4" name="Oval 57"/>
                          <p:cNvSpPr/>
                          <p:nvPr/>
                        </p:nvSpPr>
                        <p:spPr>
                          <a:xfrm rot="18780000">
                            <a:off x="1956240" y="320328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5" name="Oval 58"/>
                          <p:cNvSpPr/>
                          <p:nvPr/>
                        </p:nvSpPr>
                        <p:spPr>
                          <a:xfrm rot="18780000">
                            <a:off x="1843560" y="29120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6" name="Oval 59"/>
                          <p:cNvSpPr/>
                          <p:nvPr/>
                        </p:nvSpPr>
                        <p:spPr>
                          <a:xfrm rot="18780000">
                            <a:off x="1713960" y="266004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7" name="Oval 60"/>
                          <p:cNvSpPr/>
                          <p:nvPr/>
                        </p:nvSpPr>
                        <p:spPr>
                          <a:xfrm rot="18780000">
                            <a:off x="1592640" y="23893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8" name="Oval 61"/>
                          <p:cNvSpPr/>
                          <p:nvPr/>
                        </p:nvSpPr>
                        <p:spPr>
                          <a:xfrm rot="18780000">
                            <a:off x="1483200" y="210528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9" name="Oval 62"/>
                          <p:cNvSpPr/>
                          <p:nvPr/>
                        </p:nvSpPr>
                        <p:spPr>
                          <a:xfrm rot="18734400">
                            <a:off x="1383120" y="184968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50" name="Oval 63"/>
                          <p:cNvSpPr/>
                          <p:nvPr/>
                        </p:nvSpPr>
                        <p:spPr>
                          <a:xfrm rot="18819600">
                            <a:off x="1305720" y="15418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35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8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8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9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9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400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40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07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408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9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0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1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2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E5E7-7077-48C6-BDC5-7E76931BCF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reol.ucf.edu/Research/ViewPicture.aspx?ResearchAreaI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vtcom.lv/pictures/78776_5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realsovet.ru/wp-content/uploads/2011/08/princip-peredachi-signala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freefoto.com/images/41/13/41_13_51---Red-Traffic-Signal_web.jpg?&amp;k=Red+Traffic+Signal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dclipart.ru/data/razvlecheniya/ENTRTNMNT05/b4/E04736.png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u-books.pp.ua/samples/tb_graph_discr.files/image00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safe-img04.olx.com.mx/ui/1/77/01/41807601_8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kufa.ru/images/goods/pcl-734-plata-diskretnogo-vyvoda-s-galvanicheskoi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pro.notik.ru/img/110902-toshiba-qosmio-dx730-1.jpg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zainer-trud.narod.ru/image06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shelby.k12.mi.us/hs/staff/emelander/ConcertChoir/Syllabus_files/image002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56/704/56704919_kc8309.jp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vmrake.ru/images/2011-06-05/forma-i-vremennoe-parametry-signalov_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00zakazov.ru/published/publicdata/U45716/attachments/SC/products_pictures/1779.jp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avia-systemi.ru/wp-content/uploads/2010/12/14.jpg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7" descr="Картинка 25 из 52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714760"/>
            <a:ext cx="4381200" cy="2628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Картинка 26 из 524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2643120"/>
            <a:ext cx="4419720" cy="3810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WordArt 24"/>
          <p:cNvSpPr txBox="1"/>
          <p:nvPr/>
        </p:nvSpPr>
        <p:spPr>
          <a:xfrm>
            <a:off x="611280" y="1052640"/>
            <a:ext cx="799308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Дискретные и непрерывные сигналы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Носители информации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</p:txBody>
      </p:sp>
      <p:pic>
        <p:nvPicPr>
          <p:cNvPr id="458" name="Picture 5" descr="Картинка 134 из 5248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156200"/>
            <a:ext cx="4071600" cy="2482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1" descr="Картинка 103 из 124445">
            <a:hlinkClick r:id="rId7"/>
          </p:cNvPr>
          <p:cNvPicPr/>
          <p:nvPr/>
        </p:nvPicPr>
        <p:blipFill>
          <a:blip r:embed="rId8"/>
          <a:srcRect l="24788" t="16492" r="20694" b="14281"/>
          <a:stretch/>
        </p:blipFill>
        <p:spPr>
          <a:xfrm>
            <a:off x="5715000" y="2786040"/>
            <a:ext cx="785880" cy="1500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Картинка 377 из 136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2786040"/>
            <a:ext cx="1285920" cy="12510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4000680" y="21600"/>
            <a:ext cx="5143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1000080" y="9288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мотрим 2 графика функц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6" descr="Картинка 3 из 537">
            <a:hlinkClick r:id="rId1"/>
          </p:cNvPr>
          <p:cNvPicPr/>
          <p:nvPr/>
        </p:nvPicPr>
        <p:blipFill>
          <a:blip r:embed="rId2">
            <a:grayscl/>
            <a:lum bright="-36000"/>
          </a:blip>
          <a:stretch/>
        </p:blipFill>
        <p:spPr>
          <a:xfrm>
            <a:off x="4857840" y="2571840"/>
            <a:ext cx="3809880" cy="4071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3429000" cy="307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7"/>
          <p:cNvSpPr/>
          <p:nvPr/>
        </p:nvSpPr>
        <p:spPr>
          <a:xfrm>
            <a:off x="5143680" y="1571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фик  отображает  непрерывный сигн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1000080" y="53578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фик  отображает  дискретный сигн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6" name="Прямая со стрелкой 10"/>
          <p:cNvCxnSpPr/>
          <p:nvPr/>
        </p:nvCxnSpPr>
        <p:spPr>
          <a:xfrm flipH="1">
            <a:off x="3928680" y="2144880"/>
            <a:ext cx="1286640" cy="713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7" name="Прямая со стрелкой 12"/>
          <p:cNvCxnSpPr/>
          <p:nvPr/>
        </p:nvCxnSpPr>
        <p:spPr>
          <a:xfrm>
            <a:off x="3357360" y="5357880"/>
            <a:ext cx="25722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www.tspu.tula.ru/ivt/old_site/umr/timoi/solovieva/Computer/images/deskr.jpg"/>
          <p:cNvPicPr/>
          <p:nvPr/>
        </p:nvPicPr>
        <p:blipFill>
          <a:blip r:embed="rId1"/>
          <a:stretch/>
        </p:blipFill>
        <p:spPr>
          <a:xfrm>
            <a:off x="555480" y="428760"/>
            <a:ext cx="7971120" cy="39290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"/>
          <p:cNvSpPr/>
          <p:nvPr/>
        </p:nvSpPr>
        <p:spPr>
          <a:xfrm>
            <a:off x="357120" y="48578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ое непрерывное сообщение можно преобразовать в дискретное, и такая процедура называется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дискретизацией (оцифровыванием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Picture 7" descr="Картинка 8 из 115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4578480"/>
            <a:ext cx="3044880" cy="206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Картинка 73 из 44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857760"/>
            <a:ext cx="3429000" cy="2435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Картинка 183 из 5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2786040"/>
            <a:ext cx="4057560" cy="38098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7"/>
          <p:cNvSpPr/>
          <p:nvPr/>
        </p:nvSpPr>
        <p:spPr>
          <a:xfrm>
            <a:off x="428760" y="50004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мпьютер - цифровая машина, т.е. внутреннее представление информации в нем дискрет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скретизация входной информации (если она непрерывна) позволяет сделать ее пригодной для компьютерной обработ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"/>
          <p:cNvSpPr/>
          <p:nvPr/>
        </p:nvSpPr>
        <p:spPr>
          <a:xfrm>
            <a:off x="357120" y="21420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Что такое зна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357120" y="85716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ками можно считать алфавит любого языка, цифры и числа, знаки языка жестов, любые коды или шифры, ноты, символы и т.д. Знак может быть составным, то есть состоять из нескольких других зна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обработке текста на компьютере знаки представляются в форме последовательностей электрических импульсов (компьютерных кодов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0" y="48261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им образом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анн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это зарегистрированные (зафиксированные) сигналы. Чтобы зарегистрировать сигналы использу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к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к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это материальный объект, замещающий или представляющий другой объект и несущий информацию о н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Picture 2" descr="Картинка 3 из 132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2928960"/>
            <a:ext cx="2830320" cy="177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Картинка 1 из 1553">
            <a:hlinkClick r:id="rId3"/>
          </p:cNvPr>
          <p:cNvPicPr/>
          <p:nvPr/>
        </p:nvPicPr>
        <p:blipFill>
          <a:blip r:embed="rId4"/>
          <a:srcRect l="0" t="0" r="2034" b="16827"/>
          <a:stretch/>
        </p:blipFill>
        <p:spPr>
          <a:xfrm>
            <a:off x="2214720" y="292896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Картинка 8 из 13911"/>
          <p:cNvPicPr/>
          <p:nvPr/>
        </p:nvPicPr>
        <p:blipFill>
          <a:blip r:embed="rId5"/>
          <a:stretch/>
        </p:blipFill>
        <p:spPr>
          <a:xfrm>
            <a:off x="285840" y="2928960"/>
            <a:ext cx="1928880" cy="1738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Картинка 1 из 136000"/>
          <p:cNvPicPr/>
          <p:nvPr/>
        </p:nvPicPr>
        <p:blipFill>
          <a:blip r:embed="rId6"/>
          <a:stretch/>
        </p:blipFill>
        <p:spPr>
          <a:xfrm>
            <a:off x="7072200" y="2928960"/>
            <a:ext cx="1714680" cy="175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5"/>
          <p:cNvSpPr/>
          <p:nvPr/>
        </p:nvSpPr>
        <p:spPr>
          <a:xfrm>
            <a:off x="3571920" y="1714680"/>
            <a:ext cx="5178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текстовом редакторе с помощью зна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алфавита и дополнительных символов)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здавая компьютерный текстовый докумен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пишите  вопросы теста, добавив пропущенные слова и выбрав правильный вариант ответа из предложенных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219240" y="115920"/>
            <a:ext cx="53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Практическое тестовое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Picture 6" descr="Картинка 80 из 6162"/>
          <p:cNvPicPr/>
          <p:nvPr/>
        </p:nvPicPr>
        <p:blipFill>
          <a:blip r:embed="rId1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611280" y="1268280"/>
            <a:ext cx="79214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Мы рассмотрели,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дискретный и непрерывный сигнал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Узнали, 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осители информации, установили связь между ними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с те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11280" y="4221000"/>
            <a:ext cx="540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ведите примеры продуктов, имеющих дискретную и непрерывную структур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сигналы помогают определить нам качество продукта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7" descr="Картинка 18 из 124219"/>
          <p:cNvPicPr/>
          <p:nvPr/>
        </p:nvPicPr>
        <p:blipFill>
          <a:blip r:embed="rId1"/>
          <a:stretch/>
        </p:blipFill>
        <p:spPr>
          <a:xfrm>
            <a:off x="6429240" y="4286160"/>
            <a:ext cx="2167200" cy="216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1643040" y="153828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преподаватель информатики и ИК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Прямоугольник 3" descr=""/>
          <p:cNvPicPr/>
          <p:nvPr/>
        </p:nvPicPr>
        <p:blipFill>
          <a:blip r:embed="rId1"/>
          <a:stretch/>
        </p:blipFill>
        <p:spPr>
          <a:xfrm>
            <a:off x="36360" y="500040"/>
            <a:ext cx="9107640" cy="9208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4"/>
          <p:cNvSpPr/>
          <p:nvPr/>
        </p:nvSpPr>
        <p:spPr>
          <a:xfrm>
            <a:off x="428760" y="2928960"/>
            <a:ext cx="814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http://redcat7.narod.ru/indexphoto.html;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http://www.telpics.ru/images.php;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http://www.beluys.com/clipart.html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24000" y="414972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79280" y="47242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Рассмотреть, 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дискретный и непрерывный сигна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Узнать, 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осители информации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и виды носителей информации существу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250920" y="981000"/>
            <a:ext cx="85359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те ли вы, 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формацион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 Из каких часте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а состоит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те ли вы, 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гн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те ли вы, 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искрет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прерыв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гнал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осители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ими они бываю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WordArt 24"/>
          <p:cNvSpPr txBox="1"/>
          <p:nvPr/>
        </p:nvSpPr>
        <p:spPr>
          <a:xfrm>
            <a:off x="3143160" y="285840"/>
            <a:ext cx="56041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Дискретные и непрерывные сигналы. Носители информации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РОССВОРД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428"/>
          <p:cNvSpPr/>
          <p:nvPr/>
        </p:nvSpPr>
        <p:spPr>
          <a:xfrm>
            <a:off x="285840" y="571680"/>
            <a:ext cx="84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полните кроссворд, и отгадайте зашифрованное слово, обозначающее </a:t>
            </a: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сложный объект, состоящий из взаимосвязанных частей и существующий как единое цело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 Box 429"/>
          <p:cNvSpPr/>
          <p:nvPr/>
        </p:nvSpPr>
        <p:spPr>
          <a:xfrm>
            <a:off x="285840" y="3317760"/>
            <a:ext cx="8715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изический процесс (явление), несущий сообщение (информацию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схеме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нал связи или __________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пишите в кроссворд пропущенное слово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то предмет, явление, процесс, отношение,  на которое обращен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ше внимание с целью его изучения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тегративность, или системный _________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пишите в кроссворд пропущенное слово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ука, изучающая методы представления, накопления, передач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обработки информации с помощью компьютер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нания, сведения, полученные из окружающего мира, которыми обладает человек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000080" y="1500120"/>
          <a:ext cx="6388200" cy="1584360"/>
        </p:xfrm>
        <a:graphic>
          <a:graphicData uri="http://schemas.openxmlformats.org/drawingml/2006/table">
            <a:tbl>
              <a:tblPr/>
              <a:tblGrid>
                <a:gridCol w="195480"/>
                <a:gridCol w="279360"/>
                <a:gridCol w="345960"/>
                <a:gridCol w="380880"/>
                <a:gridCol w="400320"/>
                <a:gridCol w="399960"/>
                <a:gridCol w="403200"/>
                <a:gridCol w="379440"/>
                <a:gridCol w="398520"/>
                <a:gridCol w="401400"/>
                <a:gridCol w="398520"/>
                <a:gridCol w="403200"/>
                <a:gridCol w="399960"/>
                <a:gridCol w="401760"/>
                <a:gridCol w="399960"/>
                <a:gridCol w="401760"/>
                <a:gridCol w="398520"/>
              </a:tblGrid>
              <a:tr h="2271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1" name="Group 214"/>
          <p:cNvGrpSpPr/>
          <p:nvPr/>
        </p:nvGrpSpPr>
        <p:grpSpPr>
          <a:xfrm>
            <a:off x="2771640" y="3678120"/>
            <a:ext cx="4229280" cy="541440"/>
            <a:chOff x="2771640" y="3678120"/>
            <a:chExt cx="4229280" cy="541440"/>
          </a:xfrm>
        </p:grpSpPr>
        <p:sp>
          <p:nvSpPr>
            <p:cNvPr id="472" name="Text Box 215"/>
            <p:cNvSpPr/>
            <p:nvPr/>
          </p:nvSpPr>
          <p:spPr>
            <a:xfrm>
              <a:off x="2771640" y="3678120"/>
              <a:ext cx="1370880" cy="5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216"/>
            <p:cNvSpPr/>
            <p:nvPr/>
          </p:nvSpPr>
          <p:spPr>
            <a:xfrm>
              <a:off x="5509440" y="3678120"/>
              <a:ext cx="1491480" cy="5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AutoShape 217"/>
            <p:cNvSpPr/>
            <p:nvPr/>
          </p:nvSpPr>
          <p:spPr>
            <a:xfrm>
              <a:off x="4142520" y="3678120"/>
              <a:ext cx="1366560" cy="451080"/>
            </a:xfrm>
            <a:prstGeom prst="rightArrow">
              <a:avLst>
                <a:gd name="adj1" fmla="val 50000"/>
                <a:gd name="adj2" fmla="val 569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анал  связ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5" name="Line 218"/>
          <p:cNvSpPr/>
          <p:nvPr/>
        </p:nvSpPr>
        <p:spPr>
          <a:xfrm>
            <a:off x="2143080" y="3975120"/>
            <a:ext cx="13572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261720" y="115920"/>
            <a:ext cx="65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Эталон ответа к КРОССВОРД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28760" y="1268280"/>
          <a:ext cx="8092800" cy="4297320"/>
        </p:xfrm>
        <a:graphic>
          <a:graphicData uri="http://schemas.openxmlformats.org/drawingml/2006/table">
            <a:tbl>
              <a:tblPr/>
              <a:tblGrid>
                <a:gridCol w="215640"/>
                <a:gridCol w="266760"/>
                <a:gridCol w="419040"/>
                <a:gridCol w="465120"/>
                <a:gridCol w="486000"/>
                <a:gridCol w="482400"/>
                <a:gridCol w="484200"/>
                <a:gridCol w="459000"/>
                <a:gridCol w="484200"/>
                <a:gridCol w="485640"/>
                <a:gridCol w="482760"/>
                <a:gridCol w="484200"/>
                <a:gridCol w="482400"/>
                <a:gridCol w="482760"/>
                <a:gridCol w="484200"/>
                <a:gridCol w="484200"/>
                <a:gridCol w="482400"/>
                <a:gridCol w="4618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964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Носители информ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357120" y="1000080"/>
            <a:ext cx="37148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сообщение было передано от источника к получателю, необходим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оситель информ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Носитель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материальный объект, предназначенный для хранения и передачи дан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714240" y="457200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ередачи и хранения информации использу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ва вида носителей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знак и сигн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в зависимости от природы систем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оторой протекает информационный процес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214880" y="1285920"/>
            <a:ext cx="1533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43840" y="1285920"/>
            <a:ext cx="1714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5786280" y="1428840"/>
            <a:ext cx="1316160" cy="78732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нал связ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4" name="Прямая со стрелкой 8"/>
          <p:cNvCxnSpPr/>
          <p:nvPr/>
        </p:nvCxnSpPr>
        <p:spPr>
          <a:xfrm flipV="1">
            <a:off x="6286680" y="2001600"/>
            <a:ext cx="2160" cy="78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5" name="Пятно 2 9"/>
          <p:cNvSpPr/>
          <p:nvPr/>
        </p:nvSpPr>
        <p:spPr>
          <a:xfrm>
            <a:off x="5429160" y="2571840"/>
            <a:ext cx="2286000" cy="1000080"/>
          </a:xfrm>
          <a:prstGeom prst="irregularSeal2">
            <a:avLst/>
          </a:prstGeom>
          <a:solidFill>
            <a:srgbClr val="eaebe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ех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Скругленный прямоугольник 36"/>
          <p:cNvSpPr/>
          <p:nvPr/>
        </p:nvSpPr>
        <p:spPr>
          <a:xfrm>
            <a:off x="285840" y="214200"/>
            <a:ext cx="8643960" cy="4429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ca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714240" y="4857840"/>
            <a:ext cx="771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игн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это физический процесс, содержащий в себ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которую информацию.  Последовательность сигналов называ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ообщение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араметр сигнал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та из его характеристик, которая используется для представления сообщ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928800" y="2000160"/>
            <a:ext cx="2214360" cy="703800"/>
          </a:xfrm>
          <a:prstGeom prst="rect">
            <a:avLst/>
          </a:prstGeom>
          <a:noFill/>
          <a:ln w="9360">
            <a:solidFill>
              <a:srgbClr val="8481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Источник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5286240" y="2071800"/>
            <a:ext cx="2214720" cy="703800"/>
          </a:xfrm>
          <a:prstGeom prst="rect">
            <a:avLst/>
          </a:prstGeom>
          <a:noFill/>
          <a:ln w="19080">
            <a:solidFill>
              <a:srgbClr val="8481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иемник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6357960" y="285840"/>
            <a:ext cx="27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 распространения сигна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4429080" y="350028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налы, отображающие информац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Прямая соединительная линия 9"/>
          <p:cNvSpPr/>
          <p:nvPr/>
        </p:nvSpPr>
        <p:spPr>
          <a:xfrm flipV="1">
            <a:off x="3143160" y="1714320"/>
            <a:ext cx="1071720" cy="63972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Прямая соединительная линия 10"/>
          <p:cNvSpPr/>
          <p:nvPr/>
        </p:nvSpPr>
        <p:spPr>
          <a:xfrm>
            <a:off x="4214880" y="1714680"/>
            <a:ext cx="71280" cy="57132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Прямая соединительная линия 11"/>
          <p:cNvSpPr/>
          <p:nvPr/>
        </p:nvSpPr>
        <p:spPr>
          <a:xfrm flipV="1">
            <a:off x="3857760" y="2357280"/>
            <a:ext cx="71280" cy="57168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Прямая соединительная линия 15"/>
          <p:cNvSpPr/>
          <p:nvPr/>
        </p:nvSpPr>
        <p:spPr>
          <a:xfrm flipV="1">
            <a:off x="3143160" y="2357280"/>
            <a:ext cx="785880" cy="28584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6" name="Прямая со стрелкой 21"/>
          <p:cNvCxnSpPr/>
          <p:nvPr/>
        </p:nvCxnSpPr>
        <p:spPr>
          <a:xfrm flipV="1">
            <a:off x="3857760" y="2571480"/>
            <a:ext cx="1429200" cy="3578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7" name="Прямая со стрелкой 27"/>
          <p:cNvCxnSpPr/>
          <p:nvPr/>
        </p:nvCxnSpPr>
        <p:spPr>
          <a:xfrm flipV="1">
            <a:off x="4286160" y="1428120"/>
            <a:ext cx="1215360" cy="857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8" name="Прямая со стрелкой 29"/>
          <p:cNvCxnSpPr/>
          <p:nvPr/>
        </p:nvCxnSpPr>
        <p:spPr>
          <a:xfrm flipH="1">
            <a:off x="6286320" y="642600"/>
            <a:ext cx="72000" cy="10724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9" name="Прямая со стрелкой 32"/>
          <p:cNvCxnSpPr/>
          <p:nvPr/>
        </p:nvCxnSpPr>
        <p:spPr>
          <a:xfrm flipH="1" flipV="1">
            <a:off x="4285800" y="2999880"/>
            <a:ext cx="215280" cy="8582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4"/>
          <p:cNvSpPr/>
          <p:nvPr/>
        </p:nvSpPr>
        <p:spPr>
          <a:xfrm>
            <a:off x="428760" y="92880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я может поступать непрерывно или дискретно, т. е. в виде последовательности отдельных сигналов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Соответственно различ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у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дискретную информаци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Дискретные и непрерывные сигн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28760" y="2357280"/>
          <a:ext cx="8358120" cy="4129200"/>
        </p:xfrm>
        <a:graphic>
          <a:graphicData uri="http://schemas.openxmlformats.org/drawingml/2006/table">
            <a:tbl>
              <a:tblPr/>
              <a:tblGrid>
                <a:gridCol w="2286000"/>
                <a:gridCol w="2928960"/>
                <a:gridCol w="314316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гн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b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еры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b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скре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be9"/>
                    </a:solidFill>
                  </a:tcPr>
                </a:tc>
              </a:tr>
              <a:tr h="643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</a:tr>
              <a:tr h="1130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</a:tr>
              <a:tr h="107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Пример 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граф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Возможность обработки на компьюте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571680" y="428760"/>
            <a:ext cx="8064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ый (аналоговый) сигнал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сигнал, параметр котор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няется вслед за изменениями соответствующей физической вел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я представленная таким способом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571680" y="2428920"/>
            <a:ext cx="5214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ром непрерывного сообщения служит человеческая речь, живая музыка, передаваемая модулированной звуковой волной; параметром сигнала в этом случае является давление, создаваемое этой волной в точке нахождения приемника - человеческого у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оговый способ представления информации име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недостат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точность представления информации определяется точностью измерительного прибора, наличие помех может сильно исказить представляемую информаци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Picture 2" descr="Картинка 2 из 135998">
            <a:hlinkClick r:id="rId1"/>
          </p:cNvPr>
          <p:cNvPicPr/>
          <p:nvPr/>
        </p:nvPicPr>
        <p:blipFill>
          <a:blip r:embed="rId2"/>
          <a:srcRect l="0" t="0" r="5405" b="2702"/>
          <a:stretch/>
        </p:blipFill>
        <p:spPr>
          <a:xfrm>
            <a:off x="5786280" y="2000160"/>
            <a:ext cx="2500560" cy="25718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Картинка 20 из 61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00880" y="4500720"/>
            <a:ext cx="239688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7"/>
          <p:cNvSpPr/>
          <p:nvPr/>
        </p:nvSpPr>
        <p:spPr>
          <a:xfrm>
            <a:off x="500040" y="42876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Дискретный сигн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это сигнал, параметр которого принимает конечное число значений, меняющееся через определенные промежутки времени (скачками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я, передаваемая источником, в этом случае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дискретн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642960" y="2571840"/>
            <a:ext cx="628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скретными являются показания цифровых измерительных приборов. Дискретной является распечатка матричного принте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скретна таблица значений функции, но когда мы наносим точки из нее на миллиметровую бумагу и соединяем плавной линией, получается непрерывный граф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ханический переключатель диапазонов в современных радиоприемниках сконструирован так, чтобы он принимал только фиксированные по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Picture 2" descr="Картинка 180 из 120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3500280"/>
            <a:ext cx="2101680" cy="2643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Картинка 55 из 1245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29200" y="557208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Пользователь</cp:lastModifiedBy>
  <dcterms:modified xsi:type="dcterms:W3CDTF">2024-01-07T14:40:30Z</dcterms:modified>
  <cp:revision>720</cp:revision>
  <dc:subject/>
  <dc:title>Слайд 1</dc:title>
</cp:coreProperties>
</file>