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4E5-AC94-43C2-B8C4-EE727DE0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7A7-BB40-49C0-8AFE-D0F058E8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F39-96D7-4EC5-81C6-47FFA701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9AF-B375-4477-98C2-0A20CBC3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7FF-8643-4781-AC93-D26C38CB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6C5-F8E4-46C4-B0D3-1FF66495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CA4-D6B1-4FB3-8FB8-AE7909FD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890-24C2-435A-9E6B-84EDD9BE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00B-1831-4698-806A-92B624D1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0C7-6A23-4F5A-A261-9DDF1B99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4CE-B8CC-49F6-9210-16045849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A81-DD25-445C-80C3-6151C434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3257-DA1A-4BBE-8C58-06B33ADE81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3480" y="130320"/>
            <a:ext cx="6891120" cy="2939760"/>
          </a:xfrm>
          <a:prstGeom prst="rect">
            <a:avLst/>
          </a:prstGeom>
          <a:solidFill>
            <a:srgbClr val="00e200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«Моя семья»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Проект во 2-ой младшей группе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62120" y="3463920"/>
            <a:ext cx="4632120" cy="990720"/>
          </a:xfrm>
          <a:prstGeom prst="rect">
            <a:avLst/>
          </a:prstGeom>
          <a:solidFill>
            <a:srgbClr val="ffd1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а: Шумилина М. С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тель 1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66840" y="1006560"/>
          <a:ext cx="7642080" cy="4205160"/>
        </p:xfrm>
        <a:graphic>
          <a:graphicData uri="http://schemas.openxmlformats.org/drawingml/2006/table">
            <a:tbl>
              <a:tblPr/>
              <a:tblGrid>
                <a:gridCol w="1811160"/>
                <a:gridCol w="3983040"/>
                <a:gridCol w="1847880"/>
              </a:tblGrid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тор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11.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Это вредная е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Кем быть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речи «Чем я люблю заниматься в детском саду и дома» (составление рассказ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а «Я иду и ты идёш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С. Маршак «Сказка о глупом мышонк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Что такое хорошо и что такое плох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Полезная и вредная е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Такс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Д. Габе «Моя 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И «Наш д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241280" y="1341360"/>
          <a:ext cx="7077240" cy="3595680"/>
        </p:xfrm>
        <a:graphic>
          <a:graphicData uri="http://schemas.openxmlformats.org/drawingml/2006/table">
            <a:tbl>
              <a:tblPr/>
              <a:tblGrid>
                <a:gridCol w="1606680"/>
                <a:gridCol w="3787920"/>
                <a:gridCol w="1682640"/>
              </a:tblGrid>
              <a:tr h="35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11.20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четвер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2.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ятниц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Микробы и мыл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Найду предмет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 По ровненькой дорожк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С. Капутикян «Моя баб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а «Ладушки у бабуш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В какие игры играют ваши родители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Моя 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Пройди – не упад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С. Баруздин «Мамина рабо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И «В гости к бабушк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57480" y="1344600"/>
            <a:ext cx="8007120" cy="520560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 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понятие «Семья», показать её ценность для каждого человека, воспитывая любовь к своим близким родственникам и привлечь родителей к сотрудничеству с детским сад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представление о семь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ставления о родственных отношени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е имён, фамилий родителей, бабушек и дедуш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детско-родительские отношения опытом совместной творче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важительное отношение и любовь к родным и близки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важение к труду и занятиям членов семь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установлению в семье правил, норм поведения, обычаев, традиций, т. е. потребность к формированию семейных це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120" y="10332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7120" y="1760040"/>
            <a:ext cx="788652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могут рассказать о своих родственниках, о своей семье и своих семейных традици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у детей к своим родителям будет уважительнее, они будут меньше капризничать и скандалить при общении с близкими родствен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здник «День матери» мы с воспитанниками сделаем подарки  для наших любимых м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роведения: Игровая деятельность, ситуационные беседы, чтение литературы, разучивание стихов к празднику «День матери», просмотр мультфильмов «Мама для мамонтён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7120" y="1325160"/>
            <a:ext cx="788652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личности ребёнка невозможно без семейного воспитания. Именно в семье он учится любить, терпеть, радоваться, сочувствовать. В условиях семьи складывается эмоционально-нравственный опыт, семья определяет уровень и содержание эмоционального и социального развития ребенка. Родители являются первыми педагогами, они закладывают основы физического, нравственного и интеллектуального развития личности ребёнка с раннего возр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мы решили, что нам необходимо использовать разнообразные формы сотрудничества с родителями, которые дают возможность сформировать у них интерес к вопросам воспитания, вызвать желание расширять и углублять имеющиеся педагогические знания, развивать креативные способности своих детей. Мы предполагаем, что наши партнёрские отношения с родителями дадут большой результат в развитии наших детей. Помогут детям более доступно и наглядно освоить понятие «Моя семь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57120" y="1325160"/>
            <a:ext cx="788652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дети плохо знают членов своей семьи по именам. Плохо рассказывают о своей семье. Когда приходят в детский сад и уходят домой во время одевания и раздевания между детьми и родителями происходят часто недовольство чем-то, обиды и конфликты. У некоторых семей нет при общении друг с другом тёплого взаимопонимания. В группе есть родители, которые не хотят принимать участия в общих мероприятиях, они считают, что это не так важно для их ребё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7200" y="2298600"/>
            <a:ext cx="7886520" cy="198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 : образовательно-творческ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краткосроч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.11.2023 – 01.12.2023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 : Педагоги, родители, дети второй младшей групп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7120" y="10332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57120" y="1428480"/>
            <a:ext cx="7886520" cy="44449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Разработка проек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Подбор соответствующей литературы и информации по данной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Составление перспективного плана мероприятий, подготовка к проведению мероприят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Общение с родителями и обсуждение работы по данной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ассматривание фотографий своей семьи; беседы о семье «Моя семья», «Праздники в моей семье», «Моя бабушка самая хорошая», рассказ детей о братьях и сестрах, рассказы о маме и пап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Подборка стихов о маме и папе, о бабушке и деду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Подбор дидактических, сюжетно-ролевых игр на семейную темати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Подготовка атрибутов для сюжетно – ролевых игр «Семья», «Дочки- матер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лан реализации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57480" y="1325520"/>
          <a:ext cx="7886520" cy="5322960"/>
        </p:xfrm>
        <a:graphic>
          <a:graphicData uri="http://schemas.openxmlformats.org/drawingml/2006/table">
            <a:tbl>
              <a:tblPr/>
              <a:tblGrid>
                <a:gridCol w="1903320"/>
                <a:gridCol w="4271760"/>
                <a:gridCol w="1711440"/>
              </a:tblGrid>
              <a:tr h="568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11.2023 (понедель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1.2023 (втор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11.2023 (сре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Моя 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развитие. Формирование целостной картины мира, расширение кругозора. Тема: «Поможем бабушке Федор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«Волк и семеро козля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Чья мама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Знакомст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. игра «Этот пальчик дед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: наблюдение за трудом помощника воспита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Найди свой дом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ЭР. Аппликация. Тема: «Подарок мам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. игра «Строим д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Опасно – не опасн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Е. Благинина «Вот какая мам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: «Оденем куклу Катю на прогулк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Тиши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349280" y="244440"/>
          <a:ext cx="7637400" cy="5826240"/>
        </p:xfrm>
        <a:graphic>
          <a:graphicData uri="http://schemas.openxmlformats.org/drawingml/2006/table">
            <a:tbl>
              <a:tblPr/>
              <a:tblGrid>
                <a:gridCol w="1805040"/>
                <a:gridCol w="3834000"/>
                <a:gridCol w="1998360"/>
              </a:tblGrid>
              <a:tr h="58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11.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четвер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11.20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ятниц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11.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онедель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Кто у нас хорош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речи. Тема: «Моя 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. игра «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И «Семья» сюжет «День рожд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Найди своё мест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Мои бабушка и дед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Позвони по телефон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е «Д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Поез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Е. Благинина «Посидим в тиши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Как я дома помогаю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Мамы дет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. гимнастика «Пальчик, пальчик, где ты был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Наседка и цыпля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«Три медведя» – русская народная сказ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И «Дочки – матер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Пользователь</cp:lastModifiedBy>
  <dcterms:modified xsi:type="dcterms:W3CDTF">2023-12-20T13:05:31Z</dcterms:modified>
  <cp:revision>20</cp:revision>
  <dc:subject/>
  <dc:title>Название презентации</dc:title>
</cp:coreProperties>
</file>