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ECD3-979C-4A81-B971-70FDEE8B8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DCF7-6166-4A19-86F7-84334EDF3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35CD-7A77-4FB1-8B25-53622C60C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CA0F-A592-416B-8862-6F05F4FFD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62C4-ED45-40A7-84A3-FC72B05CB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2C3A-64E2-4E45-AD7D-74A55A247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5F20-DA41-4F70-984D-A77C836AE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B953-DF20-41B3-B96A-86A72CB92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0AA7-C27F-414A-9671-7E0AA0815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5AA7-E64C-41EF-9076-598036FF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AC3F-ECFB-469C-983B-C7E1D2651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7F39-DA3A-42B0-9969-D7D37646B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0EA21-A06A-4B2D-BDFB-6CB191C174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03480" y="130320"/>
            <a:ext cx="6891120" cy="2939760"/>
          </a:xfrm>
          <a:prstGeom prst="rect">
            <a:avLst/>
          </a:prstGeom>
          <a:solidFill>
            <a:srgbClr val="00e200"/>
          </a:solidFill>
          <a:ln w="12600">
            <a:solidFill>
              <a:srgbClr val="ffffff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 Light"/>
              </a:rPr>
              <a:t>«Моя семья»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Calibri Light"/>
              </a:rPr>
              <a:t>Проект во 2-ой младшей группе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362120" y="3463920"/>
            <a:ext cx="4632120" cy="990720"/>
          </a:xfrm>
          <a:prstGeom prst="rect">
            <a:avLst/>
          </a:prstGeom>
          <a:solidFill>
            <a:srgbClr val="ffd1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полнила: Шумилина М. С.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спитатель 1 категор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266840" y="1006560"/>
          <a:ext cx="7642080" cy="4205160"/>
        </p:xfrm>
        <a:graphic>
          <a:graphicData uri="http://schemas.openxmlformats.org/drawingml/2006/table">
            <a:tbl>
              <a:tblPr/>
              <a:tblGrid>
                <a:gridCol w="1811160"/>
                <a:gridCol w="3983040"/>
                <a:gridCol w="1847880"/>
              </a:tblGrid>
              <a:tr h="42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.11.202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вторник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.11.20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сред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седа «Это вредная ед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/и «Кем быть?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речи «Чем я люблю заниматься в детском саду и дома» (составление рассказов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культминутка «Я иду и ты идёшь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ение х/л: С. Маршак «Сказка о глупом мышонке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седа «Что такое хорошо и что такое плохо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/и «Полезная и вредная ед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и «Такси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ение х/л: Д. Габе «Моя семья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И «Наш дом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1241280" y="1341360"/>
          <a:ext cx="7077240" cy="3595680"/>
        </p:xfrm>
        <a:graphic>
          <a:graphicData uri="http://schemas.openxmlformats.org/drawingml/2006/table">
            <a:tbl>
              <a:tblPr/>
              <a:tblGrid>
                <a:gridCol w="1606680"/>
                <a:gridCol w="3787920"/>
                <a:gridCol w="1682640"/>
              </a:tblGrid>
              <a:tr h="359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11.202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четверг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2.20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пятниц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седа «Микробы и мыло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/и «Найду предметы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и « По ровненькой дорожке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ение х/л: С. Капутикян «Моя бабушк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культминутка «Ладушки у бабушки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седа «В какие игры играют ваши родители?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/и «Моя семья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и «Пройди – не упади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ение х/л: С. Баруздин «Мамина работ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И «В гости к бабушке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57120" y="0"/>
            <a:ext cx="7886520" cy="1325520"/>
          </a:xfrm>
          <a:prstGeom prst="rect">
            <a:avLst/>
          </a:prstGeom>
          <a:solidFill>
            <a:srgbClr val="00e200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Цель и задачи проект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257480" y="1344600"/>
            <a:ext cx="8007120" cy="5205600"/>
          </a:xfrm>
          <a:prstGeom prst="rect">
            <a:avLst/>
          </a:prstGeom>
          <a:solidFill>
            <a:srgbClr val="ffffff">
              <a:alpha val="31000"/>
            </a:srgbClr>
          </a:solidFill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проекта 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ть у детей понятие «Семья», показать её ценность для каждого человека, воспитывая любовь к своим близким родственникам и привлечь родителей к сотрудничеству с детским сад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проекта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ть у детей представление о семь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ть представления о родственных отношениях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лять знание имён, фамилий родителей, бабушек и дедушек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гащать детско-родительские отношения опытом совместной творческой деятель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ть уважительное отношение и любовь к родным и близки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ть уважение к труду и занятиям членов семь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лечь родителей к установлению в семье правил, норм поведения, обычаев, традиций, т. е. потребность к формированию семейных ценност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57120" y="103320"/>
            <a:ext cx="7886520" cy="1325520"/>
          </a:xfrm>
          <a:prstGeom prst="rect">
            <a:avLst/>
          </a:prstGeom>
          <a:solidFill>
            <a:srgbClr val="00e200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Ожидаемые результаты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257120" y="1760040"/>
            <a:ext cx="7886520" cy="4351320"/>
          </a:xfrm>
          <a:prstGeom prst="rect">
            <a:avLst/>
          </a:prstGeom>
          <a:solidFill>
            <a:srgbClr val="ffffff">
              <a:alpha val="31000"/>
            </a:srgbClr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могут рассказать о своих родственниках, о своей семье и своих семейных традициях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ношения у детей к своим родителям будет уважительнее, они будут меньше капризничать и скандалить при общении с близкими родственник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аздник «День матери» мы с воспитанниками сделаем подарки  для наших любимых ма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проведения: Игровая деятельность, ситуационные беседы, чтение литературы, разучивание стихов к празднику «День матери», просмотр мультфильмов «Мама для мамонтёнк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57120" y="0"/>
            <a:ext cx="7886520" cy="1325520"/>
          </a:xfrm>
          <a:prstGeom prst="rect">
            <a:avLst/>
          </a:prstGeom>
          <a:solidFill>
            <a:srgbClr val="00e200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Актуальность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257120" y="1325160"/>
            <a:ext cx="7886520" cy="4351320"/>
          </a:xfrm>
          <a:prstGeom prst="rect">
            <a:avLst/>
          </a:prstGeom>
          <a:solidFill>
            <a:srgbClr val="ffffff">
              <a:alpha val="31000"/>
            </a:srgbClr>
          </a:solidFill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личности ребёнка невозможно без семейного воспитания. Именно в семье он учится любить, терпеть, радоваться, сочувствовать. В условиях семьи складывается эмоционально-нравственный опыт, семья определяет уровень и содержание эмоционального и социального развития ребенка. Родители являются первыми педагогами, они закладывают основы физического, нравственного и интеллектуального развития личности ребёнка с раннего возрас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ому мы решили, что нам необходимо использовать разнообразные формы сотрудничества с родителями, которые дают возможность сформировать у них интерес к вопросам воспитания, вызвать желание расширять и углублять имеющиеся педагогические знания, развивать креативные способности своих детей. Мы предполагаем, что наши партнёрские отношения с родителями дадут большой результат в развитии наших детей. Помогут детям более доступно и наглядно освоить понятие «Моя семья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7120" y="0"/>
            <a:ext cx="7886520" cy="1325520"/>
          </a:xfrm>
          <a:prstGeom prst="rect">
            <a:avLst/>
          </a:prstGeom>
          <a:solidFill>
            <a:srgbClr val="00e200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Проблем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257120" y="1325160"/>
            <a:ext cx="7886520" cy="4351320"/>
          </a:xfrm>
          <a:prstGeom prst="rect">
            <a:avLst/>
          </a:prstGeom>
          <a:solidFill>
            <a:srgbClr val="ffffff">
              <a:alpha val="31000"/>
            </a:srgbClr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торые дети плохо знают членов своей семьи по именам. Плохо рассказывают о своей семье. Когда приходят в детский сад и уходят домой во время одевания и раздевания между детьми и родителями происходят часто недовольство чем-то, обиды и конфликты. У некоторых семей нет при общении друг с другом тёплого взаимопонимания. В группе есть родители, которые не хотят принимать участия в общих мероприятиях, они считают, что это не так важно для их ребён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87200" y="2298600"/>
            <a:ext cx="7886520" cy="198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 проекта : образовательно-творческий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ок реализации: краткосрочный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0.11.2023 – 01.12.2023)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и проекта : Педагоги, родители, дети второй младшей группы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57120" y="103320"/>
            <a:ext cx="7886520" cy="1325520"/>
          </a:xfrm>
          <a:prstGeom prst="rect">
            <a:avLst/>
          </a:prstGeom>
          <a:solidFill>
            <a:srgbClr val="00e200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Подготовительный этап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257120" y="1428480"/>
            <a:ext cx="7886520" cy="4444920"/>
          </a:xfrm>
          <a:prstGeom prst="rect">
            <a:avLst/>
          </a:prstGeom>
          <a:solidFill>
            <a:srgbClr val="ffffff">
              <a:alpha val="31000"/>
            </a:srgbClr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 Разработка проект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 Подбор соответствующей литературы и информации по данной тем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 Составление перспективного плана мероприятий, подготовка к проведению мероприяти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. Общение с родителями и обсуждение работы по данной тем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. Рассматривание фотографий своей семьи; беседы о семье «Моя семья», «Праздники в моей семье», «Моя бабушка самая хорошая», рассказ детей о братьях и сестрах, рассказы о маме и пап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6. Подборка стихов о маме и папе, о бабушке и дедушк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7. Подбор дидактических, сюжетно-ролевых игр на семейную тематик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8. Подготовка атрибутов для сюжетно – ролевых игр «Семья», «Дочки- матери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57120" y="0"/>
            <a:ext cx="7886520" cy="1325520"/>
          </a:xfrm>
          <a:prstGeom prst="rect">
            <a:avLst/>
          </a:prstGeom>
          <a:solidFill>
            <a:srgbClr val="00e200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План реализации проект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257480" y="1325520"/>
          <a:ext cx="7886520" cy="5322960"/>
        </p:xfrm>
        <a:graphic>
          <a:graphicData uri="http://schemas.openxmlformats.org/drawingml/2006/table">
            <a:tbl>
              <a:tblPr/>
              <a:tblGrid>
                <a:gridCol w="1903320"/>
                <a:gridCol w="4271760"/>
                <a:gridCol w="1711440"/>
              </a:tblGrid>
              <a:tr h="568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та провед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ропри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ветствен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4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.11.2023 (понедельник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.11.2023 (вторник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11.2023 (сред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седа «Моя семья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навательное развитие. Формирование целостной картины мира, расширение кругозора. Тема: «Поможем бабушке Федоре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ение х/л: «Волк и семеро козлят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/и «Чья мама?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/и «Знакомство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ьч. игра «Этот пальчик дедушк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уд: наблюдение за трудом помощника воспитател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и «Найди свой домик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ЭР. Аппликация. Тема: «Подарок маме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ьч. игра «Строим дом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/и «Опасно – не опасно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ение х/л: Е. Благинина «Вот какая мам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уд: «Оденем куклу Катю на прогулку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и «Тишин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349280" y="244440"/>
          <a:ext cx="7637400" cy="5826240"/>
        </p:xfrm>
        <a:graphic>
          <a:graphicData uri="http://schemas.openxmlformats.org/drawingml/2006/table">
            <a:tbl>
              <a:tblPr/>
              <a:tblGrid>
                <a:gridCol w="1805040"/>
                <a:gridCol w="3834000"/>
                <a:gridCol w="1998360"/>
              </a:tblGrid>
              <a:tr h="5826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.11.20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четверг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.11.202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пятниц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.11.20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понедельник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/и «Кто у нас хороший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речи. Тема: «Моя семья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ьч. игра «Семья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И «Семья» сюжет «День рождения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и «Найди своё место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седа «Мои бабушка и дедушк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/и «Позвони по телефону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труирование «Дом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и «Поезд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ение х/л: Е. Благинина «Посидим в тишине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седа «Как я дома помогаю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/и «Мамы детки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. гимнастика «Пальчик, пальчик, где ты был…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и «Наседка и цыплят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ение х/л: «Три медведя» – русская народная сказ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И «Дочки – матери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9T20:52:53Z</dcterms:created>
  <dc:creator>Инна</dc:creator>
  <dc:description/>
  <dc:language>en-US</dc:language>
  <cp:lastModifiedBy>Пользователь</cp:lastModifiedBy>
  <dcterms:modified xsi:type="dcterms:W3CDTF">2023-12-20T13:05:31Z</dcterms:modified>
  <cp:revision>20</cp:revision>
  <dc:subject/>
  <dc:title>Название презентации</dc:title>
</cp:coreProperties>
</file>