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E6F-BE73-4A3D-8BAE-5DB3FB5E7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DD5-05F4-43CF-9A38-39B6079EA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F2C-0BB4-4F9A-9AFB-F025762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674-E3E2-4822-9759-141703D3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D17-5B3A-4D5F-87F5-4A705B5D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97F-F2F5-4591-AEDE-F8F49437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203-2B11-44FB-90DB-52A0D12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6D7-9BBF-4D1F-A1FB-5398853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7F9-7223-4E41-BA29-DAD51FBB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FB5-85D2-4CE5-8DFB-9634FA27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371-D893-4A44-8D4D-BCBEAFB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1B2-885B-41A1-B5A2-309F356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5A30-226E-4769-9CAE-470B922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0CD-9A66-4CED-9DA7-49758978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A1A0-6F73-4071-A7C0-2B98DC08C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ОСНОВЫ ЛОГИ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АЛГЕБРА ЛОГ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ка об общих операциях, аналогичных сложению и умножению, которые выполняются над высказыв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420840" y="3571920"/>
            <a:ext cx="8381880" cy="264636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низ 4"/>
          <p:cNvSpPr/>
          <p:nvPr/>
        </p:nvSpPr>
        <p:spPr>
          <a:xfrm>
            <a:off x="4071960" y="142884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>
            <a:off x="500040" y="3857760"/>
            <a:ext cx="3500640" cy="2071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 flipH="1">
            <a:off x="428760" y="3857760"/>
            <a:ext cx="3571920" cy="2071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нятия алгебры лог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ая переменна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простое высказывание, содержащее только одну мыс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ение:  латинская буква (А, В, Х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чение: ИСТИНА (1) или ЛОЖЬ 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ая функц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это составное высказывание, которое содержит несколько простых мыслей, соединенных между собой с помощью логических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ение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ие оп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логичес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 действ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Базовые логические оп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125360"/>
          <a:ext cx="8715600" cy="4854600"/>
        </p:xfrm>
        <a:graphic>
          <a:graphicData uri="http://schemas.openxmlformats.org/drawingml/2006/table">
            <a:tbl>
              <a:tblPr/>
              <a:tblGrid>
                <a:gridCol w="1928880"/>
                <a:gridCol w="1143000"/>
                <a:gridCol w="1785960"/>
                <a:gridCol w="3857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о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юз в естествен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 – «Число 10 – четн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– «Число 10 – отрицательн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ъю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огическое умно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^ 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&amp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четное и отрицательное» - Л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огическое сло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четное или отрицательно» - И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р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триц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нечетное» – Л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– не отрицательное» - И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 истинности для конъю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28760" y="2143080"/>
          <a:ext cx="4043160" cy="3828960"/>
        </p:xfrm>
        <a:graphic>
          <a:graphicData uri="http://schemas.openxmlformats.org/drawingml/2006/table">
            <a:tbl>
              <a:tblPr/>
              <a:tblGrid>
                <a:gridCol w="1347480"/>
                <a:gridCol w="1347840"/>
                <a:gridCol w="1347840"/>
              </a:tblGrid>
              <a:tr h="76536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^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68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8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 будет истинным тогда и только тогда, когда оба исходных высказывания истин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стин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изъю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957320"/>
          <a:ext cx="4043520" cy="390060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0000ff"/>
                </a:solidFill>
                <a:uFillTx/>
                <a:latin typeface="Calibri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Результат будет ложным тогда и только тогда, когда оба исходных высказывания ложны, и истинным во всех остальных случаях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стин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нвер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374920"/>
          <a:ext cx="3471840" cy="2743200"/>
        </p:xfrm>
        <a:graphic>
          <a:graphicData uri="http://schemas.openxmlformats.org/drawingml/2006/table">
            <a:tbl>
              <a:tblPr/>
              <a:tblGrid>
                <a:gridCol w="1736640"/>
                <a:gridCol w="1735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 будет ложным, если  исходное высказывание истинно, и наобор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Таблица истинн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аблица определяющая значение сложного высказывания при всех возможных значениях простых высказыва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4"/>
          <p:cNvSpPr/>
          <p:nvPr/>
        </p:nvSpPr>
        <p:spPr>
          <a:xfrm>
            <a:off x="4071960" y="1285920"/>
            <a:ext cx="8571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составное высказывание (логическую функцию) выразить в виде формулы, в которую войдут логические переменные и знаки логических операций, то получи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Calibri"/>
              </a:rPr>
              <a:t>ЛОГИЧЕСКОЕ  ВЫ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alibri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alibri"/>
              </a:rPr>
              <a:t>лож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низ 6"/>
          <p:cNvSpPr/>
          <p:nvPr/>
        </p:nvSpPr>
        <p:spPr>
          <a:xfrm>
            <a:off x="2050920" y="436572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6227640" y="436572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огическое следование (имплик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бозначение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→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836640"/>
            <a:ext cx="84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мпликация образуется соединением двух высказываний в одно с помощью оборота реч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если…, то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1080" y="285264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лица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3645000"/>
          <a:ext cx="4038480" cy="2290680"/>
        </p:xfrm>
        <a:graphic>
          <a:graphicData uri="http://schemas.openxmlformats.org/drawingml/2006/table">
            <a:tbl>
              <a:tblPr/>
              <a:tblGrid>
                <a:gridCol w="907920"/>
                <a:gridCol w="911520"/>
                <a:gridCol w="221904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→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35"/>
          <p:cNvSpPr/>
          <p:nvPr/>
        </p:nvSpPr>
        <p:spPr>
          <a:xfrm>
            <a:off x="4932360" y="213372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мпликаци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ложн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только тогда, когда из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стинног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ервого высказывания(предпосылки)  следует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ложный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вывод (второе высказы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Логическое равенств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эквивалентно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148428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квивалентность образуется соединением двух высказываний в одно с помощью оборота реч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… тогда и только тогда, когда 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5440" y="314172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лица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3789360"/>
          <a:ext cx="3168360" cy="2290680"/>
        </p:xfrm>
        <a:graphic>
          <a:graphicData uri="http://schemas.openxmlformats.org/drawingml/2006/table">
            <a:tbl>
              <a:tblPr/>
              <a:tblGrid>
                <a:gridCol w="712800"/>
                <a:gridCol w="714240"/>
                <a:gridCol w="1741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31"/>
          <p:cNvSpPr/>
          <p:nvPr/>
        </p:nvSpPr>
        <p:spPr>
          <a:xfrm>
            <a:off x="395280" y="2349360"/>
            <a:ext cx="756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бозначение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, 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~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3924360" y="2852640"/>
            <a:ext cx="49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ставное высказывание, образованное с помощью логической операции эквивалентности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стинн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тогда и только тогда, когда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оба высказывания одновременно либо ложны, либо истинны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alibri"/>
              </a:rPr>
              <a:t>ЛОГИ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НАУКА О ФОРМАХ И СПОСОБАХ МЫШЛ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низ 3"/>
          <p:cNvSpPr/>
          <p:nvPr/>
        </p:nvSpPr>
        <p:spPr>
          <a:xfrm>
            <a:off x="4143240" y="1643040"/>
            <a:ext cx="85752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мплика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можно выразить через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зъюнк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6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832360" cy="933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50920" y="3284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Эквивален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можно выразить через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зъюнк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онъюн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10" descr=""/>
          <p:cNvPicPr/>
          <p:nvPr/>
        </p:nvPicPr>
        <p:blipFill>
          <a:blip r:embed="rId2"/>
          <a:stretch/>
        </p:blipFill>
        <p:spPr>
          <a:xfrm>
            <a:off x="468360" y="5157720"/>
            <a:ext cx="828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Порядок выполнения логических операц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ействия в ско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нъю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изъюнк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мпл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Эквивален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826920" y="47484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ри построении таблиц истинности есть определенная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последовательность действий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1. Определить количество строк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0" lang="ru-RU" sz="7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рок = 2</a:t>
            </a:r>
            <a:r>
              <a:rPr b="1" lang="ru-RU" sz="18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+1, где n – количество логических перем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2. Определить количество столбцов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0" lang="ru-RU" sz="7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олбцов = количеству логических переменных + количество логических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3. Построить таблицу истинности с указанным количеством строк и столбцов, ввести названия столбцов таблицы в соответствии с последовательностью выполнения логических операций с учетом скобок и приоритетов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¬, &amp;, 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5640" y="130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. Заполнить столбцы входных переменных наборами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5. Заполнить таблицу истинности, выполняя логические операции в соответствии с приоритетами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835280" y="3573360"/>
          <a:ext cx="5672160" cy="2703600"/>
        </p:xfrm>
        <a:graphic>
          <a:graphicData uri="http://schemas.openxmlformats.org/drawingml/2006/table">
            <a:tbl>
              <a:tblPr/>
              <a:tblGrid>
                <a:gridCol w="1006200"/>
                <a:gridCol w="1078200"/>
                <a:gridCol w="1523880"/>
                <a:gridCol w="2063880"/>
              </a:tblGrid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¬( A&amp;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1"/>
          <p:cNvSpPr/>
          <p:nvPr/>
        </p:nvSpPr>
        <p:spPr>
          <a:xfrm flipV="1">
            <a:off x="-527040" y="3669480"/>
            <a:ext cx="120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067040" cy="4939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826920" y="87156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зьмем для примера логическое выражение: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¬(A&amp;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 построим таблицу истинности для этого составного высказы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рок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: 2</a:t>
            </a:r>
            <a:r>
              <a:rPr b="0" lang="ru-RU" sz="18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+1=5,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олбц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: 2+2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алее заполняем варианты исходных высказываний А и В. Теперь заполняем другие столбцы по порядку логических операц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619280" y="2781360"/>
          <a:ext cx="5608440" cy="2055600"/>
        </p:xfrm>
        <a:graphic>
          <a:graphicData uri="http://schemas.openxmlformats.org/drawingml/2006/table">
            <a:tbl>
              <a:tblPr/>
              <a:tblGrid>
                <a:gridCol w="693720"/>
                <a:gridCol w="825480"/>
                <a:gridCol w="2687760"/>
                <a:gridCol w="1401480"/>
              </a:tblGrid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&amp;(А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)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468360" y="789120"/>
            <a:ext cx="731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33"/>
                </a:solidFill>
                <a:uFillTx/>
                <a:latin typeface="Arial"/>
                <a:ea typeface="Arial"/>
              </a:rPr>
              <a:t>Закрепление изучен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Разберем следующие вы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1)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 В&amp;(АVВ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Количество логических переменных: 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. Логических операций: 2.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начит, строк в таблице 2</a:t>
            </a:r>
            <a:r>
              <a:rPr b="0" i="1" lang="ru-RU" sz="1600" spc="-1" strike="noStrike" baseline="30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+1=5, столбцов 2+2=4.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824120" y="2490840"/>
          <a:ext cx="5495760" cy="2743200"/>
        </p:xfrm>
        <a:graphic>
          <a:graphicData uri="http://schemas.openxmlformats.org/drawingml/2006/table">
            <a:tbl>
              <a:tblPr/>
              <a:tblGrid>
                <a:gridCol w="639720"/>
                <a:gridCol w="685800"/>
                <a:gridCol w="685800"/>
                <a:gridCol w="855720"/>
                <a:gridCol w="1257120"/>
                <a:gridCol w="13716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˅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A˅B)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&amp;((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˅B)˅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1"/>
          <p:cNvSpPr/>
          <p:nvPr/>
        </p:nvSpPr>
        <p:spPr>
          <a:xfrm>
            <a:off x="1187280" y="1031040"/>
            <a:ext cx="698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2) А&amp;(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A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B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)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Количество логических переменных: 3. Логических операций: 3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начит, строк в таблице 2</a:t>
            </a:r>
            <a:r>
              <a:rPr b="0" i="1" lang="ru-RU" sz="1600" spc="-1" strike="noStrike" baseline="30000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+1=9, столбцов 3+3=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95280" y="9072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остройте таблицы истинности для высказываний: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9640" y="2204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А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)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А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39640" y="2421000"/>
            <a:ext cx="5166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A v B) 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(B v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57120" y="645120"/>
            <a:ext cx="52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28760" y="1573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остроить таблицу исти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5554800" cy="1285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214200" y="31431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5" descr=""/>
          <p:cNvPicPr/>
          <p:nvPr/>
        </p:nvPicPr>
        <p:blipFill>
          <a:blip r:embed="rId2"/>
          <a:stretch/>
        </p:blipFill>
        <p:spPr>
          <a:xfrm>
            <a:off x="571680" y="4357800"/>
            <a:ext cx="6429240" cy="1000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14292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53735"/>
                </a:solidFill>
                <a:latin typeface="Arial"/>
              </a:rPr>
              <a:t>Формы</a:t>
            </a:r>
            <a:br>
              <a:rPr sz="6600"/>
            </a:br>
            <a:r>
              <a:rPr b="1" lang="ru-RU" sz="6600" spc="-1" strike="noStrike">
                <a:solidFill>
                  <a:srgbClr val="953735"/>
                </a:solidFill>
                <a:latin typeface="Calibri"/>
              </a:rPr>
              <a:t>МЫШЛЕНИ</a:t>
            </a:r>
            <a:r>
              <a:rPr b="1" lang="ru-RU" sz="6600" spc="-1" strike="noStrike">
                <a:solidFill>
                  <a:srgbClr val="953735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сказы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мозаключен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ПОНЯТИЕ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форма мышления, которая выделяет существенные признаки предмета или класса предметов, позволяющие отличать их друг от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Прим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ямоугольник  -  геометрическая фигура у которой все углы прямые и 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а мышления, выраженная с помощью понятий, посредством которой что-либо утверждается или отрицается о предме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языковая форма высказывания –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повествовательное предложение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имер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ариж – столица  Фра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низ 3"/>
          <p:cNvSpPr/>
          <p:nvPr/>
        </p:nvSpPr>
        <p:spPr>
          <a:xfrm rot="2271600">
            <a:off x="2725200" y="1235160"/>
            <a:ext cx="714600" cy="1214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4"/>
          <p:cNvSpPr/>
          <p:nvPr/>
        </p:nvSpPr>
        <p:spPr>
          <a:xfrm rot="19096200">
            <a:off x="5580000" y="1341000"/>
            <a:ext cx="714600" cy="12146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528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СТИ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003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ЛОЖ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11280" y="3933720"/>
            <a:ext cx="29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мер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уква «А» - гла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003640" y="3860640"/>
            <a:ext cx="33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мер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уква «А» - согла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3"/>
          <p:cNvSpPr/>
          <p:nvPr/>
        </p:nvSpPr>
        <p:spPr>
          <a:xfrm rot="2271600">
            <a:off x="2725200" y="1235160"/>
            <a:ext cx="714600" cy="1214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4"/>
          <p:cNvSpPr/>
          <p:nvPr/>
        </p:nvSpPr>
        <p:spPr>
          <a:xfrm rot="19096200">
            <a:off x="5580000" y="1341000"/>
            <a:ext cx="714600" cy="12146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9528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ст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03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ст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85840" y="3571920"/>
            <a:ext cx="37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икакая  его часть сама не является высказы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572000" y="3500280"/>
            <a:ext cx="381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стоит из простых высказы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УМОЗАКЛЮ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а мышления, с помощью которой из одного или нескольких суждений может быть получено новое су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знание или вывод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имер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юбая 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УМОЗАКЛЮЧ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4"/>
          <p:cNvSpPr/>
          <p:nvPr/>
        </p:nvSpPr>
        <p:spPr>
          <a:xfrm>
            <a:off x="4211640" y="1413000"/>
            <a:ext cx="857160" cy="25207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4"/>
          <p:cNvSpPr/>
          <p:nvPr/>
        </p:nvSpPr>
        <p:spPr>
          <a:xfrm rot="18485400">
            <a:off x="7163280" y="126900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4"/>
          <p:cNvSpPr/>
          <p:nvPr/>
        </p:nvSpPr>
        <p:spPr>
          <a:xfrm rot="2194800">
            <a:off x="1186920" y="1267920"/>
            <a:ext cx="857520" cy="505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24000" y="184464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дедукти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71640" y="3933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ндукти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292720" y="1844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ана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0" y="249228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ссуждения ведутся от общего к част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059280" y="458136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ссуждения ведутся от частного  к общ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867280" y="249228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вижение от одних свойств к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2:52:53Z</dcterms:created>
  <dc:creator>Администратор</dc:creator>
  <dc:description/>
  <dc:language>en-US</dc:language>
  <cp:lastModifiedBy>Учитель</cp:lastModifiedBy>
  <dcterms:modified xsi:type="dcterms:W3CDTF">2023-11-23T06:56:53Z</dcterms:modified>
  <cp:revision>61</cp:revision>
  <dc:subject/>
  <dc:title>ОСНОВЫ ЛОГ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a0000000000010243100207f6000400038000</vt:lpwstr>
  </property>
</Properties>
</file>