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A9F2-487E-4735-9C72-8B8611024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4428-D466-4450-BED2-6C616854E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Верхний колонтитул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A26-A318-4EC4-9C18-552E055A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C0C-98CC-4724-90E3-C409F25E2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69B5-4E11-44E8-85E3-42063C955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93B-FB75-45AC-BCF0-A532DCE95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D6DE-8878-408C-BBE9-B75CB6A8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BE04-1355-40CE-B440-0AAB07B2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BB7-256C-41BA-8D2E-792815A6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735-F68B-4520-B174-9C88C4FA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B6A-D89D-452F-9C6E-59211196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39DB-C371-4A1C-915A-1B213C59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4DD-C51D-46CC-896F-1F89D408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54C0-90E8-4636-837A-0B4EC77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B2D4-7AAA-4767-B525-E04003267B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7030a0"/>
                </a:solidFill>
                <a:latin typeface="Calibri"/>
              </a:rPr>
              <a:t>ОСНОВЫ ЛОГИК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ff"/>
                </a:solidFill>
                <a:latin typeface="Calibri"/>
              </a:rPr>
              <a:t>АЛГЕБРА ЛОГИК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ука об общих операциях, аналогичных сложению и умножению, которые выполняются над высказывания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хема 3" descr=""/>
          <p:cNvPicPr/>
          <p:nvPr/>
        </p:nvPicPr>
        <p:blipFill>
          <a:blip r:embed="rId1"/>
          <a:stretch/>
        </p:blipFill>
        <p:spPr>
          <a:xfrm>
            <a:off x="420840" y="3571920"/>
            <a:ext cx="8381880" cy="2646360"/>
          </a:xfrm>
          <a:prstGeom prst="rect">
            <a:avLst/>
          </a:prstGeom>
          <a:ln w="0">
            <a:noFill/>
          </a:ln>
        </p:spPr>
      </p:pic>
      <p:sp>
        <p:nvSpPr>
          <p:cNvPr id="90" name="Стрелка вниз 4"/>
          <p:cNvSpPr/>
          <p:nvPr/>
        </p:nvSpPr>
        <p:spPr>
          <a:xfrm>
            <a:off x="4071960" y="1428840"/>
            <a:ext cx="8571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6"/>
          <p:cNvSpPr/>
          <p:nvPr/>
        </p:nvSpPr>
        <p:spPr>
          <a:xfrm>
            <a:off x="500040" y="3857760"/>
            <a:ext cx="3500640" cy="20714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ая соединительная линия 7"/>
          <p:cNvSpPr/>
          <p:nvPr/>
        </p:nvSpPr>
        <p:spPr>
          <a:xfrm flipH="1">
            <a:off x="428760" y="3857760"/>
            <a:ext cx="3571920" cy="207144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Calibri"/>
              </a:rPr>
              <a:t>Понятия алгебры логики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00008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Логическая переменная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это простое высказывание, содержащее только одну мысль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значение:  латинская буква (А, В, Х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Значение: ИСТИНА (1) или ЛОЖЬ (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Логическая функция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это составное высказывание, которое содержит несколько простых мыслей, соединенных между собой с помощью логических опер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значение: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c0000"/>
                </a:solidFill>
                <a:uFillTx/>
                <a:latin typeface="Calibri"/>
              </a:rPr>
              <a:t>Логические опер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– логичес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е действ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Базовые логические опер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79280" y="1125360"/>
          <a:ext cx="8715600" cy="4854600"/>
        </p:xfrm>
        <a:graphic>
          <a:graphicData uri="http://schemas.openxmlformats.org/drawingml/2006/table">
            <a:tbl>
              <a:tblPr/>
              <a:tblGrid>
                <a:gridCol w="1928880"/>
                <a:gridCol w="1143000"/>
                <a:gridCol w="1785960"/>
                <a:gridCol w="385776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означ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оюз в естественном язы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ме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 – «Число 10 – четн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 – «Число 10 – отрицательно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ъюнкц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огическое умно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^ B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&amp;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четное и отрицательное» - Л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логическое слож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v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четное или отрицательно» - ИС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верс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отрица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¬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нечетное» – ЛОЖ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исло 10 – не отрицательное» - ИСТ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Таблица истинности для конъю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28760" y="2143080"/>
          <a:ext cx="4043160" cy="3828960"/>
        </p:xfrm>
        <a:graphic>
          <a:graphicData uri="http://schemas.openxmlformats.org/drawingml/2006/table">
            <a:tbl>
              <a:tblPr/>
              <a:tblGrid>
                <a:gridCol w="1347480"/>
                <a:gridCol w="1347840"/>
                <a:gridCol w="1347840"/>
              </a:tblGrid>
              <a:tr h="76536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^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668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668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5000"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000" rIns="45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000" marR="45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9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Вывод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 будет истинным тогда и только тогда, когда оба исходных высказывания истинн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Табли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стин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дл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дизъюн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457200" y="1957320"/>
          <a:ext cx="4043520" cy="3900600"/>
        </p:xfrm>
        <a:graphic>
          <a:graphicData uri="http://schemas.openxmlformats.org/drawingml/2006/table">
            <a:tbl>
              <a:tblPr/>
              <a:tblGrid>
                <a:gridCol w="1347840"/>
                <a:gridCol w="1347840"/>
                <a:gridCol w="134784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 u="sng">
                <a:solidFill>
                  <a:srgbClr val="0000ff"/>
                </a:solidFill>
                <a:uFillTx/>
                <a:latin typeface="Calibri"/>
              </a:rPr>
              <a:t>Вывод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Calibri"/>
              </a:rPr>
              <a:t>Результат будет ложным тогда и только тогда, когда оба исходных высказывания ложны, и истинным во всех остальных случаях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Таблица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стинност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дл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инвер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374920"/>
          <a:ext cx="3471840" cy="2743200"/>
        </p:xfrm>
        <a:graphic>
          <a:graphicData uri="http://schemas.openxmlformats.org/drawingml/2006/table">
            <a:tbl>
              <a:tblPr/>
              <a:tblGrid>
                <a:gridCol w="1736640"/>
                <a:gridCol w="17352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Ā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5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Выво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зультат будет ложным, если  исходное высказывание истинно, и наоборо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Таблица истинно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таблица определяющая значение сложного высказывания при всех возможных значениях простых высказывани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Стрелка вниз 4"/>
          <p:cNvSpPr/>
          <p:nvPr/>
        </p:nvSpPr>
        <p:spPr>
          <a:xfrm>
            <a:off x="4071960" y="1285920"/>
            <a:ext cx="85716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500040"/>
            <a:ext cx="82296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Если составное высказывание (логическую функцию) выразить в виде формулы, в которую войдут логические переменные и знаки логических операций, то получит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Calibri"/>
              </a:rPr>
              <a:t>ЛОГИЧЕСКОЕ  ВЫРАЖ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6000" spc="-1" strike="noStrike" u="sng">
                <a:solidFill>
                  <a:srgbClr val="0000ff"/>
                </a:solidFill>
                <a:uFillTx/>
                <a:latin typeface="Calibri"/>
              </a:rPr>
              <a:t>исти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6000" spc="-1" strike="noStrike" u="sng">
                <a:solidFill>
                  <a:srgbClr val="0000ff"/>
                </a:solidFill>
                <a:uFillTx/>
                <a:latin typeface="Calibri"/>
              </a:rPr>
              <a:t>лож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Стрелка вниз 6"/>
          <p:cNvSpPr/>
          <p:nvPr/>
        </p:nvSpPr>
        <p:spPr>
          <a:xfrm>
            <a:off x="2050920" y="4365720"/>
            <a:ext cx="8575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трелка вниз 7"/>
          <p:cNvSpPr/>
          <p:nvPr/>
        </p:nvSpPr>
        <p:spPr>
          <a:xfrm>
            <a:off x="6227640" y="4365720"/>
            <a:ext cx="8575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9647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Логическое следование (имплика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бозначение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→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836640"/>
            <a:ext cx="84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мпликация образуется соединением двух высказываний в одно с помощью оборота реч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если…, то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41080" y="285264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лица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5280" y="3645000"/>
          <a:ext cx="4038480" cy="2290680"/>
        </p:xfrm>
        <a:graphic>
          <a:graphicData uri="http://schemas.openxmlformats.org/drawingml/2006/table">
            <a:tbl>
              <a:tblPr/>
              <a:tblGrid>
                <a:gridCol w="907920"/>
                <a:gridCol w="911520"/>
                <a:gridCol w="2219040"/>
              </a:tblGrid>
              <a:tr h="510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1" lang="ru-RU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→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35"/>
          <p:cNvSpPr/>
          <p:nvPr/>
        </p:nvSpPr>
        <p:spPr>
          <a:xfrm>
            <a:off x="4932360" y="213372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Импликация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ложна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только тогда, когда из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истинног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первого высказывания(предпосылки)  следует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ложный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вывод (второе высказывани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Логическое равенств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(эквивалентность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324000" y="148428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квивалентность образуется соединением двух высказываний в одно с помощью оборота речи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… тогда и только тогда, когда …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325440" y="3141720"/>
            <a:ext cx="33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аблица ист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24000" y="3789360"/>
          <a:ext cx="3168360" cy="2290680"/>
        </p:xfrm>
        <a:graphic>
          <a:graphicData uri="http://schemas.openxmlformats.org/drawingml/2006/table">
            <a:tbl>
              <a:tblPr/>
              <a:tblGrid>
                <a:gridCol w="712800"/>
                <a:gridCol w="714240"/>
                <a:gridCol w="174132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31"/>
          <p:cNvSpPr/>
          <p:nvPr/>
        </p:nvSpPr>
        <p:spPr>
          <a:xfrm>
            <a:off x="395280" y="2349360"/>
            <a:ext cx="756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Обозначение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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В, А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Arial"/>
              </a:rPr>
              <a:t>~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5"/>
          <p:cNvSpPr/>
          <p:nvPr/>
        </p:nvSpPr>
        <p:spPr>
          <a:xfrm>
            <a:off x="3924360" y="2852640"/>
            <a:ext cx="4968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Составное высказывание, образованное с помощью логической операции эквивалентности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истинно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тогда и только тогда, когда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оба высказывания одновременно либо ложны, либо истинны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ff"/>
                </a:solidFill>
                <a:latin typeface="Calibri"/>
              </a:rPr>
              <a:t>ЛОГИКА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НАУКА О ФОРМАХ И СПОСОБАХ МЫШЛЕ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Стрелка вниз 3"/>
          <p:cNvSpPr/>
          <p:nvPr/>
        </p:nvSpPr>
        <p:spPr>
          <a:xfrm>
            <a:off x="4143240" y="1643040"/>
            <a:ext cx="857520" cy="92880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324000" y="476280"/>
            <a:ext cx="835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Имплика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можно выразить через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изъюнк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6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5832360" cy="9334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8"/>
          <p:cNvSpPr/>
          <p:nvPr/>
        </p:nvSpPr>
        <p:spPr>
          <a:xfrm>
            <a:off x="250920" y="328464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Эквивален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можно выразить через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отрицание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,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изъюнкцию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онъюнкц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Object 10" descr=""/>
          <p:cNvPicPr/>
          <p:nvPr/>
        </p:nvPicPr>
        <p:blipFill>
          <a:blip r:embed="rId2"/>
          <a:stretch/>
        </p:blipFill>
        <p:spPr>
          <a:xfrm>
            <a:off x="468360" y="5157720"/>
            <a:ext cx="82803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alibri"/>
              </a:rPr>
              <a:t>Порядок выполнения логических операци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2071800"/>
            <a:ext cx="8229600" cy="40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ействия в скобк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Конъюнк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изъюнкц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Имплика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Эквиваленц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1"/>
          <p:cNvSpPr/>
          <p:nvPr/>
        </p:nvSpPr>
        <p:spPr>
          <a:xfrm>
            <a:off x="826920" y="474840"/>
            <a:ext cx="6985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При построении таблиц истинности есть определенная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последовательность действий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.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1. Определить количество строк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0" lang="ru-RU" sz="7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рок = 2</a:t>
            </a:r>
            <a:r>
              <a:rPr b="1" lang="ru-RU" sz="1800" spc="-1" strike="noStrike" baseline="30000">
                <a:solidFill>
                  <a:srgbClr val="333333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+1, где n – количество логических переме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2. Определить количество столбцов в таблиц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Symbol"/>
                <a:ea typeface="Symbol"/>
              </a:rPr>
              <a:t></a:t>
            </a:r>
            <a:r>
              <a:rPr b="0" lang="ru-RU" sz="700" spc="-1" strike="noStrike">
                <a:solidFill>
                  <a:srgbClr val="333333"/>
                </a:solidFill>
                <a:latin typeface="Times New Roman"/>
              </a:rPr>
              <a:t>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олбцов = количеству логических переменных + количество логических опер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3. Построить таблицу истинности с указанным количеством строк и столбцов, ввести названия столбцов таблицы в соответствии с последовательностью выполнения логических операций с учетом скобок и приоритетов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¬, &amp;, 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1"/>
          <p:cNvSpPr/>
          <p:nvPr/>
        </p:nvSpPr>
        <p:spPr>
          <a:xfrm>
            <a:off x="755640" y="1305000"/>
            <a:ext cx="68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4. Заполнить столбцы входных переменных наборами знач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5. Заполнить таблицу истинности, выполняя логические операции в соответствии с приоритетами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835280" y="3573360"/>
          <a:ext cx="5672160" cy="2703600"/>
        </p:xfrm>
        <a:graphic>
          <a:graphicData uri="http://schemas.openxmlformats.org/drawingml/2006/table">
            <a:tbl>
              <a:tblPr/>
              <a:tblGrid>
                <a:gridCol w="1006200"/>
                <a:gridCol w="1078200"/>
                <a:gridCol w="1523880"/>
                <a:gridCol w="2063880"/>
              </a:tblGrid>
              <a:tr h="88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&amp;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¬( A&amp;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5" name="Rectangle 1"/>
          <p:cNvSpPr/>
          <p:nvPr/>
        </p:nvSpPr>
        <p:spPr>
          <a:xfrm flipV="1">
            <a:off x="-527040" y="3669480"/>
            <a:ext cx="1209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Рисунок 3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067040" cy="49392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4"/>
          <p:cNvSpPr/>
          <p:nvPr/>
        </p:nvSpPr>
        <p:spPr>
          <a:xfrm>
            <a:off x="826920" y="87156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Возьмем для примера логическое выражение: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¬(A&amp;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и построим таблицу истинности для этого составного высказы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рок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: 2</a:t>
            </a:r>
            <a:r>
              <a:rPr b="0" lang="ru-RU" sz="1800" spc="-1" strike="noStrike" baseline="30000">
                <a:solidFill>
                  <a:srgbClr val="333333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+1=5, </a:t>
            </a:r>
            <a:r>
              <a:rPr b="1" lang="ru-RU" sz="1800" spc="-1" strike="noStrike">
                <a:solidFill>
                  <a:srgbClr val="333333"/>
                </a:solidFill>
                <a:latin typeface="Arial"/>
              </a:rPr>
              <a:t>количество столбцов</a:t>
            </a: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: 2+2=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"/>
              </a:rPr>
              <a:t>Далее заполняем варианты исходных высказываний А и В. Теперь заполняем другие столбцы по порядку логических операц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1619280" y="2781360"/>
          <a:ext cx="5608440" cy="2055600"/>
        </p:xfrm>
        <a:graphic>
          <a:graphicData uri="http://schemas.openxmlformats.org/drawingml/2006/table">
            <a:tbl>
              <a:tblPr/>
              <a:tblGrid>
                <a:gridCol w="693720"/>
                <a:gridCol w="825480"/>
                <a:gridCol w="2687760"/>
                <a:gridCol w="1401480"/>
              </a:tblGrid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71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&amp;(А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V</a:t>
                      </a: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)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3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Rectangle 1"/>
          <p:cNvSpPr/>
          <p:nvPr/>
        </p:nvSpPr>
        <p:spPr>
          <a:xfrm>
            <a:off x="468360" y="789120"/>
            <a:ext cx="731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333333"/>
                </a:solidFill>
                <a:uFillTx/>
                <a:latin typeface="Arial"/>
                <a:ea typeface="Arial"/>
              </a:rPr>
              <a:t>Закрепление изученн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Разберем следующие выра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1)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Times New Roman"/>
              </a:rPr>
              <a:t>     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 В&amp;(АVВ)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Количество логических переменных: 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. Логических операций: 2.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Значит, строк в таблице 2</a:t>
            </a:r>
            <a:r>
              <a:rPr b="0" i="1" lang="ru-RU" sz="1600" spc="-1" strike="noStrike" baseline="30000">
                <a:solidFill>
                  <a:srgbClr val="333333"/>
                </a:solidFill>
                <a:latin typeface="Arial"/>
                <a:ea typeface="Arial"/>
              </a:rPr>
              <a:t>2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+1=5, столбцов 2+2=4.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824120" y="2490840"/>
          <a:ext cx="5495760" cy="2743200"/>
        </p:xfrm>
        <a:graphic>
          <a:graphicData uri="http://schemas.openxmlformats.org/drawingml/2006/table">
            <a:tbl>
              <a:tblPr/>
              <a:tblGrid>
                <a:gridCol w="639720"/>
                <a:gridCol w="685800"/>
                <a:gridCol w="685800"/>
                <a:gridCol w="855720"/>
                <a:gridCol w="1257120"/>
                <a:gridCol w="137160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˅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(A˅B)˅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А&amp;((</a:t>
                      </a:r>
                      <a:r>
                        <a:rPr b="0" lang="en-US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A˅B)˅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Rectangle 1"/>
          <p:cNvSpPr/>
          <p:nvPr/>
        </p:nvSpPr>
        <p:spPr>
          <a:xfrm>
            <a:off x="1187280" y="1031040"/>
            <a:ext cx="6985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2) А&amp;(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A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˅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B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˅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  <a:ea typeface="Arial"/>
              </a:rPr>
              <a:t>C</a:t>
            </a: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)                 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Количество логических переменных: 3. Логических операций: 3   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Значит, строк в таблице 2</a:t>
            </a:r>
            <a:r>
              <a:rPr b="0" i="1" lang="ru-RU" sz="1600" spc="-1" strike="noStrike" baseline="30000">
                <a:solidFill>
                  <a:srgbClr val="333333"/>
                </a:solidFill>
                <a:latin typeface="Arial"/>
                <a:ea typeface="Arial"/>
              </a:rPr>
              <a:t>3</a:t>
            </a:r>
            <a:r>
              <a:rPr b="0" i="1" lang="ru-RU" sz="1600" spc="-1" strike="noStrike">
                <a:solidFill>
                  <a:srgbClr val="333333"/>
                </a:solidFill>
                <a:latin typeface="Arial"/>
                <a:ea typeface="Arial"/>
              </a:rPr>
              <a:t>+1=9, столбцов 3+3=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395280" y="90720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Постройте таблицы истинности для высказываний: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539640" y="2204280"/>
            <a:ext cx="36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А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В)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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А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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539640" y="2421000"/>
            <a:ext cx="51660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(A v B) </a:t>
            </a:r>
            <a:r>
              <a:rPr b="1" lang="ru-RU" sz="3200" spc="-1" strike="noStrike">
                <a:solidFill>
                  <a:srgbClr val="0000ff"/>
                </a:solidFill>
                <a:latin typeface="Symbol"/>
                <a:ea typeface="Symbol"/>
              </a:rPr>
              <a:t>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(B v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357120" y="645120"/>
            <a:ext cx="52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Calibri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428760" y="1573920"/>
            <a:ext cx="84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Calibri"/>
              </a:rPr>
              <a:t>Построить таблицу истин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3" descr=""/>
          <p:cNvPicPr/>
          <p:nvPr/>
        </p:nvPicPr>
        <p:blipFill>
          <a:blip r:embed="rId1"/>
          <a:stretch/>
        </p:blipFill>
        <p:spPr>
          <a:xfrm>
            <a:off x="642960" y="2643120"/>
            <a:ext cx="5554800" cy="1285920"/>
          </a:xfrm>
          <a:prstGeom prst="rect">
            <a:avLst/>
          </a:prstGeom>
          <a:ln w="0">
            <a:noFill/>
          </a:ln>
        </p:spPr>
      </p:pic>
      <p:sp>
        <p:nvSpPr>
          <p:cNvPr id="149" name="TextBox 8"/>
          <p:cNvSpPr/>
          <p:nvPr/>
        </p:nvSpPr>
        <p:spPr>
          <a:xfrm>
            <a:off x="214200" y="314316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1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Object 5" descr=""/>
          <p:cNvPicPr/>
          <p:nvPr/>
        </p:nvPicPr>
        <p:blipFill>
          <a:blip r:embed="rId2"/>
          <a:stretch/>
        </p:blipFill>
        <p:spPr>
          <a:xfrm>
            <a:off x="571680" y="4357800"/>
            <a:ext cx="6429240" cy="100008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1"/>
          <p:cNvSpPr/>
          <p:nvPr/>
        </p:nvSpPr>
        <p:spPr>
          <a:xfrm>
            <a:off x="142920" y="4572000"/>
            <a:ext cx="100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  <a:ea typeface="Arial"/>
              </a:rPr>
              <a:t>2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53735"/>
                </a:solidFill>
                <a:latin typeface="Arial"/>
              </a:rPr>
              <a:t>Формы</a:t>
            </a:r>
            <a:br>
              <a:rPr sz="6600"/>
            </a:br>
            <a:r>
              <a:rPr b="1" lang="ru-RU" sz="6600" spc="-1" strike="noStrike">
                <a:solidFill>
                  <a:srgbClr val="953735"/>
                </a:solidFill>
                <a:latin typeface="Calibri"/>
              </a:rPr>
              <a:t>МЫШЛЕНИ</a:t>
            </a:r>
            <a:r>
              <a:rPr b="1" lang="ru-RU" sz="6600" spc="-1" strike="noStrike">
                <a:solidFill>
                  <a:srgbClr val="953735"/>
                </a:solidFill>
                <a:latin typeface="Arial"/>
              </a:rPr>
              <a:t>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214440"/>
            <a:ext cx="82296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онят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ысказыв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мозаключени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ПОНЯТИЕ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alibri"/>
              </a:rPr>
              <a:t>форма мышления, которая выделяет существенные признаки предмета или класса предметов, позволяющие отличать их друг от д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Calibri"/>
              </a:rPr>
              <a:t>Приме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i="1" lang="ru-RU" sz="3200" spc="-1" strike="noStrike">
                <a:solidFill>
                  <a:srgbClr val="0000ff"/>
                </a:solidFill>
                <a:latin typeface="Calibri"/>
              </a:rPr>
              <a:t>Прямоугольник  -  геометрическая фигура у которой все углы прямые и противоположные стороны рав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Стрелка вниз 3"/>
          <p:cNvSpPr/>
          <p:nvPr/>
        </p:nvSpPr>
        <p:spPr>
          <a:xfrm>
            <a:off x="4071960" y="1214280"/>
            <a:ext cx="857160" cy="50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ВЫСКАЗЫ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орма мышления, выраженная с помощью понятий, посредством которой что-либо утверждается или отрицается о предмет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языковая форма высказывания – </a:t>
            </a:r>
            <a:r>
              <a:rPr b="1" i="1" lang="ru-RU" sz="3600" spc="-1" strike="noStrike" u="sng">
                <a:solidFill>
                  <a:srgbClr val="0000ff"/>
                </a:solidFill>
                <a:uFillTx/>
                <a:latin typeface="Calibri"/>
              </a:rPr>
              <a:t>повествовательное предложение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имер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Париж – столица  Фран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трелка вниз 3"/>
          <p:cNvSpPr/>
          <p:nvPr/>
        </p:nvSpPr>
        <p:spPr>
          <a:xfrm>
            <a:off x="4071960" y="1214280"/>
            <a:ext cx="857160" cy="50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трелка вниз 3"/>
          <p:cNvSpPr/>
          <p:nvPr/>
        </p:nvSpPr>
        <p:spPr>
          <a:xfrm rot="2271600">
            <a:off x="2725200" y="1235160"/>
            <a:ext cx="714600" cy="1214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низ 4"/>
          <p:cNvSpPr/>
          <p:nvPr/>
        </p:nvSpPr>
        <p:spPr>
          <a:xfrm rot="19096200">
            <a:off x="5580000" y="1341000"/>
            <a:ext cx="714600" cy="12146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39528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ИСТИ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5003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ЛОЖ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11280" y="3933720"/>
            <a:ext cx="29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ример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уква «А» - гла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003640" y="3860640"/>
            <a:ext cx="338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Пример: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Буква «А» - согласн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alibri"/>
              </a:rPr>
              <a:t>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трелка вниз 3"/>
          <p:cNvSpPr/>
          <p:nvPr/>
        </p:nvSpPr>
        <p:spPr>
          <a:xfrm rot="2271600">
            <a:off x="2725200" y="1235160"/>
            <a:ext cx="714600" cy="1214280"/>
          </a:xfrm>
          <a:prstGeom prst="downArrow">
            <a:avLst>
              <a:gd name="adj1" fmla="val 50000"/>
              <a:gd name="adj2" fmla="val 4997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трелка вниз 4"/>
          <p:cNvSpPr/>
          <p:nvPr/>
        </p:nvSpPr>
        <p:spPr>
          <a:xfrm rot="19096200">
            <a:off x="5580000" y="1341000"/>
            <a:ext cx="714600" cy="121464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39528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рост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03640" y="2565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став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85840" y="3571920"/>
            <a:ext cx="371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никакая  его часть сама не является высказыва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4572000" y="3500280"/>
            <a:ext cx="3813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Arial"/>
              </a:rPr>
              <a:t>состоит из простых высказы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УМОЗАКЛЮЧЕ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форма мышления, с помощью которой из одного или нескольких суждений может быть получено новое сужд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(знание или вывод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Calibri"/>
              </a:rPr>
              <a:t>Пример: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любая теоре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трелка вниз 3"/>
          <p:cNvSpPr/>
          <p:nvPr/>
        </p:nvSpPr>
        <p:spPr>
          <a:xfrm>
            <a:off x="4071960" y="1214280"/>
            <a:ext cx="857160" cy="500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Calibri"/>
              </a:rPr>
              <a:t>УМОЗАКЛЮЧ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трелка вниз 4"/>
          <p:cNvSpPr/>
          <p:nvPr/>
        </p:nvSpPr>
        <p:spPr>
          <a:xfrm>
            <a:off x="4211640" y="1413000"/>
            <a:ext cx="857160" cy="252072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трелка вниз 4"/>
          <p:cNvSpPr/>
          <p:nvPr/>
        </p:nvSpPr>
        <p:spPr>
          <a:xfrm rot="18485400">
            <a:off x="7163280" y="1269000"/>
            <a:ext cx="85752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Стрелка вниз 4"/>
          <p:cNvSpPr/>
          <p:nvPr/>
        </p:nvSpPr>
        <p:spPr>
          <a:xfrm rot="2194800">
            <a:off x="1186920" y="1267920"/>
            <a:ext cx="857520" cy="5050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324000" y="1844640"/>
            <a:ext cx="36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дедукти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771640" y="393372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индуктив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5292720" y="1844640"/>
            <a:ext cx="36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о аналог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0" y="249228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ссуждения ведутся от общего к частно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3059280" y="458136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ассуждения ведутся от частного  к общ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867280" y="2492280"/>
            <a:ext cx="2987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Движение от одних свойств к друг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02:52:53Z</dcterms:created>
  <dc:creator>Администратор</dc:creator>
  <dc:description/>
  <dc:language>en-US</dc:language>
  <cp:lastModifiedBy>Учитель</cp:lastModifiedBy>
  <dcterms:modified xsi:type="dcterms:W3CDTF">2023-11-23T06:56:53Z</dcterms:modified>
  <cp:revision>61</cp:revision>
  <dc:subject/>
  <dc:title>ОСНОВЫ ЛОГИ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a0000000000010243100207f6000400038000</vt:lpwstr>
  </property>
</Properties>
</file>