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13.jpeg" ContentType="image/jpeg"/>
  <Override PartName="/ppt/media/image28.jpeg" ContentType="image/jpeg"/>
  <Override PartName="/ppt/media/image7.jpeg" ContentType="image/jpeg"/>
  <Override PartName="/ppt/media/image6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27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549A7-5F27-4870-A8E0-CC5818BB415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58970-58A8-44A1-8DF8-319A4D782B7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CBA5B-53A8-4D58-86F2-9C2B0341F77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4FA4C-5371-4306-8CDD-C7AFDBB3A6B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E76DF-7876-4C12-AA77-45F2FF2024C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58B1B-B16C-45AE-9C63-58181EB5148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923A-4EE0-4702-8D94-3204E6351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F6E4-2008-4AA2-97B3-CB3792881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B68E-FC6C-4AD9-99CF-884F68637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892D-25E3-44DE-B03C-94E8E9551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02F6-BB6D-4592-8FBE-8340E5F5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6DB5-67E9-4354-8380-07170354D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CFA8-8E23-4AA7-8248-F1DD093D4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75A9-ED55-4CAD-AE77-DDD442CC3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3437-0433-4E48-99BD-79D8A6D41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8BE6-3E32-44A4-BD1C-C0836827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5CF9-438E-458D-A2D2-E3BA765D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8BC6-E5A2-4D07-9F63-19CE3731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5F822-8251-4DA1-B277-E01E2147C3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jpe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epo.ucoz.com/images/12june/flag.jpg"/>
          <p:cNvPicPr/>
          <p:nvPr/>
        </p:nvPicPr>
        <p:blipFill>
          <a:blip r:embed="rId1"/>
          <a:stretch/>
        </p:blipFill>
        <p:spPr>
          <a:xfrm>
            <a:off x="0" y="-2858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TextBox 1" descr=""/>
          <p:cNvPicPr/>
          <p:nvPr/>
        </p:nvPicPr>
        <p:blipFill>
          <a:blip r:embed="rId2"/>
          <a:stretch/>
        </p:blipFill>
        <p:spPr>
          <a:xfrm>
            <a:off x="-438120" y="-85680"/>
            <a:ext cx="1014264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1"/>
          <p:cNvSpPr/>
          <p:nvPr/>
        </p:nvSpPr>
        <p:spPr>
          <a:xfrm>
            <a:off x="3857760" y="1289160"/>
            <a:ext cx="4786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Нижний колонтитул 3"/>
          <p:cNvSpPr/>
          <p:nvPr/>
        </p:nvSpPr>
        <p:spPr>
          <a:xfrm>
            <a:off x="316080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Смоленцева Т.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19" descr="https://secretmag.ru/imgs/2022/03/09/12/5287790/8245938f1b647f955beb10f7c4051be48c67335f.jpg"/>
          <p:cNvPicPr/>
          <p:nvPr/>
        </p:nvPicPr>
        <p:blipFill>
          <a:blip r:embed="rId1"/>
          <a:srcRect l="30316" t="0" r="31299" b="26530"/>
          <a:stretch/>
        </p:blipFill>
        <p:spPr>
          <a:xfrm>
            <a:off x="642960" y="2143080"/>
            <a:ext cx="3711600" cy="400068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5"/>
          <p:cNvSpPr/>
          <p:nvPr/>
        </p:nvSpPr>
        <p:spPr>
          <a:xfrm>
            <a:off x="4357800" y="1357200"/>
            <a:ext cx="428616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ита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ей Левки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ир танковой р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ала в засад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вкин подбил два танка и три БМП.  Израсходовав весь боекомплект он отдал подразделению приказ об отход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 бой не покинул. Стал прикрывать отхо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я самоотверженным действиям офицера танковая рота не только организовала вывоз раненых, но и вывела из строя восемь танков и три БМП ВСУ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4"/>
          <p:cNvSpPr/>
          <p:nvPr/>
        </p:nvSpPr>
        <p:spPr>
          <a:xfrm>
            <a:off x="5000760" y="1214280"/>
            <a:ext cx="3786120" cy="49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ир батальона «Спарта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вардии полков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имир Жог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стоен званий Героя ДНР и Героя РФ. Посмерт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имир Жог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зывной Воха) - уроженец Славянска, служил в ополчении Донбасса с 20 л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ха погиб, прикрывая собой женщин и детей во время эваку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https://volyn.com.ua/content/thumbs/1500x1000/4/37/lrxl6q-6162730518aadd49590a787480e00374.jpg"/>
          <p:cNvPicPr/>
          <p:nvPr/>
        </p:nvPicPr>
        <p:blipFill>
          <a:blip r:embed="rId1"/>
          <a:srcRect l="21505" t="0" r="11830" b="0"/>
          <a:stretch/>
        </p:blipFill>
        <p:spPr>
          <a:xfrm>
            <a:off x="571680" y="1714680"/>
            <a:ext cx="4429080" cy="44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1"/>
          <p:cNvSpPr/>
          <p:nvPr/>
        </p:nvSpPr>
        <p:spPr>
          <a:xfrm>
            <a:off x="2643120" y="1500120"/>
            <a:ext cx="578664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оссийских военнослужащих, отличившихся при проведении специальной военной операции по защите ДНР и ЛНР, получили медали «За отвагу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ал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«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аг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—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ая награда Российской Федерации, вручаемая за мужество и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аг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оявленные в боях и при выполнении специальных заданий по обеспечению государственной безопасности, при защите конституционных прав граждан в условиях, сопряжённых с риском для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https://topwar.ru/uploads/posts/2018-10/1539734135_zaotvagu1.jpg"/>
          <p:cNvPicPr/>
          <p:nvPr/>
        </p:nvPicPr>
        <p:blipFill>
          <a:blip r:embed="rId1"/>
          <a:srcRect l="60433" t="0" r="-1110" b="1535"/>
          <a:stretch/>
        </p:blipFill>
        <p:spPr>
          <a:xfrm>
            <a:off x="642960" y="1643040"/>
            <a:ext cx="195912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https://xn--217-eddps6di.xn--p1ai/wp-content/uploads/2022/03/fullsizerender-20-300x148.jpg"/>
          <p:cNvPicPr/>
          <p:nvPr/>
        </p:nvPicPr>
        <p:blipFill>
          <a:blip r:embed="rId1"/>
          <a:stretch/>
        </p:blipFill>
        <p:spPr>
          <a:xfrm>
            <a:off x="642960" y="2071800"/>
            <a:ext cx="2857320" cy="140976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1" descr="http://xn----dtbegmaad3al3cmd4d.xn--p1ai/uploads/images/Arsalan_Munkuevlistovka.jpg"/>
          <p:cNvPicPr/>
          <p:nvPr/>
        </p:nvPicPr>
        <p:blipFill>
          <a:blip r:embed="rId2"/>
          <a:srcRect l="4697" t="0" r="19985" b="69353"/>
          <a:stretch/>
        </p:blipFill>
        <p:spPr>
          <a:xfrm>
            <a:off x="642960" y="3571920"/>
            <a:ext cx="2852640" cy="1481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https://ulpressa.ru/wp-content/uploads/old/2022/03/qd1ITsaw00g-e1647092251148.jpg"/>
          <p:cNvPicPr/>
          <p:nvPr/>
        </p:nvPicPr>
        <p:blipFill>
          <a:blip r:embed="rId3"/>
          <a:stretch/>
        </p:blipFill>
        <p:spPr>
          <a:xfrm>
            <a:off x="642960" y="5143680"/>
            <a:ext cx="2879640" cy="15714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i?r=AzEPZsRbOZEKgBhR0XGMT1RkrN-DBe5RznXjx8QOlzaRzKaKTM5SRkZCeTgDn6uOyic"/>
          <p:cNvPicPr/>
          <p:nvPr/>
        </p:nvPicPr>
        <p:blipFill>
          <a:blip r:embed="rId4"/>
          <a:srcRect l="5080" t="0" r="16357" b="67243"/>
          <a:stretch/>
        </p:blipFill>
        <p:spPr>
          <a:xfrm>
            <a:off x="3571920" y="2071800"/>
            <a:ext cx="2592360" cy="1428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fe5e3f955c25c0cd_XL"/>
          <p:cNvPicPr/>
          <p:nvPr/>
        </p:nvPicPr>
        <p:blipFill>
          <a:blip r:embed="rId5"/>
          <a:stretch/>
        </p:blipFill>
        <p:spPr>
          <a:xfrm>
            <a:off x="3571920" y="3571920"/>
            <a:ext cx="2643120" cy="1569960"/>
          </a:xfrm>
          <a:prstGeom prst="rect">
            <a:avLst/>
          </a:prstGeom>
          <a:ln w="0">
            <a:noFill/>
          </a:ln>
        </p:spPr>
      </p:pic>
      <p:sp>
        <p:nvSpPr>
          <p:cNvPr id="80" name="TextBox 10"/>
          <p:cNvSpPr/>
          <p:nvPr/>
        </p:nvSpPr>
        <p:spPr>
          <a:xfrm>
            <a:off x="3571920" y="4429080"/>
            <a:ext cx="26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ядовой Андрей Черныш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1" descr="https://257824.selcdn.ru/yamalnews/fae2f975-10b.jpg"/>
          <p:cNvPicPr/>
          <p:nvPr/>
        </p:nvPicPr>
        <p:blipFill>
          <a:blip r:embed="rId6"/>
          <a:stretch/>
        </p:blipFill>
        <p:spPr>
          <a:xfrm>
            <a:off x="6215040" y="1214280"/>
            <a:ext cx="2411280" cy="1428840"/>
          </a:xfrm>
          <a:prstGeom prst="rect">
            <a:avLst/>
          </a:prstGeom>
          <a:ln w="0">
            <a:noFill/>
          </a:ln>
        </p:spPr>
      </p:pic>
      <p:sp>
        <p:nvSpPr>
          <p:cNvPr id="82" name="TextBox 13"/>
          <p:cNvSpPr/>
          <p:nvPr/>
        </p:nvSpPr>
        <p:spPr>
          <a:xfrm>
            <a:off x="6360840" y="2643120"/>
            <a:ext cx="217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Капитан Алексей Юма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3" descr="https://aif-s3.aif.ru/images/027/053/7e1aec3d27044a2470f7f46326b9deb7.jpg"/>
          <p:cNvPicPr/>
          <p:nvPr/>
        </p:nvPicPr>
        <p:blipFill>
          <a:blip r:embed="rId7"/>
          <a:stretch/>
        </p:blipFill>
        <p:spPr>
          <a:xfrm>
            <a:off x="6215040" y="3000240"/>
            <a:ext cx="2284560" cy="1357560"/>
          </a:xfrm>
          <a:prstGeom prst="rect">
            <a:avLst/>
          </a:prstGeom>
          <a:ln w="0">
            <a:noFill/>
          </a:ln>
        </p:spPr>
      </p:pic>
      <p:sp>
        <p:nvSpPr>
          <p:cNvPr id="84" name="TextBox 15"/>
          <p:cNvSpPr/>
          <p:nvPr/>
        </p:nvSpPr>
        <p:spPr>
          <a:xfrm>
            <a:off x="6581160" y="4429080"/>
            <a:ext cx="1742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адший сержан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орь Видельск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4" descr="9a02e419d2993051f38e619f5eeabf24"/>
          <p:cNvPicPr/>
          <p:nvPr/>
        </p:nvPicPr>
        <p:blipFill>
          <a:blip r:embed="rId8"/>
          <a:srcRect l="0" t="0" r="10662" b="67627"/>
          <a:stretch/>
        </p:blipFill>
        <p:spPr>
          <a:xfrm>
            <a:off x="3571920" y="5214960"/>
            <a:ext cx="2643120" cy="13701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5" descr="https://avatars.mds.yandex.net/i?id=2a0000017f7ce9766397dd2e475441997f34-1525741-fast-images&amp;n=13"/>
          <p:cNvPicPr/>
          <p:nvPr/>
        </p:nvPicPr>
        <p:blipFill>
          <a:blip r:embed="rId9"/>
          <a:stretch/>
        </p:blipFill>
        <p:spPr>
          <a:xfrm>
            <a:off x="6286680" y="4929120"/>
            <a:ext cx="2319120" cy="1428840"/>
          </a:xfrm>
          <a:prstGeom prst="rect">
            <a:avLst/>
          </a:prstGeom>
          <a:ln w="0">
            <a:noFill/>
          </a:ln>
        </p:spPr>
      </p:pic>
      <p:sp>
        <p:nvSpPr>
          <p:cNvPr id="87" name="TextBox 14"/>
          <p:cNvSpPr/>
          <p:nvPr/>
        </p:nvSpPr>
        <p:spPr>
          <a:xfrm>
            <a:off x="6296760" y="6000840"/>
            <a:ext cx="2149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апорщи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катерина Иван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Нижний колонтитул 4"/>
          <p:cNvSpPr/>
          <p:nvPr/>
        </p:nvSpPr>
        <p:spPr>
          <a:xfrm>
            <a:off x="316080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Смоленцева Т.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785880" y="1664280"/>
            <a:ext cx="77151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усть знают и помнят потомки страны,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ссия сильн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Calibri"/>
              </a:rPr>
              <a:t>есть в России сыны!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142920" y="1225440"/>
            <a:ext cx="90010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первые дни спецоперации ранено более полутора тысяч и погибло около 500 солдат и офицеров. Среди погибших в первые дни ест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аши земляки – жители Южного Урала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Скругленный прямоугольник 3"/>
          <p:cNvSpPr/>
          <p:nvPr/>
        </p:nvSpPr>
        <p:spPr>
          <a:xfrm>
            <a:off x="3643200" y="1495440"/>
            <a:ext cx="4929480" cy="509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PMrFvUOvlh4"/>
          <p:cNvPicPr/>
          <p:nvPr/>
        </p:nvPicPr>
        <p:blipFill>
          <a:blip r:embed="rId1"/>
          <a:srcRect l="23827" t="0" r="26177" b="0"/>
          <a:stretch/>
        </p:blipFill>
        <p:spPr>
          <a:xfrm>
            <a:off x="642960" y="1285920"/>
            <a:ext cx="3389400" cy="51022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5"/>
          <p:cNvSpPr/>
          <p:nvPr/>
        </p:nvSpPr>
        <p:spPr>
          <a:xfrm>
            <a:off x="4214880" y="1696680"/>
            <a:ext cx="3929040" cy="484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20-лет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ладший сержан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 г.Златоус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Максим Кравчен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Calibri"/>
              </a:rPr>
              <a:t>Мужественный, отважный человек, истинный патриот своей страны, он погиб при выполнении боевой задачи, защищая наш народ и мирную жизнь.</a:t>
            </a:r>
            <a:r>
              <a:rPr b="0" lang="ru-RU" sz="2800" spc="-1" strike="noStrike">
                <a:solidFill>
                  <a:srgbClr val="333333"/>
                </a:solidFill>
                <a:latin typeface="Calibri"/>
                <a:ea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2fgE2o-BgDo"/>
          <p:cNvPicPr/>
          <p:nvPr/>
        </p:nvPicPr>
        <p:blipFill>
          <a:blip r:embed="rId1"/>
          <a:srcRect l="0" t="0" r="19951" b="9116"/>
          <a:stretch/>
        </p:blipFill>
        <p:spPr>
          <a:xfrm>
            <a:off x="714240" y="1357200"/>
            <a:ext cx="3378240" cy="51069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6"/>
          <p:cNvSpPr/>
          <p:nvPr/>
        </p:nvSpPr>
        <p:spPr>
          <a:xfrm>
            <a:off x="4214880" y="1806840"/>
            <a:ext cx="4214880" cy="44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Calibri"/>
              </a:rPr>
              <a:t>26-лет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Calibri"/>
              </a:rPr>
              <a:t>старший лейтенан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Валерий Осколк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Calibri"/>
              </a:rPr>
              <a:t>из г.Магнитогор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Calibri"/>
              </a:rPr>
              <a:t>мужественно выполнял свой воинский долг по укреплению безопасности нашей страны, он отдал свою жизнь, защищая мирное население.</a:t>
            </a:r>
            <a:r>
              <a:rPr b="0" lang="ru-RU" sz="2800" spc="-1" strike="noStrike">
                <a:solidFill>
                  <a:srgbClr val="333333"/>
                </a:solidFill>
                <a:latin typeface="Calibri"/>
                <a:ea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Nurlan-Kubzhasarov"/>
          <p:cNvPicPr/>
          <p:nvPr/>
        </p:nvPicPr>
        <p:blipFill>
          <a:blip r:embed="rId1"/>
          <a:stretch/>
        </p:blipFill>
        <p:spPr>
          <a:xfrm>
            <a:off x="571680" y="1643040"/>
            <a:ext cx="3439800" cy="47736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3"/>
          <p:cNvSpPr/>
          <p:nvPr/>
        </p:nvSpPr>
        <p:spPr>
          <a:xfrm>
            <a:off x="4143240" y="1452240"/>
            <a:ext cx="421488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Calibri"/>
              </a:rPr>
              <a:t>30-летний ефрейто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Calibri"/>
              </a:rPr>
              <a:t>уроженец села Сосновка Брединского райо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Нурлан Кубжаса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7404d"/>
                </a:solidFill>
                <a:latin typeface="Times New Roman"/>
                <a:ea typeface="Calibri"/>
              </a:rPr>
              <a:t>Показал настоящий пример мужества, стойкости и верности своей Родине, отдав жизнь на поле боя во имя мира и безопасности нар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cr-1200-630"/>
          <p:cNvPicPr/>
          <p:nvPr/>
        </p:nvPicPr>
        <p:blipFill>
          <a:blip r:embed="rId1"/>
          <a:stretch/>
        </p:blipFill>
        <p:spPr>
          <a:xfrm>
            <a:off x="571680" y="2071800"/>
            <a:ext cx="6000480" cy="39290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3"/>
          <p:cNvSpPr/>
          <p:nvPr/>
        </p:nvSpPr>
        <p:spPr>
          <a:xfrm>
            <a:off x="6572160" y="1521720"/>
            <a:ext cx="2071800" cy="49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Calibri"/>
              </a:rPr>
              <a:t>24-летний младший сержант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нила Василенк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Calibri"/>
              </a:rPr>
              <a:t>из г.Магнитогор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Calibri"/>
              </a:rPr>
              <a:t>Он погиб при исполнении воинского долга в ходе специальной военной операции на Донбасс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extBox 1" descr=""/>
          <p:cNvPicPr/>
          <p:nvPr/>
        </p:nvPicPr>
        <p:blipFill>
          <a:blip r:embed="rId1"/>
          <a:stretch/>
        </p:blipFill>
        <p:spPr>
          <a:xfrm>
            <a:off x="433440" y="1195560"/>
            <a:ext cx="8710560" cy="288288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2"/>
          <p:cNvSpPr/>
          <p:nvPr/>
        </p:nvSpPr>
        <p:spPr>
          <a:xfrm>
            <a:off x="642960" y="3786120"/>
            <a:ext cx="7929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подвигах - стихи слагают.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славе – песни создают.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Герои никогда не умирают,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ои в нашей памяти живут!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article_big_639821646893013"/>
          <p:cNvPicPr/>
          <p:nvPr/>
        </p:nvPicPr>
        <p:blipFill>
          <a:blip r:embed="rId1"/>
          <a:stretch/>
        </p:blipFill>
        <p:spPr>
          <a:xfrm>
            <a:off x="571680" y="1571760"/>
            <a:ext cx="5286240" cy="44290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6072120" y="1311480"/>
            <a:ext cx="2571840" cy="5334840"/>
          </a:xfrm>
          <a:prstGeom prst="rect">
            <a:avLst/>
          </a:prstGeom>
          <a:solidFill>
            <a:srgbClr val="fcf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Calibri"/>
              </a:rPr>
              <a:t>36-лет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Calibri"/>
              </a:rPr>
              <a:t>полковник челябинский летч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Calibri"/>
              </a:rPr>
              <a:t>Командир «Русских витязей»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Ростислав Еремен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Calibri"/>
              </a:rPr>
              <a:t>Ростислав закончил ЧВВАКУШ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d6dcc1b6b05921cf9f3c75b37f20d8f8"/>
          <p:cNvPicPr/>
          <p:nvPr/>
        </p:nvPicPr>
        <p:blipFill>
          <a:blip r:embed="rId1"/>
          <a:stretch/>
        </p:blipFill>
        <p:spPr>
          <a:xfrm>
            <a:off x="642960" y="1285920"/>
            <a:ext cx="3697200" cy="52149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3"/>
          <p:cNvSpPr/>
          <p:nvPr/>
        </p:nvSpPr>
        <p:spPr>
          <a:xfrm>
            <a:off x="4357800" y="1307160"/>
            <a:ext cx="421488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Calibri"/>
              </a:rPr>
              <a:t>27-летний старший лейтена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Calibri"/>
              </a:rPr>
              <a:t>уроженец Катав-Ивановска, летчик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Александр Подшив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Calibri"/>
              </a:rPr>
              <a:t>В родном городе его многие знают, любят и будут помнить: </a:t>
            </a:r>
            <a:r>
              <a:rPr b="0" lang="ru-RU" sz="2800" spc="-1" strike="noStrike">
                <a:solidFill>
                  <a:srgbClr val="333333"/>
                </a:solidFill>
                <a:latin typeface="Calibri"/>
                <a:ea typeface="Calibri"/>
              </a:rPr>
              <a:t>«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Calibri"/>
              </a:rPr>
              <a:t>Он </a:t>
            </a:r>
            <a:r>
              <a:rPr b="0" lang="ru-RU" sz="2800" spc="-1" strike="noStrike">
                <a:solidFill>
                  <a:srgbClr val="333333"/>
                </a:solidFill>
                <a:latin typeface="Calibri"/>
                <a:ea typeface="Calibri"/>
              </a:rPr>
              <a:t>–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Calibri"/>
              </a:rPr>
              <a:t> наш герой</a:t>
            </a:r>
            <a:r>
              <a:rPr b="0" lang="ru-RU" sz="2800" spc="-1" strike="noStrike">
                <a:solidFill>
                  <a:srgbClr val="333333"/>
                </a:solidFill>
                <a:latin typeface="Calibri"/>
                <a:ea typeface="Calibri"/>
              </a:rPr>
              <a:t>»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  <a:ea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rgdjys81jii_0"/>
          <p:cNvPicPr/>
          <p:nvPr/>
        </p:nvPicPr>
        <p:blipFill>
          <a:blip r:embed="rId1"/>
          <a:stretch/>
        </p:blipFill>
        <p:spPr>
          <a:xfrm>
            <a:off x="642960" y="1571760"/>
            <a:ext cx="4788000" cy="47876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5500800" y="1522800"/>
            <a:ext cx="3071880" cy="50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Calibri"/>
              </a:rPr>
              <a:t>36-летний офицер-танкист из Челябинска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стантин Глуш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  <a:ea typeface="Calibri"/>
              </a:rPr>
              <a:t>Он героически погиб 24 февраля в первый день спецопер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2222"/>
                </a:solidFill>
                <a:latin typeface="Times New Roman"/>
                <a:ea typeface="Calibri"/>
              </a:rPr>
              <a:t>У Константин Глушкова остались трое детей, два старших сына </a:t>
            </a:r>
            <a:r>
              <a:rPr b="0" lang="ru-RU" sz="2000" spc="-1" strike="noStrike">
                <a:solidFill>
                  <a:srgbClr val="222222"/>
                </a:solidFill>
                <a:latin typeface="Calibri"/>
                <a:ea typeface="Calibri"/>
              </a:rPr>
              <a:t>—</a:t>
            </a:r>
            <a:r>
              <a:rPr b="0" lang="ru-RU" sz="2000" spc="-1" strike="noStrike">
                <a:solidFill>
                  <a:srgbClr val="222222"/>
                </a:solidFill>
                <a:latin typeface="Times New Roman"/>
                <a:ea typeface="Calibri"/>
              </a:rPr>
              <a:t> кадеты Рязанского военного училища. А его брат-близнец выполняет воинский долг в горячих точ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b_BPABskhug"/>
          <p:cNvPicPr/>
          <p:nvPr/>
        </p:nvPicPr>
        <p:blipFill>
          <a:blip r:embed="rId1"/>
          <a:srcRect l="0" t="12454" r="-1999" b="-2102"/>
          <a:stretch/>
        </p:blipFill>
        <p:spPr>
          <a:xfrm>
            <a:off x="642960" y="1428840"/>
            <a:ext cx="3286080" cy="51433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3"/>
          <p:cNvSpPr/>
          <p:nvPr/>
        </p:nvSpPr>
        <p:spPr>
          <a:xfrm>
            <a:off x="3929040" y="1209600"/>
            <a:ext cx="435780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Давлатов Умедджон Рахматови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бучался в Транспортно-технологическом комплексе ГБПОУ ЮУМК с 2014 г. по 2018 г. по специальности «Техническое обслуживание и ремонт автомобильного транспорт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сле окончания колледжа проходил срочную службу в отдельном разведывательном батальоне Вооружённых сил РФ, а затем выбрал службу по контракт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Умедджон мужественно выполнял свой воинский долг по укреплению безопасности нашей стр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Стало известно о гибели еще троих южноуральских военнослужащих на Украине"/>
          <p:cNvPicPr/>
          <p:nvPr/>
        </p:nvPicPr>
        <p:blipFill>
          <a:blip r:embed="rId1"/>
          <a:stretch/>
        </p:blipFill>
        <p:spPr>
          <a:xfrm>
            <a:off x="1071720" y="1357200"/>
            <a:ext cx="7000560" cy="5246640"/>
          </a:xfrm>
          <a:prstGeom prst="rect">
            <a:avLst/>
          </a:prstGeom>
          <a:ln w="0">
            <a:noFill/>
          </a:ln>
        </p:spPr>
      </p:pic>
      <p:sp>
        <p:nvSpPr>
          <p:cNvPr id="109" name="TextBox 2"/>
          <p:cNvSpPr/>
          <p:nvPr/>
        </p:nvSpPr>
        <p:spPr>
          <a:xfrm flipH="1">
            <a:off x="2500200" y="2714760"/>
            <a:ext cx="5214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чтим память погибших минутой молчани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500040" y="2088000"/>
            <a:ext cx="8072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своих никогда не бросаем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своих никогда не сдаем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их боль как свою принима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частицу себя отдае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ero of the Russian Federation medal.png"/>
          <p:cNvPicPr/>
          <p:nvPr/>
        </p:nvPicPr>
        <p:blipFill>
          <a:blip r:embed="rId1"/>
          <a:stretch/>
        </p:blipFill>
        <p:spPr>
          <a:xfrm>
            <a:off x="571680" y="1928880"/>
            <a:ext cx="2203200" cy="430668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1" descr=""/>
          <p:cNvPicPr/>
          <p:nvPr/>
        </p:nvPicPr>
        <p:blipFill>
          <a:blip r:embed="rId2"/>
          <a:stretch/>
        </p:blipFill>
        <p:spPr>
          <a:xfrm>
            <a:off x="2633760" y="1298520"/>
            <a:ext cx="6357960" cy="50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571680" y="1285920"/>
            <a:ext cx="478620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ита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ей Панкратов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ир зенитного ракетного комплекса. Прикрывая отдельную мотострелковую  бригаду, сбил один украинский самолет Су-25, а также 5 беспилотников. 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1" descr="https://dailystorm.ru/media/images/2022/03/09/fd69a576-49c0-4670-8305-9bccd666287e.jpg"/>
          <p:cNvPicPr/>
          <p:nvPr/>
        </p:nvPicPr>
        <p:blipFill>
          <a:blip r:embed="rId1"/>
          <a:srcRect l="30728" t="0" r="30106" b="0"/>
          <a:stretch/>
        </p:blipFill>
        <p:spPr>
          <a:xfrm>
            <a:off x="5429160" y="1357200"/>
            <a:ext cx="331488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4" descr="https://avatars.mds.yandex.net/get-zen_brief/6067631/pub_622991a16fb7261f1949f475_622993cedc83807ac7a5f584/scale_1080"/>
          <p:cNvPicPr/>
          <p:nvPr/>
        </p:nvPicPr>
        <p:blipFill>
          <a:blip r:embed="rId1"/>
          <a:stretch/>
        </p:blipFill>
        <p:spPr>
          <a:xfrm>
            <a:off x="571680" y="1428840"/>
            <a:ext cx="3571560" cy="5016240"/>
          </a:xfrm>
          <a:prstGeom prst="rect">
            <a:avLst/>
          </a:prstGeom>
          <a:ln w="0">
            <a:noFill/>
          </a:ln>
        </p:spPr>
      </p:pic>
      <p:sp>
        <p:nvSpPr>
          <p:cNvPr id="57" name="Прямоугольник 4"/>
          <p:cNvSpPr/>
          <p:nvPr/>
        </p:nvSpPr>
        <p:spPr>
          <a:xfrm>
            <a:off x="4214880" y="1409760"/>
            <a:ext cx="435780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ший сержант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рий Нимченк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оде ожесточенного боя танкисты под его командованием уничтожили шесть украинских танков и три БТР, сорвав атаку на переправу через Днеп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1"/>
          <p:cNvSpPr/>
          <p:nvPr/>
        </p:nvSpPr>
        <p:spPr>
          <a:xfrm>
            <a:off x="4500720" y="1357200"/>
            <a:ext cx="406692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ший лейтенант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он Старости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ив контузию после атаки танка «Джавелином»,  продолжил командовать танковой рото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ая удержала мост и уничтожила два танка и восемь БТР против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7" descr="https://upload.wikimedia.org/wikipedia/commons/b/b1/Anton_Starostin.jpg"/>
          <p:cNvPicPr/>
          <p:nvPr/>
        </p:nvPicPr>
        <p:blipFill>
          <a:blip r:embed="rId1"/>
          <a:stretch/>
        </p:blipFill>
        <p:spPr>
          <a:xfrm>
            <a:off x="571680" y="1428840"/>
            <a:ext cx="3643200" cy="50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0" descr="https://u.9111s.ru/uploads/202203/05/fb44e2e87a64fd781edad1663d9b767b.png"/>
          <p:cNvPicPr/>
          <p:nvPr/>
        </p:nvPicPr>
        <p:blipFill>
          <a:blip r:embed="rId1"/>
          <a:srcRect l="29299" t="0" r="29232" b="0"/>
          <a:stretch/>
        </p:blipFill>
        <p:spPr>
          <a:xfrm>
            <a:off x="642960" y="1428840"/>
            <a:ext cx="3643200" cy="508140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4"/>
          <p:cNvSpPr/>
          <p:nvPr/>
        </p:nvSpPr>
        <p:spPr>
          <a:xfrm>
            <a:off x="4357800" y="1857240"/>
            <a:ext cx="435744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ётчик май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тор Дуди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 февраля вступил в бой с истребителем Су-27 и сбил е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 февраля на предельно малой высоте поразил зенитно-ракетный комплекс «Бук-М1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 февраля и 1 марта сбил два украинских истребителя Су-27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3" descr="https://aif-s3.aif.ru/images/027/039/46991a3d7e8a72cec993e04eda1ab756.jpg"/>
          <p:cNvPicPr/>
          <p:nvPr/>
        </p:nvPicPr>
        <p:blipFill>
          <a:blip r:embed="rId1"/>
          <a:srcRect l="23811" t="0" r="25663" b="0"/>
          <a:stretch/>
        </p:blipFill>
        <p:spPr>
          <a:xfrm>
            <a:off x="642960" y="1500120"/>
            <a:ext cx="3357720" cy="492912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7"/>
          <p:cNvSpPr/>
          <p:nvPr/>
        </p:nvSpPr>
        <p:spPr>
          <a:xfrm>
            <a:off x="4000680" y="1500120"/>
            <a:ext cx="4572000" cy="44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ший лейтена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рмагомед Гаджимагомед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 февраля российская танковая колонна была атакована ВС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 подбитый танк загорел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йтенант организовал своих бойцов для ведения круговой оборо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ив тяжелые ранения и использовав весь боекомплект, военнослужащий подорвал гранатой себя и солдат противника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Скругленный прямоугольник 7"/>
          <p:cNvSpPr/>
          <p:nvPr/>
        </p:nvSpPr>
        <p:spPr>
          <a:xfrm>
            <a:off x="3071880" y="1511280"/>
            <a:ext cx="5824440" cy="576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16" descr="https://avatars.mds.yandex.net/get-zen_doc/4348286/pub_622319f25751776e30c40587_62231a8dccb3004868ea3b1b/scale_1200"/>
          <p:cNvPicPr/>
          <p:nvPr/>
        </p:nvPicPr>
        <p:blipFill>
          <a:blip r:embed="rId1"/>
          <a:srcRect l="17474" t="0" r="23210" b="0"/>
          <a:stretch/>
        </p:blipFill>
        <p:spPr>
          <a:xfrm>
            <a:off x="571680" y="1571760"/>
            <a:ext cx="4074840" cy="457200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4"/>
          <p:cNvSpPr/>
          <p:nvPr/>
        </p:nvSpPr>
        <p:spPr>
          <a:xfrm>
            <a:off x="4714920" y="1643040"/>
            <a:ext cx="3786120" cy="39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ковни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ей Бернгар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 февраля бригада морской пехоты приступила к прорыву обороны ВСУ под Мариуполе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марта бригаде удалось глубоко вклиниться в глубь противни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я умелому командованию полковника потери со стороны российской армии были минимальным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8T09:12:00Z</dcterms:created>
  <dc:creator>Катенок</dc:creator>
  <dc:description/>
  <dc:language>en-US</dc:language>
  <cp:lastModifiedBy>1</cp:lastModifiedBy>
  <dcterms:modified xsi:type="dcterms:W3CDTF">2024-01-07T06:29:41Z</dcterms:modified>
  <cp:revision>131</cp:revision>
  <dc:subject/>
  <dc:title>Слайд 1</dc:title>
</cp:coreProperties>
</file>