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  <p:sldId id="303" r:id="rId61"/>
    <p:sldId id="304" r:id="rId62"/>
    <p:sldId id="305" r:id="rId63"/>
    <p:sldId id="306" r:id="rId64"/>
    <p:sldId id="307" r:id="rId65"/>
    <p:sldId id="30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slide" Target="slides/slide48.xml"/><Relationship Id="rId62" Type="http://schemas.openxmlformats.org/officeDocument/2006/relationships/slide" Target="slides/slide49.xml"/><Relationship Id="rId63" Type="http://schemas.openxmlformats.org/officeDocument/2006/relationships/slide" Target="slides/slide50.xml"/><Relationship Id="rId64" Type="http://schemas.openxmlformats.org/officeDocument/2006/relationships/slide" Target="slides/slide51.xml"/><Relationship Id="rId65" Type="http://schemas.openxmlformats.org/officeDocument/2006/relationships/slide" Target="slides/slide52.xml"/><Relationship Id="rId66" Type="http://schemas.openxmlformats.org/officeDocument/2006/relationships/slide" Target="slides/slide5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D817-E8E1-4BFE-BC3E-10E77D75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00AA-C876-4B3B-85EC-3521EE5E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23F230-2F0B-4D17-8B7A-ED064FFA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7B5E6-6036-4B4F-840C-766D4A3E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F7D73-0026-416F-9770-6139B72E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F11DD4-93B8-4E7B-B383-9CD2D199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179CB-7DFD-41AE-A6F4-05D73089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224D9-680B-4342-982B-AE189D06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C8003-80FF-4055-9319-B9FABAF6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5DC2FA-FD68-408F-9C95-BB1386B0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F3E1-ABFE-4E6B-974D-17E3BDAE2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5E832-561F-42F0-A387-5374A937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00CA-ECC9-46D0-BC08-6E399264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45C3B-9513-4778-932D-2EDF86C1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1B3D0-B336-417C-A9CD-E03053500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3669D-247B-420F-BBEB-B6D60198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13A419-131B-4BEF-8845-998AFECD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6E757-2DB2-4F50-9E8E-7832B8E1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D504E3-5B92-4571-9AA7-53A754ED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0870D7-6222-4942-B019-38F1B56C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8C2DE-B336-4BD9-B494-99EFE01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85B48-554A-48E0-A31F-AE2C712C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8C411-CB44-4478-AB73-64CEC28D1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8B0A-55E6-4D31-97DD-C11772865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6ABAB5-E5AD-42B4-A97B-8FB81149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E15350-4691-41B2-898F-DB89176A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D2861-C5A1-4B0F-8947-1D2685DD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D81D9-9DC6-4790-A78A-EE6DDD5E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EF512-F9DC-443B-A202-81D87FAA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A495B8-0DBD-462F-9324-98222DA7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A1EB6-503E-40FE-B0FD-CFBAE91E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5E45F-B157-4202-B75F-DAA4D31F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90333-FA4D-414F-B49E-0AAB0080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FCE46-4995-4134-A55B-AFC66871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01B-2CB2-4B33-8613-7FABDA44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244A6-4330-4BE5-B65F-F0E43F102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D936E-A5A1-4635-A609-9391DD6A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A82153-1AE6-44A2-8E59-88D1F0194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15C367-331E-491B-A777-7F226A79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938CF-4657-4725-AA1A-C81227647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574EC-14B0-4BE7-9C60-52BAE853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103945-43E1-4971-A861-0C888979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F01A4-B3F2-40DB-B106-CC2E17E99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7751D-52B4-43C6-8809-BF47F2CD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AD05B-DF3B-4111-AFFB-EE346E3D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0E35-142E-43C5-BB13-1DC46E4C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4A8CC-E401-4E1B-9F08-CBFD605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83A089-285F-4E76-BA81-F2756811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5286F-00F1-4439-BB78-6BBEA430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35D44-32C2-4C44-9A09-7E9C1390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BBAFE-FEED-430C-AA27-BB2C44029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2B8B-10A6-464B-ACA3-3DAE0C88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8F43-C20A-4383-A4FC-F029CBF68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A3148-B4A3-4541-971D-A79CF3A3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6F91-B31D-4F3F-9AFA-BE511F19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2911-401E-41A0-AF86-6B1B3F46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2786-88A1-4866-BF92-CA16036F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416D-E0E1-4790-9A05-10908522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8E49-4964-45C8-A05E-C9AAD807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CBC2-0C7A-417A-9F1D-A6535B1B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C2D90-42E1-45D3-81E5-FE8C3C41B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C0E11-2A40-4A27-AF91-149FB77A5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07A7F-E8A6-4052-AD38-F445D8091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613AC-1191-49AA-9284-0B1DA34E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A9CA5-6706-4A9E-B208-30ED409E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B2A0F-E54E-45C3-90B5-C1A2C22F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EC7EB-B307-4DBF-8685-A2390834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BB8-3987-4E5D-8B61-3E6AAA45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F756F-A771-49AB-A4F1-67AA902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94075-93B3-4CAC-B06B-DE1F7D4B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E14B9-4B30-4333-9A82-6B4A8417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412B5-AFF5-4286-AA0D-5CA1C1B5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74FD2-0AC7-42F2-BA98-1BD1AC3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0CD5E-6AB6-40C7-AB2D-E4C680A11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0D8DD-2CB6-4BEA-9606-494DA255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F96E-FCDB-4150-8813-314FF77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CFF6B-DA8A-42BF-9117-87C5DFC7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98AB5-AA3E-4DC0-8258-F784BED6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B02-2C2E-43E3-B516-09F97AF5E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6DC6B-043F-4162-8C28-3A576204D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FFE520-7699-4332-886E-C88F1FA8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B5451-26BE-4F97-9FCE-B183FD76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DB97-CACE-43EC-A816-93DC2DA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92C51-ACE5-45AA-9F78-20E45942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902C-A5B3-426A-A4D9-EEA4B1E2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86E8F-B013-4B0E-B0DD-91C71EE2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9C43-42AC-4799-A3ED-2C1DC47F5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B01C-0372-41F9-9446-7E8EC033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5DF36-26BC-47FB-A547-F92525F9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F3EA-8F1B-45EC-9FC8-A715462E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DFE8B-B44B-4D22-9C34-57963121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A02AB-5C4A-4AB6-A597-4FE0271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74CCB-6178-4074-9633-3FF9317B8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CD687-217C-4C68-8794-0C2B891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65627-B953-4B5F-954C-B8F7CEAE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D9B70-1C78-4389-9752-BAC0A3E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CC90D-0634-4ABF-AB0A-5D7F48C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79A99-57CF-4CBE-9C02-BDC98ECB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255B6-4538-4307-A00B-EC5A8D20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ACC62-7473-4346-A9B5-17FD9FAE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D8A-22ED-4861-8B71-322227A3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73D66-07AC-4CB9-85AC-EC5FA3C16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AACA7-471F-4178-A597-1C22993B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03062-689D-4860-8341-37E367CAE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BC949-9B16-4235-8FB7-8059D9DA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84829-18DB-44F1-AD2E-A6008FE0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6A391-5417-4E70-85F8-48E96C0A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97C3A-B735-4AA5-9157-B952D77F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60032-21A3-4B88-AC24-30072225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38EB3-5D5B-4E38-B733-D672441A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D8497-D0E0-4730-961E-00F9BC3F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E6D5-CCBE-4AC5-A63F-E57563C3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15C8C-6CB8-4EEA-B3FA-55BE572D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12778-DEF4-477A-AB72-2A5B13199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0EB3-3BE2-4333-BD68-BB967CC1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20B37-5CF7-4984-B543-B5ECA71E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FBF5D-AE32-46CC-9A95-A3B8FACB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DAE18-FD7A-4059-91C6-B38D6D88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5A06D-5929-4AB0-A2C5-DC0A7C01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334D9C-85E7-4771-A3E6-EC9E2459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218CB-CE65-41C3-B6C2-124D7846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8F941-DD6C-44A1-A24D-E1F5FE9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513-6493-4C4E-87FA-398316A3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7D3DD-89B0-4B36-A585-1EE8AC8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53F8-A6B2-49E0-9A34-4254FFA7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30009-65F4-403E-ACFA-36DACB78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20EA0-AE51-4D8D-8B2E-9A7A8DAE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EAE89-71BB-4E42-B5F1-69D0A169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659CEF-0612-48D9-B918-0EB24E43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5569-09CE-4C90-9BA2-5034AC392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ECC4F-7A15-40E2-A5DE-48321AF1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FA8597-DF14-4FC5-8717-A772CBD47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258D8-280A-49D5-8124-B8644C9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24C-A6B8-46DA-8C19-63C0FBEB4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D7EAE-0D8B-4969-B4CA-A590CFB6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E4E80-706B-44D8-ABFC-43867D5B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DE5CF-5468-4E8C-9381-E3A2D4D8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F4EA69-98EE-4EED-9A63-D66F1357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C7B06-30C5-4888-9C06-E8CB801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FB738-E3E6-4CE4-890C-1B5535BA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94010-BE9D-4A0A-BB7A-570F2AE83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8601E-6872-4C31-A9FA-E96D042C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CB183-16E8-4A3B-9925-89FB34A7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BA62C-7120-463B-B0C8-F73485E3F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6A167-46DA-438B-B3C2-F13F787C55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C3A6-4645-424F-81D9-E24EBCB0CD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66A-5A03-4948-B540-B3BA4F4DDF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5ADC-6FAB-4D8F-8E74-7F0A5026545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99B1-5EC0-45C6-BD7A-2A4C5F1E54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923E8-8C47-4357-B6FB-AEBDD2F276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1579-FCA4-4DD0-8B5A-3E44C01F79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F2EF-0D85-4B9A-9D26-44221BC8D3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D3EA-D879-4EDF-A1AF-2E74FD761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8457-2FB7-4FB0-9C2C-A9BF78C5AB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3AED-B395-4C41-8EE9-19DB99B667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6597-CC74-4B25-A669-38D70B53F2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6.xml"/><Relationship Id="rId8" Type="http://schemas.openxmlformats.org/officeDocument/2006/relationships/slide" Target="slide18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" Target="slide24.xml"/><Relationship Id="rId12" Type="http://schemas.openxmlformats.org/officeDocument/2006/relationships/slide" Target="slide26.xml"/><Relationship Id="rId13" Type="http://schemas.openxmlformats.org/officeDocument/2006/relationships/slide" Target="slide28.xml"/><Relationship Id="rId14" Type="http://schemas.openxmlformats.org/officeDocument/2006/relationships/slide" Target="slide30.xml"/><Relationship Id="rId15" Type="http://schemas.openxmlformats.org/officeDocument/2006/relationships/slide" Target="slide32.xml"/><Relationship Id="rId16" Type="http://schemas.openxmlformats.org/officeDocument/2006/relationships/slide" Target="slide34.xml"/><Relationship Id="rId17" Type="http://schemas.openxmlformats.org/officeDocument/2006/relationships/slide" Target="slide36.xml"/><Relationship Id="rId18" Type="http://schemas.openxmlformats.org/officeDocument/2006/relationships/slide" Target="slide38.xml"/><Relationship Id="rId19" Type="http://schemas.openxmlformats.org/officeDocument/2006/relationships/slide" Target="slide40.xml"/><Relationship Id="rId20" Type="http://schemas.openxmlformats.org/officeDocument/2006/relationships/slide" Target="slide42.xml"/><Relationship Id="rId21" Type="http://schemas.openxmlformats.org/officeDocument/2006/relationships/slide" Target="slide44.xml"/><Relationship Id="rId22" Type="http://schemas.openxmlformats.org/officeDocument/2006/relationships/slide" Target="slide46.xml"/><Relationship Id="rId23" Type="http://schemas.openxmlformats.org/officeDocument/2006/relationships/slide" Target="slide48.xml"/><Relationship Id="rId24" Type="http://schemas.openxmlformats.org/officeDocument/2006/relationships/slide" Target="slide50.xml"/><Relationship Id="rId25" Type="http://schemas.openxmlformats.org/officeDocument/2006/relationships/slide" Target="slide52.xml"/><Relationship Id="rId26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5e937"/>
            </a:gs>
            <a:gs pos="100000">
              <a:srgbClr val="92d050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Прямоугольник 8" descr=""/>
          <p:cNvPicPr/>
          <p:nvPr/>
        </p:nvPicPr>
        <p:blipFill>
          <a:blip r:embed="rId1"/>
          <a:stretch/>
        </p:blipFill>
        <p:spPr>
          <a:xfrm>
            <a:off x="5456160" y="3255840"/>
            <a:ext cx="3743280" cy="1103400"/>
          </a:xfrm>
          <a:prstGeom prst="rect">
            <a:avLst/>
          </a:prstGeom>
          <a:ln w="0">
            <a:noFill/>
          </a:ln>
        </p:spPr>
      </p:pic>
      <p:sp>
        <p:nvSpPr>
          <p:cNvPr id="493" name="WordArt 8"/>
          <p:cNvSpPr txBox="1"/>
          <p:nvPr/>
        </p:nvSpPr>
        <p:spPr>
          <a:xfrm>
            <a:off x="539640" y="1125360"/>
            <a:ext cx="820908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0099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ОЖ – выбирает современная молодежь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0099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94" name="Picture 10" descr="1"/>
          <p:cNvPicPr/>
          <p:nvPr/>
        </p:nvPicPr>
        <p:blipFill>
          <a:blip r:embed="rId2"/>
          <a:stretch/>
        </p:blipFill>
        <p:spPr>
          <a:xfrm>
            <a:off x="179280" y="3611520"/>
            <a:ext cx="3745080" cy="259092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519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"/>
          <p:cNvSpPr/>
          <p:nvPr/>
        </p:nvSpPr>
        <p:spPr>
          <a:xfrm>
            <a:off x="468360" y="119700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Мобильные телефоны созд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значительные электромагнит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помехи в больниц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6" descr="no_mobile_co5"/>
          <p:cNvPicPr/>
          <p:nvPr/>
        </p:nvPicPr>
        <p:blipFill>
          <a:blip r:embed="rId1"/>
          <a:stretch/>
        </p:blipFill>
        <p:spPr>
          <a:xfrm>
            <a:off x="5713560" y="3429000"/>
            <a:ext cx="3025800" cy="30542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19280" y="188640"/>
            <a:ext cx="18824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"/>
          <p:cNvSpPr/>
          <p:nvPr/>
        </p:nvSpPr>
        <p:spPr>
          <a:xfrm>
            <a:off x="250920" y="2768760"/>
            <a:ext cx="8713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6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8" descr="7294227-a-young-pretty-woman-nurse-at-hospital-on-cell-phone"/>
          <p:cNvPicPr/>
          <p:nvPr/>
        </p:nvPicPr>
        <p:blipFill>
          <a:blip r:embed="rId2"/>
          <a:stretch/>
        </p:blipFill>
        <p:spPr>
          <a:xfrm>
            <a:off x="2556000" y="2349360"/>
            <a:ext cx="6389640" cy="426564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оугольник 1"/>
          <p:cNvSpPr/>
          <p:nvPr/>
        </p:nvSpPr>
        <p:spPr>
          <a:xfrm>
            <a:off x="395280" y="784080"/>
            <a:ext cx="439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Исследование, проведенное в 2012 году 300 тестов, не нашло ни одного вида помех в 75 палата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763280" y="189000"/>
            <a:ext cx="5699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2"/>
          <p:cNvSpPr/>
          <p:nvPr/>
        </p:nvSpPr>
        <p:spPr>
          <a:xfrm>
            <a:off x="611280" y="126828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Чтение при тусклом свет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ухудшает зр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6" descr="8"/>
          <p:cNvPicPr/>
          <p:nvPr/>
        </p:nvPicPr>
        <p:blipFill>
          <a:blip r:embed="rId1"/>
          <a:stretch/>
        </p:blipFill>
        <p:spPr>
          <a:xfrm>
            <a:off x="1835280" y="2781360"/>
            <a:ext cx="5487840" cy="364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203280" y="189000"/>
            <a:ext cx="2314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Прямоугольник 1"/>
          <p:cNvSpPr/>
          <p:nvPr/>
        </p:nvSpPr>
        <p:spPr>
          <a:xfrm>
            <a:off x="539640" y="911160"/>
            <a:ext cx="7704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тение при тусклом свете просто неудобно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но не создает ухудшения зр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66247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1"/>
          <p:cNvSpPr/>
          <p:nvPr/>
        </p:nvSpPr>
        <p:spPr>
          <a:xfrm>
            <a:off x="395280" y="1268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од растений семейства Яснотковые. Все виды сильно ароматичны, большинство из них содержит много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ментола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. Ее добавляют в чаи, прохладительные напитки, сиропы, мороженое и конфе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Растение обладает </a:t>
            </a: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успокаивающим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, сосудорасширяющим, болеутоляющим и противовоспалительным действ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348000" y="260280"/>
            <a:ext cx="216072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1"/>
          <p:cNvSpPr/>
          <p:nvPr/>
        </p:nvSpPr>
        <p:spPr>
          <a:xfrm>
            <a:off x="324000" y="981000"/>
            <a:ext cx="47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Мя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7" descr="мят"/>
          <p:cNvPicPr/>
          <p:nvPr/>
        </p:nvPicPr>
        <p:blipFill>
          <a:blip r:embed="rId1"/>
          <a:stretch/>
        </p:blipFill>
        <p:spPr>
          <a:xfrm>
            <a:off x="3995640" y="1886040"/>
            <a:ext cx="4937400" cy="4678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31640" y="139680"/>
            <a:ext cx="664668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Прямоугольник 1"/>
          <p:cNvSpPr/>
          <p:nvPr/>
        </p:nvSpPr>
        <p:spPr>
          <a:xfrm>
            <a:off x="468360" y="134136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Это растение известно под  названиями: булдырьян, балдриан, аверьян, ладаница, лесной ладан, маун и др. Существует две версии относительно происхождения названия растения. Первая: оно получило свое название в честь римского императора; вторая — от латинского слова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«valere» — быть здоро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рименяется как успокоительное. Считается, что его запах </a:t>
            </a: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очень любят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представители кошачь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11520" y="136440"/>
            <a:ext cx="1882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1"/>
          <p:cNvSpPr/>
          <p:nvPr/>
        </p:nvSpPr>
        <p:spPr>
          <a:xfrm>
            <a:off x="1116000" y="7272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ВАЛЕРИА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7" descr="ВАЛЕР"/>
          <p:cNvPicPr/>
          <p:nvPr/>
        </p:nvPicPr>
        <p:blipFill>
          <a:blip r:embed="rId1"/>
          <a:stretch/>
        </p:blipFill>
        <p:spPr>
          <a:xfrm>
            <a:off x="2793960" y="2182680"/>
            <a:ext cx="5810400" cy="40752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03280" y="189000"/>
            <a:ext cx="662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1"/>
          <p:cNvSpPr/>
          <p:nvPr/>
        </p:nvSpPr>
        <p:spPr>
          <a:xfrm>
            <a:off x="539640" y="1268280"/>
            <a:ext cx="8209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читалось, что ее боятся злые духи. Так, ребенка, который был слишком непослушным, стегали этим жгучим растением не для того, чтобы причинить боль, а для изгнания из него нечист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Её успешно применяется в медицине и кулинарии – она входит в состав многих аптечных сборов, из нее изготавливают сотни вкуснейших блюд. Во время ВОВ блюда из этого растения спасали людей от гол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757680" y="260280"/>
            <a:ext cx="17366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1"/>
          <p:cNvSpPr/>
          <p:nvPr/>
        </p:nvSpPr>
        <p:spPr>
          <a:xfrm>
            <a:off x="539640" y="1197000"/>
            <a:ext cx="770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КРАПИ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крапива"/>
          <p:cNvPicPr/>
          <p:nvPr/>
        </p:nvPicPr>
        <p:blipFill>
          <a:blip r:embed="rId1"/>
          <a:stretch/>
        </p:blipFill>
        <p:spPr>
          <a:xfrm>
            <a:off x="4572000" y="1125360"/>
            <a:ext cx="435132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6705720" cy="3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"/>
          <p:cNvSpPr/>
          <p:nvPr/>
        </p:nvSpPr>
        <p:spPr>
          <a:xfrm>
            <a:off x="395280" y="86184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"/>
          <p:cNvSpPr/>
          <p:nvPr/>
        </p:nvSpPr>
        <p:spPr>
          <a:xfrm>
            <a:off x="826920" y="981000"/>
            <a:ext cx="756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5"/>
          <p:cNvSpPr/>
          <p:nvPr/>
        </p:nvSpPr>
        <p:spPr>
          <a:xfrm>
            <a:off x="1042920" y="981000"/>
            <a:ext cx="698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Его высоко ценили древние греки и римляне, персидские и арабские врачи. Название растение получило от места его произрастания, при дорог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израстает на сорных местах и пустырях, вблизи жилых домов, у дороги, на полях, лугах, огородах, садах, на лесной опушке и по побережью водоем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288960" y="188640"/>
            <a:ext cx="2601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-181080" y="1052640"/>
            <a:ext cx="4897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одорожни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подорожник большой"/>
          <p:cNvPicPr/>
          <p:nvPr/>
        </p:nvPicPr>
        <p:blipFill>
          <a:blip r:embed="rId1"/>
          <a:stretch/>
        </p:blipFill>
        <p:spPr>
          <a:xfrm>
            <a:off x="4716360" y="836640"/>
            <a:ext cx="3848040" cy="5138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12944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Лекарственные травы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оугольник 1"/>
          <p:cNvSpPr/>
          <p:nvPr/>
        </p:nvSpPr>
        <p:spPr>
          <a:xfrm>
            <a:off x="468360" y="1268280"/>
            <a:ext cx="8280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песнях поется, что она горьк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сказках считается, что она  изгоняет нечисть из до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В медицине считается одним из природных антибиоти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665520" y="189000"/>
            <a:ext cx="181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1"/>
          <p:cNvSpPr/>
          <p:nvPr/>
        </p:nvSpPr>
        <p:spPr>
          <a:xfrm>
            <a:off x="324000" y="692280"/>
            <a:ext cx="709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ПОЛЫНЬ</a:t>
            </a:r>
            <a:r>
              <a:rPr b="1" lang="ru-RU" sz="4800" spc="-1" strike="noStrike">
                <a:solidFill>
                  <a:srgbClr val="d6009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полынь"/>
          <p:cNvPicPr/>
          <p:nvPr/>
        </p:nvPicPr>
        <p:blipFill>
          <a:blip r:embed="rId1"/>
          <a:stretch/>
        </p:blipFill>
        <p:spPr>
          <a:xfrm>
            <a:off x="5219640" y="1125360"/>
            <a:ext cx="3357720" cy="5237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99640" y="223920"/>
            <a:ext cx="7559640" cy="3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оугольник 1"/>
          <p:cNvSpPr/>
          <p:nvPr/>
        </p:nvSpPr>
        <p:spPr>
          <a:xfrm>
            <a:off x="324000" y="692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Какую зависимость изобразил художни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7" descr="комп"/>
          <p:cNvPicPr/>
          <p:nvPr/>
        </p:nvPicPr>
        <p:blipFill>
          <a:blip r:embed="rId1"/>
          <a:stretch/>
        </p:blipFill>
        <p:spPr>
          <a:xfrm>
            <a:off x="2771640" y="1424160"/>
            <a:ext cx="605016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90960" y="188640"/>
            <a:ext cx="2962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6"/>
          <p:cNvSpPr/>
          <p:nvPr/>
        </p:nvSpPr>
        <p:spPr>
          <a:xfrm>
            <a:off x="1187280" y="5695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нтернет-зависимость</a:t>
            </a: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3300"/>
                </a:solidFill>
                <a:latin typeface="Arial"/>
              </a:rPr>
              <a:t>(компьютерная зависимость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7" descr="комп 5"/>
          <p:cNvPicPr/>
          <p:nvPr/>
        </p:nvPicPr>
        <p:blipFill>
          <a:blip r:embed="rId1"/>
          <a:stretch/>
        </p:blipFill>
        <p:spPr>
          <a:xfrm>
            <a:off x="3924360" y="1989000"/>
            <a:ext cx="4437000" cy="4579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7756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"/>
          <p:cNvSpPr/>
          <p:nvPr/>
        </p:nvSpPr>
        <p:spPr>
          <a:xfrm>
            <a:off x="539640" y="112536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езультат какой вредной привычки мы видим на фотограф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5" descr="ногти"/>
          <p:cNvPicPr/>
          <p:nvPr/>
        </p:nvPicPr>
        <p:blipFill>
          <a:blip r:embed="rId1"/>
          <a:stretch/>
        </p:blipFill>
        <p:spPr>
          <a:xfrm>
            <a:off x="3564000" y="2884320"/>
            <a:ext cx="5265720" cy="3434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492360" y="188640"/>
            <a:ext cx="18115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6" descr="ног7"/>
          <p:cNvPicPr/>
          <p:nvPr/>
        </p:nvPicPr>
        <p:blipFill>
          <a:blip r:embed="rId1"/>
          <a:stretch/>
        </p:blipFill>
        <p:spPr>
          <a:xfrm>
            <a:off x="4859280" y="1341360"/>
            <a:ext cx="3706920" cy="519120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7"/>
          <p:cNvSpPr/>
          <p:nvPr/>
        </p:nvSpPr>
        <p:spPr>
          <a:xfrm>
            <a:off x="472680" y="765000"/>
            <a:ext cx="3740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Привычка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3300"/>
                </a:solidFill>
                <a:latin typeface="Arial"/>
              </a:rPr>
              <a:t>грызть ног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777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1"/>
          <p:cNvSpPr/>
          <p:nvPr/>
        </p:nvSpPr>
        <p:spPr>
          <a:xfrm>
            <a:off x="539640" y="1125360"/>
            <a:ext cx="68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А что здесь происходи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6" descr="щелк"/>
          <p:cNvPicPr/>
          <p:nvPr/>
        </p:nvPicPr>
        <p:blipFill>
          <a:blip r:embed="rId1"/>
          <a:stretch/>
        </p:blipFill>
        <p:spPr>
          <a:xfrm>
            <a:off x="2556000" y="2062080"/>
            <a:ext cx="5821200" cy="4365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348000" y="188640"/>
            <a:ext cx="217008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469800" y="9810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Привычка щёлкания сустав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993300"/>
                </a:solidFill>
                <a:latin typeface="Arial"/>
              </a:rPr>
              <a:t>и её результа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9" descr="щ9"/>
          <p:cNvPicPr/>
          <p:nvPr/>
        </p:nvPicPr>
        <p:blipFill>
          <a:blip r:embed="rId1"/>
          <a:stretch/>
        </p:blipFill>
        <p:spPr>
          <a:xfrm>
            <a:off x="3492360" y="2440080"/>
            <a:ext cx="5321520" cy="3990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6" name=""/>
          <p:cNvGraphicFramePr/>
          <p:nvPr/>
        </p:nvGraphicFramePr>
        <p:xfrm>
          <a:off x="0" y="260280"/>
          <a:ext cx="9144000" cy="6410520"/>
        </p:xfrm>
        <a:graphic>
          <a:graphicData uri="http://schemas.openxmlformats.org/drawingml/2006/table">
            <a:tbl>
              <a:tblPr/>
              <a:tblGrid>
                <a:gridCol w="2381400"/>
                <a:gridCol w="1382400"/>
                <a:gridCol w="1308240"/>
                <a:gridCol w="1382760"/>
                <a:gridCol w="1305000"/>
                <a:gridCol w="1384200"/>
              </a:tblGrid>
              <a:tr h="1737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Мифы о здоровь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Лекарствен-ные травы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4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Вредные привычки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8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400" spc="-1" strike="noStrike">
                          <a:solidFill>
                            <a:srgbClr val="0000cc"/>
                          </a:solidFill>
                          <a:latin typeface="Monotype Corsiva"/>
                        </a:rPr>
                        <a:t> </a:t>
                      </a:r>
                      <a:r>
                        <a:rPr b="1" lang="ru-RU" sz="34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Продукты питания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c00000"/>
                          </a:solidFill>
                          <a:latin typeface="Monotype Corsiva"/>
                        </a:rPr>
                        <a:t>Режим д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1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3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4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6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6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50</a:t>
                      </a:r>
                      <a:endParaRPr b="0" lang="en-US" sz="6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10920" y="131760"/>
            <a:ext cx="784836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"/>
          <p:cNvSpPr/>
          <p:nvPr/>
        </p:nvSpPr>
        <p:spPr>
          <a:xfrm>
            <a:off x="142920" y="2540160"/>
            <a:ext cx="889308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Прямоугольник 1"/>
          <p:cNvSpPr/>
          <p:nvPr/>
        </p:nvSpPr>
        <p:spPr>
          <a:xfrm>
            <a:off x="250920" y="90792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асскажите, кому же вреди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эта вредная привыч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7" descr="сигарета"/>
          <p:cNvPicPr/>
          <p:nvPr/>
        </p:nvPicPr>
        <p:blipFill>
          <a:blip r:embed="rId1"/>
          <a:stretch/>
        </p:blipFill>
        <p:spPr>
          <a:xfrm>
            <a:off x="1332000" y="2421000"/>
            <a:ext cx="6350040" cy="38354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89260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1"/>
          <p:cNvSpPr/>
          <p:nvPr/>
        </p:nvSpPr>
        <p:spPr>
          <a:xfrm>
            <a:off x="539640" y="1052640"/>
            <a:ext cx="828036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d60093"/>
                </a:solidFill>
                <a:uFillTx/>
                <a:latin typeface="Arial"/>
              </a:rPr>
              <a:t>ВСЕ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урильщи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Кто находится рядом с курильщик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d6009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дущим детям и тех, и други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80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Вредные привычки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1"/>
          <p:cNvSpPr/>
          <p:nvPr/>
        </p:nvSpPr>
        <p:spPr>
          <a:xfrm>
            <a:off x="324000" y="1484280"/>
            <a:ext cx="849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3300"/>
                </a:solidFill>
                <a:latin typeface="Arial"/>
              </a:rPr>
              <a:t>Ринотиллексоман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О какой вредной привычке большинства малышей и некоторых взросл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идет реч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6" descr="нос"/>
          <p:cNvPicPr/>
          <p:nvPr/>
        </p:nvPicPr>
        <p:blipFill>
          <a:blip r:embed="rId1"/>
          <a:stretch/>
        </p:blipFill>
        <p:spPr>
          <a:xfrm>
            <a:off x="3708360" y="1268280"/>
            <a:ext cx="5121360" cy="3391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7" descr="нос4"/>
          <p:cNvPicPr/>
          <p:nvPr/>
        </p:nvPicPr>
        <p:blipFill>
          <a:blip r:embed="rId2"/>
          <a:stretch/>
        </p:blipFill>
        <p:spPr>
          <a:xfrm>
            <a:off x="250920" y="306864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46240" y="476280"/>
            <a:ext cx="685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95280" y="787320"/>
            <a:ext cx="842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По народному поверью, он отпугивает вампиров. Ученые добавляют к вампирам бактерии и вирусы, которые точно так ж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не переносят его аромат, обусловленный содержанием в нём эфирных масел и фитонцидов. Он незаменим при лечении простудных заболеваний. Кроме того, его употребление снижает риск возникновения рака желудка и кишечника, улучшает работу пищеварения и защищает от риска сосудистых заболев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00"/>
                </a:solidFill>
                <a:uFillTx/>
                <a:latin typeface="Arial"/>
              </a:rPr>
              <a:t>О каком полезном продукте питания идёт реч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492000" y="115920"/>
            <a:ext cx="3008520" cy="56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7" descr="ЧЕСН"/>
          <p:cNvPicPr/>
          <p:nvPr/>
        </p:nvPicPr>
        <p:blipFill>
          <a:blip r:embed="rId1"/>
          <a:stretch/>
        </p:blipFill>
        <p:spPr>
          <a:xfrm>
            <a:off x="250920" y="9810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600" name="Текст 3"/>
          <p:cNvSpPr/>
          <p:nvPr/>
        </p:nvSpPr>
        <p:spPr>
          <a:xfrm>
            <a:off x="4716360" y="4653000"/>
            <a:ext cx="423252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ЧЕСНО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692360" y="188640"/>
            <a:ext cx="634680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921800" cy="5051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 переводе с английского название этого продукта - буквально «горячая собака» - булочка с сосиской. Это своего рода символ американского общепита и фастфу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По утверждению медиков он так же опасен для здоровья, как и сигареты. В частности, он способен провоцировать развитие рака прямой и толстой кишо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Назовите этот продук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484000" y="208080"/>
            <a:ext cx="375444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2700360" y="551592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хот-до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хот дог"/>
          <p:cNvPicPr/>
          <p:nvPr/>
        </p:nvPicPr>
        <p:blipFill>
          <a:blip r:embed="rId1"/>
          <a:stretch/>
        </p:blipFill>
        <p:spPr>
          <a:xfrm>
            <a:off x="1476360" y="981000"/>
            <a:ext cx="7024680" cy="4256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6920" y="620640"/>
            <a:ext cx="6347160" cy="1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0" y="2470320"/>
            <a:ext cx="9144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1"/>
          <p:cNvSpPr/>
          <p:nvPr/>
        </p:nvSpPr>
        <p:spPr>
          <a:xfrm>
            <a:off x="826920" y="2133720"/>
            <a:ext cx="74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00"/>
                </a:solidFill>
                <a:latin typeface="Arial"/>
              </a:rPr>
              <a:t>Белая смер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842920" y="188640"/>
            <a:ext cx="325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71640" y="1159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50560" y="1989000"/>
            <a:ext cx="460836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Лекарства на травах безвред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6" descr="o1"/>
          <p:cNvPicPr/>
          <p:nvPr/>
        </p:nvPicPr>
        <p:blipFill>
          <a:blip r:embed="rId1"/>
          <a:stretch/>
        </p:blipFill>
        <p:spPr>
          <a:xfrm>
            <a:off x="5073480" y="1197000"/>
            <a:ext cx="3579840" cy="5400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649520" y="259920"/>
            <a:ext cx="584496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оугольник 1"/>
          <p:cNvSpPr/>
          <p:nvPr/>
        </p:nvSpPr>
        <p:spPr>
          <a:xfrm>
            <a:off x="324000" y="1052640"/>
            <a:ext cx="8316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990000"/>
                </a:solidFill>
                <a:latin typeface="Arial"/>
              </a:rPr>
              <a:t>C</a:t>
            </a:r>
            <a:r>
              <a:rPr b="1" lang="ru-RU" sz="8000" spc="-1" strike="noStrike">
                <a:solidFill>
                  <a:srgbClr val="990000"/>
                </a:solidFill>
                <a:latin typeface="Arial"/>
              </a:rPr>
              <a:t>месь сахара, химии и газов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Вредный продукт 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630440" y="260280"/>
            <a:ext cx="59148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7" descr="пепси"/>
          <p:cNvPicPr/>
          <p:nvPr/>
        </p:nvPicPr>
        <p:blipFill>
          <a:blip r:embed="rId1"/>
          <a:stretch/>
        </p:blipFill>
        <p:spPr>
          <a:xfrm>
            <a:off x="0" y="692280"/>
            <a:ext cx="5076720" cy="4822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8" descr="кока"/>
          <p:cNvPicPr/>
          <p:nvPr/>
        </p:nvPicPr>
        <p:blipFill>
          <a:blip r:embed="rId2"/>
          <a:stretch/>
        </p:blipFill>
        <p:spPr>
          <a:xfrm>
            <a:off x="3132000" y="1592280"/>
            <a:ext cx="6302520" cy="4971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915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Продукты питания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Прямоугольник 1"/>
          <p:cNvSpPr/>
          <p:nvPr/>
        </p:nvSpPr>
        <p:spPr>
          <a:xfrm>
            <a:off x="324000" y="1268280"/>
            <a:ext cx="8351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Все это сплошная химия, наносящая несомненный вред нашему организму. Но многие очень любят эти сухие, хрустящие, требующие горячей воды вредные продукты. Иногда пытаются употреблять их и в сухом вид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2627280" y="188640"/>
            <a:ext cx="3178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4920" y="2751120"/>
            <a:ext cx="90741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8" descr="ролтон"/>
          <p:cNvPicPr/>
          <p:nvPr/>
        </p:nvPicPr>
        <p:blipFill>
          <a:blip r:embed="rId1"/>
          <a:stretch/>
        </p:blipFill>
        <p:spPr>
          <a:xfrm>
            <a:off x="5003640" y="1052640"/>
            <a:ext cx="3645000" cy="504036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9" descr="рол"/>
          <p:cNvPicPr/>
          <p:nvPr/>
        </p:nvPicPr>
        <p:blipFill>
          <a:blip r:embed="rId2"/>
          <a:stretch/>
        </p:blipFill>
        <p:spPr>
          <a:xfrm>
            <a:off x="395280" y="907920"/>
            <a:ext cx="4164120" cy="4164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Прямоугольник 1"/>
          <p:cNvSpPr/>
          <p:nvPr/>
        </p:nvSpPr>
        <p:spPr>
          <a:xfrm>
            <a:off x="611280" y="1052640"/>
            <a:ext cx="7418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Для среднестатистического человека сон составляет… (Укажите количество часов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5" descr="сон"/>
          <p:cNvPicPr/>
          <p:nvPr/>
        </p:nvPicPr>
        <p:blipFill>
          <a:blip r:embed="rId1"/>
          <a:stretch/>
        </p:blipFill>
        <p:spPr>
          <a:xfrm>
            <a:off x="2916360" y="2997360"/>
            <a:ext cx="3571920" cy="33429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39704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1"/>
          <p:cNvSpPr/>
          <p:nvPr/>
        </p:nvSpPr>
        <p:spPr>
          <a:xfrm>
            <a:off x="757800" y="1341360"/>
            <a:ext cx="336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7-8 час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сон6"/>
          <p:cNvPicPr/>
          <p:nvPr/>
        </p:nvPicPr>
        <p:blipFill>
          <a:blip r:embed="rId1"/>
          <a:stretch/>
        </p:blipFill>
        <p:spPr>
          <a:xfrm>
            <a:off x="3635280" y="2421000"/>
            <a:ext cx="4953240" cy="3733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"/>
          <p:cNvSpPr/>
          <p:nvPr/>
        </p:nvSpPr>
        <p:spPr>
          <a:xfrm>
            <a:off x="1258920" y="1268280"/>
            <a:ext cx="7129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Наиболее благоприятное время ложиться спат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123640" y="188640"/>
            <a:ext cx="469116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7" descr="сон8"/>
          <p:cNvPicPr/>
          <p:nvPr/>
        </p:nvPicPr>
        <p:blipFill>
          <a:blip r:embed="rId1"/>
          <a:stretch/>
        </p:blipFill>
        <p:spPr>
          <a:xfrm>
            <a:off x="324000" y="1125360"/>
            <a:ext cx="6264000" cy="3127680"/>
          </a:xfrm>
          <a:prstGeom prst="rect">
            <a:avLst/>
          </a:prstGeom>
          <a:ln w="0">
            <a:noFill/>
          </a:ln>
        </p:spPr>
      </p:pic>
      <p:sp>
        <p:nvSpPr>
          <p:cNvPr id="637" name="Rectangle 8"/>
          <p:cNvSpPr/>
          <p:nvPr/>
        </p:nvSpPr>
        <p:spPr>
          <a:xfrm>
            <a:off x="828000" y="4508640"/>
            <a:ext cx="800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00"/>
                </a:solidFill>
                <a:latin typeface="Arial"/>
              </a:rPr>
              <a:t>между 21 – 22 часам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6" descr="жавор"/>
          <p:cNvPicPr/>
          <p:nvPr/>
        </p:nvPicPr>
        <p:blipFill>
          <a:blip r:embed="rId1"/>
          <a:stretch/>
        </p:blipFill>
        <p:spPr>
          <a:xfrm>
            <a:off x="684360" y="105264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сов5"/>
          <p:cNvPicPr/>
          <p:nvPr/>
        </p:nvPicPr>
        <p:blipFill>
          <a:blip r:embed="rId2"/>
          <a:stretch/>
        </p:blipFill>
        <p:spPr>
          <a:xfrm>
            <a:off x="5508720" y="1197000"/>
            <a:ext cx="3109680" cy="46148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9" descr="гол8"/>
          <p:cNvPicPr/>
          <p:nvPr/>
        </p:nvPicPr>
        <p:blipFill>
          <a:blip r:embed="rId3"/>
          <a:stretch/>
        </p:blipFill>
        <p:spPr>
          <a:xfrm>
            <a:off x="1835280" y="3645000"/>
            <a:ext cx="2735280" cy="273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43320" y="260280"/>
            <a:ext cx="4114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Прямоугольник 1"/>
          <p:cNvSpPr/>
          <p:nvPr/>
        </p:nvSpPr>
        <p:spPr>
          <a:xfrm>
            <a:off x="539640" y="1125360"/>
            <a:ext cx="8294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ХРОНОТИП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                  </a:t>
            </a: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ЧЕЛОВЕ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Жаворонк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Голуб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Сов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419640" y="189000"/>
            <a:ext cx="179856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"/>
          <p:cNvSpPr/>
          <p:nvPr/>
        </p:nvSpPr>
        <p:spPr>
          <a:xfrm>
            <a:off x="250920" y="765000"/>
            <a:ext cx="871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Употребление любого лекарства, даже на натуральной основе, не проходит бесследно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1042920" y="1628640"/>
            <a:ext cx="74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Считается, что 5 минут этого действ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заменяют 40 минут отдых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163600" y="260280"/>
            <a:ext cx="4330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смех"/>
          <p:cNvPicPr/>
          <p:nvPr/>
        </p:nvPicPr>
        <p:blipFill>
          <a:blip r:embed="rId1"/>
          <a:stretch/>
        </p:blipFill>
        <p:spPr>
          <a:xfrm>
            <a:off x="1547640" y="1268280"/>
            <a:ext cx="5766120" cy="3851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Режим дня 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2"/>
          <p:cNvSpPr/>
          <p:nvPr/>
        </p:nvSpPr>
        <p:spPr>
          <a:xfrm>
            <a:off x="2286000" y="24130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2"/>
          <p:cNvSpPr/>
          <p:nvPr/>
        </p:nvSpPr>
        <p:spPr>
          <a:xfrm>
            <a:off x="684360" y="1268280"/>
            <a:ext cx="741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Самый значительный физиологический подъе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и самая высокая работоспособность человека, но, к сожалению, современный человек это время просыпа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874960" y="188640"/>
            <a:ext cx="339408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6"/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1"/>
          <p:cNvSpPr/>
          <p:nvPr/>
        </p:nvSpPr>
        <p:spPr>
          <a:xfrm>
            <a:off x="2268360" y="4437000"/>
            <a:ext cx="63122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Arial"/>
              </a:rPr>
              <a:t>5 – 6 часов ут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8" descr="сон 6"/>
          <p:cNvPicPr/>
          <p:nvPr/>
        </p:nvPicPr>
        <p:blipFill>
          <a:blip r:embed="rId1"/>
          <a:stretch/>
        </p:blipFill>
        <p:spPr>
          <a:xfrm>
            <a:off x="684360" y="1268280"/>
            <a:ext cx="482436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09880" y="182160"/>
            <a:ext cx="5122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Прямоугольник 1"/>
          <p:cNvSpPr/>
          <p:nvPr/>
        </p:nvSpPr>
        <p:spPr>
          <a:xfrm>
            <a:off x="395280" y="1125360"/>
            <a:ext cx="619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Человек использует только 10% ресурсов своег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моз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" descr="1308773471_tozhe-mify"/>
          <p:cNvPicPr/>
          <p:nvPr/>
        </p:nvPicPr>
        <p:blipFill>
          <a:blip r:embed="rId1"/>
          <a:stretch/>
        </p:blipFill>
        <p:spPr>
          <a:xfrm>
            <a:off x="3924360" y="3573360"/>
            <a:ext cx="502920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436920" y="188640"/>
            <a:ext cx="20988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7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"/>
          <p:cNvSpPr/>
          <p:nvPr/>
        </p:nvSpPr>
        <p:spPr>
          <a:xfrm>
            <a:off x="755640" y="981000"/>
            <a:ext cx="7993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Согласно последним данным, в течение дня мы задействуем около </a:t>
            </a:r>
            <a:r>
              <a:rPr b="1" lang="ru-RU" sz="4800" spc="-1" strike="noStrike" u="sng">
                <a:solidFill>
                  <a:srgbClr val="990000"/>
                </a:solidFill>
                <a:uFillTx/>
                <a:latin typeface="Arial"/>
              </a:rPr>
              <a:t>80 процентов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 клеток мозга для решения повседневных пробл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31760" y="189000"/>
            <a:ext cx="5483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Мифы о здоровье</a:t>
            </a: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6" descr="603930b61fb3"/>
          <p:cNvPicPr/>
          <p:nvPr/>
        </p:nvPicPr>
        <p:blipFill>
          <a:blip r:embed="rId1"/>
          <a:stretch/>
        </p:blipFill>
        <p:spPr>
          <a:xfrm>
            <a:off x="3203640" y="2492280"/>
            <a:ext cx="5715000" cy="412452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539640" y="119700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Arial"/>
              </a:rPr>
              <a:t>Морковка может улучшить зр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38464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6">
            <a:hlinkClick r:id="rId1" action="ppaction://hlinksldjump"/>
          </p:cNvPr>
          <p:cNvSpPr/>
          <p:nvPr/>
        </p:nvSpPr>
        <p:spPr>
          <a:xfrm>
            <a:off x="179280" y="6093000"/>
            <a:ext cx="1944720" cy="620640"/>
          </a:xfrm>
          <a:custGeom>
            <a:avLst/>
            <a:gdLst>
              <a:gd name="textAreaLeft" fmla="*/ 39960 w 1944720"/>
              <a:gd name="textAreaRight" fmla="*/ 1904760 w 19447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67655" h="21600">
                <a:moveTo>
                  <a:pt x="0" y="0"/>
                </a:moveTo>
                <a:lnTo>
                  <a:pt x="67655" y="0"/>
                </a:lnTo>
                <a:lnTo>
                  <a:pt x="67655" y="21600"/>
                </a:lnTo>
                <a:lnTo>
                  <a:pt x="0" y="21600"/>
                </a:lnTo>
                <a:close/>
              </a:path>
              <a:path fill="lightenLess" w="67655" h="21600">
                <a:moveTo>
                  <a:pt x="0" y="0"/>
                </a:moveTo>
                <a:lnTo>
                  <a:pt x="67655" y="0"/>
                </a:lnTo>
                <a:lnTo>
                  <a:pt x="66255" y="1400"/>
                </a:lnTo>
                <a:lnTo>
                  <a:pt x="1400" y="1400"/>
                </a:lnTo>
                <a:close/>
              </a:path>
              <a:path fill="darken" w="67655" h="21600">
                <a:moveTo>
                  <a:pt x="67655" y="0"/>
                </a:moveTo>
                <a:lnTo>
                  <a:pt x="67655" y="21600"/>
                </a:lnTo>
                <a:lnTo>
                  <a:pt x="66255" y="20200"/>
                </a:lnTo>
                <a:lnTo>
                  <a:pt x="66255" y="1400"/>
                </a:lnTo>
                <a:close/>
              </a:path>
              <a:path fill="darkenLess" w="67655" h="21600">
                <a:moveTo>
                  <a:pt x="676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6255" y="20200"/>
                </a:lnTo>
                <a:close/>
              </a:path>
              <a:path fill="lighten" w="676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 вопрос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2"/>
          <p:cNvSpPr/>
          <p:nvPr/>
        </p:nvSpPr>
        <p:spPr>
          <a:xfrm>
            <a:off x="611280" y="907920"/>
            <a:ext cx="79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Морковь на самом деле содержит витамин А, но потребление большого количество этого витамина </a:t>
            </a:r>
            <a:r>
              <a:rPr b="0" lang="ru-RU" sz="5400" spc="-1" strike="noStrike" u="sng">
                <a:solidFill>
                  <a:srgbClr val="990000"/>
                </a:solidFill>
                <a:uFillTx/>
                <a:latin typeface="Arial"/>
              </a:rPr>
              <a:t>не улучшает наше зрение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30T04:29:36Z</dcterms:created>
  <dc:creator>1</dc:creator>
  <dc:description/>
  <dc:language>en-US</dc:language>
  <cp:lastModifiedBy>Работник</cp:lastModifiedBy>
  <dcterms:modified xsi:type="dcterms:W3CDTF">2013-09-09T05:04:50Z</dcterms:modified>
  <cp:revision>48</cp:revision>
  <dc:subject/>
  <dc:title>Слайд 1</dc:title>
</cp:coreProperties>
</file>