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DDF-4C4C-4576-9E00-8522F9B6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7055-3841-4A3F-B588-0D3A9B6C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7A6ED-E87A-4AD1-B37A-300A8734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A921D-2110-499E-8A71-DDF675CC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2BD4-42E5-4E3A-8E4C-015868CC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9166E-23B9-4F66-8EDA-5DA7E3B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BB7E6-1E12-4E79-B2B3-98C7EB1C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AEF0F-C156-4198-8AC6-03BB37CA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0EE1F-0EC0-4BC0-8849-6CF20366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465BB-D63E-49F2-A3B1-9BEA145C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DDA0E-FDF7-47C9-BA0C-D3B5A7FA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BB92-75B0-4ACE-9A88-DC83F9D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66E-650D-4301-BDC8-1628472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6B37D-C456-4C94-9FFD-C321322F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9FDC5-0DA2-40BF-A74D-C4833285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73B0D-105A-46F8-BC21-2682A57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AAAF1-D575-495B-AC6A-3C0EBC40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540D1-8C73-4C75-8880-2DF895E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F4FF3-179C-4EFA-8BF2-5027DF2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FB3CA-AD41-4820-9677-13FE0931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310B3-7A25-4B6D-8589-9C4C3B1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D3482-B1BA-4D96-B6FD-C637B61F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B1670-9B53-4DC9-8ADF-CB913C3D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8EE-8A04-49A5-9C7C-A327C813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94540-6962-4F96-BD5D-46C820BC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981F7-4AA6-4959-9037-EED9E394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408F9-2413-4BF2-9AAF-6F2C87A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9867F-B6DA-45BA-8DB8-8B515EF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C9A92-6745-4059-BFCF-F860144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5B9B0-9C4E-4720-A765-9777E6F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96178-DF92-4618-A461-D81285C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C376C-52DD-4BF2-9208-3E5AA7BC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63CCD-11D9-42C0-9300-EDF8B60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145C-C664-4C9F-9A3C-05E7E31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CA77-0DCD-451A-87CF-408D6EB7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35FE5-9160-4D3E-A021-C6DAD7CF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3DEA7-CF7A-4ED3-A16B-B711A43E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5A947-AE2E-442D-B0A7-4A7C8DB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D66B3-92CF-4E44-B8CB-6DBB35A6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2C884-92CC-4D99-923A-63B6C553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28E6F-A2C8-4B5D-A122-333268A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AAE07-896F-4557-81AC-3675AF34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2C8C7-ED48-4C27-AE91-2D33802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AB6D0-DE0D-4E11-A32D-BED878DC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E3D3A-E135-48B5-8D07-294BB1D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4500-B792-49A1-8505-D22DF318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58879-7D59-49E3-9DF8-2DFDF3C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6DB28-2DF3-4755-AF16-138B56F7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76A09-0AC6-49EE-AD35-596961E4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1EFE5-49D5-47B0-B45A-037E2BA2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E2ED1-C9F2-4FAC-86A0-E6103D3F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7D0-6E6A-42A7-939C-B64F4D7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A7E-8A7C-4920-AD8D-E83F454E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B81E-CF61-4C4E-A7BA-87FE0FD4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D5D-00E2-4E4B-8B74-0455E426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4FD5-C5FD-41EF-A723-9A812D2F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BB8-912D-4302-AAF7-AC339321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54DD-A706-4FB3-9A5D-43A6D631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9F53-4DEC-4E29-A6D9-0BF25FA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F377-6113-4133-81A1-046E1AA6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300B-5550-4B70-88C7-3159454F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33B8-7568-4A70-A3B7-8DDD2127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6C7CD-EF78-4583-8DF4-2CECC36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D157-894C-4999-8506-01D0541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41EF-5A83-4820-96FC-47ECFDBF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3902A-26FC-4D8F-90BC-96C7CEA2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6CE9-8013-4C94-AF35-7FD13CB0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EC9-1A59-4785-8E9E-78659A6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60F0-8243-4197-AF84-5B521BDA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05B1-BBCA-45AC-89B7-EC41B2E4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8F37-2C81-43E8-9D74-E2DE010F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5DCD-6F64-4926-A280-7BF73DA2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CA1A-DFB9-40BF-B16E-02107700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4CDD-6BC3-4275-B76F-B4AC8CA2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6379-DF36-457E-BC81-7CDEAD24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FC21-38A9-4E11-96B7-DD119287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1437-6886-4D6B-92E7-CC776EC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E10C-DB63-43AF-80C2-76C83F32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7F0-377E-44E8-BBB5-C3E11AD6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093B-6B4B-4767-BC03-95D2EA2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53DF7-D6B7-436A-967D-DAA21054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39E4-BDAE-4620-82D1-DB55A878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52749-EC16-4A3D-BD7B-A2B30D89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7342-93E3-4527-8074-50053A2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EDE5-2DA9-4B5D-A7EB-7F08576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F4DDD-4BFE-4E78-A357-1880FAE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5DDF-5C34-45BE-A925-B99ECC1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9CC8-DA3A-4216-A8A6-1BFD5178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4810-9E08-4C2B-B4A9-C7CB82CD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38B-F901-473E-A6D7-EDF079EF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122A-682D-40BD-920F-04024BFB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247CB-3C00-4528-B3CB-D9AF3AB2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AC55-F67A-4AD0-AE1C-2A747A0A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EACE-99A2-4078-9FE6-38748FFC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7D04E-10B4-4DAE-8589-DACEAAB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542F-1738-4703-B3DE-F2B9258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3261-461D-4B32-8045-C8D84AE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5EB03-F081-4410-81FA-9DFA1CA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5F36-F505-4CD0-8D16-A240593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2D6BC-FB41-4334-8ADA-6F34604C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2DC-D721-497D-A8EC-CF57BDA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A1841-D566-4101-AFBC-D72CAE2E5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F055-F2D7-43ED-97AF-C3C4C04E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EAD89-6BD5-401B-BF9F-E9CA8389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CF1A2-0732-4E08-88D6-B4AB666C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5F475-8379-42E3-9678-54F71CD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EDF2F-BE5D-4366-B492-C0A98A6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3674-FC87-40B2-A81F-2B874AE3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F510-105C-4AB9-8750-86B64E1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21976-C6AF-4583-AD2D-8A2BF45D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E8A2-68F2-468E-88F8-6272380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3A8-4D3F-42EF-B7D1-AEE9C55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CD886-F23F-4980-9501-23B703D5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DE1A-82A3-4022-915C-2227EEAE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029C2-395D-4E0A-B427-078D6472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51D1D-6123-4DDF-998E-72F80C9B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FDFD6-D8B8-4619-A600-A8A62DA9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D77A-DDA3-492D-9DBD-1A1D75C0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F2D4-67BA-4468-B196-C375216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969DB-2E34-4576-ACBC-3B71B48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4081-D735-4070-9726-914D8FBB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CCE54-8B65-43C3-A283-F3CB8B4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368-C5E0-41A2-B327-8B9F3E4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FB6D-5518-4CAC-A2C2-02E88D6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3DFE-AD96-401A-A3AD-917ECE5B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1EACC-0B33-491F-AE19-756C88EC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6D92-BA26-49CB-AF08-AB9DEFC7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39A0B-E043-43AA-853A-0490BC59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7E7A-01D1-4EA8-A20B-AC19E38F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F8FE-E3F8-49FB-8378-943A04F4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0D499-AC66-44ED-977C-93CAE6EE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37A70-EDF8-4423-9D6E-2D477EF7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97048-FF3F-4E66-ACD1-609C7C3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B5D-D758-4485-A341-60235709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56AC6-FF28-47F2-B021-146DDA16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BCA4E-1133-4D39-82E9-53BD910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24F2-90A4-44AF-896B-8BCAA93B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378E8-FE47-4296-BB4A-12F7E32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BB505-2B2E-49EF-A468-3FDD4E2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46E84-F802-443B-8BA6-44E600B4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FADA3-E054-487E-AC4F-4AEABF4E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4DB2C-C85D-4670-A5F9-173B9E98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9ECB6-F90D-4AEB-968C-E2C9349A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95EE-917A-4930-B542-2769439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9EA-EA3D-47EA-871C-738B2A6FC1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F34-1EA1-4361-82F0-79ADDCE88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71C0-21FD-4039-805A-E822943D8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4251-CD03-42EC-A380-AC2C0999CB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156-A864-4D34-A27D-5475082CDB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18F8-97D8-4A9A-A496-3E6D290318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12E1-7E50-4F86-8396-AABCCC51C7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B2D-615D-40CA-95FB-55C286BCD4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4FB7-DF54-48A7-B225-21B7CF08AA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9B2A-2C75-4263-8635-E2E8F93CA8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B64-6599-48FA-BC7F-EED694F33E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AF3E-077C-490E-9CE3-AD30C48F41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937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Прямоугольник 8" descr=""/>
          <p:cNvPicPr/>
          <p:nvPr/>
        </p:nvPicPr>
        <p:blipFill>
          <a:blip r:embed="rId1"/>
          <a:stretch/>
        </p:blipFill>
        <p:spPr>
          <a:xfrm>
            <a:off x="5456160" y="3255840"/>
            <a:ext cx="3743280" cy="1103400"/>
          </a:xfrm>
          <a:prstGeom prst="rect">
            <a:avLst/>
          </a:prstGeom>
          <a:ln w="0">
            <a:noFill/>
          </a:ln>
        </p:spPr>
      </p:pic>
      <p:sp>
        <p:nvSpPr>
          <p:cNvPr id="493" name="WordArt 8"/>
          <p:cNvSpPr txBox="1"/>
          <p:nvPr/>
        </p:nvSpPr>
        <p:spPr>
          <a:xfrm>
            <a:off x="539640" y="112536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ОЖ – выбирает современная молодежь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4" name="Picture 10" descr="1"/>
          <p:cNvPicPr/>
          <p:nvPr/>
        </p:nvPicPr>
        <p:blipFill>
          <a:blip r:embed="rId2"/>
          <a:stretch/>
        </p:blipFill>
        <p:spPr>
          <a:xfrm>
            <a:off x="179280" y="3611520"/>
            <a:ext cx="3745080" cy="25909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51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"/>
          <p:cNvSpPr/>
          <p:nvPr/>
        </p:nvSpPr>
        <p:spPr>
          <a:xfrm>
            <a:off x="468360" y="1197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обильные телефоны созд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начительные электромагни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мехи в больни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6" descr="no_mobile_co5"/>
          <p:cNvPicPr/>
          <p:nvPr/>
        </p:nvPicPr>
        <p:blipFill>
          <a:blip r:embed="rId1"/>
          <a:stretch/>
        </p:blipFill>
        <p:spPr>
          <a:xfrm>
            <a:off x="5713560" y="3429000"/>
            <a:ext cx="3025800" cy="305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188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50920" y="2768760"/>
            <a:ext cx="871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6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8" descr="7294227-a-young-pretty-woman-nurse-at-hospital-on-cell-phone"/>
          <p:cNvPicPr/>
          <p:nvPr/>
        </p:nvPicPr>
        <p:blipFill>
          <a:blip r:embed="rId2"/>
          <a:stretch/>
        </p:blipFill>
        <p:spPr>
          <a:xfrm>
            <a:off x="2556000" y="2349360"/>
            <a:ext cx="6389640" cy="426564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оугольник 1"/>
          <p:cNvSpPr/>
          <p:nvPr/>
        </p:nvSpPr>
        <p:spPr>
          <a:xfrm>
            <a:off x="395280" y="78408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Исследование, проведенное в 2012 году 300 тестов, не нашло ни одного вида помех в 75 пала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699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"/>
          <p:cNvSpPr/>
          <p:nvPr/>
        </p:nvSpPr>
        <p:spPr>
          <a:xfrm>
            <a:off x="611280" y="12682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Чтение при тусклом св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ухудшает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8"/>
          <p:cNvPicPr/>
          <p:nvPr/>
        </p:nvPicPr>
        <p:blipFill>
          <a:blip r:embed="rId1"/>
          <a:stretch/>
        </p:blipFill>
        <p:spPr>
          <a:xfrm>
            <a:off x="1835280" y="2781360"/>
            <a:ext cx="5487840" cy="364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231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"/>
          <p:cNvSpPr/>
          <p:nvPr/>
        </p:nvSpPr>
        <p:spPr>
          <a:xfrm>
            <a:off x="539640" y="911160"/>
            <a:ext cx="770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тение при тусклом свете просто неудобн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но не создает ухудшения зр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6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395280" y="1268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од растений семейства Яснотковые. Все виды сильно ароматичны, большинство из них содержит много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ментола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. Ее добавляют в чаи, прохладительные напитки, сиропы, мороженое и конф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стение обладает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успокаивающим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, сосудорасширяющим, болеутоляющим и противовоспалительным дейст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160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"/>
          <p:cNvSpPr/>
          <p:nvPr/>
        </p:nvSpPr>
        <p:spPr>
          <a:xfrm>
            <a:off x="324000" y="98100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М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мят"/>
          <p:cNvPicPr/>
          <p:nvPr/>
        </p:nvPicPr>
        <p:blipFill>
          <a:blip r:embed="rId1"/>
          <a:stretch/>
        </p:blipFill>
        <p:spPr>
          <a:xfrm>
            <a:off x="3995640" y="1886040"/>
            <a:ext cx="4937400" cy="467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31640" y="139680"/>
            <a:ext cx="6646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1"/>
          <p:cNvSpPr/>
          <p:nvPr/>
        </p:nvSpPr>
        <p:spPr>
          <a:xfrm>
            <a:off x="468360" y="13413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о растение известно под  названиями: булдырьян, балдриан, аверьян, ладаница, лесной ладан, маун и др. Существует две версии относительно происхождения названия растения. Первая: оно получило свое название в честь римского императора; вторая — от латинского слова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«valere» — быть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няется как успокоительное. Считается, что его запах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очень любят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представители кошачь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11520" y="13644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"/>
          <p:cNvSpPr/>
          <p:nvPr/>
        </p:nvSpPr>
        <p:spPr>
          <a:xfrm>
            <a:off x="1116000" y="7272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АЛЕРИ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ВАЛЕР"/>
          <p:cNvPicPr/>
          <p:nvPr/>
        </p:nvPicPr>
        <p:blipFill>
          <a:blip r:embed="rId1"/>
          <a:stretch/>
        </p:blipFill>
        <p:spPr>
          <a:xfrm>
            <a:off x="2793960" y="2182680"/>
            <a:ext cx="581040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"/>
          <p:cNvSpPr/>
          <p:nvPr/>
        </p:nvSpPr>
        <p:spPr>
          <a:xfrm>
            <a:off x="539640" y="126828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читалось, что ее боятся злые духи. Так, ребенка, который был слишком непослушным, стегали этим жгучим растением не для того, чтобы причинить боль, а для изгнания из него нечист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ё успешно применяется в медицине и кулинарии – она входит в состав многих аптечных сборов, из нее изготавливают сотни вкуснейших блюд. Во время ВОВ блюда из этого растения спасали людей от го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757680" y="260280"/>
            <a:ext cx="17366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"/>
          <p:cNvSpPr/>
          <p:nvPr/>
        </p:nvSpPr>
        <p:spPr>
          <a:xfrm>
            <a:off x="539640" y="1197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КРАПИ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крапива"/>
          <p:cNvPicPr/>
          <p:nvPr/>
        </p:nvPicPr>
        <p:blipFill>
          <a:blip r:embed="rId1"/>
          <a:stretch/>
        </p:blipFill>
        <p:spPr>
          <a:xfrm>
            <a:off x="4572000" y="1125360"/>
            <a:ext cx="435132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70572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"/>
          <p:cNvSpPr/>
          <p:nvPr/>
        </p:nvSpPr>
        <p:spPr>
          <a:xfrm>
            <a:off x="395280" y="8618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826920" y="981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1042920" y="981000"/>
            <a:ext cx="69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Его высоко ценили древние греки и римляне, персидские и арабские врачи. Название растение получило от места его произрастания, при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израстает на сорных местах и пустырях, вблизи жилых домов, у дороги, на полях, лугах, огородах, садах, на лесной опушке и по побережью водое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88960" y="188640"/>
            <a:ext cx="2601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-181080" y="1052640"/>
            <a:ext cx="489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подорожник большой"/>
          <p:cNvPicPr/>
          <p:nvPr/>
        </p:nvPicPr>
        <p:blipFill>
          <a:blip r:embed="rId1"/>
          <a:stretch/>
        </p:blipFill>
        <p:spPr>
          <a:xfrm>
            <a:off x="4716360" y="836640"/>
            <a:ext cx="384804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129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"/>
          <p:cNvSpPr/>
          <p:nvPr/>
        </p:nvSpPr>
        <p:spPr>
          <a:xfrm>
            <a:off x="46836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песнях поется, что она горь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сказках считается, что она  изгоняет нечисть из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медицине считается одним из природных антибиот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65520" y="189000"/>
            <a:ext cx="181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"/>
          <p:cNvSpPr/>
          <p:nvPr/>
        </p:nvSpPr>
        <p:spPr>
          <a:xfrm>
            <a:off x="324000" y="692280"/>
            <a:ext cx="70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ПОЛЫНЬ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полынь"/>
          <p:cNvPicPr/>
          <p:nvPr/>
        </p:nvPicPr>
        <p:blipFill>
          <a:blip r:embed="rId1"/>
          <a:stretch/>
        </p:blipFill>
        <p:spPr>
          <a:xfrm>
            <a:off x="5219640" y="1125360"/>
            <a:ext cx="33577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9640" y="223920"/>
            <a:ext cx="75596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"/>
          <p:cNvSpPr/>
          <p:nvPr/>
        </p:nvSpPr>
        <p:spPr>
          <a:xfrm>
            <a:off x="324000" y="692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акую зависимость изобразил худож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комп"/>
          <p:cNvPicPr/>
          <p:nvPr/>
        </p:nvPicPr>
        <p:blipFill>
          <a:blip r:embed="rId1"/>
          <a:stretch/>
        </p:blipFill>
        <p:spPr>
          <a:xfrm>
            <a:off x="2771640" y="1424160"/>
            <a:ext cx="605016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90960" y="188640"/>
            <a:ext cx="2962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1187280" y="5695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нтернет-зависимость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(компьютерная зависимо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комп 5"/>
          <p:cNvPicPr/>
          <p:nvPr/>
        </p:nvPicPr>
        <p:blipFill>
          <a:blip r:embed="rId1"/>
          <a:stretch/>
        </p:blipFill>
        <p:spPr>
          <a:xfrm>
            <a:off x="3924360" y="1989000"/>
            <a:ext cx="4437000" cy="4579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75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"/>
          <p:cNvSpPr/>
          <p:nvPr/>
        </p:nvSpPr>
        <p:spPr>
          <a:xfrm>
            <a:off x="539640" y="112536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езультат какой вредной привычки мы видим на фотограф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гти"/>
          <p:cNvPicPr/>
          <p:nvPr/>
        </p:nvPicPr>
        <p:blipFill>
          <a:blip r:embed="rId1"/>
          <a:stretch/>
        </p:blipFill>
        <p:spPr>
          <a:xfrm>
            <a:off x="3564000" y="2884320"/>
            <a:ext cx="5265720" cy="343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92360" y="188640"/>
            <a:ext cx="1811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ног7"/>
          <p:cNvPicPr/>
          <p:nvPr/>
        </p:nvPicPr>
        <p:blipFill>
          <a:blip r:embed="rId1"/>
          <a:stretch/>
        </p:blipFill>
        <p:spPr>
          <a:xfrm>
            <a:off x="4859280" y="1341360"/>
            <a:ext cx="3706920" cy="51912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472680" y="765000"/>
            <a:ext cx="374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ривыч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грызть ног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"/>
          <p:cNvSpPr/>
          <p:nvPr/>
        </p:nvSpPr>
        <p:spPr>
          <a:xfrm>
            <a:off x="539640" y="1125360"/>
            <a:ext cx="68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 что здесь происход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6" descr="щелк"/>
          <p:cNvPicPr/>
          <p:nvPr/>
        </p:nvPicPr>
        <p:blipFill>
          <a:blip r:embed="rId1"/>
          <a:stretch/>
        </p:blipFill>
        <p:spPr>
          <a:xfrm>
            <a:off x="2556000" y="2062080"/>
            <a:ext cx="582120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48000" y="188640"/>
            <a:ext cx="2170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469800" y="9810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ивычка щёлкания суста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 её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9" descr="щ9"/>
          <p:cNvPicPr/>
          <p:nvPr/>
        </p:nvPicPr>
        <p:blipFill>
          <a:blip r:embed="rId1"/>
          <a:stretch/>
        </p:blipFill>
        <p:spPr>
          <a:xfrm>
            <a:off x="3492360" y="2440080"/>
            <a:ext cx="532152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260280"/>
          <a:ext cx="9144000" cy="6410520"/>
        </p:xfrm>
        <a:graphic>
          <a:graphicData uri="http://schemas.openxmlformats.org/drawingml/2006/table">
            <a:tbl>
              <a:tblPr/>
              <a:tblGrid>
                <a:gridCol w="2381400"/>
                <a:gridCol w="1382400"/>
                <a:gridCol w="1308240"/>
                <a:gridCol w="1382760"/>
                <a:gridCol w="1305000"/>
                <a:gridCol w="13842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ифы о здоров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Лекарствен-ные травы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Вредные привычк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 </a:t>
                      </a: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Продукты питания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Режим д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131760"/>
            <a:ext cx="78483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42920" y="2540160"/>
            <a:ext cx="8893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"/>
          <p:cNvSpPr/>
          <p:nvPr/>
        </p:nvSpPr>
        <p:spPr>
          <a:xfrm>
            <a:off x="250920" y="9079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сскажите, кому же вре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та вредная привы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7" descr="сигарета"/>
          <p:cNvPicPr/>
          <p:nvPr/>
        </p:nvPicPr>
        <p:blipFill>
          <a:blip r:embed="rId1"/>
          <a:stretch/>
        </p:blipFill>
        <p:spPr>
          <a:xfrm>
            <a:off x="1332000" y="2421000"/>
            <a:ext cx="635004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9260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"/>
          <p:cNvSpPr/>
          <p:nvPr/>
        </p:nvSpPr>
        <p:spPr>
          <a:xfrm>
            <a:off x="539640" y="1052640"/>
            <a:ext cx="8280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d60093"/>
                </a:solidFill>
                <a:uFillTx/>
                <a:latin typeface="Arial"/>
              </a:rPr>
              <a:t>ВС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урильщ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то находится рядом с курильщ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дущим детям и тех, и друг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"/>
          <p:cNvSpPr/>
          <p:nvPr/>
        </p:nvSpPr>
        <p:spPr>
          <a:xfrm>
            <a:off x="324000" y="1484280"/>
            <a:ext cx="849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инотиллексом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 какой вредной привычке большинства малышей и некоторых взросл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нос"/>
          <p:cNvPicPr/>
          <p:nvPr/>
        </p:nvPicPr>
        <p:blipFill>
          <a:blip r:embed="rId1"/>
          <a:stretch/>
        </p:blipFill>
        <p:spPr>
          <a:xfrm>
            <a:off x="3708360" y="1268280"/>
            <a:ext cx="5121360" cy="3391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нос4"/>
          <p:cNvPicPr/>
          <p:nvPr/>
        </p:nvPicPr>
        <p:blipFill>
          <a:blip r:embed="rId2"/>
          <a:stretch/>
        </p:blipFill>
        <p:spPr>
          <a:xfrm>
            <a:off x="25092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46240" y="476280"/>
            <a:ext cx="685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95280" y="78732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 народному поверью, он отпугивает вампиров. Ученые добавляют к вампирам бактерии и вирусы, которые точно так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переносят его аромат, обусловленный содержанием в нём эфирных масел и фитонцидов. Он незаменим при лечении простудных заболеваний. Кроме того, его употребление снижает риск возникновения рака желудка и кишечника, улучшает работу пищеварения и защищает от риска сосудистых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О каком полезном продукте питания идё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492000" y="11592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ЧЕСН"/>
          <p:cNvPicPr/>
          <p:nvPr/>
        </p:nvPicPr>
        <p:blipFill>
          <a:blip r:embed="rId1"/>
          <a:stretch/>
        </p:blipFill>
        <p:spPr>
          <a:xfrm>
            <a:off x="250920" y="981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00" name="Текст 3"/>
          <p:cNvSpPr/>
          <p:nvPr/>
        </p:nvSpPr>
        <p:spPr>
          <a:xfrm>
            <a:off x="4716360" y="4653000"/>
            <a:ext cx="423252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ЧЕС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921800" cy="505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 переводе с английского название этого продукта - буквально «горячая собака» - булочка с сосиской. Это своего рода символ американского общепита и фастфу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утверждению медиков он так же опасен для здоровья, как и сигареты. В частности, он способен провоцировать развитие рака прямой и толстой киш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азовите этот проду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84000" y="208080"/>
            <a:ext cx="37544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2700360" y="55159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хот-д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хот дог"/>
          <p:cNvPicPr/>
          <p:nvPr/>
        </p:nvPicPr>
        <p:blipFill>
          <a:blip r:embed="rId1"/>
          <a:stretch/>
        </p:blipFill>
        <p:spPr>
          <a:xfrm>
            <a:off x="1476360" y="981000"/>
            <a:ext cx="7024680" cy="425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6347160" cy="1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0" y="24703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"/>
          <p:cNvSpPr/>
          <p:nvPr/>
        </p:nvSpPr>
        <p:spPr>
          <a:xfrm>
            <a:off x="826920" y="213372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Белая смер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25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60836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Лекарства на травах безвред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o1"/>
          <p:cNvPicPr/>
          <p:nvPr/>
        </p:nvPicPr>
        <p:blipFill>
          <a:blip r:embed="rId1"/>
          <a:stretch/>
        </p:blipFill>
        <p:spPr>
          <a:xfrm>
            <a:off x="5073480" y="1197000"/>
            <a:ext cx="35798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649520" y="259920"/>
            <a:ext cx="58449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"/>
          <p:cNvSpPr/>
          <p:nvPr/>
        </p:nvSpPr>
        <p:spPr>
          <a:xfrm>
            <a:off x="324000" y="1052640"/>
            <a:ext cx="8316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месь сахара, химии и газов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редный продукт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30440" y="260280"/>
            <a:ext cx="59148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7" descr="пепси"/>
          <p:cNvPicPr/>
          <p:nvPr/>
        </p:nvPicPr>
        <p:blipFill>
          <a:blip r:embed="rId1"/>
          <a:stretch/>
        </p:blipFill>
        <p:spPr>
          <a:xfrm>
            <a:off x="0" y="692280"/>
            <a:ext cx="5076720" cy="482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кока"/>
          <p:cNvPicPr/>
          <p:nvPr/>
        </p:nvPicPr>
        <p:blipFill>
          <a:blip r:embed="rId2"/>
          <a:stretch/>
        </p:blipFill>
        <p:spPr>
          <a:xfrm>
            <a:off x="3132000" y="1592280"/>
            <a:ext cx="630252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915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"/>
          <p:cNvSpPr/>
          <p:nvPr/>
        </p:nvSpPr>
        <p:spPr>
          <a:xfrm>
            <a:off x="324000" y="126828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се это сплошная химия, наносящая несомненный вред нашему организму. Но многие очень любят эти сухие, хрустящие, требующие горячей воды вредные продукты. Иногда пытаются употреблять их и в сухом ви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3178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4920" y="2751120"/>
            <a:ext cx="9074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8" descr="ролтон"/>
          <p:cNvPicPr/>
          <p:nvPr/>
        </p:nvPicPr>
        <p:blipFill>
          <a:blip r:embed="rId1"/>
          <a:stretch/>
        </p:blipFill>
        <p:spPr>
          <a:xfrm>
            <a:off x="5003640" y="1052640"/>
            <a:ext cx="3645000" cy="5040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рол"/>
          <p:cNvPicPr/>
          <p:nvPr/>
        </p:nvPicPr>
        <p:blipFill>
          <a:blip r:embed="rId2"/>
          <a:stretch/>
        </p:blipFill>
        <p:spPr>
          <a:xfrm>
            <a:off x="395280" y="907920"/>
            <a:ext cx="416412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"/>
          <p:cNvSpPr/>
          <p:nvPr/>
        </p:nvSpPr>
        <p:spPr>
          <a:xfrm>
            <a:off x="611280" y="1052640"/>
            <a:ext cx="741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Для среднестатистического человека сон составляет… (Укажите количество час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сон"/>
          <p:cNvPicPr/>
          <p:nvPr/>
        </p:nvPicPr>
        <p:blipFill>
          <a:blip r:embed="rId1"/>
          <a:stretch/>
        </p:blipFill>
        <p:spPr>
          <a:xfrm>
            <a:off x="2916360" y="2997360"/>
            <a:ext cx="3571920" cy="334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39704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"/>
          <p:cNvSpPr/>
          <p:nvPr/>
        </p:nvSpPr>
        <p:spPr>
          <a:xfrm>
            <a:off x="757800" y="1341360"/>
            <a:ext cx="33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-8 ча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сон6"/>
          <p:cNvPicPr/>
          <p:nvPr/>
        </p:nvPicPr>
        <p:blipFill>
          <a:blip r:embed="rId1"/>
          <a:stretch/>
        </p:blipFill>
        <p:spPr>
          <a:xfrm>
            <a:off x="3635280" y="2421000"/>
            <a:ext cx="495324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258920" y="1268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Наиболее благоприятное время ложиться сп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69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сон8"/>
          <p:cNvPicPr/>
          <p:nvPr/>
        </p:nvPicPr>
        <p:blipFill>
          <a:blip r:embed="rId1"/>
          <a:stretch/>
        </p:blipFill>
        <p:spPr>
          <a:xfrm>
            <a:off x="324000" y="1125360"/>
            <a:ext cx="6264000" cy="31276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8"/>
          <p:cNvSpPr/>
          <p:nvPr/>
        </p:nvSpPr>
        <p:spPr>
          <a:xfrm>
            <a:off x="828000" y="4508640"/>
            <a:ext cx="80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между 21 – 22 час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жавор"/>
          <p:cNvPicPr/>
          <p:nvPr/>
        </p:nvPicPr>
        <p:blipFill>
          <a:blip r:embed="rId1"/>
          <a:stretch/>
        </p:blipFill>
        <p:spPr>
          <a:xfrm>
            <a:off x="684360" y="105264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сов5"/>
          <p:cNvPicPr/>
          <p:nvPr/>
        </p:nvPicPr>
        <p:blipFill>
          <a:blip r:embed="rId2"/>
          <a:stretch/>
        </p:blipFill>
        <p:spPr>
          <a:xfrm>
            <a:off x="5508720" y="1197000"/>
            <a:ext cx="3109680" cy="4614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гол8"/>
          <p:cNvPicPr/>
          <p:nvPr/>
        </p:nvPicPr>
        <p:blipFill>
          <a:blip r:embed="rId3"/>
          <a:stretch/>
        </p:blipFill>
        <p:spPr>
          <a:xfrm>
            <a:off x="183528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43320" y="260280"/>
            <a:ext cx="4114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"/>
          <p:cNvSpPr/>
          <p:nvPr/>
        </p:nvSpPr>
        <p:spPr>
          <a:xfrm>
            <a:off x="539640" y="1125360"/>
            <a:ext cx="8294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ХРОНОТИП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ЧЕЛО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Жаворон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Голуб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Со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17985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"/>
          <p:cNvSpPr/>
          <p:nvPr/>
        </p:nvSpPr>
        <p:spPr>
          <a:xfrm>
            <a:off x="250920" y="76500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Употребление любого лекарства, даже на натуральной основе, не проходит бесследн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1042920" y="162864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Считается, что 5 минут этого 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заменяют 40 минут отды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63600" y="260280"/>
            <a:ext cx="433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смех"/>
          <p:cNvPicPr/>
          <p:nvPr/>
        </p:nvPicPr>
        <p:blipFill>
          <a:blip r:embed="rId1"/>
          <a:stretch/>
        </p:blipFill>
        <p:spPr>
          <a:xfrm>
            <a:off x="1547640" y="1268280"/>
            <a:ext cx="5766120" cy="38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2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2"/>
          <p:cNvSpPr/>
          <p:nvPr/>
        </p:nvSpPr>
        <p:spPr>
          <a:xfrm>
            <a:off x="684360" y="126828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амый значительный физиологический подъ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и самая высокая работоспособность человека, но, к сожалению, современный человек это время просып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7496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1"/>
          <p:cNvSpPr/>
          <p:nvPr/>
        </p:nvSpPr>
        <p:spPr>
          <a:xfrm>
            <a:off x="2268360" y="4437000"/>
            <a:ext cx="631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5 – 6 часов у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8" descr="сон 6"/>
          <p:cNvPicPr/>
          <p:nvPr/>
        </p:nvPicPr>
        <p:blipFill>
          <a:blip r:embed="rId1"/>
          <a:stretch/>
        </p:blipFill>
        <p:spPr>
          <a:xfrm>
            <a:off x="684360" y="1268280"/>
            <a:ext cx="482436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09880" y="182160"/>
            <a:ext cx="512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"/>
          <p:cNvSpPr/>
          <p:nvPr/>
        </p:nvSpPr>
        <p:spPr>
          <a:xfrm>
            <a:off x="395280" y="1125360"/>
            <a:ext cx="619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еловек использует только 10% ресурсов свое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моз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1308773471_tozhe-mify"/>
          <p:cNvPicPr/>
          <p:nvPr/>
        </p:nvPicPr>
        <p:blipFill>
          <a:blip r:embed="rId1"/>
          <a:stretch/>
        </p:blipFill>
        <p:spPr>
          <a:xfrm>
            <a:off x="3924360" y="3573360"/>
            <a:ext cx="502920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36920" y="18864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"/>
          <p:cNvSpPr/>
          <p:nvPr/>
        </p:nvSpPr>
        <p:spPr>
          <a:xfrm>
            <a:off x="755640" y="981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Согласно последним данным, в течение дня мы задействуем около </a:t>
            </a:r>
            <a:r>
              <a:rPr b="1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80 процентов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клеток мозга для решения повседневных пробл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31760" y="189000"/>
            <a:ext cx="5483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603930b61fb3"/>
          <p:cNvPicPr/>
          <p:nvPr/>
        </p:nvPicPr>
        <p:blipFill>
          <a:blip r:embed="rId1"/>
          <a:stretch/>
        </p:blipFill>
        <p:spPr>
          <a:xfrm>
            <a:off x="3203640" y="2492280"/>
            <a:ext cx="5715000" cy="412452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539640" y="11970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Морковка может улучшить з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3846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"/>
          <p:cNvSpPr/>
          <p:nvPr/>
        </p:nvSpPr>
        <p:spPr>
          <a:xfrm>
            <a:off x="611280" y="90792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Морковь на самом деле содержит витамин А, но потребление большого количество этого витамина </a:t>
            </a:r>
            <a:r>
              <a:rPr b="0" lang="ru-RU" sz="5400" spc="-1" strike="noStrike" u="sng">
                <a:solidFill>
                  <a:srgbClr val="990000"/>
                </a:solidFill>
                <a:uFillTx/>
                <a:latin typeface="Arial"/>
              </a:rPr>
              <a:t>не улучшает наше зр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4:29:36Z</dcterms:created>
  <dc:creator>1</dc:creator>
  <dc:description/>
  <dc:language>en-US</dc:language>
  <cp:lastModifiedBy>Работник</cp:lastModifiedBy>
  <dcterms:modified xsi:type="dcterms:W3CDTF">2013-09-09T05:04:50Z</dcterms:modified>
  <cp:revision>48</cp:revision>
  <dc:subject/>
  <dc:title>Слайд 1</dc:title>
</cp:coreProperties>
</file>