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52F0-C484-43B0-8002-AB8FBCC27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6FFC-CEFA-4A35-9A99-D01414A29B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C3D-BC7B-4B03-A111-21B7F548B4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B1D-BBF1-4C07-B9FB-14BA5ACC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587-258B-44BF-92B0-CC21BF1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C85B-10A0-4242-9F23-37FC5FDE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10F-F6E9-4E85-B9CA-41E289C8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5138-1643-4447-BB8A-01C89990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A7F-340D-4035-B62B-C4872513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A84A-D937-47F0-B865-0F2EC53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BDF-13BD-4332-A6C5-39B76960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168E-1891-449D-A734-BCE101AC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F47B-356D-4F97-91D1-A1B7ECB8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B33F-4332-4E64-A5C6-56522F9A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D75-9100-4FE3-BBE8-43BB26DC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5DF9-7138-4958-95A7-17A88BDF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AC20-54D1-4370-941F-B5320FE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E5D-B102-4CB0-86F6-D58F552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5420-14DA-4E8A-B0AC-C50DDD1F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3DA6-7205-42A5-B4CC-5B53BBE4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DBE-1984-44FE-944F-85018D51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103-3934-40E3-8161-EDEAA46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7A7-C7F7-440D-8776-B71AB3B6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F5C-DF5F-496F-A922-15D32861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360-8181-4D1C-86E9-7F4DF5CE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53F-51A3-4DA6-B746-0B9EED9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627B-ECFE-459A-ABF3-767DD94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7ABA-9DF7-4BAC-A189-63AEB3568D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5C15-FE6A-4EB2-9086-A21AA1D56B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4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ВОЯ ИГРА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Baskerville"/>
              </a:rPr>
              <a:t>«По литературным мирам»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инкевич Е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6275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е исчезнувшее с лица Земли животное упомянуто в сказке «Алиса в стране Чудес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763640" y="4724280"/>
            <a:ext cx="676908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Птица д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991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обезьяний народ похитил Маугли?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132000" y="4724280"/>
            <a:ext cx="540072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ндерло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9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народ возглавляет Торин Дубощи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979640" y="4581360"/>
            <a:ext cx="6264360" cy="18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Гномий нар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11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ёс какой породы ведёт дневни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 (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н с хозяйкой Зиной и её родителями живёт во Франции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771640" y="4941720"/>
            <a:ext cx="5834160" cy="121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Фокс-терьер (Микк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38988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в сказке «Ослиная шкура» оказалось в пиро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0" y="4869000"/>
            <a:ext cx="41054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ольц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позволяло Питеру Пэну лета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68000" y="512640"/>
            <a:ext cx="4103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43280" y="4475160"/>
            <a:ext cx="584820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олшебная пыль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влетел в турецкий лагерь на ядре, привязал коня к кресту на колокольне, поджёг порох искрами из глаз и зашвырнул серебряный топорик на Лу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95280" y="260280"/>
            <a:ext cx="38894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419640" y="4869000"/>
            <a:ext cx="518616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рон Мюнхауз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жил на вилле «Курица» (она же «Вверхтормашками»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8360" y="512640"/>
            <a:ext cx="2890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492360" y="4724280"/>
            <a:ext cx="5113440" cy="165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Пепп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линныйчул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6040" y="164736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акое кракатук и для чего он нуже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498600"/>
            <a:ext cx="3898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971640" y="4149720"/>
            <a:ext cx="748512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олшебный орех. Он помог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расколдовать Щелкунч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был самым безумным на чаепитии в Стране Чуде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987640" y="4437000"/>
            <a:ext cx="5472000" cy="165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Шляп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549360"/>
          <a:ext cx="8229600" cy="5675400"/>
        </p:xfrm>
        <a:graphic>
          <a:graphicData uri="http://schemas.openxmlformats.org/drawingml/2006/table">
            <a:tbl>
              <a:tblPr/>
              <a:tblGrid>
                <a:gridCol w="2663640"/>
                <a:gridCol w="1079640"/>
                <a:gridCol w="1081080"/>
                <a:gridCol w="1150920"/>
                <a:gridCol w="1152720"/>
                <a:gridCol w="110160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зь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е (существ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шебные предмет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пез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нспор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ь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AutoShape 189">
            <a:hlinkClick r:id="rId31" action="ppaction://hlinksldjump"/>
          </p:cNvPr>
          <p:cNvSpPr/>
          <p:nvPr/>
        </p:nvSpPr>
        <p:spPr>
          <a:xfrm>
            <a:off x="8532720" y="640872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21045" y="10800"/>
                </a:lnTo>
                <a:lnTo>
                  <a:pt x="7032" y="1780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был владельцем шоколадной фабрики, доставшейся Чарли Бакет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419640" y="5229360"/>
            <a:ext cx="526716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илли Во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готовил для Трилле самые вкусные ваф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564000" y="4797360"/>
            <a:ext cx="5256000" cy="144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ба-тёт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каком городе живёт знаменитый сладкоежка, побаивающийся одну «домомучительницу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692360" y="4724280"/>
            <a:ext cx="6551640" cy="129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 Стокголь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го судили за кражу семи кренделей в сказке «Алиса в Стране Чудес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419640" y="4724280"/>
            <a:ext cx="482436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алета черв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чём или ком перемещалась Дюймовочк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4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708360" y="4624560"/>
            <a:ext cx="5111640" cy="16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а ласточ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побывал Незнай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780000" y="4941720"/>
            <a:ext cx="50400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а Лу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чём перемещалась самая известная британская няня?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987640" y="4653000"/>
            <a:ext cx="511164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а зонт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рои ЭТОГО юмористического произведения решили провести выходные с пользой для здоровья, отправившись вчетвером на лодке по Темз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108160" y="5232240"/>
            <a:ext cx="655164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Трое в лодк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е считая соба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зовите седьмую – последнюю – планету, которую посетил Маленький Принц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284720" y="4941720"/>
            <a:ext cx="39592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Зем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44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6040" y="1484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ем приходилась Золушке её волшебная помощниц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2340000" y="4510080"/>
            <a:ext cx="6480000" cy="20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рёстн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Дополнительные блоки вопро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70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 набор вопр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2 набор вопр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3 набор вопр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4" action="ppaction://hlinksldjump"/>
          </p:cNvPr>
          <p:cNvSpPr/>
          <p:nvPr/>
        </p:nvSpPr>
        <p:spPr>
          <a:xfrm>
            <a:off x="8172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ыном какого бога оказался Перси Джексон в одноимённых повестях Рика Риорда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132000" y="5013360"/>
            <a:ext cx="5112000" cy="151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Посейдо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овут племянника Бильбо Бэггинс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572000" y="4724280"/>
            <a:ext cx="4114800" cy="157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Фр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отец Коралины  в повести Нила Геймана поручил ей посчитать в доме, когда она пожаловалась на ску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564000" y="5084640"/>
            <a:ext cx="4680000" cy="14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ве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оказались Муми-тролли во время Большого наводне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3419640" y="4869000"/>
            <a:ext cx="540036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7f0f9"/>
                </a:solidFill>
                <a:latin typeface="Arial"/>
              </a:rPr>
              <a:t>В театре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Как звали фею в сказке про Питера Пэн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5003640" y="4724280"/>
            <a:ext cx="3240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инь-Ди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7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Гарри Поттер вызывает при помощи заклинания «Люмос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419640" y="4724280"/>
            <a:ext cx="4824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автор повести «Король Матиуш Первы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572000" y="4724280"/>
            <a:ext cx="3672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Януш Корч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каком городе жил Незнай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700360" y="4724280"/>
            <a:ext cx="55436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 Цветочном го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ем был Рикки-Тикки-Тав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3995640" y="4797360"/>
            <a:ext cx="45356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нгуст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такой Добб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3780000" y="4724280"/>
            <a:ext cx="4464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омашний эль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530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был самым близким другом Кристофера Роб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195640" y="4724280"/>
            <a:ext cx="640872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инни-П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возглавлял музыкальную группу, состоявшую из кота, петуха, собаки и осл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364000" y="4724280"/>
            <a:ext cx="288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Трубад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звали почтальона в Простоквашин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403280" y="4724280"/>
            <a:ext cx="71294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Игорь Иванович Печк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у помогал Кот в сапогах в одноимённой сказк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276720" y="4724280"/>
            <a:ext cx="49672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ыну ме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170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-то правит государством. А в чьём распоряжении целая плане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132000" y="5084640"/>
            <a:ext cx="5472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ленького прин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6668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им заклинанием Гарри мог потушить све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859280" y="4797360"/>
            <a:ext cx="28814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Нокс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1700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повесть Анны Гавальда «35 кило ...» (вставьте слово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771640" y="5084640"/>
            <a:ext cx="583272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35 кило надежд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166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главный герой «Книги джунгле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5003640" y="5084640"/>
            <a:ext cx="28814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уг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колько детей превратились в стариков в «Сказке о потерянном времени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788000" y="5084640"/>
            <a:ext cx="3816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Четве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м Алиса играла в крокет в Стране Чуде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788000" y="5084640"/>
            <a:ext cx="3816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Золушка в спешке оставила на бал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3564000" y="5084640"/>
            <a:ext cx="5040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Туфель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лучший друг Ка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26748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3880" y="5072040"/>
            <a:ext cx="676908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Гер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какой деревне живут герои повести «Вафельное сердц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132000" y="5084640"/>
            <a:ext cx="5256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Щепки-Матиль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Муми-тролли делают зимой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132000" y="5084640"/>
            <a:ext cx="5472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падают в спяч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ьими атрибутами являются охотничья кепка, курительная трубка и скрип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2987640" y="5084640"/>
            <a:ext cx="540072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Шерлока Холм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66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рассказывает сказки в цикле «Книга тысячи и одной ночи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4356000" y="5084640"/>
            <a:ext cx="37432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Шахереза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осуществил пластическую операцию и лишился голос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788000" y="5084640"/>
            <a:ext cx="3600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Русал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звали фавна, друга Люси Певенс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276720" y="5084640"/>
            <a:ext cx="468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истер Тумн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названии какого романа фигурирует число 3, хотя героев 4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556000" y="5084640"/>
            <a:ext cx="5472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Три мушкетёр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назывался двор Нищего корол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924360" y="5084640"/>
            <a:ext cx="4464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вор Отбро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ьим другом был африканский король Бум-Дру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692360" y="5084640"/>
            <a:ext cx="6696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орол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тиуша </a:t>
            </a:r>
            <a:r>
              <a:rPr b="1" lang="en-US" sz="4000" spc="-1" strike="noStrike">
                <a:solidFill>
                  <a:srgbClr val="d7f0f9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Реформа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побывал в Зазеркаль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851280" y="5084640"/>
            <a:ext cx="417672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Али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3860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6600" y="1247400"/>
            <a:ext cx="792936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друга Маугли? Кем он бы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564000" y="4797360"/>
            <a:ext cx="503064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гир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амец панте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ой город прославил бездомных музыкантов, спасшихся бегством от жестоких и неблагодарных хозяе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4788000" y="5084640"/>
            <a:ext cx="324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рем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пел песню «Пятнадцать человек на сундук мертвеца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4788000" y="5084640"/>
            <a:ext cx="324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ен Ган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зовут сына царя Салтан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348000" y="5084640"/>
            <a:ext cx="468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нязь Гвид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у принадлежат слова «Ты в ответе за тех, кого приручил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411280" y="4508640"/>
            <a:ext cx="5616720" cy="172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Лису из пов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Маленький принц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5304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 кем дружил Чиполл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050920" y="4724280"/>
            <a:ext cx="648180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 Вишенкой и Редис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подругу Якоба в сказке Вильгельма Гауфа «Карлик Нос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673360" y="4867200"/>
            <a:ext cx="558000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усыня Ми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5976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ого спасает герой Некрасова дед Мазай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0" y="4724280"/>
            <a:ext cx="396072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Зайц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9:12:59Z</dcterms:created>
  <dc:creator>1</dc:creator>
  <dc:description/>
  <dc:language>en-US</dc:language>
  <cp:lastModifiedBy>Microsoft Office User</cp:lastModifiedBy>
  <dcterms:modified xsi:type="dcterms:W3CDTF">2024-01-08T08:39:36Z</dcterms:modified>
  <cp:revision>36</cp:revision>
  <dc:subject/>
  <dc:title>СВОЯ ИГРА</dc:title>
</cp:coreProperties>
</file>