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0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8D6E-04A1-45A4-BB8F-9398B1C70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C3BA-9588-4C47-9A9C-96AF1D40ED7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FAC2-62F6-4136-898D-F1B7023EE53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AF1C-8270-4508-B6B3-3092A3CCA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6D90-C32F-4D14-9D15-8BFB633D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CB78-7627-494F-B5FD-5FE19B9F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5CF-BDA4-4D13-884B-B86C6610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93F9-4A13-4B4B-8F04-854C57B9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5588D-D394-4695-96AD-7055F50A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7B67-3CEE-44E5-A8FE-6C4FF903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3028-AD11-4006-80F8-AED502B0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643A-6BF5-44F1-8FD7-8CBFF1D1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19E3-F6C2-4FAD-B13E-42204C49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D480-34E9-44C4-AAFD-1A518520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D71A-9192-456C-B5D5-C5E225F0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EB7DF-710C-4126-BBC6-F51C6E7B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C9123-B8BF-4949-B5AB-6FDBB5E04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E5607-D15D-4416-B959-1AAA60AA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3208-2F29-4A7A-BCFE-08A7C258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5D59-2250-496A-B246-6F4DB5A5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93B-FB9C-4C06-9C4A-254DB99C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053-12B6-4FC5-922E-89886788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247-EF0A-4DC5-8214-73A88A18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E09-9494-46A5-9C08-477B2E68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6010-5449-4860-9EE5-3DD2326D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EEAA-2A3A-4993-83EA-3F83181B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0279-E9C2-49BE-80F9-489770D3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4434-5467-4854-BCCC-E828E0B1BC1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40D7-9BCF-489A-9A4E-8E42FBB9D80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8.xml"/><Relationship Id="rId16" Type="http://schemas.openxmlformats.org/officeDocument/2006/relationships/slide" Target="slide19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" Target="slide29.xml"/><Relationship Id="rId27" Type="http://schemas.openxmlformats.org/officeDocument/2006/relationships/slide" Target="slide30.xml"/><Relationship Id="rId28" Type="http://schemas.openxmlformats.org/officeDocument/2006/relationships/slide" Target="slide31.xml"/><Relationship Id="rId29" Type="http://schemas.openxmlformats.org/officeDocument/2006/relationships/slide" Target="slide32.xml"/><Relationship Id="rId30" Type="http://schemas.openxmlformats.org/officeDocument/2006/relationships/slide" Target="slide33.xml"/><Relationship Id="rId31" Type="http://schemas.openxmlformats.org/officeDocument/2006/relationships/slide" Target="slide3.xml"/><Relationship Id="rId3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44.xml"/><Relationship Id="rId3" Type="http://schemas.openxmlformats.org/officeDocument/2006/relationships/slide" Target="slide74.xml"/><Relationship Id="rId4" Type="http://schemas.openxmlformats.org/officeDocument/2006/relationships/slide" Target="slide2.xml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СВОЯ ИГРА</a:t>
            </a:r>
            <a:br>
              <a:rPr sz="4800"/>
            </a:b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imes New Roman"/>
                <a:ea typeface="Baskerville"/>
              </a:rPr>
              <a:t>«По литературным мирам»</a:t>
            </a:r>
            <a:br>
              <a:rPr sz="4800"/>
            </a:br>
            <a:br>
              <a:rPr sz="48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готовила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ринкевич Е.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562752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е исчезнувшее с лица Земли животное упомянуто в сказке «Алиса в стране Чудес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1763640" y="4724280"/>
            <a:ext cx="6769080" cy="136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Птица д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9916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1980720"/>
            <a:ext cx="843588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обезьяний народ похитил Маугли?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132000" y="4724280"/>
            <a:ext cx="540072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андерлог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69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народ возглавляет Торин Дубощи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979640" y="4581360"/>
            <a:ext cx="6264360" cy="185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Гномий нар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6119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ёс какой породы ведёт дневник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 (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н с хозяйкой Зиной и её родителями живёт во Франции)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771640" y="4941720"/>
            <a:ext cx="5834160" cy="1217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Фокс-терьер (Микки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38988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в сказке «Ослиная шкура» оказалось в пирог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4572000" y="4869000"/>
            <a:ext cx="41054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Кольц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позволяло Питеру Пэну летать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468000" y="512640"/>
            <a:ext cx="41036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2843280" y="4475160"/>
            <a:ext cx="584820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олшебная пыль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AutoShape 6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то влетел в турецкий лагерь на ядре, привязал коня к кресту на колокольне, поджёг порох искрами из глаз и зашвырнул серебряный топорик на Лун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395280" y="260280"/>
            <a:ext cx="388944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419640" y="4869000"/>
            <a:ext cx="518616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арон Мюнхауз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6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жил на вилле «Курица» (она же «Вверхтормашками»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68360" y="512640"/>
            <a:ext cx="2890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3492360" y="4724280"/>
            <a:ext cx="5113440" cy="165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Пепп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линныйчул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AutoShape 6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46040" y="1647360"/>
            <a:ext cx="8229600" cy="21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Что такое кракатук и для чего он нуже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498600"/>
            <a:ext cx="3898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ff66"/>
                </a:solidFill>
                <a:latin typeface="Arial"/>
              </a:rPr>
              <a:t>Волшебные предметы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971640" y="4149720"/>
            <a:ext cx="7485120" cy="2209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олшебный орех. Он помог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расколдовать Щелкунч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был самым безумным на чаепитии в Стране Чудес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4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2987640" y="4437000"/>
            <a:ext cx="5472000" cy="1656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Шляпни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68360" y="549360"/>
          <a:ext cx="8229600" cy="5675400"/>
        </p:xfrm>
        <a:graphic>
          <a:graphicData uri="http://schemas.openxmlformats.org/drawingml/2006/table">
            <a:tbl>
              <a:tblPr/>
              <a:tblGrid>
                <a:gridCol w="2663640"/>
                <a:gridCol w="1079640"/>
                <a:gridCol w="1081080"/>
                <a:gridCol w="1150920"/>
                <a:gridCol w="1152720"/>
                <a:gridCol w="1101600"/>
              </a:tblGrid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рузья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ивотные (существа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шебные предметы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пеза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ранспор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ья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86d1ec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AutoShape 189">
            <a:hlinkClick r:id="rId31" action="ppaction://hlinksldjump"/>
          </p:cNvPr>
          <p:cNvSpPr/>
          <p:nvPr/>
        </p:nvSpPr>
        <p:spPr>
          <a:xfrm>
            <a:off x="8532720" y="6408720"/>
            <a:ext cx="433440" cy="333360"/>
          </a:xfrm>
          <a:custGeom>
            <a:avLst/>
            <a:gdLst>
              <a:gd name="textAreaLeft" fmla="*/ 21600 w 433440"/>
              <a:gd name="textAreaRight" fmla="*/ 411840 w 4334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8078" h="21600">
                <a:moveTo>
                  <a:pt x="0" y="0"/>
                </a:moveTo>
                <a:lnTo>
                  <a:pt x="28078" y="0"/>
                </a:lnTo>
                <a:lnTo>
                  <a:pt x="28078" y="21600"/>
                </a:lnTo>
                <a:lnTo>
                  <a:pt x="0" y="21600"/>
                </a:lnTo>
                <a:close/>
              </a:path>
              <a:path fill="lightenLess" w="28078" h="21600">
                <a:moveTo>
                  <a:pt x="0" y="0"/>
                </a:moveTo>
                <a:lnTo>
                  <a:pt x="28078" y="0"/>
                </a:lnTo>
                <a:lnTo>
                  <a:pt x="26678" y="1400"/>
                </a:lnTo>
                <a:lnTo>
                  <a:pt x="1400" y="1400"/>
                </a:lnTo>
                <a:close/>
              </a:path>
              <a:path fill="darken" w="28078" h="21600">
                <a:moveTo>
                  <a:pt x="28078" y="0"/>
                </a:moveTo>
                <a:lnTo>
                  <a:pt x="28078" y="21600"/>
                </a:lnTo>
                <a:lnTo>
                  <a:pt x="26678" y="20200"/>
                </a:lnTo>
                <a:lnTo>
                  <a:pt x="26678" y="1400"/>
                </a:lnTo>
                <a:close/>
              </a:path>
              <a:path fill="darkenLess" w="28078" h="21600">
                <a:moveTo>
                  <a:pt x="28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8" y="20200"/>
                </a:lnTo>
                <a:close/>
              </a:path>
              <a:path fill="lighten" w="28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8" h="21600">
                <a:moveTo>
                  <a:pt x="7032" y="3794"/>
                </a:moveTo>
                <a:lnTo>
                  <a:pt x="21045" y="10800"/>
                </a:lnTo>
                <a:lnTo>
                  <a:pt x="7032" y="1780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37840"/>
            <a:ext cx="8229600" cy="21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был владельцем шоколадной фабрики, доставшейся Чарли Бакет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419640" y="5229360"/>
            <a:ext cx="5267160" cy="115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илли Вон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готовил для Трилле самые вкусные вафл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3564000" y="4797360"/>
            <a:ext cx="5256000" cy="1440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аба-тёт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В каком городе живёт знаменитый сладкоежка, побаивающийся одну «домомучительницу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1692360" y="4724280"/>
            <a:ext cx="6551640" cy="129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 Стокгольм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го судили за кражу семи кренделей в сказке «Алиса в Стране Чудес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457200" y="277920"/>
            <a:ext cx="31068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1d1ff"/>
                </a:solidFill>
                <a:latin typeface="Arial"/>
              </a:rPr>
              <a:t>Трапеза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6"/>
          <p:cNvSpPr/>
          <p:nvPr/>
        </p:nvSpPr>
        <p:spPr>
          <a:xfrm>
            <a:off x="3419640" y="4724280"/>
            <a:ext cx="482436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алета черве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 чём или ком перемещалась Дюймовочка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4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5"/>
          <p:cNvSpPr/>
          <p:nvPr/>
        </p:nvSpPr>
        <p:spPr>
          <a:xfrm>
            <a:off x="3708360" y="4624560"/>
            <a:ext cx="5111640" cy="1612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На ласточ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4410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де побывал Незнай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780000" y="4941720"/>
            <a:ext cx="504000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На Лун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а чём перемещалась самая известная британская няня? 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6"/>
          <p:cNvSpPr/>
          <p:nvPr/>
        </p:nvSpPr>
        <p:spPr>
          <a:xfrm>
            <a:off x="2987640" y="4653000"/>
            <a:ext cx="5111640" cy="129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На зонт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рои ЭТОГО юмористического произведения решили провести выходные с пользой для здоровья, отправившись вчетвером на лодке по Темз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2108160" y="5232240"/>
            <a:ext cx="6551640" cy="129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Трое в лодк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не считая соба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азовите седьмую – последнюю – планету, которую посетил Маленький Принц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57200" y="277920"/>
            <a:ext cx="4619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9ffc9"/>
                </a:solidFill>
                <a:latin typeface="Arial"/>
              </a:rPr>
              <a:t>Транспорт 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284720" y="4941720"/>
            <a:ext cx="3959280" cy="1224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Земл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2449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46040" y="148428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ем приходилась Золушке её волшебная помощниц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4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2340000" y="4510080"/>
            <a:ext cx="6480000" cy="208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Крёстн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Дополнительные блоки вопросов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755640" y="2420640"/>
            <a:ext cx="7704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6d1ec"/>
                </a:solidFill>
                <a:uFillTx/>
                <a:latin typeface="Arial"/>
                <a:hlinkClick r:id="rId1" action="ppaction://hlinksldjump"/>
              </a:rPr>
              <a:t>1 набор вопрос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6d1ec"/>
                </a:solidFill>
                <a:uFillTx/>
                <a:latin typeface="Arial"/>
                <a:hlinkClick r:id="rId2" action="ppaction://hlinksldjump"/>
              </a:rPr>
              <a:t>2 набор вопрос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86d1ec"/>
                </a:solidFill>
                <a:uFillTx/>
                <a:latin typeface="Arial"/>
                <a:hlinkClick r:id="rId3" action="ppaction://hlinksldjump"/>
              </a:rPr>
              <a:t>3 набор вопросо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AutoShape 6">
            <a:hlinkClick r:id="rId4" action="ppaction://hlinksldjump"/>
          </p:cNvPr>
          <p:cNvSpPr/>
          <p:nvPr/>
        </p:nvSpPr>
        <p:spPr>
          <a:xfrm>
            <a:off x="8172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ыном какого бога оказался Перси Джексон в одноимённых повестях Рика Риорда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250920" y="189000"/>
            <a:ext cx="244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3132000" y="5013360"/>
            <a:ext cx="5112000" cy="151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Посейдо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овут племянника Бильбо Бэггинс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189000"/>
            <a:ext cx="244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4572000" y="4724280"/>
            <a:ext cx="4114800" cy="1578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Фрод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Что отец Коралины  в повести Нила Геймана поручил ей посчитать в доме, когда она пожаловалась на скуку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250920" y="189000"/>
            <a:ext cx="244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3564000" y="5084640"/>
            <a:ext cx="4680000" cy="149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вер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де оказались Муми-тролли во время Большого наводнен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250920" y="189000"/>
            <a:ext cx="244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6d1ec"/>
                </a:solidFill>
                <a:latin typeface="Arial"/>
              </a:rPr>
              <a:t>Семья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5">
            <a:hlinkClick r:id="rId1" action="ppaction://hlinksldjump"/>
          </p:cNvPr>
          <p:cNvSpPr/>
          <p:nvPr/>
        </p:nvSpPr>
        <p:spPr>
          <a:xfrm>
            <a:off x="824400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3794" y="9320"/>
                </a:moveTo>
                <a:lnTo>
                  <a:pt x="7301" y="9320"/>
                </a:lnTo>
                <a:lnTo>
                  <a:pt x="7301" y="14655"/>
                </a:lnTo>
                <a:cubicBezTo>
                  <a:pt x="7301" y="15578"/>
                  <a:pt x="8102" y="16309"/>
                  <a:pt x="9138" y="16309"/>
                </a:cubicBezTo>
                <a:lnTo>
                  <a:pt x="10800" y="16309"/>
                </a:lnTo>
                <a:cubicBezTo>
                  <a:pt x="11836" y="16309"/>
                  <a:pt x="12636" y="15578"/>
                  <a:pt x="12636" y="14655"/>
                </a:cubicBezTo>
                <a:lnTo>
                  <a:pt x="12636" y="9320"/>
                </a:lnTo>
                <a:lnTo>
                  <a:pt x="10800" y="9320"/>
                </a:lnTo>
                <a:lnTo>
                  <a:pt x="14308" y="5812"/>
                </a:lnTo>
                <a:lnTo>
                  <a:pt x="17981" y="9320"/>
                </a:lnTo>
                <a:lnTo>
                  <a:pt x="16144" y="9320"/>
                </a:lnTo>
                <a:lnTo>
                  <a:pt x="16144" y="14655"/>
                </a:lnTo>
                <a:cubicBezTo>
                  <a:pt x="16144" y="17423"/>
                  <a:pt x="13568" y="19982"/>
                  <a:pt x="10800" y="19982"/>
                </a:cubicBezTo>
                <a:lnTo>
                  <a:pt x="9138" y="19982"/>
                </a:lnTo>
                <a:cubicBezTo>
                  <a:pt x="6370" y="19982"/>
                  <a:pt x="3794" y="17423"/>
                  <a:pt x="3794" y="14655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3419640" y="4869000"/>
            <a:ext cx="540036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d7f0f9"/>
                </a:solidFill>
                <a:latin typeface="Arial"/>
              </a:rPr>
              <a:t>В театре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 Как звали фею в сказке про Питера Пэн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6"/>
          <p:cNvSpPr/>
          <p:nvPr/>
        </p:nvSpPr>
        <p:spPr>
          <a:xfrm>
            <a:off x="5003640" y="4724280"/>
            <a:ext cx="3240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инь-Ди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AutoShape 7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Гарри Поттер вызывает при помощи заклинания «Люмос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3419640" y="4724280"/>
            <a:ext cx="4824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Св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автор повести «Король Матиуш Первый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4572000" y="4724280"/>
            <a:ext cx="3672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Януш Корча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каком городе жил Незнай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2700360" y="4724280"/>
            <a:ext cx="55436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 Цветочном город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ем был Рикки-Тикки-Тав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3995640" y="4797360"/>
            <a:ext cx="45356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ангусто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такой Добб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3780000" y="4724280"/>
            <a:ext cx="4464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омашний эльф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253044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то был самым близким другом Кристофера Робин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2195640" y="4724280"/>
            <a:ext cx="6408720" cy="136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инни-Пух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AutoShape 5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возглавлял музыкальную группу, состоявшую из кота, петуха, собаки и осл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5"/>
          <p:cNvSpPr/>
          <p:nvPr/>
        </p:nvSpPr>
        <p:spPr>
          <a:xfrm>
            <a:off x="5364000" y="4724280"/>
            <a:ext cx="288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Трубаду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звали почтальона в Простоквашино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1403280" y="4724280"/>
            <a:ext cx="71294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Игорь Иванович Печки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му помогал Кот в сапогах в одноимённой сказк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179280" y="260280"/>
            <a:ext cx="23767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5"/>
          <p:cNvSpPr/>
          <p:nvPr/>
        </p:nvSpPr>
        <p:spPr>
          <a:xfrm>
            <a:off x="3276720" y="4724280"/>
            <a:ext cx="496728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Сыну мельни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6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1700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 наб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-то правит государством. А в чьём распоряжении целая планет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3132000" y="5084640"/>
            <a:ext cx="5472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аленького принц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16668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им заклинанием Гарри мог потушить свет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4"/>
          <p:cNvSpPr/>
          <p:nvPr/>
        </p:nvSpPr>
        <p:spPr>
          <a:xfrm>
            <a:off x="4859280" y="4797360"/>
            <a:ext cx="28814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Нокс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17008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Назовите повесть Анны Гавальда «35 кило ...» (вставьте слово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2771640" y="5084640"/>
            <a:ext cx="583272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35 кило надежды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16668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главный герой «Книги джунглей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5003640" y="5084640"/>
            <a:ext cx="288144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ауг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колько детей превратились в стариков в «Сказке о потерянном времени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788000" y="5084640"/>
            <a:ext cx="3816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Четвер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ем Алиса играла в крокет в Стране Чудес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4788000" y="5084640"/>
            <a:ext cx="3816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Фламинг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Золушка в спешке оставила на балу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4"/>
          <p:cNvSpPr/>
          <p:nvPr/>
        </p:nvSpPr>
        <p:spPr>
          <a:xfrm>
            <a:off x="3564000" y="5084640"/>
            <a:ext cx="5040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Туфель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56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лучший друг Ка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267480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 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1793880" y="5072040"/>
            <a:ext cx="676908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Гер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6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какой деревне живут герои повести «Вафельное сердце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132000" y="5084640"/>
            <a:ext cx="5256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Щепки-Матильд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457200" y="260280"/>
            <a:ext cx="166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то Муми-тролли делают зимой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132000" y="5084640"/>
            <a:ext cx="5472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Впадают в спячк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5"/>
          <p:cNvSpPr/>
          <p:nvPr/>
        </p:nvSpPr>
        <p:spPr>
          <a:xfrm>
            <a:off x="457200" y="260280"/>
            <a:ext cx="166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ьими атрибутами являются охотничья кепка, курительная трубка и скрипк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2987640" y="5084640"/>
            <a:ext cx="540072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Шерлока Холм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457200" y="260280"/>
            <a:ext cx="166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668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рассказывает сказки в цикле «Книга тысячи и одной ночи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4356000" y="5084640"/>
            <a:ext cx="374328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Шахереза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457200" y="260280"/>
            <a:ext cx="1666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осуществил пластическую операцию и лишился голос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4788000" y="5084640"/>
            <a:ext cx="360036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Русалоч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звали фавна, друга Люси Певенси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276720" y="5084640"/>
            <a:ext cx="468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истер Тумну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В названии какого романа фигурирует число 3, хотя героев 4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2556000" y="5084640"/>
            <a:ext cx="5472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Три мушкетёр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назывался двор Нищего корол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3924360" y="5084640"/>
            <a:ext cx="4464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Двор Отброс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Чьим другом был африканский король Бум-Друм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1692360" y="5084640"/>
            <a:ext cx="6696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Короля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Матиуша </a:t>
            </a:r>
            <a:r>
              <a:rPr b="1" lang="en-US" sz="4000" spc="-1" strike="noStrike">
                <a:solidFill>
                  <a:srgbClr val="d7f0f9"/>
                </a:solidFill>
                <a:latin typeface="Arial"/>
              </a:rPr>
              <a:t>I </a:t>
            </a: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Реформатор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побывал в Зазеркалье? 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851280" y="5084640"/>
            <a:ext cx="417672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Алис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38608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 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6600" y="1247400"/>
            <a:ext cx="792936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друга Маугли? Кем он бы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564000" y="4797360"/>
            <a:ext cx="5030640" cy="1727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агир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самец пантер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6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ой город прославил бездомных музыкантов, спасшихся бегством от жестоких и неблагодарных хозяев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4788000" y="5084640"/>
            <a:ext cx="324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реме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то пел песню «Пятнадцать человек на сундук мертвеца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4"/>
          <p:cNvSpPr/>
          <p:nvPr/>
        </p:nvSpPr>
        <p:spPr>
          <a:xfrm>
            <a:off x="4788000" y="5084640"/>
            <a:ext cx="324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Бен Ган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5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ак зовут сына царя Салтана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3348000" y="5084640"/>
            <a:ext cx="4680000" cy="1150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Князь Гвидо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Кому принадлежат слова «Ты в ответе за тех, кого приручил»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4"/>
          <p:cNvSpPr/>
          <p:nvPr/>
        </p:nvSpPr>
        <p:spPr>
          <a:xfrm>
            <a:off x="2411280" y="4508640"/>
            <a:ext cx="5616720" cy="172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Лису из пов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«Маленький принц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5"/>
          <p:cNvSpPr/>
          <p:nvPr/>
        </p:nvSpPr>
        <p:spPr>
          <a:xfrm>
            <a:off x="457200" y="333360"/>
            <a:ext cx="16668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наб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AutoShape 6"/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253044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 кем дружил Чиполлино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050920" y="4724280"/>
            <a:ext cx="6481800" cy="136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С Вишенкой и Редиск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5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3322800" cy="79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Друзья  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91628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подругу Якоба в сказке Вильгельма Гауфа «Карлик Нос»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673360" y="4867200"/>
            <a:ext cx="558000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усыня Мим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AutoShape 5">
            <a:hlinkClick r:id="rId1" action="ppaction://hlinksldjump"/>
          </p:cNvPr>
          <p:cNvSpPr/>
          <p:nvPr/>
        </p:nvSpPr>
        <p:spPr>
          <a:xfrm>
            <a:off x="8244000" y="333360"/>
            <a:ext cx="504720" cy="57456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74560"/>
              <a:gd name="textAreaBottom" fmla="*/ 542160 h 574560"/>
            </a:gdLst>
            <a:ahLst/>
            <a:rect l="textAreaLeft" t="textAreaTop" r="textAreaRight" b="textAreaBottom"/>
            <a:pathLst>
              <a:path w="21600" h="24587">
                <a:moveTo>
                  <a:pt x="0" y="0"/>
                </a:moveTo>
                <a:lnTo>
                  <a:pt x="21600" y="0"/>
                </a:lnTo>
                <a:lnTo>
                  <a:pt x="21600" y="24587"/>
                </a:lnTo>
                <a:lnTo>
                  <a:pt x="0" y="24587"/>
                </a:lnTo>
                <a:close/>
              </a:path>
              <a:path fill="lightenLess" w="21600" h="2458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587">
                <a:moveTo>
                  <a:pt x="21600" y="0"/>
                </a:moveTo>
                <a:lnTo>
                  <a:pt x="21600" y="24587"/>
                </a:lnTo>
                <a:lnTo>
                  <a:pt x="20200" y="23187"/>
                </a:lnTo>
                <a:lnTo>
                  <a:pt x="20200" y="1400"/>
                </a:lnTo>
                <a:close/>
              </a:path>
              <a:path fill="darkenLess" w="21600" h="24587">
                <a:moveTo>
                  <a:pt x="21600" y="24587"/>
                </a:moveTo>
                <a:lnTo>
                  <a:pt x="0" y="24587"/>
                </a:lnTo>
                <a:lnTo>
                  <a:pt x="1400" y="23187"/>
                </a:lnTo>
                <a:lnTo>
                  <a:pt x="20200" y="23187"/>
                </a:lnTo>
                <a:close/>
              </a:path>
              <a:path fill="lighten" w="21600" h="24587">
                <a:moveTo>
                  <a:pt x="0" y="24587"/>
                </a:moveTo>
                <a:lnTo>
                  <a:pt x="0" y="0"/>
                </a:lnTo>
                <a:lnTo>
                  <a:pt x="1400" y="1400"/>
                </a:lnTo>
                <a:lnTo>
                  <a:pt x="1400" y="23187"/>
                </a:lnTo>
                <a:close/>
              </a:path>
              <a:path fill="darken" w="21600" h="24587">
                <a:moveTo>
                  <a:pt x="3794" y="8986"/>
                </a:moveTo>
                <a:lnTo>
                  <a:pt x="7301" y="8986"/>
                </a:lnTo>
                <a:lnTo>
                  <a:pt x="7301" y="14321"/>
                </a:lnTo>
                <a:cubicBezTo>
                  <a:pt x="7301" y="15244"/>
                  <a:pt x="8102" y="15975"/>
                  <a:pt x="9138" y="15975"/>
                </a:cubicBezTo>
                <a:lnTo>
                  <a:pt x="10800" y="15975"/>
                </a:lnTo>
                <a:cubicBezTo>
                  <a:pt x="11836" y="15975"/>
                  <a:pt x="12636" y="15244"/>
                  <a:pt x="12636" y="14321"/>
                </a:cubicBezTo>
                <a:lnTo>
                  <a:pt x="12636" y="8986"/>
                </a:lnTo>
                <a:lnTo>
                  <a:pt x="10800" y="8986"/>
                </a:lnTo>
                <a:lnTo>
                  <a:pt x="14308" y="5478"/>
                </a:lnTo>
                <a:lnTo>
                  <a:pt x="17981" y="8986"/>
                </a:lnTo>
                <a:lnTo>
                  <a:pt x="16144" y="8986"/>
                </a:lnTo>
                <a:lnTo>
                  <a:pt x="16144" y="14321"/>
                </a:lnTo>
                <a:cubicBezTo>
                  <a:pt x="16144" y="17089"/>
                  <a:pt x="13568" y="19648"/>
                  <a:pt x="10800" y="19648"/>
                </a:cubicBezTo>
                <a:lnTo>
                  <a:pt x="9138" y="19648"/>
                </a:lnTo>
                <a:cubicBezTo>
                  <a:pt x="6370" y="19648"/>
                  <a:pt x="3794" y="17089"/>
                  <a:pt x="3794" y="14321"/>
                </a:cubicBez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59767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2fb79"/>
                </a:solidFill>
                <a:latin typeface="Arial"/>
              </a:rPr>
              <a:t>Животные (существа)   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Кого спасает герой Некрасова дед Мазай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572000" y="4724280"/>
            <a:ext cx="3960720" cy="136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7f0f9"/>
                </a:solidFill>
                <a:latin typeface="Arial"/>
              </a:rPr>
              <a:t>Зайц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AutoShape 5">
            <a:hlinkClick r:id="rId1" action="ppaction://hlinksldjump"/>
          </p:cNvPr>
          <p:cNvSpPr/>
          <p:nvPr/>
        </p:nvSpPr>
        <p:spPr>
          <a:xfrm>
            <a:off x="8388360" y="260280"/>
            <a:ext cx="431640" cy="50472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504720"/>
              <a:gd name="textAreaBottom" fmla="*/ 477000 h 504720"/>
            </a:gdLst>
            <a:ahLst/>
            <a:rect l="textAreaLeft" t="textAreaTop" r="textAreaRight" b="textAreaBottom"/>
            <a:pathLst>
              <a:path w="21600" h="25254">
                <a:moveTo>
                  <a:pt x="0" y="0"/>
                </a:moveTo>
                <a:lnTo>
                  <a:pt x="21600" y="0"/>
                </a:lnTo>
                <a:lnTo>
                  <a:pt x="21600" y="25254"/>
                </a:lnTo>
                <a:lnTo>
                  <a:pt x="0" y="25254"/>
                </a:lnTo>
                <a:close/>
              </a:path>
              <a:path fill="lightenLess" w="21600" h="2525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54">
                <a:moveTo>
                  <a:pt x="21600" y="0"/>
                </a:moveTo>
                <a:lnTo>
                  <a:pt x="21600" y="25254"/>
                </a:lnTo>
                <a:lnTo>
                  <a:pt x="20200" y="23854"/>
                </a:lnTo>
                <a:lnTo>
                  <a:pt x="20200" y="1400"/>
                </a:lnTo>
                <a:close/>
              </a:path>
              <a:path fill="darkenLess" w="21600" h="25254">
                <a:moveTo>
                  <a:pt x="21600" y="25254"/>
                </a:moveTo>
                <a:lnTo>
                  <a:pt x="0" y="25254"/>
                </a:lnTo>
                <a:lnTo>
                  <a:pt x="1400" y="23854"/>
                </a:lnTo>
                <a:lnTo>
                  <a:pt x="20200" y="23854"/>
                </a:lnTo>
                <a:close/>
              </a:path>
              <a:path fill="lighten" w="21600" h="25254">
                <a:moveTo>
                  <a:pt x="0" y="25254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54"/>
                </a:lnTo>
                <a:close/>
              </a:path>
              <a:path fill="darken" w="21600" h="25254">
                <a:moveTo>
                  <a:pt x="10800" y="5664"/>
                </a:moveTo>
                <a:lnTo>
                  <a:pt x="13376" y="8275"/>
                </a:ln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lnTo>
                  <a:pt x="17763" y="12627"/>
                </a:lnTo>
                <a:lnTo>
                  <a:pt x="16109" y="12627"/>
                </a:lnTo>
                <a:lnTo>
                  <a:pt x="16109" y="19816"/>
                </a:lnTo>
                <a:lnTo>
                  <a:pt x="5491" y="19816"/>
                </a:lnTo>
                <a:lnTo>
                  <a:pt x="5491" y="12627"/>
                </a:lnTo>
                <a:lnTo>
                  <a:pt x="3837" y="12627"/>
                </a:lnTo>
                <a:close/>
              </a:path>
              <a:path fill="darkenLess" w="21600" h="25254">
                <a:moveTo>
                  <a:pt x="13376" y="8275"/>
                </a:moveTo>
                <a:lnTo>
                  <a:pt x="13376" y="6534"/>
                </a:lnTo>
                <a:lnTo>
                  <a:pt x="15152" y="6534"/>
                </a:lnTo>
                <a:lnTo>
                  <a:pt x="15152" y="10051"/>
                </a:lnTo>
                <a:close/>
              </a:path>
              <a:path fill="darkenLess" w="21600" h="25254">
                <a:moveTo>
                  <a:pt x="9877" y="16126"/>
                </a:moveTo>
                <a:lnTo>
                  <a:pt x="11723" y="16126"/>
                </a:lnTo>
                <a:lnTo>
                  <a:pt x="11723" y="19816"/>
                </a:lnTo>
                <a:lnTo>
                  <a:pt x="16109" y="19816"/>
                </a:lnTo>
                <a:lnTo>
                  <a:pt x="16109" y="12627"/>
                </a:lnTo>
                <a:lnTo>
                  <a:pt x="5491" y="12627"/>
                </a:lnTo>
                <a:lnTo>
                  <a:pt x="5491" y="19816"/>
                </a:lnTo>
                <a:lnTo>
                  <a:pt x="9877" y="19816"/>
                </a:lnTo>
                <a:close/>
              </a:path>
            </a:pathLst>
          </a:cu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09:12:59Z</dcterms:created>
  <dc:creator>1</dc:creator>
  <dc:description/>
  <dc:language>en-US</dc:language>
  <cp:lastModifiedBy>Microsoft Office User</cp:lastModifiedBy>
  <dcterms:modified xsi:type="dcterms:W3CDTF">2024-01-08T08:39:36Z</dcterms:modified>
  <cp:revision>36</cp:revision>
  <dc:subject/>
  <dc:title>СВОЯ ИГРА</dc:title>
</cp:coreProperties>
</file>