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3D8D-4DDA-4E6D-8D7B-A167A01A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51C-52AE-4E25-9656-5BE7A0FF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45E-D508-4BB1-BE28-C625CCC7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A7A-C1E5-4ED6-9B1E-50F324B1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BBDC-952A-4601-AC8A-AC9B56EA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C389-8EED-4AA4-92C6-90A65390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918E-5E2F-4DCF-8417-C51513B4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58C8-5F93-4453-915A-011B5B99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62EA-D18D-4F92-B015-028EEBDE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409D-ED55-4548-9F32-2454592A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E8BC-BCFB-4252-A9E1-D19D2186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D834-0326-404B-A1B9-DDECB481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6886-2159-4A21-9E34-7C5EFF4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A1E1-77A2-4797-B90D-56817258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41DC-FF92-462A-A248-8E406CDB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4B99-569D-45D8-A062-C5FC5092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E5E0-6B26-4B3F-8B0A-2C736DAD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42CA1-2D09-4EB4-9908-2C8A6219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3AC2-EA47-49D9-A176-59D43785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2321-920A-48A0-A573-CA621CB2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4DB6-5675-4FF1-9123-355F3D48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369E-748D-41CC-85FF-AFDEFA5E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A22-A0FA-47D2-B38B-97C37819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8F5E-325A-4BBE-BA92-A9DD08C8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9E8FA-5118-464B-976D-6897DF2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52DA-3C64-48DC-A228-D2B8734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8D69-2408-4CD1-AC44-4B5BFBD6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5B72-D1EA-42CA-B5C5-A86984E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EEAA5-010C-4551-90A5-CAABAC29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0AF9-E0A0-4C2D-B214-05287082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AC50-5AD3-4999-B740-54798AB5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F08C-0737-412D-AD91-4FE85340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68870-461A-46C4-BD98-5A090FBE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1ED-42BA-41CC-A439-09C925F0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F6C5-DB99-461A-A455-D096937E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62AA5-7C1D-4BE7-B9FB-996F91EC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0F844-C0C0-4837-B550-2D64F8F1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096E4-DA83-4D11-9F0E-E49D613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42182-7D08-4877-8BC0-FE3FD490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FF572-043B-46EB-8394-8C672A0E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D33C-E06D-4C99-B5D3-0332BCAC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D3F2-E551-47D0-BFD5-B80A171A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E6B46-B5DC-4F07-9AAE-CE3ECAFE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909A9-97A5-41FF-8FCE-4A48809D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FFC-B04E-4ABD-BB8A-44EEB868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A3533-ACD2-404E-924B-DD032CF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1061E-23D2-4870-9B25-7329B785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200D9-CDC2-44F1-99A6-57F5A20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0EF4E9-C2F2-4E92-B296-8E2D3C1B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25B1C-EDE0-4DB2-9186-C9153E7D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C77B7-5863-4524-AA93-38936CE0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4DCF1-34A5-4556-8CCF-F9541CBD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5798B-F035-4DE8-AA71-D432CE5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00E01-DDF6-497E-87E5-EC763612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5367A-251A-4C47-8AFC-B81BC855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BF8-BF78-48B1-AACA-DE612957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731E3-849B-4140-BD29-5BAB569E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8B5-6A11-4A4E-976B-13A0630F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824-DBE8-4432-ABE6-8676CE2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129-410A-4FA1-8DD8-A391BCA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21F2-0C3F-4449-A5CD-1F24C96B1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1CDF-6F11-473C-8A8A-FD5C31994FA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4379-03CA-443A-AEF7-5FF2B3C5504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FBF6-F2F2-4F2B-9CF9-28A0DB66782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1CFD-C851-4D99-80E5-D3B5E57F393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29E6-760D-40FE-AB7B-D1EA1063D27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F2EB-3C97-434D-936E-174B2C83CA8C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55BC-181A-455E-9687-3FE84295027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4-5plus.ru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сновные этапы исторического развития России 19 века и их отражение в литера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цева Светлана Александровна, учитель русского языка и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«СОШ с. Старый Искити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2539-C4FC-4E42-AA65-272FED8EB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ая прямоугольная выноска 7"/>
          <p:cNvSpPr/>
          <p:nvPr/>
        </p:nvSpPr>
        <p:spPr>
          <a:xfrm>
            <a:off x="2340000" y="2400480"/>
            <a:ext cx="4968720" cy="3168360"/>
          </a:xfrm>
          <a:prstGeom prst="wedgeRoundRectCallout">
            <a:avLst>
              <a:gd name="adj1" fmla="val 22175"/>
              <a:gd name="adj2" fmla="val -6245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юбых общественных перем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опротивл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сему нов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хотели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епостнические пор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15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7CF7-232F-4353-864D-4C2EEDA24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~PP21238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" descr=""/>
          <p:cNvPicPr/>
          <p:nvPr/>
        </p:nvPicPr>
        <p:blipFill>
          <a:blip r:embed="rId2"/>
          <a:stretch/>
        </p:blipFill>
        <p:spPr>
          <a:xfrm>
            <a:off x="2987640" y="1414440"/>
            <a:ext cx="3151080" cy="6462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8" descr=""/>
          <p:cNvPicPr/>
          <p:nvPr/>
        </p:nvPicPr>
        <p:blipFill>
          <a:blip r:embed="rId3"/>
          <a:stretch/>
        </p:blipFill>
        <p:spPr>
          <a:xfrm>
            <a:off x="3029040" y="5583240"/>
            <a:ext cx="334800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Прямоугольник 3" descr=""/>
          <p:cNvPicPr/>
          <p:nvPr/>
        </p:nvPicPr>
        <p:blipFill>
          <a:blip r:embed="rId1"/>
          <a:stretch/>
        </p:blipFill>
        <p:spPr>
          <a:xfrm>
            <a:off x="3346560" y="1249200"/>
            <a:ext cx="2255760" cy="64620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4"/>
          <p:cNvSpPr/>
          <p:nvPr/>
        </p:nvSpPr>
        <p:spPr>
          <a:xfrm>
            <a:off x="146160" y="1959120"/>
            <a:ext cx="277956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ая прямоугольная выноска 5"/>
          <p:cNvSpPr/>
          <p:nvPr/>
        </p:nvSpPr>
        <p:spPr>
          <a:xfrm>
            <a:off x="47520" y="3135240"/>
            <a:ext cx="300852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тремил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освобождению крестья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введению респуб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европейск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Прямоугольник 6" descr=""/>
          <p:cNvPicPr/>
          <p:nvPr/>
        </p:nvPicPr>
        <p:blipFill>
          <a:blip r:embed="rId2"/>
          <a:stretch/>
        </p:blipFill>
        <p:spPr>
          <a:xfrm>
            <a:off x="109440" y="5810400"/>
            <a:ext cx="2944800" cy="645840"/>
          </a:xfrm>
          <a:prstGeom prst="rect">
            <a:avLst/>
          </a:prstGeom>
          <a:ln w="0">
            <a:noFill/>
          </a:ln>
        </p:spPr>
      </p:pic>
      <p:sp>
        <p:nvSpPr>
          <p:cNvPr id="247" name="Овал 7"/>
          <p:cNvSpPr/>
          <p:nvPr/>
        </p:nvSpPr>
        <p:spPr>
          <a:xfrm>
            <a:off x="2925720" y="195912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ая прямоугольная выноска 9"/>
          <p:cNvSpPr/>
          <p:nvPr/>
        </p:nvSpPr>
        <p:spPr>
          <a:xfrm>
            <a:off x="3139920" y="3135240"/>
            <a:ext cx="294336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Отстаи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ерность принципам самодержа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ус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Прямоугольник 10" descr=""/>
          <p:cNvPicPr/>
          <p:nvPr/>
        </p:nvPicPr>
        <p:blipFill>
          <a:blip r:embed="rId3"/>
          <a:stretch/>
        </p:blipFill>
        <p:spPr>
          <a:xfrm>
            <a:off x="3011400" y="5967360"/>
            <a:ext cx="3071880" cy="64620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1"/>
          <p:cNvSpPr/>
          <p:nvPr/>
        </p:nvSpPr>
        <p:spPr>
          <a:xfrm>
            <a:off x="6027840" y="196704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адикал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свет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ая прямоугольная выноска 12"/>
          <p:cNvSpPr/>
          <p:nvPr/>
        </p:nvSpPr>
        <p:spPr>
          <a:xfrm>
            <a:off x="6173640" y="3284640"/>
            <a:ext cx="2943360" cy="266544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тив крепостно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тив самодерж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оугольник 13" descr=""/>
          <p:cNvPicPr/>
          <p:nvPr/>
        </p:nvPicPr>
        <p:blipFill>
          <a:blip r:embed="rId4"/>
          <a:stretch/>
        </p:blipFill>
        <p:spPr>
          <a:xfrm>
            <a:off x="5956200" y="6138720"/>
            <a:ext cx="3243240" cy="646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1423080" y="127800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перед народной револю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ая прямоугольная выноска 7"/>
          <p:cNvSpPr/>
          <p:nvPr/>
        </p:nvSpPr>
        <p:spPr>
          <a:xfrm>
            <a:off x="2050920" y="2205000"/>
            <a:ext cx="5400720" cy="2540160"/>
          </a:xfrm>
          <a:prstGeom prst="wedgeRoundRectCallout">
            <a:avLst>
              <a:gd name="adj1" fmla="val 22175"/>
              <a:gd name="adj2" fmla="val -6245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амодержавия и крепостни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мечтали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обходимости ломки стар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стоев в интересах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15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BAE9-48F7-4B08-A16F-491EBB2CA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~PP21316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1" descr=""/>
          <p:cNvPicPr/>
          <p:nvPr/>
        </p:nvPicPr>
        <p:blipFill>
          <a:blip r:embed="rId2"/>
          <a:stretch/>
        </p:blipFill>
        <p:spPr>
          <a:xfrm>
            <a:off x="1420920" y="1268280"/>
            <a:ext cx="6291000" cy="6462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6" descr=""/>
          <p:cNvPicPr/>
          <p:nvPr/>
        </p:nvPicPr>
        <p:blipFill>
          <a:blip r:embed="rId3"/>
          <a:stretch/>
        </p:blipFill>
        <p:spPr>
          <a:xfrm>
            <a:off x="2298600" y="4827600"/>
            <a:ext cx="4529160" cy="17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6155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объединяла мысль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сская жизнь нуждается в коренных изменениях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х проводить?</a:t>
            </a:r>
            <a:br>
              <a:rPr sz="28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"/>
          <p:cNvSpPr/>
          <p:nvPr/>
        </p:nvSpPr>
        <p:spPr>
          <a:xfrm>
            <a:off x="357120" y="357120"/>
            <a:ext cx="349416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волюционеры -   демок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4"/>
          <p:cNvSpPr/>
          <p:nvPr/>
        </p:nvSpPr>
        <p:spPr>
          <a:xfrm>
            <a:off x="5302080" y="334800"/>
            <a:ext cx="2643480" cy="1071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иб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357120" y="3714840"/>
            <a:ext cx="349416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волюционеры - демок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7"/>
          <p:cNvSpPr/>
          <p:nvPr/>
        </p:nvSpPr>
        <p:spPr>
          <a:xfrm>
            <a:off x="5435640" y="3638520"/>
            <a:ext cx="292104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иб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ая прямоугольная выноска 8"/>
          <p:cNvSpPr/>
          <p:nvPr/>
        </p:nvSpPr>
        <p:spPr>
          <a:xfrm>
            <a:off x="606600" y="5084640"/>
            <a:ext cx="2714400" cy="1143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асение России только в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ая прямоугольная выноска 10"/>
          <p:cNvSpPr/>
          <p:nvPr/>
        </p:nvSpPr>
        <p:spPr>
          <a:xfrm>
            <a:off x="4956120" y="5251320"/>
            <a:ext cx="3857760" cy="1071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ссии необходимы реформы сверху, без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Выгнутая влево стрелка 11"/>
          <p:cNvSpPr/>
          <p:nvPr/>
        </p:nvSpPr>
        <p:spPr>
          <a:xfrm rot="21165000">
            <a:off x="1184040" y="1496520"/>
            <a:ext cx="731880" cy="797040"/>
          </a:xfrm>
          <a:custGeom>
            <a:avLst/>
            <a:gdLst>
              <a:gd name="textAreaLeft" fmla="*/ 97920 w 731880"/>
              <a:gd name="textAreaRight" fmla="*/ 633960 w 731880"/>
              <a:gd name="textAreaTop" fmla="*/ 130680 h 797040"/>
              <a:gd name="textAreaBottom" fmla="*/ 5749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81" stAng="-5400000" swAng="-5400000"/>
                <a:lnTo>
                  <a:pt x="0" y="12039"/>
                </a:lnTo>
                <a:arcTo wR="21600" hR="7081" stAng="10800000" swAng="-3106532"/>
                <a:lnTo>
                  <a:pt x="16200" y="21375"/>
                </a:lnTo>
                <a:lnTo>
                  <a:pt x="21600" y="16641"/>
                </a:lnTo>
                <a:lnTo>
                  <a:pt x="16200" y="11457"/>
                </a:lnTo>
                <a:lnTo>
                  <a:pt x="16200" y="13937"/>
                </a:lnTo>
                <a:arcTo wR="21600" hR="7081" stAng="7693468" swAng="2687420"/>
                <a:lnTo>
                  <a:pt x="1367" y="9560"/>
                </a:lnTo>
                <a:arcTo wR="21600" hR="7081" stAng="-10380888" swAng="4980888"/>
                <a:close/>
              </a:path>
              <a:path fill="darkenLess" w="21600" h="21600">
                <a:moveTo>
                  <a:pt x="21600" y="0"/>
                </a:moveTo>
                <a:arcTo wR="21600" hR="7081" stAng="-5400000" swAng="-5400000"/>
                <a:lnTo>
                  <a:pt x="0" y="7081"/>
                </a:lnTo>
                <a:arcTo wR="21600" hR="7081" stAng="10800000" swAng="-419112"/>
                <a:lnTo>
                  <a:pt x="1367" y="9560"/>
                </a:lnTo>
                <a:arcTo wR="21600" hR="7081" stAng="-10380888" swAng="498088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Выгнутая вправо стрелка 12"/>
          <p:cNvSpPr/>
          <p:nvPr/>
        </p:nvSpPr>
        <p:spPr>
          <a:xfrm rot="742200">
            <a:off x="7114680" y="1474920"/>
            <a:ext cx="731880" cy="828720"/>
          </a:xfrm>
          <a:custGeom>
            <a:avLst/>
            <a:gdLst>
              <a:gd name="textAreaLeft" fmla="*/ 97920 w 731880"/>
              <a:gd name="textAreaRight" fmla="*/ 633960 w 731880"/>
              <a:gd name="textAreaTop" fmla="*/ 138600 h 828720"/>
              <a:gd name="textAreaBottom" fmla="*/ 5986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24" stAng="-5400000" swAng="5400000"/>
                <a:lnTo>
                  <a:pt x="21600" y="11992"/>
                </a:lnTo>
                <a:arcTo wR="21600" hR="7224" stAng="0" swAng="3139746"/>
                <a:lnTo>
                  <a:pt x="5400" y="21371"/>
                </a:lnTo>
                <a:lnTo>
                  <a:pt x="0" y="16831"/>
                </a:lnTo>
                <a:lnTo>
                  <a:pt x="5400" y="11833"/>
                </a:lnTo>
                <a:lnTo>
                  <a:pt x="5400" y="14218"/>
                </a:lnTo>
                <a:arcTo wR="21600" hR="7224" stAng="3139746" swAng="-2739616"/>
                <a:lnTo>
                  <a:pt x="20390" y="9608"/>
                </a:lnTo>
                <a:arcTo wR="21600" hR="7224" stAng="-400130" swAng="-4999870"/>
                <a:close/>
              </a:path>
              <a:path fill="darkenLess" w="21600" h="21600">
                <a:moveTo>
                  <a:pt x="0" y="0"/>
                </a:moveTo>
                <a:arcTo wR="21600" hR="7224" stAng="-5400000" swAng="5400000"/>
                <a:lnTo>
                  <a:pt x="21600" y="11992"/>
                </a:lnTo>
                <a:arcTo wR="21600" hR="7224" stAng="0" swAng="-400130"/>
                <a:lnTo>
                  <a:pt x="20390" y="9608"/>
                </a:lnTo>
                <a:arcTo wR="21600" hR="7224" stAng="-400130" swAng="-499987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17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F0C8-858F-4252-9462-31230E7D0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~PP21410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4"/>
          <p:cNvSpPr/>
          <p:nvPr/>
        </p:nvSpPr>
        <p:spPr>
          <a:xfrm>
            <a:off x="125280" y="1181160"/>
            <a:ext cx="27799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чв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ая прямоугольная выноска 5"/>
          <p:cNvSpPr/>
          <p:nvPr/>
        </p:nvSpPr>
        <p:spPr>
          <a:xfrm>
            <a:off x="47520" y="2392200"/>
            <a:ext cx="300852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читали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русское общество должно соединиться с народною почв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Прямоугольник 6" descr=""/>
          <p:cNvPicPr/>
          <p:nvPr/>
        </p:nvPicPr>
        <p:blipFill>
          <a:blip r:embed="rId1"/>
          <a:stretch/>
        </p:blipFill>
        <p:spPr>
          <a:xfrm>
            <a:off x="-73080" y="5175360"/>
            <a:ext cx="3260880" cy="1384200"/>
          </a:xfrm>
          <a:prstGeom prst="rect">
            <a:avLst/>
          </a:prstGeom>
          <a:ln w="0">
            <a:noFill/>
          </a:ln>
        </p:spPr>
      </p:pic>
      <p:sp>
        <p:nvSpPr>
          <p:cNvPr id="275" name="Овал 7"/>
          <p:cNvSpPr/>
          <p:nvPr/>
        </p:nvSpPr>
        <p:spPr>
          <a:xfrm>
            <a:off x="2909880" y="118116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аро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ая прямоугольная выноска 9"/>
          <p:cNvSpPr/>
          <p:nvPr/>
        </p:nvSpPr>
        <p:spPr>
          <a:xfrm>
            <a:off x="3100320" y="2392200"/>
            <a:ext cx="294336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Разви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деи      крестьянской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Прямоугольник 10" descr=""/>
          <p:cNvPicPr/>
          <p:nvPr/>
        </p:nvPicPr>
        <p:blipFill>
          <a:blip r:embed="rId2"/>
          <a:stretch/>
        </p:blipFill>
        <p:spPr>
          <a:xfrm>
            <a:off x="3346560" y="5175360"/>
            <a:ext cx="2120760" cy="52380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11"/>
          <p:cNvSpPr/>
          <p:nvPr/>
        </p:nvSpPr>
        <p:spPr>
          <a:xfrm>
            <a:off x="6039000" y="1181160"/>
            <a:ext cx="309708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лигиоз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филосо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ая прямоугольная выноска 12"/>
          <p:cNvSpPr/>
          <p:nvPr/>
        </p:nvSpPr>
        <p:spPr>
          <a:xfrm>
            <a:off x="6043680" y="2392200"/>
            <a:ext cx="2944800" cy="2664000"/>
          </a:xfrm>
          <a:prstGeom prst="wedgeRoundRectCallout">
            <a:avLst>
              <a:gd name="adj1" fmla="val 11560"/>
              <a:gd name="adj2" fmla="val -6728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Призвание человека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 достижении богоподобного мог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Прямоугольник 13" descr=""/>
          <p:cNvPicPr/>
          <p:nvPr/>
        </p:nvPicPr>
        <p:blipFill>
          <a:blip r:embed="rId3"/>
          <a:stretch/>
        </p:blipFill>
        <p:spPr>
          <a:xfrm>
            <a:off x="6254640" y="5151600"/>
            <a:ext cx="25243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1440" y="20160"/>
            <a:ext cx="840132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2"/>
          <p:cNvSpPr/>
          <p:nvPr/>
        </p:nvSpPr>
        <p:spPr>
          <a:xfrm>
            <a:off x="457200" y="141768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итический реализ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натуральная школ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3"/>
          <p:cNvSpPr/>
          <p:nvPr/>
        </p:nvSpPr>
        <p:spPr>
          <a:xfrm>
            <a:off x="4786200" y="142884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Чистое искус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4"/>
          <p:cNvSpPr/>
          <p:nvPr/>
        </p:nvSpPr>
        <p:spPr>
          <a:xfrm>
            <a:off x="417600" y="2603520"/>
            <a:ext cx="3714840" cy="2346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Период с 1856 года по 1880 год – время величайших достижений русского критического реализма 19 века» (Д.Д.Благ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5"/>
          <p:cNvSpPr/>
          <p:nvPr/>
        </p:nvSpPr>
        <p:spPr>
          <a:xfrm>
            <a:off x="4572000" y="2603520"/>
            <a:ext cx="4394160" cy="340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оретики «чистого искусства» романтизировали возвышенное и прекрасное, противопоставляли «вечное» в искусстве «злободневному», призывали быть далёкими от «житейского волнен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6"/>
          <p:cNvSpPr/>
          <p:nvPr/>
        </p:nvSpPr>
        <p:spPr>
          <a:xfrm>
            <a:off x="149400" y="5468760"/>
            <a:ext cx="460692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исатели демократических убеждений сгруппировались вокруг журнала «Современ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трелка вниз 7"/>
          <p:cNvSpPr/>
          <p:nvPr/>
        </p:nvSpPr>
        <p:spPr>
          <a:xfrm>
            <a:off x="2071800" y="5003640"/>
            <a:ext cx="485640" cy="455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8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2F9F-3A10-4295-AEAD-7487645343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837040" cy="47358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3"/>
          <p:cNvSpPr/>
          <p:nvPr/>
        </p:nvSpPr>
        <p:spPr>
          <a:xfrm>
            <a:off x="0" y="5643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отрудников журнала "Современник". Сидят слева напра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А. Гончаров, И.С. Тургенев, А.В. Дружинин, А.Н. Островс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: Л.Н. Толстой, Д.В. Григоров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4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D4DC-D11C-45CC-BA95-4084D8A3A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Заголовок 1"/>
          <p:cNvSpPr/>
          <p:nvPr/>
        </p:nvSpPr>
        <p:spPr>
          <a:xfrm>
            <a:off x="4460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едставители критического ре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DFB5-4DFE-4D41-8C33-EE3665687B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Федор Тютчев: женщины, имидж России, Бенкендорф Блог Перемен"/>
          <p:cNvPicPr/>
          <p:nvPr/>
        </p:nvPicPr>
        <p:blipFill>
          <a:blip r:embed="rId1"/>
          <a:stretch/>
        </p:blipFill>
        <p:spPr>
          <a:xfrm>
            <a:off x="272880" y="1919160"/>
            <a:ext cx="2881440" cy="3521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Афанасий Фет"/>
          <p:cNvPicPr/>
          <p:nvPr/>
        </p:nvPicPr>
        <p:blipFill>
          <a:blip r:embed="rId2"/>
          <a:stretch/>
        </p:blipFill>
        <p:spPr>
          <a:xfrm>
            <a:off x="3306600" y="1125360"/>
            <a:ext cx="2530800" cy="3508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Рефераты по литературе и русскому языку &quot; Страница 34 - Xreferat.ru - Банк рефератов, сочинений, докладов, курсовых и дипломных"/>
          <p:cNvPicPr/>
          <p:nvPr/>
        </p:nvPicPr>
        <p:blipFill>
          <a:blip r:embed="rId3"/>
          <a:stretch/>
        </p:blipFill>
        <p:spPr>
          <a:xfrm>
            <a:off x="6029280" y="1989000"/>
            <a:ext cx="2822760" cy="3548160"/>
          </a:xfrm>
          <a:prstGeom prst="rect">
            <a:avLst/>
          </a:prstGeom>
          <a:ln w="0">
            <a:noFill/>
          </a:ln>
        </p:spPr>
      </p:pic>
      <p:sp>
        <p:nvSpPr>
          <p:cNvPr id="298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едставители «чистого искусст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476280" y="546408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И. Тют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"/>
          <p:cNvSpPr/>
          <p:nvPr/>
        </p:nvSpPr>
        <p:spPr>
          <a:xfrm>
            <a:off x="3731040" y="463716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. Ф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6309360" y="553716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К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сновные проблемы в литературе 19 века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(готовимся к ЕГ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 и з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а  и наказ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и вой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я человека и его без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дрость и легкомысл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и отчу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потизм и раб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 и празд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и душ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а и скепс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дготовка к ЕГЭ по русскому языку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4-5plu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9E2E-3517-43C9-A4E1-BB32D2ABA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01C1-E961-4448-8AD5-9556B4A51B6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E88F-D7AC-4152-B4E5-EA98932A9DE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Прямоугольник 3" descr=""/>
          <p:cNvPicPr/>
          <p:nvPr/>
        </p:nvPicPr>
        <p:blipFill>
          <a:blip r:embed="rId1"/>
          <a:stretch/>
        </p:blipFill>
        <p:spPr>
          <a:xfrm>
            <a:off x="-115920" y="2017800"/>
            <a:ext cx="9375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3851-6F4C-4FC3-AD40-B9A25B0DC4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994320" y="1341360"/>
            <a:ext cx="74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девятнадцатый, желез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стину жестокий 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65880" y="404640"/>
            <a:ext cx="897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и русского классиц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0" y="1149480"/>
            <a:ext cx="3357720" cy="25700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383760" y="371484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Канте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3564000" y="1500120"/>
            <a:ext cx="2247840" cy="3162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2708280" y="471492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Тредиа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3"/>
          <a:stretch/>
        </p:blipFill>
        <p:spPr>
          <a:xfrm>
            <a:off x="6167520" y="2000160"/>
            <a:ext cx="2976480" cy="38577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7"/>
          <p:cNvSpPr/>
          <p:nvPr/>
        </p:nvSpPr>
        <p:spPr>
          <a:xfrm>
            <a:off x="6279480" y="592920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-27360" y="1267920"/>
            <a:ext cx="9582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. Ориентация </a:t>
            </a: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на античное искусство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 Простота, стройность, логичность композиции произведения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Общественная, гражданская проблемати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Основные герои – цари, полководцы, государственные деятели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Строгая иерархия жанров, героев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Теория «трёх штилей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Правило «трёх единств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ассицизм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0" y="1341360"/>
            <a:ext cx="9144000" cy="460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сские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ассицисты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4947120" y="566892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. И. Фонви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1183680" y="563076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Р. Держа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Рисунок6_0"/>
          <p:cNvPicPr/>
          <p:nvPr/>
        </p:nvPicPr>
        <p:blipFill>
          <a:blip r:embed="rId1"/>
          <a:stretch/>
        </p:blipFill>
        <p:spPr>
          <a:xfrm>
            <a:off x="1258920" y="1700280"/>
            <a:ext cx="3005280" cy="388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8" descr="Рисунок7_0"/>
          <p:cNvPicPr/>
          <p:nvPr/>
        </p:nvPicPr>
        <p:blipFill>
          <a:blip r:embed="rId2"/>
          <a:stretch/>
        </p:blipFill>
        <p:spPr>
          <a:xfrm>
            <a:off x="4932360" y="1700280"/>
            <a:ext cx="299736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8" descr="ричардсон"/>
          <p:cNvPicPr/>
          <p:nvPr/>
        </p:nvPicPr>
        <p:blipFill>
          <a:blip r:embed="rId1"/>
          <a:stretch/>
        </p:blipFill>
        <p:spPr>
          <a:xfrm>
            <a:off x="324000" y="1484280"/>
            <a:ext cx="2743200" cy="34574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стерн"/>
          <p:cNvPicPr/>
          <p:nvPr/>
        </p:nvPicPr>
        <p:blipFill>
          <a:blip r:embed="rId2"/>
          <a:stretch/>
        </p:blipFill>
        <p:spPr>
          <a:xfrm>
            <a:off x="3492360" y="1484280"/>
            <a:ext cx="2487600" cy="34574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-324360" y="4971960"/>
            <a:ext cx="4032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гли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эмюэл Ричардсон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987280" y="4944600"/>
            <a:ext cx="360036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гли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оренс Стерн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327" name="Picture 23" descr="ж-ж"/>
          <p:cNvPicPr/>
          <p:nvPr/>
        </p:nvPicPr>
        <p:blipFill>
          <a:blip r:embed="rId3"/>
          <a:stretch/>
        </p:blipFill>
        <p:spPr>
          <a:xfrm>
            <a:off x="6381720" y="1484280"/>
            <a:ext cx="2654280" cy="34574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6"/>
          <p:cNvSpPr/>
          <p:nvPr/>
        </p:nvSpPr>
        <p:spPr>
          <a:xfrm>
            <a:off x="6012000" y="4946760"/>
            <a:ext cx="36003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Жан Жак Рус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атели сентиментализма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9"/>
          <p:cNvSpPr/>
          <p:nvPr/>
        </p:nvSpPr>
        <p:spPr>
          <a:xfrm>
            <a:off x="5017680" y="558972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М. Карам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064200" y="491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1489320" y="566100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Н. Радищ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7" descr="Рисунок8_0"/>
          <p:cNvPicPr/>
          <p:nvPr/>
        </p:nvPicPr>
        <p:blipFill>
          <a:blip r:embed="rId1"/>
          <a:stretch/>
        </p:blipFill>
        <p:spPr>
          <a:xfrm>
            <a:off x="1116000" y="1628640"/>
            <a:ext cx="3116160" cy="3961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Рисунок9_0"/>
          <p:cNvPicPr/>
          <p:nvPr/>
        </p:nvPicPr>
        <p:blipFill>
          <a:blip r:embed="rId2"/>
          <a:stretch/>
        </p:blipFill>
        <p:spPr>
          <a:xfrm>
            <a:off x="5003640" y="1628640"/>
            <a:ext cx="3052800" cy="39610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сские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нтименталисты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нтиментализ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14288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. Изображение человеческой психологи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 Действия и поступки героев определяются с точки зрения чувств, преувеличенная чувствительность героев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 Идеализация действительности, субъективное изображение мир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 В центре изображения – чувства, природ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 Представители низших сословий наделяются богатым духовным миром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 Идеалом является нравственная чистота, не испорченность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 Значимость гражданской проблематики содержания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0654-A6DF-48CC-AF86-F5D33C93D47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4384-7233-41E9-8ADE-7E8ECCBBADA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0" y="1341360"/>
            <a:ext cx="9144000" cy="46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952920" y="701640"/>
            <a:ext cx="71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и романтиз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1413720" y="1728720"/>
            <a:ext cx="399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Людвиг 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братья Шлег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Шелл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авая фигурная скобка 3"/>
          <p:cNvSpPr/>
          <p:nvPr/>
        </p:nvSpPr>
        <p:spPr>
          <a:xfrm>
            <a:off x="5167440" y="1703520"/>
            <a:ext cx="571320" cy="192852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928520"/>
              <a:gd name="textAreaBottom" fmla="*/ 191376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"/>
                  <a:pt x="10800" y="533"/>
                </a:cubicBezTo>
                <a:lnTo>
                  <a:pt x="10800" y="10267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7"/>
                  <a:pt x="10800" y="11333"/>
                </a:cubicBezTo>
                <a:lnTo>
                  <a:pt x="10800" y="21067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5720040" y="2344680"/>
            <a:ext cx="26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1973520" y="4286160"/>
            <a:ext cx="63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В. А. Жуковски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Ро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.Необычность характеров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Трагический поединок личности и судьбы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Герой – бунтарь, одиночка, мечтатель,сильная личность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Интерес ко всему экзотическому (пейзаж, события, люди), сильному, яркому, возвышенном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Смешение высокого и низкого, трагического и комического, обыденного и необычного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Культ свободы: стремление личности к абсолютной свободе, к идеалу, к совершенств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 Красочный язык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F040-4607-4EB2-82F7-4A541114C5E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607A-ABC8-4C8B-A50D-EAD4AF15721E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9CFD-A5C9-4607-B52A-5C95F4AC960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BE53-420B-4281-9D75-9C2953E3EA0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Заголовок 1"/>
          <p:cNvSpPr/>
          <p:nvPr/>
        </p:nvSpPr>
        <p:spPr>
          <a:xfrm>
            <a:off x="4572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пушкин а.с. портрет"/>
          <p:cNvPicPr/>
          <p:nvPr/>
        </p:nvPicPr>
        <p:blipFill>
          <a:blip r:embed="rId1"/>
          <a:srcRect l="8319" t="0" r="3653" b="12784"/>
          <a:stretch/>
        </p:blipFill>
        <p:spPr>
          <a:xfrm>
            <a:off x="0" y="836640"/>
            <a:ext cx="1940040" cy="2592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ПОЭТ, ХУДОЖНИК, МУЗЫКАНТ ЛЕРМОНТОВ М. Ю."/>
          <p:cNvPicPr/>
          <p:nvPr/>
        </p:nvPicPr>
        <p:blipFill>
          <a:blip r:embed="rId2"/>
          <a:srcRect l="0" t="0" r="0" b="20268"/>
          <a:stretch/>
        </p:blipFill>
        <p:spPr>
          <a:xfrm>
            <a:off x="1763640" y="1258920"/>
            <a:ext cx="2060640" cy="2411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ГОГОЛЬ Н. В. ЛЮБОВЬ К КНИГЕ"/>
          <p:cNvPicPr/>
          <p:nvPr/>
        </p:nvPicPr>
        <p:blipFill>
          <a:blip r:embed="rId3"/>
          <a:srcRect l="0" t="0" r="0" b="17025"/>
          <a:stretch/>
        </p:blipFill>
        <p:spPr>
          <a:xfrm>
            <a:off x="276120" y="3573360"/>
            <a:ext cx="1893960" cy="244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Иван Александрович Гончаров"/>
          <p:cNvPicPr/>
          <p:nvPr/>
        </p:nvPicPr>
        <p:blipFill>
          <a:blip r:embed="rId4"/>
          <a:srcRect l="0" t="0" r="0" b="20268"/>
          <a:stretch/>
        </p:blipFill>
        <p:spPr>
          <a:xfrm>
            <a:off x="5435640" y="1344600"/>
            <a:ext cx="1958760" cy="2411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ДОСТОЕВСКИЙ ФЕДОР МИХАЙЛОВИЧ"/>
          <p:cNvPicPr/>
          <p:nvPr/>
        </p:nvPicPr>
        <p:blipFill>
          <a:blip r:embed="rId5"/>
          <a:srcRect l="0" t="0" r="0" b="17743"/>
          <a:stretch/>
        </p:blipFill>
        <p:spPr>
          <a:xfrm>
            <a:off x="7307280" y="888840"/>
            <a:ext cx="1801800" cy="2487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НЕКРАСОВ Н.А. ПОЭТ И НАРОД"/>
          <p:cNvPicPr/>
          <p:nvPr/>
        </p:nvPicPr>
        <p:blipFill>
          <a:blip r:embed="rId6"/>
          <a:stretch/>
        </p:blipFill>
        <p:spPr>
          <a:xfrm>
            <a:off x="3824280" y="3573360"/>
            <a:ext cx="1752480" cy="2292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6" descr=" МИХАИЛ ЕВГРАФОВИЧ САЛТЫКОВ - ЩЕДРИН"/>
          <p:cNvPicPr/>
          <p:nvPr/>
        </p:nvPicPr>
        <p:blipFill>
          <a:blip r:embed="rId7"/>
          <a:srcRect l="0" t="4290" r="0" b="15629"/>
          <a:stretch/>
        </p:blipFill>
        <p:spPr>
          <a:xfrm>
            <a:off x="7291440" y="3376440"/>
            <a:ext cx="1806480" cy="2356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" descr="ЛЕВ ТОЛСТОЙ И ДЕТИ портрет"/>
          <p:cNvPicPr/>
          <p:nvPr/>
        </p:nvPicPr>
        <p:blipFill>
          <a:blip r:embed="rId8"/>
          <a:srcRect l="0" t="0" r="0" b="13885"/>
          <a:stretch/>
        </p:blipFill>
        <p:spPr>
          <a:xfrm>
            <a:off x="5450040" y="4029120"/>
            <a:ext cx="1866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205E-6693-44F3-B301-CE336F45A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события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00040" y="1428840"/>
          <a:ext cx="8128080" cy="2360520"/>
        </p:xfrm>
        <a:graphic>
          <a:graphicData uri="http://schemas.openxmlformats.org/drawingml/2006/table">
            <a:tbl>
              <a:tblPr/>
              <a:tblGrid>
                <a:gridCol w="2709720"/>
                <a:gridCol w="2708280"/>
                <a:gridCol w="2710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ий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чествен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ис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867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Box 6"/>
          <p:cNvSpPr/>
          <p:nvPr/>
        </p:nvSpPr>
        <p:spPr>
          <a:xfrm>
            <a:off x="1134000" y="2955960"/>
            <a:ext cx="36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ление Александ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6030000" y="2935440"/>
            <a:ext cx="19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1130400" y="5575320"/>
            <a:ext cx="73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25 года – 30 лет молчания (до 1855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1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события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0920" y="784080"/>
          <a:ext cx="8642160" cy="5159520"/>
        </p:xfrm>
        <a:graphic>
          <a:graphicData uri="http://schemas.openxmlformats.org/drawingml/2006/table">
            <a:tbl>
              <a:tblPr/>
              <a:tblGrid>
                <a:gridCol w="2511360"/>
                <a:gridCol w="2111400"/>
                <a:gridCol w="2111400"/>
                <a:gridCol w="1908000"/>
              </a:tblGrid>
              <a:tr h="68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3-18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мская    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а крепостного    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ель 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правления Никол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я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лух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9" name="Номер слайда 4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BB49-89D7-46B1-AB7A-94EC9BD235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2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77BE-E45A-450D-B88C-705209F3D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~PP11098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478080" y="1268280"/>
            <a:ext cx="8230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безумной радости волну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обилие таланто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ённых Россией 19 ве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поражающее разнообразие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4B12-EA96-44C3-BCF2-3EC32CCA6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143000"/>
          <a:ext cx="9036000" cy="4664160"/>
        </p:xfrm>
        <a:graphic>
          <a:graphicData uri="http://schemas.openxmlformats.org/drawingml/2006/table">
            <a:tbl>
              <a:tblPr/>
              <a:tblGrid>
                <a:gridCol w="1403280"/>
                <a:gridCol w="4896000"/>
                <a:gridCol w="2736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ьба классициз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иментализ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тизма, раннего реал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ада, поэ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эле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6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цвет романтизма, переход от романтизма к реализму и социальной сат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йная борьба славянофилов и западников, расцвет «натуральной школы», противостояние гоголевской школы и поэтов - лир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ий очерк, социальная повесть, психологический роман, поэ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7395-2964-4CB1-B911-5DBFB711E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-12600" y="1341360"/>
          <a:ext cx="9037440" cy="3840120"/>
        </p:xfrm>
        <a:graphic>
          <a:graphicData uri="http://schemas.openxmlformats.org/drawingml/2006/table">
            <a:tbl>
              <a:tblPr/>
              <a:tblGrid>
                <a:gridCol w="1403280"/>
                <a:gridCol w="4897440"/>
                <a:gridCol w="273672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борство либералов и демократов, расцвет демократической журналистик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темы, проблемы и герои в литерату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кратическая повесть, роман, литературная кри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9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питализма, активизация тайных революционных организаций, идеализация крестьянской жизни, развитие реал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к, рассказ, ск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42F8-9FD1-41E8-9A1E-14CEE6CEC6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1163520"/>
          <a:ext cx="9036000" cy="4572000"/>
        </p:xfrm>
        <a:graphic>
          <a:graphicData uri="http://schemas.openxmlformats.org/drawingml/2006/table">
            <a:tbl>
              <a:tblPr/>
              <a:tblGrid>
                <a:gridCol w="1403280"/>
                <a:gridCol w="4824360"/>
                <a:gridCol w="2808360"/>
              </a:tblGrid>
              <a:tr h="265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2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ение реакционной политики царизма, рост пролетариата, пропаганда идей марксизма, обновление тематики в литературе (изображение «среднего человека», интеллигента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,  повесть, ро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5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питализма, противостояние реалистической и декадентской литературы, зарождение пролетарской лит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, публицистические жан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темы русской литературы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7120" y="1356840"/>
            <a:ext cx="83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5 – 1855 – основной вопрос: «Кто мы? Что с нами происходи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 «Евгений Онегин», М. Ю. Лермонтов «Герой нашего времени», Н. В. Гоголь «Мёртвые ду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5 – 1861 – основной вопрос: «Кто винова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С. Тургенев «Записки охотника», И. А. Гончаров «Обломов», М. Е .Салтыков-Щедрин «Губернские очер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1 – 1881 – основной вопрос: «Что 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Г. Чернышевский «Что делать?», Ф. М. Достоевский «Преступление и наказание», Л. Н. Толстой «Война и м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AB86-FF2B-4604-9F7F-3C28D3979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~PP21207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19:47Z</dcterms:created>
  <dc:creator>_Wizard_</dc:creator>
  <dc:description/>
  <dc:language>en-US</dc:language>
  <cp:lastModifiedBy>Светлана</cp:lastModifiedBy>
  <dcterms:modified xsi:type="dcterms:W3CDTF">2024-01-08T01:30:20Z</dcterms:modified>
  <cp:revision>93</cp:revision>
  <dc:subject/>
  <dc:title>Слайд 1</dc:title>
</cp:coreProperties>
</file>