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5.png" ContentType="image/png"/>
  <Override PartName="/ppt/media/image29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9.png" ContentType="image/png"/>
  <Override PartName="/ppt/media/image33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E185-3310-46C6-BE5E-DC3F6BCC9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EAF-EF91-466F-82DC-5883B527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F97-3A4B-472B-9DF1-FB90F1F20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5918-7844-4F6C-80D6-7C664E52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B41D-53B9-42C4-9B42-57ECA1D1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D415-BD46-459A-93C1-A48125B4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97AA-5228-4BBC-A7E9-3CB65D4FB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2A7F-6E54-481C-9B3E-5DC34029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F68F-079B-4EB6-9525-097DD42A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AE89-B61E-4F06-8C59-F0123F94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30E1-2BAE-4DB8-B18B-1F6AADDC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10B1-B244-4808-9053-6D4AF7BC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DE12-D5FA-41E2-AAF2-3E8F4363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20F8-6975-4777-84D2-D019CB5B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2BAF-8256-4B95-B1BF-AEB299ED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0724-52BC-4436-AB32-C0599120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FA78-EB9B-41DB-A335-FE8C0C92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282C7-159E-433C-B0D3-6E911352C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5EE65-C6E0-4867-B3FB-4EE240E4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5C267-E3EF-442D-9ED2-1DEAE981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0082-E06C-4B0F-982E-75643547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B6B3E-1702-469E-9A41-24BA13A0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5A21-37F5-429F-82E7-B246BADD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3A859-B041-4D52-A822-E9ED8FEB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57361-723A-4EB4-81D1-D5BDE2D5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6E60C-C6D0-4853-99FE-921E515F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2FBA3-3CAE-4621-A5FD-884A33FE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7DAD9-879D-4B47-A453-1AC6A881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60601-CE30-4F3A-88C1-81AE01B8E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3165-F03C-4231-AB2C-977F6AAF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5DDEE-87AC-4513-AA54-14791E67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39741-4B7A-401C-904A-DDB1C381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B6E13-F3F4-4A64-9385-DB1B197C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0A9C-7D3B-4B4F-9A17-CC23E59B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C1B01-DB63-437B-A412-88436FE7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1F91C-96D9-4BB1-8846-05660D3D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40ECD-5ACB-4EBC-8CB3-9750C2EE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E43D8-330C-40C1-AE5C-3B7E86E0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4046E-4CE8-43D2-A88E-E95AE727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76644-2F9A-4A2C-81AB-8DFD7766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DD813-0984-468A-BF32-FF601BA6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72320-E813-4F8A-B320-12229532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9A00F-F95B-4163-B183-BFAF19786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8A2F8D-BC6C-44CB-9331-EA22A83DD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35B3-9CFD-44BF-88B8-BE864B26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52BD49-8A47-495F-9E53-D00B0E3E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11E92-F330-4990-AC40-E0C27139E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3AC7D9-FC66-4FC5-A00E-4EE71008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32233D-F3B5-4125-A365-C16D4166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1F46C8-C373-4A1A-9E16-1EC472E3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248F8-A8FC-4FDE-AE6D-C3229023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E4B75E-8432-48DD-834E-C13130A3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547C6-6428-4226-9A91-0F71B408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860727-7ABB-4D0F-92A0-51166044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18FAA-D545-4652-9CD5-BADE895C0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D742-CAC1-4512-83A3-853794D0C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AA8FFD-BABF-4B61-B3C5-AD869EEA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582-067E-4D5D-AF15-DDE586D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1FE-1D86-400D-97C5-882AC784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78A1-50BB-4C6E-84BC-729698F7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6A0E-E6C0-4F9A-A86D-2E8D354F34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A2BD-8B21-4598-A784-A27B69D4149D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CFEC-CC47-4C85-AF79-46A3CFD91C2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315D-4071-40CA-AAD8-45AD2DFA54D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8C82-0422-42A3-BF67-240A6B0C8A7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F55C-52A1-4F3D-B31B-8E5C61972CA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C6D8-E0B0-41B5-AD5D-8329410BCAA2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C617-20E0-46A1-85D1-C2719B0E027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4-5plus.ru/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Основные этапы исторического развития России 19 века и их отражение в литерат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йцева Светлана Александровна, учитель русского языка и литерату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БОУ «СОШ с. Старый Искити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рок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5E25C-C24E-470C-B9E1-B3E34BED5D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Скругленная прямоугольная выноска 7"/>
          <p:cNvSpPr/>
          <p:nvPr/>
        </p:nvSpPr>
        <p:spPr>
          <a:xfrm>
            <a:off x="2340000" y="2400480"/>
            <a:ext cx="4968720" cy="3168360"/>
          </a:xfrm>
          <a:prstGeom prst="wedgeRoundRectCallout">
            <a:avLst>
              <a:gd name="adj1" fmla="val 22175"/>
              <a:gd name="adj2" fmla="val -6245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юбых общественных переме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опротивля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сему новом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хотели сохра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епостнические поря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Номер слайда 15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8D30-CDBE-4725-B029-73FCDACF48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~PP21238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" descr=""/>
          <p:cNvPicPr/>
          <p:nvPr/>
        </p:nvPicPr>
        <p:blipFill>
          <a:blip r:embed="rId2"/>
          <a:stretch/>
        </p:blipFill>
        <p:spPr>
          <a:xfrm>
            <a:off x="2987640" y="1414440"/>
            <a:ext cx="3151080" cy="646200"/>
          </a:xfrm>
          <a:prstGeom prst="rect">
            <a:avLst/>
          </a:prstGeom>
          <a:ln w="0">
            <a:noFill/>
          </a:ln>
        </p:spPr>
      </p:pic>
      <p:pic>
        <p:nvPicPr>
          <p:cNvPr id="241" name="Прямоугольник 18" descr=""/>
          <p:cNvPicPr/>
          <p:nvPr/>
        </p:nvPicPr>
        <p:blipFill>
          <a:blip r:embed="rId3"/>
          <a:stretch/>
        </p:blipFill>
        <p:spPr>
          <a:xfrm>
            <a:off x="3029040" y="5583240"/>
            <a:ext cx="3348000" cy="6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Прямоугольник 3" descr=""/>
          <p:cNvPicPr/>
          <p:nvPr/>
        </p:nvPicPr>
        <p:blipFill>
          <a:blip r:embed="rId1"/>
          <a:stretch/>
        </p:blipFill>
        <p:spPr>
          <a:xfrm>
            <a:off x="3346560" y="1249200"/>
            <a:ext cx="2255760" cy="646200"/>
          </a:xfrm>
          <a:prstGeom prst="rect">
            <a:avLst/>
          </a:prstGeom>
          <a:ln w="0">
            <a:noFill/>
          </a:ln>
        </p:spPr>
      </p:pic>
      <p:sp>
        <p:nvSpPr>
          <p:cNvPr id="244" name="Овал 4"/>
          <p:cNvSpPr/>
          <p:nvPr/>
        </p:nvSpPr>
        <p:spPr>
          <a:xfrm>
            <a:off x="146160" y="1959120"/>
            <a:ext cx="2779560" cy="7855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Запа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Скругленная прямоугольная выноска 5"/>
          <p:cNvSpPr/>
          <p:nvPr/>
        </p:nvSpPr>
        <p:spPr>
          <a:xfrm>
            <a:off x="47520" y="3135240"/>
            <a:ext cx="300852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тремилис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освобождению крестья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введению республ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 европейск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Прямоугольник 6" descr=""/>
          <p:cNvPicPr/>
          <p:nvPr/>
        </p:nvPicPr>
        <p:blipFill>
          <a:blip r:embed="rId2"/>
          <a:stretch/>
        </p:blipFill>
        <p:spPr>
          <a:xfrm>
            <a:off x="109440" y="5810400"/>
            <a:ext cx="2944800" cy="645840"/>
          </a:xfrm>
          <a:prstGeom prst="rect">
            <a:avLst/>
          </a:prstGeom>
          <a:ln w="0">
            <a:noFill/>
          </a:ln>
        </p:spPr>
      </p:pic>
      <p:sp>
        <p:nvSpPr>
          <p:cNvPr id="247" name="Овал 7"/>
          <p:cNvSpPr/>
          <p:nvPr/>
        </p:nvSpPr>
        <p:spPr>
          <a:xfrm>
            <a:off x="2925720" y="195912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лавяноф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кругленная прямоугольная выноска 9"/>
          <p:cNvSpPr/>
          <p:nvPr/>
        </p:nvSpPr>
        <p:spPr>
          <a:xfrm>
            <a:off x="3139920" y="3135240"/>
            <a:ext cx="294336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Отстаив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ерность принципам самодержав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усские тради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Прямоугольник 10" descr=""/>
          <p:cNvPicPr/>
          <p:nvPr/>
        </p:nvPicPr>
        <p:blipFill>
          <a:blip r:embed="rId3"/>
          <a:stretch/>
        </p:blipFill>
        <p:spPr>
          <a:xfrm>
            <a:off x="3011400" y="5967360"/>
            <a:ext cx="3071880" cy="64620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11"/>
          <p:cNvSpPr/>
          <p:nvPr/>
        </p:nvSpPr>
        <p:spPr>
          <a:xfrm>
            <a:off x="6027840" y="196704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адикалы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свет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Скругленная прямоугольная выноска 12"/>
          <p:cNvSpPr/>
          <p:nvPr/>
        </p:nvSpPr>
        <p:spPr>
          <a:xfrm>
            <a:off x="6173640" y="3284640"/>
            <a:ext cx="2943360" cy="266544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тив крепостного пра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ротив самодержа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Прямоугольник 13" descr=""/>
          <p:cNvPicPr/>
          <p:nvPr/>
        </p:nvPicPr>
        <p:blipFill>
          <a:blip r:embed="rId4"/>
          <a:stretch/>
        </p:blipFill>
        <p:spPr>
          <a:xfrm>
            <a:off x="5956200" y="6138720"/>
            <a:ext cx="3243240" cy="64620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4"/>
          <p:cNvSpPr/>
          <p:nvPr/>
        </p:nvSpPr>
        <p:spPr>
          <a:xfrm>
            <a:off x="1423080" y="1278000"/>
            <a:ext cx="653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 перед народной революци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4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Скругленная прямоугольная выноска 7"/>
          <p:cNvSpPr/>
          <p:nvPr/>
        </p:nvSpPr>
        <p:spPr>
          <a:xfrm>
            <a:off x="2050920" y="2205000"/>
            <a:ext cx="5400720" cy="2540160"/>
          </a:xfrm>
          <a:prstGeom prst="wedgeRoundRectCallout">
            <a:avLst>
              <a:gd name="adj1" fmla="val 22175"/>
              <a:gd name="adj2" fmla="val -62458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Выступали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пр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амодержавия и крепостниче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мечтали 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обходимости ломки стар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       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устоев в интересах на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222268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15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CE01-DEF8-4EE1-8D26-9F9D36E899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~PP21316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8" name="Прямоугольник 1" descr=""/>
          <p:cNvPicPr/>
          <p:nvPr/>
        </p:nvPicPr>
        <p:blipFill>
          <a:blip r:embed="rId2"/>
          <a:stretch/>
        </p:blipFill>
        <p:spPr>
          <a:xfrm>
            <a:off x="1420920" y="1268280"/>
            <a:ext cx="6291000" cy="646200"/>
          </a:xfrm>
          <a:prstGeom prst="rect">
            <a:avLst/>
          </a:prstGeom>
          <a:ln w="0">
            <a:noFill/>
          </a:ln>
        </p:spPr>
      </p:pic>
      <p:pic>
        <p:nvPicPr>
          <p:cNvPr id="259" name="Прямоугольник 6" descr=""/>
          <p:cNvPicPr/>
          <p:nvPr/>
        </p:nvPicPr>
        <p:blipFill>
          <a:blip r:embed="rId3"/>
          <a:stretch/>
        </p:blipFill>
        <p:spPr>
          <a:xfrm>
            <a:off x="2298600" y="4827600"/>
            <a:ext cx="4529160" cy="175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861552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объединяла мысль: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усская жизнь нуждается в коренных изменениях»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их проводить?</a:t>
            </a:r>
            <a:br>
              <a:rPr sz="28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"/>
          <p:cNvSpPr/>
          <p:nvPr/>
        </p:nvSpPr>
        <p:spPr>
          <a:xfrm>
            <a:off x="357120" y="357120"/>
            <a:ext cx="349416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волюционеры -   демок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4"/>
          <p:cNvSpPr/>
          <p:nvPr/>
        </p:nvSpPr>
        <p:spPr>
          <a:xfrm>
            <a:off x="5302080" y="334800"/>
            <a:ext cx="2643480" cy="1071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иб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5"/>
          <p:cNvSpPr/>
          <p:nvPr/>
        </p:nvSpPr>
        <p:spPr>
          <a:xfrm>
            <a:off x="357120" y="3714840"/>
            <a:ext cx="349416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волюционеры - демокр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Овал 7"/>
          <p:cNvSpPr/>
          <p:nvPr/>
        </p:nvSpPr>
        <p:spPr>
          <a:xfrm>
            <a:off x="5435640" y="3638520"/>
            <a:ext cx="2921040" cy="1285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Либера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кругленная прямоугольная выноска 8"/>
          <p:cNvSpPr/>
          <p:nvPr/>
        </p:nvSpPr>
        <p:spPr>
          <a:xfrm>
            <a:off x="606600" y="5084640"/>
            <a:ext cx="2714400" cy="1143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Спасение России только в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кругленная прямоугольная выноска 10"/>
          <p:cNvSpPr/>
          <p:nvPr/>
        </p:nvSpPr>
        <p:spPr>
          <a:xfrm>
            <a:off x="4956120" y="5251320"/>
            <a:ext cx="3857760" cy="10717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оссии необходимы реформы сверху, без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Выгнутая влево стрелка 11"/>
          <p:cNvSpPr/>
          <p:nvPr/>
        </p:nvSpPr>
        <p:spPr>
          <a:xfrm rot="21165000">
            <a:off x="1184040" y="1496520"/>
            <a:ext cx="731880" cy="797040"/>
          </a:xfrm>
          <a:custGeom>
            <a:avLst/>
            <a:gdLst>
              <a:gd name="textAreaLeft" fmla="*/ 97920 w 731880"/>
              <a:gd name="textAreaRight" fmla="*/ 633960 w 731880"/>
              <a:gd name="textAreaTop" fmla="*/ 130680 h 797040"/>
              <a:gd name="textAreaBottom" fmla="*/ 574920 h 79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081" stAng="-5400000" swAng="-5400000"/>
                <a:lnTo>
                  <a:pt x="0" y="12039"/>
                </a:lnTo>
                <a:arcTo wR="21600" hR="7081" stAng="10800000" swAng="-3106532"/>
                <a:lnTo>
                  <a:pt x="16200" y="21375"/>
                </a:lnTo>
                <a:lnTo>
                  <a:pt x="21600" y="16641"/>
                </a:lnTo>
                <a:lnTo>
                  <a:pt x="16200" y="11457"/>
                </a:lnTo>
                <a:lnTo>
                  <a:pt x="16200" y="13937"/>
                </a:lnTo>
                <a:arcTo wR="21600" hR="7081" stAng="7693468" swAng="2687420"/>
                <a:lnTo>
                  <a:pt x="1367" y="9560"/>
                </a:lnTo>
                <a:arcTo wR="21600" hR="7081" stAng="-10380888" swAng="4980888"/>
                <a:close/>
              </a:path>
              <a:path fill="darkenLess" w="21600" h="21600">
                <a:moveTo>
                  <a:pt x="21600" y="0"/>
                </a:moveTo>
                <a:arcTo wR="21600" hR="7081" stAng="-5400000" swAng="-5400000"/>
                <a:lnTo>
                  <a:pt x="0" y="7081"/>
                </a:lnTo>
                <a:arcTo wR="21600" hR="7081" stAng="10800000" swAng="-419112"/>
                <a:lnTo>
                  <a:pt x="1367" y="9560"/>
                </a:lnTo>
                <a:arcTo wR="21600" hR="7081" stAng="-10380888" swAng="4980888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Выгнутая вправо стрелка 12"/>
          <p:cNvSpPr/>
          <p:nvPr/>
        </p:nvSpPr>
        <p:spPr>
          <a:xfrm rot="742200">
            <a:off x="7114680" y="1474920"/>
            <a:ext cx="731880" cy="828720"/>
          </a:xfrm>
          <a:custGeom>
            <a:avLst/>
            <a:gdLst>
              <a:gd name="textAreaLeft" fmla="*/ 97920 w 731880"/>
              <a:gd name="textAreaRight" fmla="*/ 633960 w 731880"/>
              <a:gd name="textAreaTop" fmla="*/ 138600 h 828720"/>
              <a:gd name="textAreaBottom" fmla="*/ 598680 h 8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224" stAng="-5400000" swAng="5400000"/>
                <a:lnTo>
                  <a:pt x="21600" y="11992"/>
                </a:lnTo>
                <a:arcTo wR="21600" hR="7224" stAng="0" swAng="3139746"/>
                <a:lnTo>
                  <a:pt x="5400" y="21371"/>
                </a:lnTo>
                <a:lnTo>
                  <a:pt x="0" y="16831"/>
                </a:lnTo>
                <a:lnTo>
                  <a:pt x="5400" y="11833"/>
                </a:lnTo>
                <a:lnTo>
                  <a:pt x="5400" y="14218"/>
                </a:lnTo>
                <a:arcTo wR="21600" hR="7224" stAng="3139746" swAng="-2739616"/>
                <a:lnTo>
                  <a:pt x="20390" y="9608"/>
                </a:lnTo>
                <a:arcTo wR="21600" hR="7224" stAng="-400130" swAng="-4999870"/>
                <a:close/>
              </a:path>
              <a:path fill="darkenLess" w="21600" h="21600">
                <a:moveTo>
                  <a:pt x="0" y="0"/>
                </a:moveTo>
                <a:arcTo wR="21600" hR="7224" stAng="-5400000" swAng="5400000"/>
                <a:lnTo>
                  <a:pt x="21600" y="11992"/>
                </a:lnTo>
                <a:arcTo wR="21600" hR="7224" stAng="0" swAng="-400130"/>
                <a:lnTo>
                  <a:pt x="20390" y="9608"/>
                </a:lnTo>
                <a:arcTo wR="21600" hR="7224" stAng="-400130" swAng="-499987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17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095A-BCFD-4557-8F2A-701654DACC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~PP21410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о второй половине 19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4"/>
          <p:cNvSpPr/>
          <p:nvPr/>
        </p:nvSpPr>
        <p:spPr>
          <a:xfrm>
            <a:off x="125280" y="1181160"/>
            <a:ext cx="2779920" cy="7858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чвен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Скругленная прямоугольная выноска 5"/>
          <p:cNvSpPr/>
          <p:nvPr/>
        </p:nvSpPr>
        <p:spPr>
          <a:xfrm>
            <a:off x="47520" y="2392200"/>
            <a:ext cx="300852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Считали, чт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русское общество должно соединиться с народною почв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Прямоугольник 6" descr=""/>
          <p:cNvPicPr/>
          <p:nvPr/>
        </p:nvPicPr>
        <p:blipFill>
          <a:blip r:embed="rId1"/>
          <a:stretch/>
        </p:blipFill>
        <p:spPr>
          <a:xfrm>
            <a:off x="-73080" y="5175360"/>
            <a:ext cx="3260880" cy="1384200"/>
          </a:xfrm>
          <a:prstGeom prst="rect">
            <a:avLst/>
          </a:prstGeom>
          <a:ln w="0">
            <a:noFill/>
          </a:ln>
        </p:spPr>
      </p:pic>
      <p:sp>
        <p:nvSpPr>
          <p:cNvPr id="275" name="Овал 7"/>
          <p:cNvSpPr/>
          <p:nvPr/>
        </p:nvSpPr>
        <p:spPr>
          <a:xfrm>
            <a:off x="2909880" y="1181160"/>
            <a:ext cx="309564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арод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Скругленная прямоугольная выноска 9"/>
          <p:cNvSpPr/>
          <p:nvPr/>
        </p:nvSpPr>
        <p:spPr>
          <a:xfrm>
            <a:off x="3100320" y="2392200"/>
            <a:ext cx="2943360" cy="2664000"/>
          </a:xfrm>
          <a:prstGeom prst="wedgeRoundRectCallout">
            <a:avLst>
              <a:gd name="adj1" fmla="val 8453"/>
              <a:gd name="adj2" fmla="val -72185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Развива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идеи      крестьянской револю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Прямоугольник 10" descr=""/>
          <p:cNvPicPr/>
          <p:nvPr/>
        </p:nvPicPr>
        <p:blipFill>
          <a:blip r:embed="rId2"/>
          <a:stretch/>
        </p:blipFill>
        <p:spPr>
          <a:xfrm>
            <a:off x="3346560" y="5175360"/>
            <a:ext cx="2120760" cy="52380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11"/>
          <p:cNvSpPr/>
          <p:nvPr/>
        </p:nvSpPr>
        <p:spPr>
          <a:xfrm>
            <a:off x="6039000" y="1181160"/>
            <a:ext cx="3097080" cy="850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елигиоз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философ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Скругленная прямоугольная выноска 12"/>
          <p:cNvSpPr/>
          <p:nvPr/>
        </p:nvSpPr>
        <p:spPr>
          <a:xfrm>
            <a:off x="6043680" y="2392200"/>
            <a:ext cx="2944800" cy="2664000"/>
          </a:xfrm>
          <a:prstGeom prst="wedgeRoundRectCallout">
            <a:avLst>
              <a:gd name="adj1" fmla="val 11560"/>
              <a:gd name="adj2" fmla="val -67282"/>
              <a:gd name="adj3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22268"/>
                </a:solidFill>
                <a:uFillTx/>
                <a:latin typeface="Times New Roman"/>
                <a:ea typeface="Times New Roman"/>
              </a:rPr>
              <a:t>Призвание человека </a:t>
            </a: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в достижении богоподобного могущ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Прямоугольник 13" descr=""/>
          <p:cNvPicPr/>
          <p:nvPr/>
        </p:nvPicPr>
        <p:blipFill>
          <a:blip r:embed="rId3"/>
          <a:stretch/>
        </p:blipFill>
        <p:spPr>
          <a:xfrm>
            <a:off x="6254640" y="5151600"/>
            <a:ext cx="252432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61440" y="20160"/>
            <a:ext cx="8401320" cy="671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Скругленный прямоугольник 2"/>
          <p:cNvSpPr/>
          <p:nvPr/>
        </p:nvSpPr>
        <p:spPr>
          <a:xfrm>
            <a:off x="457200" y="141768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Критический реализ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натуральная школ</a:t>
            </a:r>
            <a:r>
              <a:rPr b="1" lang="ru-RU" sz="1800" spc="-1" strike="noStrike">
                <a:solidFill>
                  <a:srgbClr val="222268"/>
                </a:solidFill>
                <a:latin typeface="Arial"/>
              </a:rPr>
              <a:t>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Скругленный прямоугольник 3"/>
          <p:cNvSpPr/>
          <p:nvPr/>
        </p:nvSpPr>
        <p:spPr>
          <a:xfrm>
            <a:off x="4786200" y="1428840"/>
            <a:ext cx="3714840" cy="1071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Чистое искус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Скругленный прямоугольник 4"/>
          <p:cNvSpPr/>
          <p:nvPr/>
        </p:nvSpPr>
        <p:spPr>
          <a:xfrm>
            <a:off x="417600" y="2603520"/>
            <a:ext cx="3714840" cy="2346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«Период с 1856 года по 1880 год – время величайших достижений русского критического реализма 19 века» (Д.Д.Благ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Скругленный прямоугольник 5"/>
          <p:cNvSpPr/>
          <p:nvPr/>
        </p:nvSpPr>
        <p:spPr>
          <a:xfrm>
            <a:off x="4572000" y="2603520"/>
            <a:ext cx="4394160" cy="340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Теоретики «чистого искусства» романтизировали возвышенное и прекрасное, противопоставляли «вечное» в искусстве «злободневному», призывали быть далёкими от «житейского волнен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Скругленный прямоугольник 6"/>
          <p:cNvSpPr/>
          <p:nvPr/>
        </p:nvSpPr>
        <p:spPr>
          <a:xfrm>
            <a:off x="149400" y="5468760"/>
            <a:ext cx="4606920" cy="1071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исатели демократических убеждений сгруппировались вокруг журнала «Современни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Стрелка вниз 7"/>
          <p:cNvSpPr/>
          <p:nvPr/>
        </p:nvSpPr>
        <p:spPr>
          <a:xfrm>
            <a:off x="2071800" y="5003640"/>
            <a:ext cx="485640" cy="455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Номер слайда 8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2EBC-F68E-484D-9217-03C563A3B8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оциально-политическая борьба в лит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2" descr=""/>
          <p:cNvPicPr/>
          <p:nvPr/>
        </p:nvPicPr>
        <p:blipFill>
          <a:blip r:embed="rId1"/>
          <a:stretch/>
        </p:blipFill>
        <p:spPr>
          <a:xfrm>
            <a:off x="1692360" y="907920"/>
            <a:ext cx="5837040" cy="4735800"/>
          </a:xfrm>
          <a:prstGeom prst="rect">
            <a:avLst/>
          </a:prstGeom>
          <a:ln w="0">
            <a:noFill/>
          </a:ln>
        </p:spPr>
      </p:pic>
      <p:sp>
        <p:nvSpPr>
          <p:cNvPr id="291" name="Прямоугольник 3"/>
          <p:cNvSpPr/>
          <p:nvPr/>
        </p:nvSpPr>
        <p:spPr>
          <a:xfrm>
            <a:off x="0" y="5643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сотрудников журнала "Современник". Сидят слева напра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А. Гончаров, И.С. Тургенев, А.В. Дружинин, А.Н. Островск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ят: Л.Н. Толстой, Д.В. Григорович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омер слайда 4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518E-EFD3-43ED-8D61-C7B9CC41F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Заголовок 1"/>
          <p:cNvSpPr/>
          <p:nvPr/>
        </p:nvSpPr>
        <p:spPr>
          <a:xfrm>
            <a:off x="4460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едставители критического реал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2E42-A19D-4428-882E-E2DE6B72E1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Федор Тютчев: женщины, имидж России, Бенкендорф Блог Перемен"/>
          <p:cNvPicPr/>
          <p:nvPr/>
        </p:nvPicPr>
        <p:blipFill>
          <a:blip r:embed="rId1"/>
          <a:stretch/>
        </p:blipFill>
        <p:spPr>
          <a:xfrm>
            <a:off x="272880" y="1919160"/>
            <a:ext cx="2881440" cy="3521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Афанасий Фет"/>
          <p:cNvPicPr/>
          <p:nvPr/>
        </p:nvPicPr>
        <p:blipFill>
          <a:blip r:embed="rId2"/>
          <a:stretch/>
        </p:blipFill>
        <p:spPr>
          <a:xfrm>
            <a:off x="3306600" y="1125360"/>
            <a:ext cx="2530800" cy="35085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Рефераты по литературе и русскому языку &quot; Страница 34 - Xreferat.ru - Банк рефератов, сочинений, докладов, курсовых и дипломных"/>
          <p:cNvPicPr/>
          <p:nvPr/>
        </p:nvPicPr>
        <p:blipFill>
          <a:blip r:embed="rId3"/>
          <a:stretch/>
        </p:blipFill>
        <p:spPr>
          <a:xfrm>
            <a:off x="6029280" y="1989000"/>
            <a:ext cx="2822760" cy="3548160"/>
          </a:xfrm>
          <a:prstGeom prst="rect">
            <a:avLst/>
          </a:prstGeom>
          <a:ln w="0">
            <a:noFill/>
          </a:ln>
        </p:spPr>
      </p:pic>
      <p:sp>
        <p:nvSpPr>
          <p:cNvPr id="298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едставители «чистого искусств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476280" y="546408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 И. Тютч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"/>
          <p:cNvSpPr/>
          <p:nvPr/>
        </p:nvSpPr>
        <p:spPr>
          <a:xfrm>
            <a:off x="3731040" y="4637160"/>
            <a:ext cx="168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А. Ф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8"/>
          <p:cNvSpPr/>
          <p:nvPr/>
        </p:nvSpPr>
        <p:spPr>
          <a:xfrm>
            <a:off x="6309360" y="553716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К.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сновные проблемы в литературе 19 века</a:t>
            </a:r>
            <a:br>
              <a:rPr sz="2800"/>
            </a:b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(готовимся к ЕГЭ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ро и зл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на  и наказа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р и вой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нергия человека и его бездейств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дрость и легкомысл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и отчужд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спотизм и рабств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уд и празд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о и душ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ра и скепс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одготовка к ЕГЭ по русскому языку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4-5plus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A185-C83C-413C-8B07-1551809A03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9B50-01B4-446C-8D64-9999919C2305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0320-6646-400A-9514-BD1EC7C3B506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Прямоугольник 3" descr=""/>
          <p:cNvPicPr/>
          <p:nvPr/>
        </p:nvPicPr>
        <p:blipFill>
          <a:blip r:embed="rId1"/>
          <a:stretch/>
        </p:blipFill>
        <p:spPr>
          <a:xfrm>
            <a:off x="-115920" y="2017800"/>
            <a:ext cx="93758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D95C-06E9-4D87-8E71-BAF87F0E82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994320" y="1341360"/>
            <a:ext cx="7405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 девятнадцатый, железн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истину жестокий ве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Б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оугольник 1"/>
          <p:cNvSpPr/>
          <p:nvPr/>
        </p:nvSpPr>
        <p:spPr>
          <a:xfrm>
            <a:off x="65880" y="404640"/>
            <a:ext cx="897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и русского классициз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0" y="1149480"/>
            <a:ext cx="3357720" cy="257004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383760" y="3714840"/>
            <a:ext cx="233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Канте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3564000" y="1500120"/>
            <a:ext cx="2247840" cy="31622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2708280" y="4714920"/>
            <a:ext cx="33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. Тредиак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3"/>
          <a:stretch/>
        </p:blipFill>
        <p:spPr>
          <a:xfrm>
            <a:off x="6167520" y="2000160"/>
            <a:ext cx="2976480" cy="38577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7"/>
          <p:cNvSpPr/>
          <p:nvPr/>
        </p:nvSpPr>
        <p:spPr>
          <a:xfrm>
            <a:off x="6279480" y="592920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. Ломон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-27360" y="1267920"/>
            <a:ext cx="95821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. Ориентация </a:t>
            </a: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на античное искусство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 Простота, стройность, логичность композиции произведения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Общественная, гражданская проблематика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Основные герои – цари, полководцы, государственные деятели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Строгая иерархия жанров, героев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Теория «трёх штилей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Правило «трёх единств».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ассицизм</a:t>
            </a:r>
            <a:endParaRPr b="0" lang="en-US" sz="5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7" name="Прямоугольник 2"/>
          <p:cNvSpPr/>
          <p:nvPr/>
        </p:nvSpPr>
        <p:spPr>
          <a:xfrm>
            <a:off x="0" y="1341360"/>
            <a:ext cx="9144000" cy="460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сские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лассицисты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4947120" y="5668920"/>
            <a:ext cx="325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. И. Фонви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6"/>
          <p:cNvSpPr/>
          <p:nvPr/>
        </p:nvSpPr>
        <p:spPr>
          <a:xfrm>
            <a:off x="1183680" y="5630760"/>
            <a:ext cx="315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. Р. Держав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Рисунок6_0"/>
          <p:cNvPicPr/>
          <p:nvPr/>
        </p:nvPicPr>
        <p:blipFill>
          <a:blip r:embed="rId1"/>
          <a:stretch/>
        </p:blipFill>
        <p:spPr>
          <a:xfrm>
            <a:off x="1258920" y="1700280"/>
            <a:ext cx="3005280" cy="388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8" descr="Рисунок7_0"/>
          <p:cNvPicPr/>
          <p:nvPr/>
        </p:nvPicPr>
        <p:blipFill>
          <a:blip r:embed="rId2"/>
          <a:stretch/>
        </p:blipFill>
        <p:spPr>
          <a:xfrm>
            <a:off x="4932360" y="1700280"/>
            <a:ext cx="299736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8" descr="ричардсон"/>
          <p:cNvPicPr/>
          <p:nvPr/>
        </p:nvPicPr>
        <p:blipFill>
          <a:blip r:embed="rId1"/>
          <a:stretch/>
        </p:blipFill>
        <p:spPr>
          <a:xfrm>
            <a:off x="324000" y="1484280"/>
            <a:ext cx="2743200" cy="34574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стерн"/>
          <p:cNvPicPr/>
          <p:nvPr/>
        </p:nvPicPr>
        <p:blipFill>
          <a:blip r:embed="rId2"/>
          <a:stretch/>
        </p:blipFill>
        <p:spPr>
          <a:xfrm>
            <a:off x="3492360" y="1484280"/>
            <a:ext cx="2487600" cy="34574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-324360" y="4971960"/>
            <a:ext cx="4032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гли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эмюэл Ричардсон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987280" y="4944600"/>
            <a:ext cx="3600360" cy="16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глия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оренс Стерн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327" name="Picture 23" descr="ж-ж"/>
          <p:cNvPicPr/>
          <p:nvPr/>
        </p:nvPicPr>
        <p:blipFill>
          <a:blip r:embed="rId3"/>
          <a:stretch/>
        </p:blipFill>
        <p:spPr>
          <a:xfrm>
            <a:off x="6381720" y="1484280"/>
            <a:ext cx="2654280" cy="34574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16"/>
          <p:cNvSpPr/>
          <p:nvPr/>
        </p:nvSpPr>
        <p:spPr>
          <a:xfrm>
            <a:off x="6012000" y="4946760"/>
            <a:ext cx="3600360" cy="16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ран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Жан Жак Русс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атели сентиментализма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9"/>
          <p:cNvSpPr/>
          <p:nvPr/>
        </p:nvSpPr>
        <p:spPr>
          <a:xfrm>
            <a:off x="5017680" y="558972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. М. Карамз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0"/>
          <p:cNvSpPr/>
          <p:nvPr/>
        </p:nvSpPr>
        <p:spPr>
          <a:xfrm>
            <a:off x="6064200" y="4919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"/>
          <p:cNvSpPr/>
          <p:nvPr/>
        </p:nvSpPr>
        <p:spPr>
          <a:xfrm>
            <a:off x="1489320" y="5661000"/>
            <a:ext cx="304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Н. Радищ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7" descr="Рисунок8_0"/>
          <p:cNvPicPr/>
          <p:nvPr/>
        </p:nvPicPr>
        <p:blipFill>
          <a:blip r:embed="rId1"/>
          <a:stretch/>
        </p:blipFill>
        <p:spPr>
          <a:xfrm>
            <a:off x="1116000" y="1628640"/>
            <a:ext cx="3116160" cy="3961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8" descr="Рисунок9_0"/>
          <p:cNvPicPr/>
          <p:nvPr/>
        </p:nvPicPr>
        <p:blipFill>
          <a:blip r:embed="rId2"/>
          <a:stretch/>
        </p:blipFill>
        <p:spPr>
          <a:xfrm>
            <a:off x="5003640" y="1628640"/>
            <a:ext cx="3052800" cy="396108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8920" y="33300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3300"/>
                </a:solidFill>
                <a:latin typeface="Monotype Corsiva"/>
              </a:rPr>
              <a:t>    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усские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нтименталисты</a:t>
            </a:r>
            <a:endParaRPr b="0" lang="en-US" sz="4800" spc="-1" strike="noStrike">
              <a:solidFill>
                <a:srgbClr val="800000"/>
              </a:solidFill>
              <a:latin typeface="Calibri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ентиментализ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14288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. Изображение человеческой психологии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 Действия и поступки героев определяются с точки зрения чувств, преувеличенная чувствительность героев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 Идеализация действительности, субъективное изображение мир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 В центре изображения – чувства, природа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 Представители низших сословий наделяются богатым духовным миром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 Идеалом является нравственная чистота, не испорченность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 Значимость гражданской проблематики содержания.</a:t>
            </a:r>
            <a:endParaRPr b="0" lang="en-US" sz="2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2430-2F10-475F-9985-1437386B7034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F61E-1A79-4174-AD67-45FEA70BD6C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Прямоугольник 5"/>
          <p:cNvSpPr/>
          <p:nvPr/>
        </p:nvSpPr>
        <p:spPr>
          <a:xfrm>
            <a:off x="0" y="1341360"/>
            <a:ext cx="9144000" cy="468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Box 1"/>
          <p:cNvSpPr/>
          <p:nvPr/>
        </p:nvSpPr>
        <p:spPr>
          <a:xfrm>
            <a:off x="952920" y="701640"/>
            <a:ext cx="715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тели романтизма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1413720" y="1728720"/>
            <a:ext cx="399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Людвиг 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братья Шлегел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Шеллин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Правая фигурная скобка 3"/>
          <p:cNvSpPr/>
          <p:nvPr/>
        </p:nvSpPr>
        <p:spPr>
          <a:xfrm>
            <a:off x="5167440" y="1703520"/>
            <a:ext cx="571320" cy="192852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928520"/>
              <a:gd name="textAreaBottom" fmla="*/ 1913760 h 19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7"/>
                  <a:pt x="10800" y="533"/>
                </a:cubicBezTo>
                <a:lnTo>
                  <a:pt x="10800" y="10267"/>
                </a:lnTo>
                <a:cubicBezTo>
                  <a:pt x="10800" y="10534"/>
                  <a:pt x="16200" y="10800"/>
                  <a:pt x="21600" y="10800"/>
                </a:cubicBezTo>
                <a:cubicBezTo>
                  <a:pt x="16200" y="10800"/>
                  <a:pt x="10800" y="11067"/>
                  <a:pt x="10800" y="11333"/>
                </a:cubicBezTo>
                <a:lnTo>
                  <a:pt x="10800" y="21067"/>
                </a:lnTo>
                <a:cubicBezTo>
                  <a:pt x="10800" y="21334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4"/>
          <p:cNvSpPr/>
          <p:nvPr/>
        </p:nvSpPr>
        <p:spPr>
          <a:xfrm>
            <a:off x="5720040" y="2344680"/>
            <a:ext cx="263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ер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5"/>
          <p:cNvSpPr/>
          <p:nvPr/>
        </p:nvSpPr>
        <p:spPr>
          <a:xfrm>
            <a:off x="1973520" y="4286160"/>
            <a:ext cx="632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В. А. Жуковски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- Росс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омантизм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1.Необычность характеров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2.Трагический поединок личности и судьбы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3.Герой – бунтарь, одиночка, мечтатель,сильная личность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4.Интерес ко всему экзотическому (пейзаж, события, люди), сильному, яркому, возвышенном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5.Смешение высокого и низкого, трагического и комического, обыденного и необычного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6.Культ свободы: стремление личности к абсолютной свободе, к идеалу, к совершенству.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7. Красочный язык</a:t>
            </a:r>
            <a:endParaRPr b="0" lang="en-US" sz="2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CB945-BE82-4D99-9C79-14B1F7D4A66C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5BBF-2A1D-4331-9E08-465EBC2C27F4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5"/>
          <p:cNvSpPr/>
          <p:nvPr/>
        </p:nvSpPr>
        <p:spPr>
          <a:xfrm>
            <a:off x="0" y="1125360"/>
            <a:ext cx="9144000" cy="5183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B5A7-F231-41AA-837A-BDD17751C00F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Номер слайда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F8F5-58F7-456A-98D8-44364C689F55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Заголовок 1"/>
          <p:cNvSpPr/>
          <p:nvPr/>
        </p:nvSpPr>
        <p:spPr>
          <a:xfrm>
            <a:off x="4572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пушкин а.с. портрет"/>
          <p:cNvPicPr/>
          <p:nvPr/>
        </p:nvPicPr>
        <p:blipFill>
          <a:blip r:embed="rId1"/>
          <a:srcRect l="8319" t="0" r="3653" b="12784"/>
          <a:stretch/>
        </p:blipFill>
        <p:spPr>
          <a:xfrm>
            <a:off x="0" y="836640"/>
            <a:ext cx="1940040" cy="25923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ПОЭТ, ХУДОЖНИК, МУЗЫКАНТ ЛЕРМОНТОВ М. Ю."/>
          <p:cNvPicPr/>
          <p:nvPr/>
        </p:nvPicPr>
        <p:blipFill>
          <a:blip r:embed="rId2"/>
          <a:srcRect l="0" t="0" r="0" b="20268"/>
          <a:stretch/>
        </p:blipFill>
        <p:spPr>
          <a:xfrm>
            <a:off x="1763640" y="1258920"/>
            <a:ext cx="2060640" cy="24112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8" descr="ГОГОЛЬ Н. В. ЛЮБОВЬ К КНИГЕ"/>
          <p:cNvPicPr/>
          <p:nvPr/>
        </p:nvPicPr>
        <p:blipFill>
          <a:blip r:embed="rId3"/>
          <a:srcRect l="0" t="0" r="0" b="17025"/>
          <a:stretch/>
        </p:blipFill>
        <p:spPr>
          <a:xfrm>
            <a:off x="276120" y="3573360"/>
            <a:ext cx="1893960" cy="24480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0" descr="Иван Александрович Гончаров"/>
          <p:cNvPicPr/>
          <p:nvPr/>
        </p:nvPicPr>
        <p:blipFill>
          <a:blip r:embed="rId4"/>
          <a:srcRect l="0" t="0" r="0" b="20268"/>
          <a:stretch/>
        </p:blipFill>
        <p:spPr>
          <a:xfrm>
            <a:off x="5435640" y="1344600"/>
            <a:ext cx="1958760" cy="2411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2" descr="ДОСТОЕВСКИЙ ФЕДОР МИХАЙЛОВИЧ"/>
          <p:cNvPicPr/>
          <p:nvPr/>
        </p:nvPicPr>
        <p:blipFill>
          <a:blip r:embed="rId5"/>
          <a:srcRect l="0" t="0" r="0" b="17743"/>
          <a:stretch/>
        </p:blipFill>
        <p:spPr>
          <a:xfrm>
            <a:off x="7307280" y="888840"/>
            <a:ext cx="1801800" cy="2487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4" descr="НЕКРАСОВ Н.А. ПОЭТ И НАРОД"/>
          <p:cNvPicPr/>
          <p:nvPr/>
        </p:nvPicPr>
        <p:blipFill>
          <a:blip r:embed="rId6"/>
          <a:stretch/>
        </p:blipFill>
        <p:spPr>
          <a:xfrm>
            <a:off x="3824280" y="3573360"/>
            <a:ext cx="1752480" cy="22924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6" descr=" МИХАИЛ ЕВГРАФОВИЧ САЛТЫКОВ - ЩЕДРИН"/>
          <p:cNvPicPr/>
          <p:nvPr/>
        </p:nvPicPr>
        <p:blipFill>
          <a:blip r:embed="rId7"/>
          <a:srcRect l="0" t="4290" r="0" b="15629"/>
          <a:stretch/>
        </p:blipFill>
        <p:spPr>
          <a:xfrm>
            <a:off x="7291440" y="3376440"/>
            <a:ext cx="1806480" cy="23562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8" descr="ЛЕВ ТОЛСТОЙ И ДЕТИ портрет"/>
          <p:cNvPicPr/>
          <p:nvPr/>
        </p:nvPicPr>
        <p:blipFill>
          <a:blip r:embed="rId8"/>
          <a:srcRect l="0" t="0" r="0" b="13885"/>
          <a:stretch/>
        </p:blipFill>
        <p:spPr>
          <a:xfrm>
            <a:off x="5450040" y="4029120"/>
            <a:ext cx="1866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ECE1-5AF7-4C6F-9D05-7DAFC5C7E7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Заголовок 1"/>
          <p:cNvSpPr/>
          <p:nvPr/>
        </p:nvSpPr>
        <p:spPr>
          <a:xfrm>
            <a:off x="500040" y="285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события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500040" y="1428840"/>
          <a:ext cx="8128080" cy="2360520"/>
        </p:xfrm>
        <a:graphic>
          <a:graphicData uri="http://schemas.openxmlformats.org/drawingml/2006/table">
            <a:tbl>
              <a:tblPr/>
              <a:tblGrid>
                <a:gridCol w="2709720"/>
                <a:gridCol w="2708280"/>
                <a:gridCol w="271008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бийств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вла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ечественная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ста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кабрис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986760"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TextBox 6"/>
          <p:cNvSpPr/>
          <p:nvPr/>
        </p:nvSpPr>
        <p:spPr>
          <a:xfrm>
            <a:off x="1134000" y="2955960"/>
            <a:ext cx="36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ление Александр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6030000" y="2935440"/>
            <a:ext cx="192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ола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9"/>
          <p:cNvSpPr/>
          <p:nvPr/>
        </p:nvSpPr>
        <p:spPr>
          <a:xfrm>
            <a:off x="1130400" y="5575320"/>
            <a:ext cx="731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825 года – 30 лет молчания (до 1855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164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события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250920" y="784080"/>
          <a:ext cx="8642160" cy="5159520"/>
        </p:xfrm>
        <a:graphic>
          <a:graphicData uri="http://schemas.openxmlformats.org/drawingml/2006/table">
            <a:tbl>
              <a:tblPr/>
              <a:tblGrid>
                <a:gridCol w="2511360"/>
                <a:gridCol w="2111400"/>
                <a:gridCol w="2111400"/>
                <a:gridCol w="1908000"/>
              </a:tblGrid>
              <a:tr h="68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3-18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ымская     вой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мена крепостного    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ель 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чало правления Никол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колая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вление Александ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Глухие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-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9" name="Номер слайда 4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5815-03DF-47E0-A004-4DD1D93DA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2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B2B8-F323-4D4C-8D7A-1D26A4AF02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~PP11098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2"/>
          <p:cNvSpPr/>
          <p:nvPr/>
        </p:nvSpPr>
        <p:spPr>
          <a:xfrm>
            <a:off x="478080" y="1268280"/>
            <a:ext cx="8230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безумной радости волну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только обилие талантов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ённых Россией 19 века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поражающее разнообразие и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Горь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4FE3-4D19-40C6-8E4C-CA2A00F955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143000"/>
          <a:ext cx="9036000" cy="4664160"/>
        </p:xfrm>
        <a:graphic>
          <a:graphicData uri="http://schemas.openxmlformats.org/drawingml/2006/table">
            <a:tbl>
              <a:tblPr/>
              <a:tblGrid>
                <a:gridCol w="1403280"/>
                <a:gridCol w="4896000"/>
                <a:gridCol w="2736720"/>
              </a:tblGrid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1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ьба классициз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иментализма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тизма, раннего реал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ада, поэма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элег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6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цвет романтизма, переход от романтизма к реализму и социальной сати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  <a:tr h="228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42 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йная борьба славянофилов и западников, расцвет «натуральной школы», противостояние гоголевской школы и поэтов - лирик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ологический очерк, социальная повесть, психологический роман, поэ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2CFA-DD7B-4BFC-9E70-9A0ED20CB8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-12600" y="1341360"/>
          <a:ext cx="9037440" cy="3840120"/>
        </p:xfrm>
        <a:graphic>
          <a:graphicData uri="http://schemas.openxmlformats.org/drawingml/2006/table">
            <a:tbl>
              <a:tblPr/>
              <a:tblGrid>
                <a:gridCol w="1403280"/>
                <a:gridCol w="4897440"/>
                <a:gridCol w="2736720"/>
              </a:tblGrid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5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тивоборство либералов и демократов, расцвет демократической журналистик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ые темы, проблемы и герои в литерату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мократическая повесть, роман, литературная крити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69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питализма, активизация тайных революционных организаций, идеализация крестьянской жизни, развитие реализ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черк, рассказ, ск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33C8-9C52-423C-8C27-F3646B5466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Заголовок 1"/>
          <p:cNvSpPr/>
          <p:nvPr/>
        </p:nvSpPr>
        <p:spPr>
          <a:xfrm>
            <a:off x="43164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</a:t>
            </a: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ери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дизация русской литерату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XIX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1163520"/>
          <a:ext cx="9036000" cy="4572000"/>
        </p:xfrm>
        <a:graphic>
          <a:graphicData uri="http://schemas.openxmlformats.org/drawingml/2006/table">
            <a:tbl>
              <a:tblPr/>
              <a:tblGrid>
                <a:gridCol w="1403280"/>
                <a:gridCol w="4824360"/>
                <a:gridCol w="2808360"/>
              </a:tblGrid>
              <a:tr h="2654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82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иление реакционной политики царизма, рост пролетариата, пропаганда идей марксизма, обновление тематики в литературе (изображение «среднего человека», интеллигента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,  повесть, ром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5760">
                      <a:solidFill>
                        <a:srgbClr val="daedef"/>
                      </a:solidFill>
                    </a:lnT>
                    <a:lnB w="12240">
                      <a:solidFill>
                        <a:srgbClr val="daedef"/>
                      </a:solidFill>
                    </a:lnB>
                    <a:noFill/>
                  </a:tcPr>
                </a:tc>
              </a:tr>
              <a:tr h="1922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5 –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капитализма, противостояние реалистической и декадентской литературы, зарождение пролетарской литера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есть, роман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сказ, публицистические жан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daedef"/>
                      </a:solidFill>
                    </a:lnL>
                    <a:lnR w="5760">
                      <a:solidFill>
                        <a:srgbClr val="daedef"/>
                      </a:solidFill>
                    </a:lnR>
                    <a:lnT w="12240">
                      <a:solidFill>
                        <a:srgbClr val="daedef"/>
                      </a:solidFill>
                    </a:lnT>
                    <a:lnB w="5760">
                      <a:solidFill>
                        <a:srgbClr val="daedef"/>
                      </a:solidFill>
                    </a:lnB>
                    <a:solidFill>
                      <a:srgbClr val="daede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31640" y="2602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Основные темы русской литературы 19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57120" y="1356840"/>
            <a:ext cx="83296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25 – 1855 – основной вопрос: «Кто мы? Что с нами происходи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С. Пушкин «Евгений Онегин», М. Ю. Лермонтов «Герой нашего времени», Н. В. Гоголь «Мёртвые душ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5 – 1861 – основной вопрос: «Кто виноват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С. Тургенев «Записки охотника», И. А. Гончаров «Обломов», М. Е .Салтыков-Щедрин «Губернские очер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61 – 1881 – основной вопрос: «Что делать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Г. Чернышевский «Что делать?», Ф. М. Достоевский «Преступление и наказание», Л. Н. Толстой «Война и м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6553080" y="6286680"/>
            <a:ext cx="2305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A361-4394-4E19-8C87-37F9B440E5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~PP21207.WAV" descr=""/>
          <p:cNvPicPr/>
          <p:nvPr/>
        </p:nvPicPr>
        <p:blipFill>
          <a:blip r:embed="rId1"/>
          <a:stretch/>
        </p:blipFill>
        <p:spPr>
          <a:xfrm>
            <a:off x="8661240" y="6375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7T19:19:47Z</dcterms:created>
  <dc:creator>_Wizard_</dc:creator>
  <dc:description/>
  <dc:language>en-US</dc:language>
  <cp:lastModifiedBy>Светлана</cp:lastModifiedBy>
  <dcterms:modified xsi:type="dcterms:W3CDTF">2024-01-08T01:30:20Z</dcterms:modified>
  <cp:revision>93</cp:revision>
  <dc:subject/>
  <dc:title>Слайд 1</dc:title>
</cp:coreProperties>
</file>