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529-87D8-4449-8280-27C37576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4BF-458F-4C0F-AAF3-DF45B189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DBE-7295-4DE5-B8CF-38398891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2D5-7474-43BD-874B-DF364212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C9FA2-8B4E-43E5-8082-2A6364F6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4A5D1-C094-4AED-A2B0-E0FAD79F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13857-6AE9-410D-8801-181C36D3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89074-ADB3-4EEB-A250-772F4C55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3A38F-00C8-419F-8E18-B0BEDC5D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B0B76-B900-4150-896E-27167D5F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0A915-6E39-4E38-8414-417374D4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8A6-9906-4CD3-8E60-596CE153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FD85E-3EB8-4495-9266-EB3E8088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D5259-5536-420F-88CA-534D26F3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39358-01F3-416A-B9CD-563348C2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BAD7B-E46F-4338-8F0A-120197CB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441D2-0E14-403F-A2C6-4AD3DD51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2D01-9882-41E6-AC95-23CDE7D6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712-84DA-4637-AD1D-17E63036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18B-D52E-4769-A06F-DACE9006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EE1-B854-4CBC-AA5E-FFF9A650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49E-45CE-46E1-B6F9-276B81C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1BF-0540-400D-B0EC-A6995B96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381-0EE7-4BF3-AF47-A216C37D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DC66-1F14-43F8-A552-7578F443D8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E183-77DB-4F99-BAC1-6D3D252472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exandra-velten.net/luxor/Indices/indexd.html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ldenbourg.de/osv/zeitschriften/fsu/index.htm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 Schulsystem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 Deutschla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836000" y="4581360"/>
            <a:ext cx="856908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Deutsche Flag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60280"/>
            <a:ext cx="214308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chuljahr dauert von August/September bis Juni/Juli des nächsten Jah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3246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7" descr="Schultafel mit Schriftzug &quot;Hurra Ferien&quot;; Rechte: dpa"/>
          <p:cNvPicPr/>
          <p:nvPr/>
        </p:nvPicPr>
        <p:blipFill>
          <a:blip r:embed="rId2"/>
          <a:stretch/>
        </p:blipFill>
        <p:spPr>
          <a:xfrm>
            <a:off x="1835280" y="836640"/>
            <a:ext cx="51861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2997360"/>
            <a:ext cx="896472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erien gibt es fünfmal im Jahr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erbstferi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eist im Oktober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ihnachtsferi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m Dezember/Januar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sterferi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m März/April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fingstferi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m Mai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ommerferi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"die großen Ferien" genannt) im Juni/Juli/Augu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Ferientermine sind in den einzelnen Bundesländern unterschiedli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Ferien"/>
          <p:cNvPicPr/>
          <p:nvPr/>
        </p:nvPicPr>
        <p:blipFill>
          <a:blip r:embed="rId2"/>
          <a:stretch/>
        </p:blipFill>
        <p:spPr>
          <a:xfrm>
            <a:off x="5580000" y="189000"/>
            <a:ext cx="33130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chulsystem in Deutschland ist Sache der Bundeslän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chulsystem hat 3 Stufen: die  Primarstuf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Sekundarstufe I und die Sekundarstufe 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" descr="http://www.colby.edu/german/contemp_germ/images/schulsystem.gif"/>
          <p:cNvPicPr/>
          <p:nvPr/>
        </p:nvPicPr>
        <p:blipFill>
          <a:blip r:embed="rId2"/>
          <a:stretch/>
        </p:blipFill>
        <p:spPr>
          <a:xfrm>
            <a:off x="2411280" y="1773360"/>
            <a:ext cx="43261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58560" y="5300640"/>
            <a:ext cx="82090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erst kommen die Kinder in die Grundschu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e lernen hier lesen, schreiben, rechn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der 4.Klasse ist die Grundschule zu En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1049"/>
          <p:cNvPicPr/>
          <p:nvPr/>
        </p:nvPicPr>
        <p:blipFill>
          <a:blip r:embed="rId2"/>
          <a:stretch/>
        </p:blipFill>
        <p:spPr>
          <a:xfrm>
            <a:off x="1692360" y="189000"/>
            <a:ext cx="1800000" cy="120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lternwahlrecht ist gut, reicht aber nicht aus"/>
          <p:cNvPicPr/>
          <p:nvPr/>
        </p:nvPicPr>
        <p:blipFill>
          <a:blip r:embed="rId3"/>
          <a:stretch/>
        </p:blipFill>
        <p:spPr>
          <a:xfrm>
            <a:off x="6012000" y="2637000"/>
            <a:ext cx="2735280" cy="2604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chule"/>
          <p:cNvPicPr/>
          <p:nvPr/>
        </p:nvPicPr>
        <p:blipFill>
          <a:blip r:embed="rId4"/>
          <a:stretch/>
        </p:blipFill>
        <p:spPr>
          <a:xfrm>
            <a:off x="3708360" y="189000"/>
            <a:ext cx="2168640" cy="292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784071805-schule-klassenzimmer"/>
          <p:cNvPicPr/>
          <p:nvPr/>
        </p:nvPicPr>
        <p:blipFill>
          <a:blip r:embed="rId5"/>
          <a:stretch/>
        </p:blipFill>
        <p:spPr>
          <a:xfrm>
            <a:off x="324000" y="2708280"/>
            <a:ext cx="3240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560" y="5444640"/>
            <a:ext cx="843588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un beginnt die Sekundarstufe. Hier gibt es verschied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ge: Hauptschule, Realschule oder Gymnasiu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animation_6_01"/>
          <p:cNvPicPr/>
          <p:nvPr/>
        </p:nvPicPr>
        <p:blipFill>
          <a:blip r:embed="rId2"/>
          <a:stretch/>
        </p:blipFill>
        <p:spPr>
          <a:xfrm>
            <a:off x="611280" y="260280"/>
            <a:ext cx="2260440" cy="28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[350px-Schulen_P7310231.jpg]"/>
          <p:cNvPicPr/>
          <p:nvPr/>
        </p:nvPicPr>
        <p:blipFill>
          <a:blip r:embed="rId3"/>
          <a:stretch/>
        </p:blipFill>
        <p:spPr>
          <a:xfrm>
            <a:off x="2987640" y="189000"/>
            <a:ext cx="39308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5589720"/>
            <a:ext cx="82440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Hauptschule umfasst gewöhnlich die Klassen 5 bis 9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d bereitet ihre Schüler auf die Berufswahl v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2124000" y="117360"/>
            <a:ext cx="524844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42560" y="4653000"/>
            <a:ext cx="7643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Realschule umfasst die Klasse 5 bis 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d beginnt mit einem Probehalbjah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ch der Realschule kann man einen Beru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lernen oder eine Berufsfachschule besuch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0" descr="Verbände fordern &quot;Eine Schule für alle&quot; in Nordrhein-Westfalen"/>
          <p:cNvPicPr/>
          <p:nvPr/>
        </p:nvPicPr>
        <p:blipFill>
          <a:blip r:embed="rId2"/>
          <a:stretch/>
        </p:blipFill>
        <p:spPr>
          <a:xfrm>
            <a:off x="755640" y="404640"/>
            <a:ext cx="3529080" cy="3434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image003"/>
          <p:cNvPicPr/>
          <p:nvPr/>
        </p:nvPicPr>
        <p:blipFill>
          <a:blip r:embed="rId3"/>
          <a:stretch/>
        </p:blipFill>
        <p:spPr>
          <a:xfrm>
            <a:off x="5003640" y="333360"/>
            <a:ext cx="29926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5157720"/>
            <a:ext cx="8893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Gymnasium hat auch eine Orientierungsstu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Fremdsprachen spielen im Gymnasium eine wichtige Rol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Gymnasium hat auch einen mathematisch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turwissenschaftlichen Zwei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2" descr="praxishef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692280"/>
            <a:ext cx="2552760" cy="352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fremd_flaggen"/>
          <p:cNvPicPr/>
          <p:nvPr/>
        </p:nvPicPr>
        <p:blipFill>
          <a:blip r:embed="rId4"/>
          <a:stretch/>
        </p:blipFill>
        <p:spPr>
          <a:xfrm>
            <a:off x="1332000" y="981000"/>
            <a:ext cx="284004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5084280"/>
            <a:ext cx="84963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m Ende der Klasse 13 machen die Schüler das Abitu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ch dem Abitur kann man auf eine Hochschule oder e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iversität geh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9" descr="Tafel Abitur Foto: S. Hofschlaeger pixelio.de"/>
          <p:cNvPicPr/>
          <p:nvPr/>
        </p:nvPicPr>
        <p:blipFill>
          <a:blip r:embed="rId2"/>
          <a:stretch/>
        </p:blipFill>
        <p:spPr>
          <a:xfrm>
            <a:off x="250920" y="189000"/>
            <a:ext cx="3038400" cy="202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Zentralabitur 2007"/>
          <p:cNvPicPr/>
          <p:nvPr/>
        </p:nvPicPr>
        <p:blipFill>
          <a:blip r:embed="rId3"/>
          <a:stretch/>
        </p:blipFill>
        <p:spPr>
          <a:xfrm>
            <a:off x="3419640" y="1521000"/>
            <a:ext cx="42480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16000" y="2491920"/>
            <a:ext cx="80280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oten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 – sehr gut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 – g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3 – befriedigend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удовлетворитель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4 – ausreichen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(достаточ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5 – mangelhaf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(недостаточ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6 – ungenügen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(неудовлетворитель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0"/>
          <p:cNvPicPr/>
          <p:nvPr/>
        </p:nvPicPr>
        <p:blipFill>
          <a:blip r:embed="rId2"/>
          <a:stretch/>
        </p:blipFill>
        <p:spPr>
          <a:xfrm>
            <a:off x="6084720" y="260280"/>
            <a:ext cx="22035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7:38:53Z</dcterms:created>
  <dc:creator>учитель</dc:creator>
  <dc:description/>
  <dc:language>en-US</dc:language>
  <cp:lastModifiedBy>Учитель</cp:lastModifiedBy>
  <dcterms:modified xsi:type="dcterms:W3CDTF">2021-11-11T06:52:33Z</dcterms:modified>
  <cp:revision>14</cp:revision>
  <dc:subject/>
  <dc:title>Das Schulsystem  in Deutschland</dc:title>
</cp:coreProperties>
</file>