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2.gif" ContentType="image/gif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133F-DE2B-45A5-98A4-1D644285F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0FC6-FBE3-417A-B562-44793464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88E-6744-440E-8A62-24FC6D235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D2B-ECEE-47BE-9857-D0C4F1691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82F29-9BF8-466B-BCD8-C2E5210A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8E255-485B-4D3C-9931-28639A73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2E9C7-3F0A-45C5-A626-2E955220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311BA-A081-4D15-A915-0F09A926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93F11-9AB4-4F35-B602-61250FCF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76ED9A-B3C1-4E1B-8D1F-D34C0D486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7F0AF-A69E-4906-98EC-8BAD885C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0418-3532-4430-89AC-243BBE39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A46CE1-A9CC-4F4A-8F79-2FD72327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75C06-14A3-499A-969E-C30F64C1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9653F-D5A3-43A3-A0BC-C2EB7047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BFA89-7C98-4BA6-A7B8-FFA6D36B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332C2-3966-4241-9AD9-BD960896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9BF7-C246-4C0C-9153-8F43E932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B6F-2F52-4506-B856-CF22E26A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356-E3CE-418C-B9F8-C8D81E39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49E6-A03B-487E-8917-7E2C9CED7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A14-EFC5-4D33-8E71-6C1F7CC3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D48B-FCD6-4A9F-AC2C-0AD2C3220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E876-DA1C-4BF9-B81C-076A0F50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54B5-4151-4F85-9040-F10A3738511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5254-7F9D-43AD-9BF5-A951A936F5B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alexandra-velten.net/luxor/Indices/indexd.html" TargetMode="External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oldenbourg.de/osv/zeitschriften/fsu/index.htm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873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Das Schulsystem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 Deutschland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0836000" y="4581360"/>
            <a:ext cx="8569080" cy="18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Deutsche Flag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260280"/>
            <a:ext cx="2143080" cy="140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chuljahr dauert von August/September bis Juni/Juli des nächsten Jahr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32464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7" descr="Schultafel mit Schriftzug &quot;Hurra Ferien&quot;; Rechte: dpa"/>
          <p:cNvPicPr/>
          <p:nvPr/>
        </p:nvPicPr>
        <p:blipFill>
          <a:blip r:embed="rId2"/>
          <a:stretch/>
        </p:blipFill>
        <p:spPr>
          <a:xfrm>
            <a:off x="1835280" y="836640"/>
            <a:ext cx="518616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9280" y="2997360"/>
            <a:ext cx="8964720" cy="38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erien gibt es fünfmal im Jahr: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Herbstferi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meist im Oktober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eihnachtsferi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m Dezember/Januar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Osterferi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m März/April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fingstferi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im Mai 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ommerferien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("die großen Ferien" genannt) im Juni/Juli/Augu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Ferientermine sind in den einzelnen Bundesländern unterschiedlic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4" descr="Ferien"/>
          <p:cNvPicPr/>
          <p:nvPr/>
        </p:nvPicPr>
        <p:blipFill>
          <a:blip r:embed="rId2"/>
          <a:stretch/>
        </p:blipFill>
        <p:spPr>
          <a:xfrm>
            <a:off x="5580000" y="189000"/>
            <a:ext cx="331308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chulsystem in Deutschland ist Sache der Bundesländ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Schulsystem hat 3 Stufen: die  Primarstufe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Sekundarstufe I und die Sekundarstufe I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2" descr="http://www.colby.edu/german/contemp_germ/images/schulsystem.gif"/>
          <p:cNvPicPr/>
          <p:nvPr/>
        </p:nvPicPr>
        <p:blipFill>
          <a:blip r:embed="rId2"/>
          <a:stretch/>
        </p:blipFill>
        <p:spPr>
          <a:xfrm>
            <a:off x="2411280" y="1773360"/>
            <a:ext cx="43261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258560" y="5300640"/>
            <a:ext cx="82090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erst kommen die Kinder in die Grundschu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e lernen hier lesen, schreiben, rechn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der 4.Klasse ist die Grundschule zu End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6" descr="1049"/>
          <p:cNvPicPr/>
          <p:nvPr/>
        </p:nvPicPr>
        <p:blipFill>
          <a:blip r:embed="rId2"/>
          <a:stretch/>
        </p:blipFill>
        <p:spPr>
          <a:xfrm>
            <a:off x="1692360" y="189000"/>
            <a:ext cx="1800000" cy="1206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Elternwahlrecht ist gut, reicht aber nicht aus"/>
          <p:cNvPicPr/>
          <p:nvPr/>
        </p:nvPicPr>
        <p:blipFill>
          <a:blip r:embed="rId3"/>
          <a:stretch/>
        </p:blipFill>
        <p:spPr>
          <a:xfrm>
            <a:off x="6012000" y="2637000"/>
            <a:ext cx="2735280" cy="2604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schule"/>
          <p:cNvPicPr/>
          <p:nvPr/>
        </p:nvPicPr>
        <p:blipFill>
          <a:blip r:embed="rId4"/>
          <a:stretch/>
        </p:blipFill>
        <p:spPr>
          <a:xfrm>
            <a:off x="3708360" y="189000"/>
            <a:ext cx="2168640" cy="2923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784071805-schule-klassenzimmer"/>
          <p:cNvPicPr/>
          <p:nvPr/>
        </p:nvPicPr>
        <p:blipFill>
          <a:blip r:embed="rId5"/>
          <a:stretch/>
        </p:blipFill>
        <p:spPr>
          <a:xfrm>
            <a:off x="324000" y="2708280"/>
            <a:ext cx="3240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560" y="5444640"/>
            <a:ext cx="843588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un beginnt die Sekundarstufe. Hier gibt es verschied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ge: Hauptschule, Realschule oder Gymnasiu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7" descr="animation_6_01"/>
          <p:cNvPicPr/>
          <p:nvPr/>
        </p:nvPicPr>
        <p:blipFill>
          <a:blip r:embed="rId2"/>
          <a:stretch/>
        </p:blipFill>
        <p:spPr>
          <a:xfrm>
            <a:off x="611280" y="260280"/>
            <a:ext cx="2260440" cy="280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9" descr="[350px-Schulen_P7310231.jpg]"/>
          <p:cNvPicPr/>
          <p:nvPr/>
        </p:nvPicPr>
        <p:blipFill>
          <a:blip r:embed="rId3"/>
          <a:stretch/>
        </p:blipFill>
        <p:spPr>
          <a:xfrm>
            <a:off x="2987640" y="189000"/>
            <a:ext cx="393084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900000" y="5589720"/>
            <a:ext cx="82440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Hauptschule umfasst gewöhnlich die Klassen 5 bis 9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d bereitet ihre Schüler auf die Berufswahl v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2124000" y="117360"/>
            <a:ext cx="524844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42560" y="4653000"/>
            <a:ext cx="76438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Realschule umfasst die Klasse 5 bis 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d beginnt mit einem Probehalbjah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ch der Realschule kann man einen Beru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lernen oder eine Berufsfachschule besuch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10" descr="Verbände fordern &quot;Eine Schule für alle&quot; in Nordrhein-Westfalen"/>
          <p:cNvPicPr/>
          <p:nvPr/>
        </p:nvPicPr>
        <p:blipFill>
          <a:blip r:embed="rId2"/>
          <a:stretch/>
        </p:blipFill>
        <p:spPr>
          <a:xfrm>
            <a:off x="755640" y="404640"/>
            <a:ext cx="3529080" cy="3434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image003"/>
          <p:cNvPicPr/>
          <p:nvPr/>
        </p:nvPicPr>
        <p:blipFill>
          <a:blip r:embed="rId3"/>
          <a:stretch/>
        </p:blipFill>
        <p:spPr>
          <a:xfrm>
            <a:off x="5003640" y="333360"/>
            <a:ext cx="29926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5157720"/>
            <a:ext cx="8893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Gymnasium hat auch eine Orientierungsstuf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ie Fremdsprachen spielen im Gymnasium eine wichtige Rol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Gymnasium hat auch einen mathematisch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turwissenschaftlichen Zwei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2" descr="praxishef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32360" y="692280"/>
            <a:ext cx="2552760" cy="3528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fremd_flaggen"/>
          <p:cNvPicPr/>
          <p:nvPr/>
        </p:nvPicPr>
        <p:blipFill>
          <a:blip r:embed="rId4"/>
          <a:stretch/>
        </p:blipFill>
        <p:spPr>
          <a:xfrm>
            <a:off x="1332000" y="981000"/>
            <a:ext cx="284004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000" y="5084280"/>
            <a:ext cx="849636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m Ende der Klasse 13 machen die Schüler das Abitu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ch dem Abitur kann man auf eine Hochschule oder e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iversität geh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9" descr="Tafel Abitur Foto: S. Hofschlaeger pixelio.de"/>
          <p:cNvPicPr/>
          <p:nvPr/>
        </p:nvPicPr>
        <p:blipFill>
          <a:blip r:embed="rId2"/>
          <a:stretch/>
        </p:blipFill>
        <p:spPr>
          <a:xfrm>
            <a:off x="250920" y="189000"/>
            <a:ext cx="3038400" cy="202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Zentralabitur 2007"/>
          <p:cNvPicPr/>
          <p:nvPr/>
        </p:nvPicPr>
        <p:blipFill>
          <a:blip r:embed="rId3"/>
          <a:stretch/>
        </p:blipFill>
        <p:spPr>
          <a:xfrm>
            <a:off x="3419640" y="1521000"/>
            <a:ext cx="424800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16000" y="2491920"/>
            <a:ext cx="80280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oten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1 – sehr gut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2 – g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3 – befriedigend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удовлетворитель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4 – ausreichen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(достаточ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5 – mangelhaf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(недостаточ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6 – ungenügend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(неудовлетворительно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0"/>
          <p:cNvPicPr/>
          <p:nvPr/>
        </p:nvPicPr>
        <p:blipFill>
          <a:blip r:embed="rId2"/>
          <a:stretch/>
        </p:blipFill>
        <p:spPr>
          <a:xfrm>
            <a:off x="6084720" y="260280"/>
            <a:ext cx="22035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2T17:38:53Z</dcterms:created>
  <dc:creator>учитель</dc:creator>
  <dc:description/>
  <dc:language>en-US</dc:language>
  <cp:lastModifiedBy>Учитель</cp:lastModifiedBy>
  <dcterms:modified xsi:type="dcterms:W3CDTF">2021-11-11T06:52:33Z</dcterms:modified>
  <cp:revision>14</cp:revision>
  <dc:subject/>
  <dc:title>Das Schulsystem  in Deutschland</dc:title>
</cp:coreProperties>
</file>