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5.png" ContentType="image/png"/>
  <Override PartName="/ppt/media/image29.jpeg" ContentType="image/jpeg"/>
  <Override PartName="/ppt/media/image13.png" ContentType="image/png"/>
  <Override PartName="/ppt/media/image37.jpeg" ContentType="image/jpeg"/>
  <Override PartName="/ppt/media/image12.jpeg" ContentType="image/jpeg"/>
  <Override PartName="/ppt/media/image34.png" ContentType="image/png"/>
  <Override PartName="/ppt/media/image38.jpeg" ContentType="image/jpeg"/>
  <Override PartName="/ppt/media/image30.jpeg" ContentType="image/jpeg"/>
  <Override PartName="/ppt/media/image31.jpeg" ContentType="image/jpeg"/>
  <Override PartName="/ppt/media/image25.png" ContentType="image/pn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4.jpeg" ContentType="image/jpeg"/>
  <Override PartName="/ppt/media/image40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9226-6F79-47FF-BD14-55CFD3EB4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EAA4-9ADE-4534-9DF0-47D3704D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E84ED-C691-4224-BC6A-ACA49AD4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ADFB-8A9B-4DC7-916A-FFB329C024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5542-6C9C-4C57-80E1-C5E76F5E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9ACCE-DC39-4EA5-AA32-55FC7B08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BFF5-C131-431D-A6BC-89B1E7C8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C420F-C628-444C-BD30-A8A5CD9B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BD7D-7766-466C-9BEE-313E12FE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015A-56BD-4969-8F0C-0C1C77AE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91D20-95A8-4E9D-931D-8A3C8849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6C11F-3A98-40DB-8B71-95DC94A0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D21B4C-DA7D-4896-97F7-340372450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990360" cy="1428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14800" y="17524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943600" y="2209680"/>
            <a:ext cx="955800" cy="135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162920" y="2133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828800" y="19810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33520" y="198108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51240" y="3733920"/>
            <a:ext cx="410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спорт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43000" y="914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Arial"/>
                <a:ea typeface="Times New Roman"/>
              </a:rPr>
              <a:t>Мягкие матрасы, на которые падают спортсмены</a:t>
            </a:r>
            <a:r>
              <a:rPr b="0" lang="en-US" sz="2800" spc="-1" strike="noStrike">
                <a:solidFill>
                  <a:srgbClr val="365f91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f91"/>
                </a:solidFill>
                <a:latin typeface="Arial"/>
                <a:ea typeface="Times New Roman"/>
              </a:rPr>
              <a:t>после выполнения прыж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124080" cy="177156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349880" y="24382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60840" y="12952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2952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32240" y="12952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9440" y="12952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410080" y="2362320"/>
            <a:ext cx="2567160" cy="20192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394400" y="1371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1371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51600" y="1371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95280" y="9144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Деревянная палка с загнутым концом, которой бьют по шайб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8960" y="54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65f91"/>
                </a:solidFill>
                <a:latin typeface="Arial"/>
                <a:ea typeface="Times New Roman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643040" cy="144792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105520" y="2362320"/>
            <a:ext cx="1904760" cy="1428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2670120" y="1371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9840" y="1143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94400" y="1143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9320" y="1143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276720" y="2362320"/>
            <a:ext cx="1428480" cy="142848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05120" y="1068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Их защищает вратар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9840" y="5334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25714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447920" y="1905120"/>
            <a:ext cx="2895480" cy="232236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5264280" y="47242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9889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 этом виде спорта выполняют различ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кробатические упражнения на спортивных снаряд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86600" y="2971800"/>
            <a:ext cx="1569960" cy="1066680"/>
          </a:xfrm>
          <a:prstGeom prst="rect">
            <a:avLst/>
          </a:prstGeom>
          <a:ln w="9360">
            <a:solidFill>
              <a:srgbClr val="d99694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5800" y="3200400"/>
            <a:ext cx="2341440" cy="609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809880" y="2666880"/>
            <a:ext cx="2351160" cy="18288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0991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63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77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3431880" y="26816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203280" y="26816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6858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амый старый вид спорта, в котором победителем становится тот, кто первым пересечет финишную чер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97800" y="5638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971800" y="2365200"/>
            <a:ext cx="2306520" cy="3468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75440" y="19051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5600" y="19051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70520" y="19051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4720" y="19051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4777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Спортивная командная игра на ледо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или травяном поле, в которой мяч или шай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специальными клюшками заби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в ворота против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1904760" cy="142848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2419560" cy="24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553080" y="1752480"/>
            <a:ext cx="2876760" cy="2876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438280" y="2819520"/>
            <a:ext cx="1486080" cy="1428480"/>
          </a:xfrm>
          <a:prstGeom prst="rect">
            <a:avLst/>
          </a:prstGeom>
          <a:ln w="9360">
            <a:solidFill>
              <a:srgbClr val="93cddd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88944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1804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277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63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49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53920" y="537840"/>
            <a:ext cx="778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Игра с мячом, в которой необходимо переброс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мяч через сетку на сторону против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так, чтобы он коснулся зем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4019400" cy="401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95280" y="32004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867280" y="2666880"/>
            <a:ext cx="2590920" cy="1943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62520" y="2133720"/>
            <a:ext cx="2495520" cy="249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95480" y="2590920"/>
            <a:ext cx="2114640" cy="211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324480" y="457200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7162920" y="4572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29400" y="4648320"/>
            <a:ext cx="1523880" cy="838080"/>
          </a:xfrm>
          <a:prstGeom prst="line">
            <a:avLst/>
          </a:prstGeom>
          <a:ln cap="rnd"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77004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Arial"/>
                <a:ea typeface="Times New Roman"/>
              </a:rPr>
              <a:t>Он может быть сделан из резины или пробки, сплетен из ниток, обшит кож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Arial"/>
                <a:ea typeface="Times New Roman"/>
              </a:rPr>
              <a:t>Его можно бросать, передавать, вести в любом направл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19320" y="2822400"/>
            <a:ext cx="1600200" cy="2264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273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701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87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59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415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45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505320" y="2514600"/>
            <a:ext cx="2647800" cy="264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62720" y="2895480"/>
            <a:ext cx="20383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685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Они помогают спортсмену плыть быстр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71800" y="1371600"/>
            <a:ext cx="3129120" cy="226692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1428480" cy="142848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514600" y="3962520"/>
            <a:ext cx="1428840" cy="14284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248520" y="3962520"/>
            <a:ext cx="1895400" cy="142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257800" y="3886200"/>
            <a:ext cx="838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19320" y="838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Он защищает голову спортс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2903400" cy="1962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85800" y="2362320"/>
            <a:ext cx="2741760" cy="188568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305100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960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820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680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4197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7920" y="609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Через нее кидают мяч в волейбо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4120" y="2590920"/>
            <a:ext cx="2639880" cy="1657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4704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564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844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424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3284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95280" y="25909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09880" y="251460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55920" y="1600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7320" y="1600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14:22:49Z</dcterms:created>
  <dc:creator>Сергей</dc:creator>
  <dc:description/>
  <dc:language>en-US</dc:language>
  <cp:lastModifiedBy/>
  <dcterms:modified xsi:type="dcterms:W3CDTF">2022-10-05T04:43:11Z</dcterms:modified>
  <cp:revision>56</cp:revision>
  <dc:subject/>
  <dc:title>Слайд 1</dc:title>
</cp:coreProperties>
</file>