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24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5.png" ContentType="image/png"/>
  <Override PartName="/ppt/media/image29.jpeg" ContentType="image/jpeg"/>
  <Override PartName="/ppt/media/image13.png" ContentType="image/png"/>
  <Override PartName="/ppt/media/image37.jpeg" ContentType="image/jpeg"/>
  <Override PartName="/ppt/media/image12.jpeg" ContentType="image/jpeg"/>
  <Override PartName="/ppt/media/image34.png" ContentType="image/png"/>
  <Override PartName="/ppt/media/image38.jpeg" ContentType="image/jpeg"/>
  <Override PartName="/ppt/media/image30.jpeg" ContentType="image/jpeg"/>
  <Override PartName="/ppt/media/image31.jpeg" ContentType="image/jpeg"/>
  <Override PartName="/ppt/media/image25.png" ContentType="image/pn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4.jpeg" ContentType="image/jpeg"/>
  <Override PartName="/ppt/media/image40.png" ContentType="image/png"/>
  <Override PartName="/ppt/media/image9.jpeg" ContentType="image/jpeg"/>
  <Override PartName="/ppt/media/image11.png" ContentType="image/png"/>
  <Override PartName="/ppt/media/image6.png" ContentType="image/png"/>
  <Override PartName="/ppt/media/image3.png" ContentType="image/png"/>
  <Override PartName="/ppt/media/image23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FE3C7-A27B-424C-AA52-E0A81A4E98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F2C84-3875-4523-AFEB-AE364D36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DAE63-37AB-4A8E-8EB8-FD22EDE2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E76D2-C942-443A-98E4-351B1CED38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91100-D060-4E4B-8849-A02AE7B8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630F1-8ABF-4647-8F01-3A1777EF4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4401F-AA53-41EF-AC1A-2BF47FF8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1726F-1AA3-4B36-9919-E5717D86F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F92E4-B853-4659-A5D5-8B5258B3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770CE-7BC1-4179-8EC5-13F252B2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E9129-5EAE-462C-B392-463D1F9F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1516D-EEC6-41A4-8780-3DF2EC7B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211AE31-D0CA-481B-9705-9DC8300262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990360" cy="1428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114800" y="17524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943600" y="2209680"/>
            <a:ext cx="955800" cy="1352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162920" y="21337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1828800" y="1981080"/>
            <a:ext cx="1657440" cy="1657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533520" y="1981080"/>
            <a:ext cx="1657080" cy="165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451240" y="3733920"/>
            <a:ext cx="4106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спорт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143000" y="914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Arial"/>
                <a:ea typeface="Times New Roman"/>
              </a:rPr>
              <a:t>Мягкие матрасы, на которые падают спортсмены</a:t>
            </a:r>
            <a:r>
              <a:rPr b="0" lang="en-US" sz="2800" spc="-1" strike="noStrike">
                <a:solidFill>
                  <a:srgbClr val="365f91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f91"/>
                </a:solidFill>
                <a:latin typeface="Arial"/>
                <a:ea typeface="Times New Roman"/>
              </a:rPr>
              <a:t>после выполнения прыж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124080" cy="177156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4349880" y="24382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60840" y="12952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03640" y="12952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32240" y="12952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89440" y="12952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410080" y="2362320"/>
            <a:ext cx="2567160" cy="201924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394400" y="1371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23000" y="1371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851600" y="1371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295280" y="9144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Деревянная палка с загнутым концом, которой бьют по шайб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8960" y="5410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65f91"/>
                </a:solidFill>
                <a:latin typeface="Arial"/>
                <a:ea typeface="Times New Roman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1643040" cy="144792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5105520" y="2362320"/>
            <a:ext cx="1904760" cy="1428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4" name=""/>
          <p:cNvSpPr/>
          <p:nvPr/>
        </p:nvSpPr>
        <p:spPr>
          <a:xfrm>
            <a:off x="2670120" y="13716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89840" y="1143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94400" y="1143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9320" y="11430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276720" y="2362320"/>
            <a:ext cx="1428480" cy="1428480"/>
          </a:xfrm>
          <a:prstGeom prst="rect">
            <a:avLst/>
          </a:prstGeom>
          <a:ln w="9360">
            <a:solidFill>
              <a:srgbClr val="604a7b"/>
            </a:solidFill>
            <a:miter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905120" y="106848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Их защищает вратар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9840" y="5334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5334120" y="4191120"/>
            <a:ext cx="25714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447920" y="1905120"/>
            <a:ext cx="2895480" cy="232236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5264280" y="4724280"/>
            <a:ext cx="86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2120" y="988920"/>
            <a:ext cx="7696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 этом виде спорта выполняют различ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акробатические упражнения на спортивных снаряд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086600" y="2971800"/>
            <a:ext cx="1569960" cy="1066680"/>
          </a:xfrm>
          <a:prstGeom prst="rect">
            <a:avLst/>
          </a:prstGeom>
          <a:ln w="9360">
            <a:solidFill>
              <a:srgbClr val="d99694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5800" y="3200400"/>
            <a:ext cx="2341440" cy="6094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809880" y="2666880"/>
            <a:ext cx="2351160" cy="1828800"/>
          </a:xfrm>
          <a:prstGeom prst="rect">
            <a:avLst/>
          </a:prstGeom>
          <a:ln w="9360">
            <a:solidFill>
              <a:srgbClr val="558ed5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0991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63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277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0800000">
            <a:off x="3431880" y="26816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203280" y="268164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" y="6858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Самый старый вид спорта, в котором победителем становится тот, кто первым пересечет финишную чер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97800" y="563868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971800" y="2365200"/>
            <a:ext cx="2306520" cy="34689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175440" y="19051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5600" y="19051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870520" y="19051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84720" y="19051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09480" y="477720"/>
            <a:ext cx="792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Спортивная командная игра на ледо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или травяном поле, в которой мяч или шай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специальными клюшками забива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в ворота противн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1904760" cy="1428480"/>
          </a:xfrm>
          <a:prstGeom prst="rect">
            <a:avLst/>
          </a:prstGeom>
          <a:ln w="9360">
            <a:solidFill>
              <a:srgbClr val="77933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80880" y="2362320"/>
            <a:ext cx="2419560" cy="2419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553080" y="1752480"/>
            <a:ext cx="2876760" cy="2876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2438280" y="2819520"/>
            <a:ext cx="1486080" cy="1428480"/>
          </a:xfrm>
          <a:prstGeom prst="rect">
            <a:avLst/>
          </a:prstGeom>
          <a:ln w="9360">
            <a:solidFill>
              <a:srgbClr val="93cddd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388944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1804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277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563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84920" y="167652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53920" y="537840"/>
            <a:ext cx="778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Игра с мячом, в которой необходимо переброс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мяч через сетку на сторону против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так, чтобы он коснулся зем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981080"/>
            <a:ext cx="4019400" cy="4019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295280" y="32004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5867280" y="2666880"/>
            <a:ext cx="2590920" cy="19432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62520" y="2133720"/>
            <a:ext cx="2495520" cy="24955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2895480" y="2590920"/>
            <a:ext cx="2114640" cy="211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324480" y="457200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7162920" y="4572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629400" y="4648320"/>
            <a:ext cx="1523880" cy="838080"/>
          </a:xfrm>
          <a:prstGeom prst="line">
            <a:avLst/>
          </a:prstGeom>
          <a:ln cap="rnd"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62120" y="770040"/>
            <a:ext cx="7772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Arial"/>
                <a:ea typeface="Times New Roman"/>
              </a:rPr>
              <a:t>Он может быть сделан из резины или пробки, сплетен из ниток, обшит коже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Arial"/>
                <a:ea typeface="Times New Roman"/>
              </a:rPr>
              <a:t>Его можно бросать, передавать, вести в любом направлен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19320" y="2822400"/>
            <a:ext cx="1600200" cy="22640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1273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701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987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59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415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4520" y="18288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505320" y="2514600"/>
            <a:ext cx="2647800" cy="26478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562720" y="2895480"/>
            <a:ext cx="2038320" cy="203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838080" y="6858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Они помогают спортсмену плыть быстр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71800" y="1371600"/>
            <a:ext cx="3129120" cy="226692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62520" y="3962520"/>
            <a:ext cx="1428480" cy="1428480"/>
          </a:xfrm>
          <a:prstGeom prst="rect">
            <a:avLst/>
          </a:prstGeom>
          <a:ln w="9360">
            <a:solidFill>
              <a:srgbClr val="e46c0a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514600" y="3962520"/>
            <a:ext cx="1428840" cy="1428480"/>
          </a:xfrm>
          <a:prstGeom prst="rect">
            <a:avLst/>
          </a:prstGeom>
          <a:ln w="9360">
            <a:solidFill>
              <a:srgbClr val="92d05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6248520" y="3962520"/>
            <a:ext cx="1895400" cy="142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5257800" y="3886200"/>
            <a:ext cx="83808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1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219320" y="8380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Он защищает голову спортс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2903400" cy="19620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85800" y="2362320"/>
            <a:ext cx="2741760" cy="188568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124" name=""/>
          <p:cNvSpPr/>
          <p:nvPr/>
        </p:nvSpPr>
        <p:spPr>
          <a:xfrm>
            <a:off x="305100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7960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0820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3680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44197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8520"/>
            <a:ext cx="82296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47920" y="6094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Через нее кидают мяч в волейбо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334120" y="2590920"/>
            <a:ext cx="2639880" cy="16570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4704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7564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1844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00424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32840" y="152388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295280" y="259092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09880" y="251460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355920" y="1600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27320" y="1600200"/>
            <a:ext cx="48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1T14:22:49Z</dcterms:created>
  <dc:creator>Сергей</dc:creator>
  <dc:description/>
  <dc:language>en-US</dc:language>
  <cp:lastModifiedBy/>
  <dcterms:modified xsi:type="dcterms:W3CDTF">2022-10-05T04:43:11Z</dcterms:modified>
  <cp:revision>56</cp:revision>
  <dc:subject/>
  <dc:title>Слайд 1</dc:title>
</cp:coreProperties>
</file>