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37B8-5B14-45B5-B7CC-19B5C19F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2117-626A-4CF3-8E60-BE593FAD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C02-AB36-431B-9F3B-D6ACC973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3EF5-836A-408D-A974-D5DDD490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294-9BD3-4734-A6A0-9EE8ACF0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25DF-1BE5-484F-AE67-32F38978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FBC7-51B2-48E7-9E99-45A82B3C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ACC-7C2E-44D8-B679-19866FE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F57C-9D60-43EF-A16C-BA3FCC6F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05D-F656-4E49-9C26-E7272615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97D-56D3-452D-A622-D9A107F5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DA43-8021-4068-A161-3F6F1CE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2A34-80E2-4187-9AF1-9E614F5084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TR030005980"/>
          <p:cNvPicPr/>
          <p:nvPr/>
        </p:nvPicPr>
        <p:blipFill>
          <a:blip r:embed="rId1"/>
          <a:stretch/>
        </p:blipFill>
        <p:spPr>
          <a:xfrm>
            <a:off x="11160" y="-4284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2209680" y="228600"/>
            <a:ext cx="65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«Лингвистическая игра как способ формирования функциональной грамотности во время внеурочной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 5 класс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52280" y="4648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читель: Сафиуллина А.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676520" y="54100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МАОУ Селятинская СОШ №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1752480" y="0"/>
            <a:ext cx="7086600" cy="42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. Вставьте, где нужно,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озовый куст, на котором рас(с ;ц)вела роза, рос в небольшом полукруглом цв..тнике перед дер..венским домом. Цв..тник был очень запущен. Сорные травы густо разр..слись. Деревянная реш..тка совсем облезла, рас..охлась и развалилась. Пики ра(с ;з)тащили для игры в солдаты дер..венские мальчики… Крапива зан..мала целый угол цв..тника. Она служила фоном для нежн…  и роскошн…  бледн… цв..тка 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big_b601b6eec19687fcd8b19556409ab0e5"/>
          <p:cNvPicPr/>
          <p:nvPr/>
        </p:nvPicPr>
        <p:blipFill>
          <a:blip r:embed="rId3"/>
          <a:stretch/>
        </p:blipFill>
        <p:spPr>
          <a:xfrm>
            <a:off x="6172200" y="4952880"/>
            <a:ext cx="2590920" cy="1731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Фотоаппарат 336"/>
          <p:cNvPicPr/>
          <p:nvPr/>
        </p:nvPicPr>
        <p:blipFill>
          <a:blip r:embed="rId4"/>
          <a:stretch/>
        </p:blipFill>
        <p:spPr>
          <a:xfrm>
            <a:off x="838080" y="4981680"/>
            <a:ext cx="2819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TR030005980"/>
          <p:cNvPicPr/>
          <p:nvPr/>
        </p:nvPicPr>
        <p:blipFill>
          <a:blip r:embed="rId1"/>
          <a:stretch/>
        </p:blipFill>
        <p:spPr>
          <a:xfrm>
            <a:off x="-1116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3200400" y="304920"/>
            <a:ext cx="5257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Розовый куст, на котором рас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ц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ла роза, рос в небольшом полукруглом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е перед де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нским домом.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 был очень запущен. Сорные травы густо раз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лись. Деревянная реш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ё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ка совсем облезла, рас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хлась и развалилась. Пики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ащили для игры в солдаты де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венские мальчики… Крапива за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мала целый угол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ника. Она служила фоном для неж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и роскош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 бледн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г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цв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ка ро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Изображение 013"/>
          <p:cNvPicPr/>
          <p:nvPr/>
        </p:nvPicPr>
        <p:blipFill>
          <a:blip r:embed="rId2"/>
          <a:stretch/>
        </p:blipFill>
        <p:spPr>
          <a:xfrm>
            <a:off x="293760" y="3200400"/>
            <a:ext cx="2822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362320" y="457200"/>
            <a:ext cx="6324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на ра(с; з)пустилась в хорош…., майск…. утро. Когда она ра(с; з)крывала свои лепестки, ул..тевшая утренняя р..са оставила  на них несколько чистых, пр..зрачных сл..зинок. Роза точно плакала. Но вокруг неё всё было так хорошо, так чисто и ясно в это пр..крас..ное утро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DSCF0523"/>
          <p:cNvPicPr/>
          <p:nvPr/>
        </p:nvPicPr>
        <p:blipFill>
          <a:blip r:embed="rId2"/>
          <a:stretch/>
        </p:blipFill>
        <p:spPr>
          <a:xfrm>
            <a:off x="2971800" y="3276720"/>
            <a:ext cx="41911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590920" y="228600"/>
            <a:ext cx="5790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на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пустилась в хорош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, майск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 утро. Когда она ра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рывала свои лепестки, у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тевшая утренняя 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а оставила  на них несколько чистых, п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рачных сл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зинок. Роза точно плакала. Но вокруг неё всё было так хорошо, так чисто и ясно в это пр</a:t>
            </a:r>
            <a:r>
              <a:rPr b="0" lang="ru-RU" sz="2400" spc="-1" strike="noStrike">
                <a:solidFill>
                  <a:srgbClr val="0099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красное утр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SCF0524"/>
          <p:cNvPicPr/>
          <p:nvPr/>
        </p:nvPicPr>
        <p:blipFill>
          <a:blip r:embed="rId3"/>
          <a:stretch/>
        </p:blipFill>
        <p:spPr>
          <a:xfrm>
            <a:off x="3657600" y="3276720"/>
            <a:ext cx="4419720" cy="33145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380880" y="3809880"/>
            <a:ext cx="3124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Какие виды орфограмм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371600" y="380880"/>
            <a:ext cx="7010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заглавьте текс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тиль текст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новная мысль текс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Фотоаппарат 305"/>
          <p:cNvPicPr/>
          <p:nvPr/>
        </p:nvPicPr>
        <p:blipFill>
          <a:blip r:embed="rId2"/>
          <a:stretch/>
        </p:blipFill>
        <p:spPr>
          <a:xfrm>
            <a:off x="1981080" y="2819520"/>
            <a:ext cx="571500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8"/>
          <p:cNvSpPr/>
          <p:nvPr/>
        </p:nvSpPr>
        <p:spPr>
          <a:xfrm>
            <a:off x="1600200" y="3809880"/>
            <a:ext cx="6629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4. Произведите фонетический разбор слова </a:t>
            </a:r>
            <a:r>
              <a:rPr b="1" i="1" lang="ru-RU" sz="4000" spc="-1" strike="noStrike" u="sng">
                <a:solidFill>
                  <a:srgbClr val="800000"/>
                </a:solidFill>
                <a:uFillTx/>
                <a:latin typeface="Arial"/>
              </a:rPr>
              <a:t>вокруг</a:t>
            </a:r>
            <a:r>
              <a:rPr b="1" i="1" lang="ru-RU" sz="40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2438280" y="1676520"/>
            <a:ext cx="60962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округ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а к р У 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звон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гласн., безу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глух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Р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звон., твёрд., сонор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У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гласн., у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Г –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[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огл., глух., твёрд., пар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6 букв, 6 зву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2286000" y="1522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5. Определите, являются ли слова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цветник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клумб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синонимами. Чтобы выяснить это, определите лексическое значение каждого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905120" y="1676520"/>
            <a:ext cx="67816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Цветник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– место, где посажены цветы; клум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Клумба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– засаженная цветами садовая грядка в виде замкнутой фигуры.</a:t>
            </a: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ловарь русского язы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                                              </a:t>
            </a: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С.И. Ожег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Фотоаппарат 305"/>
          <p:cNvPicPr/>
          <p:nvPr/>
        </p:nvPicPr>
        <p:blipFill>
          <a:blip r:embed="rId2"/>
          <a:stretch/>
        </p:blipFill>
        <p:spPr>
          <a:xfrm>
            <a:off x="609480" y="4343400"/>
            <a:ext cx="361476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2286000" y="30492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6. Разберите по составу сло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(по)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800000"/>
                </a:solidFill>
                <a:latin typeface="Arial"/>
              </a:rPr>
              <a:t>дорожкам, мальчики, слези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480" y="1676520"/>
          <a:ext cx="7855200" cy="1996920"/>
        </p:xfrm>
        <a:graphic>
          <a:graphicData uri="http://schemas.openxmlformats.org/drawingml/2006/table">
            <a:tbl>
              <a:tblPr/>
              <a:tblGrid>
                <a:gridCol w="16830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127" descr="DSC04223"/>
          <p:cNvPicPr/>
          <p:nvPr/>
        </p:nvPicPr>
        <p:blipFill>
          <a:blip r:embed="rId2"/>
          <a:stretch/>
        </p:blipFill>
        <p:spPr>
          <a:xfrm>
            <a:off x="251460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609480" y="1676520"/>
          <a:ext cx="7855200" cy="1996920"/>
        </p:xfrm>
        <a:graphic>
          <a:graphicData uri="http://schemas.openxmlformats.org/drawingml/2006/table">
            <a:tbl>
              <a:tblPr/>
              <a:tblGrid>
                <a:gridCol w="1683000"/>
                <a:gridCol w="2057400"/>
                <a:gridCol w="2057400"/>
                <a:gridCol w="2057400"/>
              </a:tblGrid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И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ОР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УФФИК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ОКОНЧ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ДОРОЖ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А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МАЛЬЧИ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СЛЕЗ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-ИН-  -ОК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0000"/>
                      </a:solidFill>
                    </a:lnL>
                    <a:lnR w="5760">
                      <a:solidFill>
                        <a:srgbClr val="800000"/>
                      </a:solidFill>
                    </a:lnR>
                    <a:lnT w="5760">
                      <a:solidFill>
                        <a:srgbClr val="800000"/>
                      </a:solidFill>
                    </a:lnT>
                    <a:lnB w="5760">
                      <a:solidFill>
                        <a:srgbClr val="8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9" name="Picture 127" descr="DSC04223"/>
          <p:cNvPicPr/>
          <p:nvPr/>
        </p:nvPicPr>
        <p:blipFill>
          <a:blip r:embed="rId2"/>
          <a:stretch/>
        </p:blipFill>
        <p:spPr>
          <a:xfrm>
            <a:off x="2514600" y="3809880"/>
            <a:ext cx="373392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TR030005980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533520" y="457200"/>
            <a:ext cx="838188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ирование навыков анализа тек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витие орфографической зорк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овторение различных видов разбо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витие мотивации учащихся во врем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неуроч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8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формирование функционально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грамот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90920" y="380880"/>
            <a:ext cx="6172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7. Выпишите из текста слова и объясните условие выбора в них орфограммы «Буквы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на конце пристав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057400"/>
            <a:ext cx="83818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ела, ра..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ли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хлась, ра..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лила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щили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тилась, ра..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ы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Фотоаппарат 350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1523880" y="2057400"/>
            <a:ext cx="67820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ц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вела, ра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р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сли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охлась, ра</a:t>
            </a:r>
            <a:r>
              <a:rPr b="1" lang="ru-RU" sz="3600" spc="-1" strike="noStrike">
                <a:solidFill>
                  <a:srgbClr val="009900"/>
                </a:solidFill>
                <a:latin typeface="Arial"/>
              </a:rPr>
              <a:t>з</a:t>
            </a:r>
            <a:r>
              <a:rPr b="1" lang="ru-RU" sz="3600" spc="-1" strike="noStrike">
                <a:solidFill>
                  <a:srgbClr val="0066ff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лила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ащили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п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устилась, ра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</a:t>
            </a: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ыв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Фотоаппарат 350"/>
          <p:cNvPicPr/>
          <p:nvPr/>
        </p:nvPicPr>
        <p:blipFill>
          <a:blip r:embed="rId2"/>
          <a:stretch/>
        </p:blipFill>
        <p:spPr>
          <a:xfrm>
            <a:off x="5334120" y="4114800"/>
            <a:ext cx="30477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2209680" y="38088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8. Произведите морфологический разбор имени существите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447920" y="1676520"/>
            <a:ext cx="746748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(Рос в)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цветнике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– существительное, т.к. обозначает предмет, (что?) цветни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I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нариц., неодуш., м. р., 2 ск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              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П. п., ед. 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II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рос (где?) в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цветнике – обстоятельство места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7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2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4" dur="77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22096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9. Найдите в тексте и подчеркните однородные чле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TR030005980"/>
          <p:cNvPicPr/>
          <p:nvPr/>
        </p:nvPicPr>
        <p:blipFill>
          <a:blip r:embed="rId1"/>
          <a:stretch/>
        </p:blipFill>
        <p:spPr>
          <a:xfrm>
            <a:off x="-163440" y="334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22096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редложения с однородными чл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066680" y="198612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еревянная решётка совсем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облезла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ссохлась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66ff"/>
                </a:solidFill>
                <a:latin typeface="Arial"/>
              </a:rPr>
              <a:t>развалилась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066680" y="31240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Когда она раскрывала свои лепестки, улетевшая утренняя роса оставила на них несколько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чистых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прозрачных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слезин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 flipV="1" rot="10800000">
            <a:off x="762120" y="4830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вокруг нее все было так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хорош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так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чист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ясно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 это прекрасное ут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9"/>
          <p:cNvSpPr/>
          <p:nvPr/>
        </p:nvSpPr>
        <p:spPr>
          <a:xfrm>
            <a:off x="2438280" y="152280"/>
            <a:ext cx="61722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0. Произведите синтаксиче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разбор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286000" y="1447920"/>
            <a:ext cx="6248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рапива заним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ый угол цве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2" descr="17-"/>
          <p:cNvPicPr/>
          <p:nvPr/>
        </p:nvPicPr>
        <p:blipFill>
          <a:blip r:embed="rId2"/>
          <a:stretch/>
        </p:blipFill>
        <p:spPr>
          <a:xfrm>
            <a:off x="5486400" y="281952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2286000" y="1371600"/>
            <a:ext cx="60199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Крапива занима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целый угол цвет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(Повеств., невоскл., прост., двусост., распр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4191120" y="2133720"/>
            <a:ext cx="1904760" cy="0"/>
          </a:xfrm>
          <a:prstGeom prst="line">
            <a:avLst/>
          </a:prstGeom>
          <a:ln w="190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4"/>
          <p:cNvSpPr/>
          <p:nvPr/>
        </p:nvSpPr>
        <p:spPr>
          <a:xfrm>
            <a:off x="4191120" y="2133720"/>
            <a:ext cx="190476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3809880" y="3048120"/>
            <a:ext cx="152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>
            <a:off x="411480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449568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>
            <a:off x="4952880" y="304812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>
            <a:off x="5486400" y="3048120"/>
            <a:ext cx="3049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3"/>
          <p:cNvSpPr/>
          <p:nvPr/>
        </p:nvSpPr>
        <p:spPr>
          <a:xfrm>
            <a:off x="601992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5"/>
          <p:cNvSpPr/>
          <p:nvPr/>
        </p:nvSpPr>
        <p:spPr>
          <a:xfrm>
            <a:off x="6400800" y="3048120"/>
            <a:ext cx="2286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2"/>
          <p:cNvSpPr/>
          <p:nvPr/>
        </p:nvSpPr>
        <p:spPr>
          <a:xfrm flipV="1">
            <a:off x="2362320" y="3047760"/>
            <a:ext cx="152280" cy="7596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43"/>
          <p:cNvSpPr/>
          <p:nvPr/>
        </p:nvSpPr>
        <p:spPr>
          <a:xfrm>
            <a:off x="251460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4"/>
          <p:cNvSpPr/>
          <p:nvPr/>
        </p:nvSpPr>
        <p:spPr>
          <a:xfrm flipV="1">
            <a:off x="2666880" y="3047760"/>
            <a:ext cx="15264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45"/>
          <p:cNvSpPr/>
          <p:nvPr/>
        </p:nvSpPr>
        <p:spPr>
          <a:xfrm>
            <a:off x="281952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46"/>
          <p:cNvSpPr/>
          <p:nvPr/>
        </p:nvSpPr>
        <p:spPr>
          <a:xfrm flipV="1">
            <a:off x="2971800" y="304776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47"/>
          <p:cNvSpPr/>
          <p:nvPr/>
        </p:nvSpPr>
        <p:spPr>
          <a:xfrm>
            <a:off x="3124080" y="3048120"/>
            <a:ext cx="15264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49"/>
          <p:cNvSpPr/>
          <p:nvPr/>
        </p:nvSpPr>
        <p:spPr>
          <a:xfrm flipV="1">
            <a:off x="3276720" y="304776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50"/>
          <p:cNvSpPr/>
          <p:nvPr/>
        </p:nvSpPr>
        <p:spPr>
          <a:xfrm>
            <a:off x="3429000" y="3048120"/>
            <a:ext cx="152280" cy="15228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1"/>
          <p:cNvSpPr/>
          <p:nvPr/>
        </p:nvSpPr>
        <p:spPr>
          <a:xfrm>
            <a:off x="2438280" y="2133720"/>
            <a:ext cx="16002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2"/>
          <p:cNvSpPr/>
          <p:nvPr/>
        </p:nvSpPr>
        <p:spPr>
          <a:xfrm>
            <a:off x="4191120" y="2362320"/>
            <a:ext cx="19810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TR030005980"/>
          <p:cNvPicPr/>
          <p:nvPr/>
        </p:nvPicPr>
        <p:blipFill>
          <a:blip r:embed="rId1"/>
          <a:stretch/>
        </p:blipFill>
        <p:spPr>
          <a:xfrm>
            <a:off x="792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2438280" y="228600"/>
            <a:ext cx="5715000" cy="24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11. Составьте описание </a:t>
            </a:r>
            <a:r>
              <a:rPr b="1" lang="ru-RU" sz="4000" spc="-1" strike="noStrike" u="sng">
                <a:solidFill>
                  <a:srgbClr val="6600cc"/>
                </a:solidFill>
                <a:uFillTx/>
                <a:latin typeface="Arial"/>
              </a:rPr>
              <a:t>розы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в научном сти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оставьте предложения с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ловом 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Фотоаппарат 288"/>
          <p:cNvPicPr/>
          <p:nvPr/>
        </p:nvPicPr>
        <p:blipFill>
          <a:blip r:embed="rId2"/>
          <a:stretch/>
        </p:blipFill>
        <p:spPr>
          <a:xfrm>
            <a:off x="1219320" y="411480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1752480" y="1676520"/>
            <a:ext cx="6248520" cy="29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00"/>
                </a:solidFill>
                <a:latin typeface="Arial"/>
              </a:rPr>
              <a:t>Роза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 – растение с красивыми крупными душистыми цветками и со стеблем, обычно покрытым шип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ловарь русского язы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.И. Ожег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Фотоаппарат 288"/>
          <p:cNvPicPr/>
          <p:nvPr/>
        </p:nvPicPr>
        <p:blipFill>
          <a:blip r:embed="rId2"/>
          <a:stretch/>
        </p:blipFill>
        <p:spPr>
          <a:xfrm>
            <a:off x="1219320" y="4114800"/>
            <a:ext cx="37335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666880" y="30492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Подведение итогов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2590920" y="1143000"/>
            <a:ext cx="586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.  Чем мы занимались сегодня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2590920" y="2209680"/>
            <a:ext cx="601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. Какие разделы науки о языке мы повтор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90920" y="3429000"/>
            <a:ext cx="624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. Какие виды разбора выполни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2590920" y="46483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4. Какой вид работы для вас был наиболее труд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90920" y="57150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5. А что больше всего понравилось на уро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TR030005980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495360" y="457200"/>
            <a:ext cx="83818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1. Рассыпались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                Ы          Ш              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Ь     Л          Е           Е            Т          Т          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И           К              И              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      И       А          Л        Н       К        З       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TR030005980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6"/>
          <p:cNvSpPr/>
          <p:nvPr/>
        </p:nvSpPr>
        <p:spPr>
          <a:xfrm>
            <a:off x="2286000" y="685800"/>
            <a:ext cx="56386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Спасибо за урок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Хорошего настроения на весь ден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Изображение 084"/>
          <p:cNvPicPr/>
          <p:nvPr/>
        </p:nvPicPr>
        <p:blipFill>
          <a:blip r:embed="rId2"/>
          <a:stretch/>
        </p:blipFill>
        <p:spPr>
          <a:xfrm>
            <a:off x="2666880" y="2590920"/>
            <a:ext cx="5257800" cy="39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TR030005980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"/>
          <p:cNvSpPr/>
          <p:nvPr/>
        </p:nvSpPr>
        <p:spPr>
          <a:xfrm>
            <a:off x="495360" y="457200"/>
            <a:ext cx="8381880" cy="51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</a:rPr>
              <a:t>Рассыпались сл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Ш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УЛЕ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П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____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ЛЕЗ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495360" y="457200"/>
            <a:ext cx="838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Ш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лючка, игла растенья. Шипы розы, колючки тер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лючий вырост на ветках, плодах некоторых раст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Промысловая рыба сем. осетровых, распространенная в бассейнах Аральского, Каспийского и Черного мор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Небольшой выступ на подковах, подошвах спортивной обуви, колесах автомашин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TR030005980"/>
          <p:cNvPicPr/>
          <p:nvPr/>
        </p:nvPicPr>
        <p:blipFill>
          <a:blip r:embed="rId2"/>
          <a:stretch/>
        </p:blipFill>
        <p:spPr>
          <a:xfrm>
            <a:off x="-792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80880" y="457200"/>
            <a:ext cx="8496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ТЕ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Передвигаться по воздух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 времени: быстро проходи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Часы, минуты летят. Лето летит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Мчать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Летит стрело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адат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Летит со стула 5. Быстро изменяться в цене, в уровн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Цены летят ввер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. Ломатьс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Авария: летит крестовина. Из-за командировки летят все мои пл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495360" y="457200"/>
            <a:ext cx="83818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ИК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Наивысшая точка в развитии чего-нибудь, кратковременный резкий подъем в какой-нибудь деятельности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Пик наводка. Пик цикла солнечной активности. Пик в работе электростанци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носящийся к наивысшему состоянию в развитии чего-нибудь, к кратковременному резкому подъему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Часы пика в работе метро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строконечная вершина гор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: Пик Коммунизма (на Памире)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495360" y="45720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Бесцветная, прозрачная, солоноватая на вкус жидкость, продукт особых желез, находящихся позади глаз, обмывающая глаза, предохраняющая их от засых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пля сока, влаги, выделяющейся на чем-нибудь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ыр со слез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TR03000598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TR030005980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4"/>
          <p:cNvSpPr/>
          <p:nvPr/>
        </p:nvSpPr>
        <p:spPr>
          <a:xfrm>
            <a:off x="495360" y="457200"/>
            <a:ext cx="838188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Е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Бесцветная, прозрачная, солоноватая на вкус жидкость, продукт особых желез, находящихся позади глаз, обмывающая глаза, предохраняющая их от засыхани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Капля сока, влаги, выделяющейся на чем-нибудь. 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Сыр со слез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8:30:13Z</dcterms:created>
  <dc:creator>Татьяна</dc:creator>
  <dc:description/>
  <dc:language>en-US</dc:language>
  <cp:lastModifiedBy>компьютер</cp:lastModifiedBy>
  <dcterms:modified xsi:type="dcterms:W3CDTF">2024-01-07T19:28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