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8B6-73A9-4AD1-BF93-E4B61CF3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485-3099-4099-9FF0-EEFFEB07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57E-2CDA-4D15-A780-A0479BFC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293-1438-4E60-8A96-EAF25175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70A-39EC-4C0E-A56A-D1AE8E32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4CF-311B-49AE-8257-E437533C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A3D6-2676-40CF-8186-ADA70571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C2D-7FCF-43BF-9834-2B9CF29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717C-0481-4E45-8B90-11B7178A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449-0E6E-44AF-BE4A-B60805E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352-64E7-4A08-BE31-2FECE54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234-E311-4637-8D87-F422771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2702-4CE5-419A-844B-1EFA44F47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R030005980"/>
          <p:cNvPicPr/>
          <p:nvPr/>
        </p:nvPicPr>
        <p:blipFill>
          <a:blip r:embed="rId1"/>
          <a:stretch/>
        </p:blipFill>
        <p:spPr>
          <a:xfrm>
            <a:off x="11160" y="-428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209680" y="228600"/>
            <a:ext cx="65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Лингвистическая игра как способ формирования функциональной грамотности во время внеурочной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 5 клас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2280" y="4648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читель: Сафиуллина А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676520" y="54100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ОУ Селятинская СОШ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752480" y="0"/>
            <a:ext cx="70866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. Вставьте, где нужно,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озовый куст, на котором рас(с ;ц)вела роза, рос в небольшом полукруглом цв..тнике перед дер..венским домом. Цв..тник был очень запущен. Сорные травы густо разр..слись. Деревянная реш..тка совсем облезла, рас..охлась и развалилась. Пики ра(с ;з)тащили для игры в солдаты дер..венские мальчики… Крапива зан..мала целый угол цв..тника. Она служила фоном для нежн…  и роскошн…  бледн… цв..тка 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ig_b601b6eec19687fcd8b19556409ab0e5"/>
          <p:cNvPicPr/>
          <p:nvPr/>
        </p:nvPicPr>
        <p:blipFill>
          <a:blip r:embed="rId3"/>
          <a:stretch/>
        </p:blipFill>
        <p:spPr>
          <a:xfrm>
            <a:off x="6172200" y="49528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аппарат 336"/>
          <p:cNvPicPr/>
          <p:nvPr/>
        </p:nvPicPr>
        <p:blipFill>
          <a:blip r:embed="rId4"/>
          <a:stretch/>
        </p:blipFill>
        <p:spPr>
          <a:xfrm>
            <a:off x="838080" y="4981680"/>
            <a:ext cx="2819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TR030005980"/>
          <p:cNvPicPr/>
          <p:nvPr/>
        </p:nvPicPr>
        <p:blipFill>
          <a:blip r:embed="rId1"/>
          <a:stretch/>
        </p:blipFill>
        <p:spPr>
          <a:xfrm>
            <a:off x="-11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200400" y="30492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озовый куст, на котором рас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ла роза, рос в небольшом полукруглом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е перед де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нским домом.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 был очень запущен. Сорные травы густо раз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лись. Деревянная реш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ё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ка совсем облезла, рас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хлась и развалилась. Пики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ащили для игры в солдаты де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нские мальчики… Крапива за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ала целый угол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а. Она служила фоном для неж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и роскош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блед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ка 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Изображение 013"/>
          <p:cNvPicPr/>
          <p:nvPr/>
        </p:nvPicPr>
        <p:blipFill>
          <a:blip r:embed="rId2"/>
          <a:stretch/>
        </p:blipFill>
        <p:spPr>
          <a:xfrm>
            <a:off x="293760" y="3200400"/>
            <a:ext cx="2822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362320" y="45720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на ра(с; з)пустилась в хорош…., майск…. утро. Когда она ра(с; з)крывала свои лепестки, ул..тевшая утренняя р..са оставила  на них несколько чистых, пр..зрачных сл..зинок. Роза точно плакала. Но вокруг неё всё было так хорошо, так чисто и ясно в это пр..крас..ное утр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DSCF0523"/>
          <p:cNvPicPr/>
          <p:nvPr/>
        </p:nvPicPr>
        <p:blipFill>
          <a:blip r:embed="rId2"/>
          <a:stretch/>
        </p:blipFill>
        <p:spPr>
          <a:xfrm>
            <a:off x="2971800" y="3276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90920" y="228600"/>
            <a:ext cx="579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на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устилась в хорош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, майск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утро. Когда она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рывала свои лепестки, у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евшая утренняя 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а оставила  на них несколько чистых, п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рачных с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инок. Роза точно плакала. Но вокруг неё всё было так хорошо, так чисто и ясно в это п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расное утр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SCF0524"/>
          <p:cNvPicPr/>
          <p:nvPr/>
        </p:nvPicPr>
        <p:blipFill>
          <a:blip r:embed="rId3"/>
          <a:stretch/>
        </p:blipFill>
        <p:spPr>
          <a:xfrm>
            <a:off x="3657600" y="3276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80880" y="3809880"/>
            <a:ext cx="312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ие виды орфограмм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371600" y="38088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заглавьте тек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иль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новная мысль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Фотоаппарат 305"/>
          <p:cNvPicPr/>
          <p:nvPr/>
        </p:nvPicPr>
        <p:blipFill>
          <a:blip r:embed="rId2"/>
          <a:stretch/>
        </p:blipFill>
        <p:spPr>
          <a:xfrm>
            <a:off x="1981080" y="2819520"/>
            <a:ext cx="5715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600200" y="38098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4. Произведите фонетический разбор слова </a:t>
            </a: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вокруг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438280" y="1676520"/>
            <a:ext cx="6096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круг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а к р У 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звон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гласн., безу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глух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звон., твёрд., сонор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гласн., 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глух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6 букв, 6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86000" y="1522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. Определите, являются ли слова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ветник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лумб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синонимами. Чтобы выяснить это, определите лексическое значение каждого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905120" y="1676520"/>
            <a:ext cx="67816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Цветник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– место, где посажены цветы; клу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лумб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засаженная цветами садовая грядка в виде замкнутой фигуры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Фотоаппарат 305"/>
          <p:cNvPicPr/>
          <p:nvPr/>
        </p:nvPicPr>
        <p:blipFill>
          <a:blip r:embed="rId2"/>
          <a:stretch/>
        </p:blipFill>
        <p:spPr>
          <a:xfrm>
            <a:off x="609480" y="4343400"/>
            <a:ext cx="3614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286000" y="30492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. Разберите по составу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(по)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орожкам, мальчики, слези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76520"/>
          <a:ext cx="7855200" cy="1996920"/>
        </p:xfrm>
        <a:graphic>
          <a:graphicData uri="http://schemas.openxmlformats.org/drawingml/2006/table">
            <a:tbl>
              <a:tblPr/>
              <a:tblGrid>
                <a:gridCol w="16830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127" descr="DSC04223"/>
          <p:cNvPicPr/>
          <p:nvPr/>
        </p:nvPicPr>
        <p:blipFill>
          <a:blip r:embed="rId2"/>
          <a:stretch/>
        </p:blipFill>
        <p:spPr>
          <a:xfrm>
            <a:off x="251460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09480" y="1676520"/>
          <a:ext cx="7855200" cy="1996920"/>
        </p:xfrm>
        <a:graphic>
          <a:graphicData uri="http://schemas.openxmlformats.org/drawingml/2006/table">
            <a:tbl>
              <a:tblPr/>
              <a:tblGrid>
                <a:gridCol w="16830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И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ОРОЖ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ЛЬЧИ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ЕЗ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ИН-  -О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127" descr="DSC04223"/>
          <p:cNvPicPr/>
          <p:nvPr/>
        </p:nvPicPr>
        <p:blipFill>
          <a:blip r:embed="rId2"/>
          <a:stretch/>
        </p:blipFill>
        <p:spPr>
          <a:xfrm>
            <a:off x="251460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533520" y="457200"/>
            <a:ext cx="83818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ирование навыков анализа тек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витие орфографической зор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вторение различных видов разб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витие мотивации учащихся во врем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ирование функционально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90920" y="3808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7. Выпишите из текста слова и объясните условие выбора в них орфограммы «Буквы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на конце прист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057400"/>
            <a:ext cx="8381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ела, ра..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ли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хлась, ра..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лила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щили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тила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ы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Фотоаппарат 350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523880" y="2057400"/>
            <a:ext cx="67820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ела, ра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ли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хлась, ра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лила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щили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тила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ы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Фотоаппарат 350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09680" y="38088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. Произведите морфологический разбор имени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7920" y="1676520"/>
            <a:ext cx="746748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(Рос в)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цветник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уществительное, т.к. обозначает предмет, (что?) цве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нариц., неодуш., м. р., 2 ск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. п., ед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рос (где?) в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цветнике – обстоятельство мест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2096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. Найдите в тексте и подчеркните однород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TR030005980"/>
          <p:cNvPicPr/>
          <p:nvPr/>
        </p:nvPicPr>
        <p:blipFill>
          <a:blip r:embed="rId1"/>
          <a:stretch/>
        </p:blipFill>
        <p:spPr>
          <a:xfrm>
            <a:off x="-163440" y="334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096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едложения с однородными чл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1986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ревянная решётка совсем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блезл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ссохлась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звалилась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66680" y="3124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гда она раскрывала свои лепестки, улетевшая утренняя роса оставила на них несколько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чистых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розрачных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з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 flipV="1" rot="10800000">
            <a:off x="762120" y="4830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вокруг нее все было так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орош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ак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чис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яс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это прекрасное у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2438280" y="152280"/>
            <a:ext cx="61722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. Произведите синтакс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бор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286000" y="14479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рапива заним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ый угол цве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17-"/>
          <p:cNvPicPr/>
          <p:nvPr/>
        </p:nvPicPr>
        <p:blipFill>
          <a:blip r:embed="rId2"/>
          <a:stretch/>
        </p:blipFill>
        <p:spPr>
          <a:xfrm>
            <a:off x="5486400" y="28195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0" y="1371600"/>
            <a:ext cx="60199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рапива занима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ый угол цве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(Повеств., невоскл., прост., двусост., расп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4191120" y="2133720"/>
            <a:ext cx="190476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191120" y="2133720"/>
            <a:ext cx="19047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3809880" y="3048120"/>
            <a:ext cx="152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449568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4952880" y="304812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5486400" y="304812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 flipV="1">
            <a:off x="2362320" y="3047760"/>
            <a:ext cx="152280" cy="759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3"/>
          <p:cNvSpPr/>
          <p:nvPr/>
        </p:nvSpPr>
        <p:spPr>
          <a:xfrm>
            <a:off x="251460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4"/>
          <p:cNvSpPr/>
          <p:nvPr/>
        </p:nvSpPr>
        <p:spPr>
          <a:xfrm flipV="1">
            <a:off x="2666880" y="3047760"/>
            <a:ext cx="15264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5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6"/>
          <p:cNvSpPr/>
          <p:nvPr/>
        </p:nvSpPr>
        <p:spPr>
          <a:xfrm flipV="1">
            <a:off x="2971800" y="304776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>
            <a:off x="3124080" y="3048120"/>
            <a:ext cx="15264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9"/>
          <p:cNvSpPr/>
          <p:nvPr/>
        </p:nvSpPr>
        <p:spPr>
          <a:xfrm flipV="1">
            <a:off x="3276720" y="304776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0"/>
          <p:cNvSpPr/>
          <p:nvPr/>
        </p:nvSpPr>
        <p:spPr>
          <a:xfrm>
            <a:off x="342900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1"/>
          <p:cNvSpPr/>
          <p:nvPr/>
        </p:nvSpPr>
        <p:spPr>
          <a:xfrm>
            <a:off x="2438280" y="2133720"/>
            <a:ext cx="16002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4191120" y="2362320"/>
            <a:ext cx="19810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R030005980"/>
          <p:cNvPicPr/>
          <p:nvPr/>
        </p:nvPicPr>
        <p:blipFill>
          <a:blip r:embed="rId1"/>
          <a:stretch/>
        </p:blipFill>
        <p:spPr>
          <a:xfrm>
            <a:off x="792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438280" y="228600"/>
            <a:ext cx="571500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. Составьте описание </a:t>
            </a:r>
            <a:r>
              <a:rPr b="1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розы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в научном сти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оставьте предложения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ловом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Фотоаппарат 288"/>
          <p:cNvPicPr/>
          <p:nvPr/>
        </p:nvPicPr>
        <p:blipFill>
          <a:blip r:embed="rId2"/>
          <a:stretch/>
        </p:blipFill>
        <p:spPr>
          <a:xfrm>
            <a:off x="1219320" y="411480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752480" y="1676520"/>
            <a:ext cx="62485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Роза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– растение с красивыми крупными душистыми цветками и со стеблем, обычно покрытым ш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ловарь рус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.И. Ожег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Фотоаппарат 288"/>
          <p:cNvPicPr/>
          <p:nvPr/>
        </p:nvPicPr>
        <p:blipFill>
          <a:blip r:embed="rId2"/>
          <a:stretch/>
        </p:blipFill>
        <p:spPr>
          <a:xfrm>
            <a:off x="1219320" y="411480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666880" y="304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одведение итогов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90920" y="1143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.  Чем мы занимались сегодня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590920" y="220968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. Какие разделы науки о языке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90920" y="34290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. Какие виды разбора выполн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590920" y="46483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4. Какой вид работы для вас был наиболее труд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90920" y="5715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5. А что больше всего понравилось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TR03000598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95360" y="457200"/>
            <a:ext cx="83818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. Рассыпались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                Ы          Ш       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Ь     Л          Е           Е            Т          Т         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           К              И             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      И       А          Л        Н       К        З       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286000" y="685800"/>
            <a:ext cx="5638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пасибо за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Хорошего настроения на весь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Изображение 084"/>
          <p:cNvPicPr/>
          <p:nvPr/>
        </p:nvPicPr>
        <p:blipFill>
          <a:blip r:embed="rId2"/>
          <a:stretch/>
        </p:blipFill>
        <p:spPr>
          <a:xfrm>
            <a:off x="2666880" y="259092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TR030005980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95360" y="457200"/>
            <a:ext cx="83818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ссыпались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Ш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ЛЕ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ЛЕЗ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495360" y="4572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лючка, игла растенья. Шипы розы, колючки т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лючий вырост на ветках, плодах некотор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мысловая рыба сем. осетровых, распространенная в бассейнах Аральского, Каспийского и Черного м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большой выступ на подковах, подошвах спортивной обуви, колесах автомаши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TR030005980"/>
          <p:cNvPicPr/>
          <p:nvPr/>
        </p:nvPicPr>
        <p:blipFill>
          <a:blip r:embed="rId2"/>
          <a:stretch/>
        </p:blipFill>
        <p:spPr>
          <a:xfrm>
            <a:off x="-792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80880" y="457200"/>
            <a:ext cx="849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ередвигаться по воздух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 времени: быстро проходи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Часы, минуты летят. Лето лет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Мчать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Летит стрело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ад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Летит со стула 5. Быстро изменяться в цене, в уровн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Цены летят ввер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омать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Авария: летит крестовина. Из-за командировки летят все мои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49536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ивысшая точка в развитии чего-нибудь, кратковременный резкий подъем в какой-нибудь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Пик наводка. Пик цикла солнечной активности. Пик в работе электростанц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носящийся к наивысшему состоянию в развитии чего-нибудь, к кратковременному резкому подъе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Часы пика в работе мет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строконечная вершина гор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Пик Коммунизма (на Памире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95360" y="45720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Бесцветная, прозрачная, солоноватая на вкус жидкость, продукт особых желез, находящихся позади глаз, обмывающая глаза, предохраняющая их от засых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пля сока, влаги, выделяющейся на чем-нибудь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ыр со слез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95360" y="45720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Бесцветная, прозрачная, солоноватая на вкус жидкость, продукт особых желез, находящихся позади глаз, обмывающая глаза, предохраняющая их от засых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пля сока, влаги, выделяющейся на чем-нибудь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ыр со слез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8:30:13Z</dcterms:created>
  <dc:creator>Татьяна</dc:creator>
  <dc:description/>
  <dc:language>en-US</dc:language>
  <cp:lastModifiedBy>компьютер</cp:lastModifiedBy>
  <dcterms:modified xsi:type="dcterms:W3CDTF">2024-01-07T19:28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