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3.jpeg" ContentType="image/jpeg"/>
  <Override PartName="/ppt/media/image21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6.png" ContentType="image/png"/>
  <Override PartName="/ppt/media/image32.jpeg" ContentType="image/jpeg"/>
  <Override PartName="/ppt/media/image5.jpeg" ContentType="image/jpeg"/>
  <Override PartName="/ppt/media/image3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1.png" ContentType="image/png"/>
  <Override PartName="/ppt/media/image9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4849-D231-482E-A034-75DDFE1EE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FB19-22E1-4086-93F7-A6DA7B089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2D47-A42D-4EB7-BAE9-6BE515009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E246-34C0-422B-A22C-417F7930A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24244-268C-404D-B818-B71DE8BE6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ADF8A-3EFC-49F0-A33E-63051F84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24A2-F409-4B31-8F01-5E929CDB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7CFA-39D0-4F6F-8AFF-8C8F2A58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E432-177F-4BF4-99CF-4061A565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0834-933A-4F2E-A27E-792725A1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2A22-6B16-47EA-BCCD-19C1D290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702E-F83A-4F17-8718-7204DD26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85A3-8638-41C3-91FE-C4F20470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0FEE-414C-4309-808C-4A441FBC3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60D42-B5C2-4990-A773-8BC0C7CE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9E4C3-B587-4C50-B0E9-1F785D6B0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CB821-6F09-4A1E-AF59-48695E3B7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24888-781E-4DEB-AF26-72D717830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A6F38-0DB3-4DAB-B5E1-B048BDBB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3DC29-FBB6-47A4-9A18-98A45857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FF3F3-2C25-4ACA-B208-7C25F966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8EA8B-8212-4034-88BB-3ACEDBF8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A049-043C-49D9-B133-9B66B17D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552D4-663F-446C-B621-B6AB6DBE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8BA86-8F82-409C-8E98-A1320374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78A83-F33A-42B8-88F1-68B4199C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1420A-8389-40A9-9D4F-3F3D9ED1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B784A-DC56-4C6E-B597-D282829E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E4AB1-2286-4DDD-A3A5-281D56E95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C7F87-17B0-4767-8FDA-3B26F805D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28A61-3611-46CA-A4BC-6919992CE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B1033-44EF-495E-BF51-62672CB5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AAC31-7C98-4BDB-946F-2789DE7D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5DF3-F4A1-4737-8820-EFEB5693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6E75B-4644-4EF7-896A-BD402A46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39358-BC05-48B4-ACA6-1E2E5DAD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C6F81-CDD6-4367-9FB4-5BBDC8A4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E3D74-1B15-4BB7-A389-C3E2042D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800E0-6626-468C-8D7C-1C3BB64B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4E4BE-D79E-4D0E-A5CC-FEC2F6E6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FB92C-0525-4EE6-B74B-F0485AFA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0CDD9-874D-4B27-8FA9-6FB5CEFAA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66711-D8A4-4CBC-8160-7F95C336C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39642-33F6-45D8-A806-60511ED32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E5DA-92C3-4974-A8E3-FEE73619D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F7B27-766C-41AE-B128-778C4B9F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0FAA5-FD8D-4CB1-A04A-B3A099201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FB957-13EF-4B8B-8530-ED3D235D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DD033-C08F-4F87-BEB1-3352299F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CCE18-CADC-499D-BA2B-10354250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ACDFE-83C5-49A9-91EC-E224C75C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66299-C271-4A03-8495-54EDA8CC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382EA-81F6-40A9-ABD8-51154948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7342B-7AC6-4EDD-9146-69139E41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7D68D-CF41-4B05-BD67-7D94DB4FE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B0AA-343B-40C0-A60E-CD994FF4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93664-956D-4336-B7A0-0B584BAF1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40170-A21A-4E04-97EC-95EB7C081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3FE6F-EDA0-4966-A157-FB65B90B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7DA89-340C-460F-A317-79316859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9B20D-A8FC-406D-A08D-E89F0155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77790-295F-4813-BC00-CBD7515D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A2D07-EBA5-411B-8615-7C5C9E4C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C9755-B11F-4B5A-B037-13173F38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A01B5-BA0A-4B77-93FB-8CCD32E2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49807-01CF-4863-BFD7-7E88DE88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C1F2-76DF-4075-AC71-ADEE9B6A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86EF4-69C3-44F1-BEF8-7E894B09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07BD47-8A58-4A74-A88E-7FEE5BF7C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E40F2-A60B-4261-BCB6-AD9FD65E3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0DC979-969B-43A6-A040-2B5B92DA7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9F3BA-9139-4817-9D3A-1A961901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DA1AFB-B119-4216-BD26-C1D2A3B3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6A547-CF4D-4D0A-BB76-0FCA5172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84F9F-9773-4629-A638-9F2BD2EB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71F6E-69FD-4228-9137-E80A72DF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38C54-EB22-4236-8638-DE19D5B3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B68D-3ABF-4D6C-A919-486490CD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807FD-C631-4B23-87DA-8B36CCB4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04839-11B8-4E97-8FF4-CEF0C7512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7C668-D5EA-4977-9278-2191ACEA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5F5FE-CA21-4414-81EC-7B4E62A15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A90D7-ABA1-4034-9F64-22D06E2BD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C797-509C-4090-8943-83A801B9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prstGeom prst="pie">
              <a:avLst/>
            </a:prstGeom>
            <a:solidFill>
              <a:srgbClr val="073e87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prstGeom prst="pie">
              <a:avLst/>
            </a:prstGeom>
            <a:solidFill>
              <a:srgbClr val="073e8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6e7f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5F3E-B267-4D64-A115-8D1B4A5C3DB9}" type="slidenum">
              <a:rPr b="0" lang="ru-RU" sz="1000" spc="-1" strike="noStrike">
                <a:solidFill>
                  <a:srgbClr val="c6e7f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prstGeom prst="pie">
              <a:avLst/>
            </a:prstGeom>
            <a:solidFill>
              <a:srgbClr val="073e87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prstGeom prst="pie">
              <a:avLst/>
            </a:prstGeom>
            <a:solidFill>
              <a:srgbClr val="073e8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6e7f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99B9-ED52-466C-8EDC-9575981C4B77}" type="slidenum">
              <a:rPr b="0" lang="ru-RU" sz="1000" spc="-1" strike="noStrike">
                <a:solidFill>
                  <a:srgbClr val="c6e7f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prstGeom prst="pie">
            <a:avLst/>
          </a:prstGeom>
          <a:solidFill>
            <a:srgbClr val="073e87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prstGeom prst="pie">
            <a:avLst/>
          </a:prstGeom>
          <a:solidFill>
            <a:srgbClr val="073e8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6e7f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4A47-7375-49C6-998A-FD8BD22BC36D}" type="slidenum">
              <a:rPr b="0" lang="ru-RU" sz="1000" spc="-1" strike="noStrike">
                <a:solidFill>
                  <a:srgbClr val="c6e7f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prstGeom prst="pie">
              <a:avLst/>
            </a:prstGeom>
            <a:solidFill>
              <a:srgbClr val="073e87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prstGeom prst="pie">
              <a:avLst/>
            </a:prstGeom>
            <a:solidFill>
              <a:srgbClr val="073e8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6e7f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1963-2288-40E4-892B-E310E23AE1DD}" type="slidenum">
              <a:rPr b="0" lang="ru-RU" sz="1000" spc="-1" strike="noStrike">
                <a:solidFill>
                  <a:srgbClr val="c6e7f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prstGeom prst="pie">
              <a:avLst/>
            </a:prstGeom>
            <a:solidFill>
              <a:srgbClr val="073e87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prstGeom prst="pie">
              <a:avLst/>
            </a:prstGeom>
            <a:solidFill>
              <a:srgbClr val="073e8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6e7f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3EF9-0C36-451D-B34D-861424DC314E}" type="slidenum">
              <a:rPr b="0" lang="ru-RU" sz="1000" spc="-1" strike="noStrike">
                <a:solidFill>
                  <a:srgbClr val="c6e7f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prstGeom prst="pie">
              <a:avLst/>
            </a:prstGeom>
            <a:solidFill>
              <a:srgbClr val="073e87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prstGeom prst="pie">
              <a:avLst/>
            </a:prstGeom>
            <a:solidFill>
              <a:srgbClr val="073e8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6e7f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1B0E-E1A9-4906-85BE-45498BF3FB2C}" type="slidenum">
              <a:rPr b="0" lang="ru-RU" sz="1000" spc="-1" strike="noStrike">
                <a:solidFill>
                  <a:srgbClr val="c6e7f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prstGeom prst="pie">
              <a:avLst/>
            </a:prstGeom>
            <a:solidFill>
              <a:srgbClr val="073e87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prstGeom prst="pie">
              <a:avLst/>
            </a:prstGeom>
            <a:solidFill>
              <a:srgbClr val="073e8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6e7f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c6e7f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c6e7f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A240-57AC-4F0B-862C-99F338E7239A}" type="slidenum">
              <a:rPr b="0" lang="ru-RU" sz="1000" spc="-1" strike="noStrike">
                <a:solidFill>
                  <a:srgbClr val="c6e7f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08000" y="549000"/>
            <a:ext cx="8856720" cy="316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Детско-взрослый</a:t>
            </a:r>
            <a:r>
              <a:rPr b="0" lang="en-US" sz="4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проект </a:t>
            </a:r>
            <a:br>
              <a:rPr sz="44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«Дети Великой Отечественной Войны»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0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5867280" y="4149360"/>
            <a:ext cx="3276720" cy="27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Работу выполнили:                                                                                    воспитатели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подготовительной группы «Красная шапочка»</a:t>
            </a:r>
            <a:endParaRPr b="0" lang="en-US" sz="1600" spc="-1" strike="noStrike">
              <a:solidFill>
                <a:srgbClr val="c6e7fc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Кокташева В.С., Поползина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Т.М. совместно с воспитанниками группы</a:t>
            </a:r>
            <a:endParaRPr b="0" lang="en-US" sz="1600" spc="-1" strike="noStrike">
              <a:solidFill>
                <a:srgbClr val="c6e7fc"/>
              </a:solidFill>
              <a:latin typeface="Times New Roman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c6e7fc"/>
              </a:solidFill>
              <a:latin typeface="Times New Roman"/>
            </a:endParaRPr>
          </a:p>
        </p:txBody>
      </p:sp>
      <p:pic>
        <p:nvPicPr>
          <p:cNvPr id="337" name="Содержимое 5" descr="87053.png"/>
          <p:cNvPicPr/>
          <p:nvPr/>
        </p:nvPicPr>
        <p:blipFill>
          <a:blip r:embed="rId2"/>
          <a:stretch/>
        </p:blipFill>
        <p:spPr>
          <a:xfrm>
            <a:off x="112680" y="3402000"/>
            <a:ext cx="5754600" cy="3170160"/>
          </a:xfrm>
          <a:prstGeom prst="rect">
            <a:avLst/>
          </a:prstGeom>
          <a:ln w="0">
            <a:noFill/>
          </a:ln>
        </p:spPr>
      </p:pic>
      <p:sp>
        <p:nvSpPr>
          <p:cNvPr id="338" name="Прямоугольник 4"/>
          <p:cNvSpPr/>
          <p:nvPr/>
        </p:nvSpPr>
        <p:spPr>
          <a:xfrm>
            <a:off x="2108520" y="285840"/>
            <a:ext cx="62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Constantia"/>
              </a:rPr>
              <a:t>МБДОУ «Детский сад № 5» Дельфин» 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995280" y="1714320"/>
            <a:ext cx="469116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ети войны – наши прадедушки и прабабушки. Они уже в детстве ощутили всю тяжесть войны. Многие не дождались с фронтов своих отцов и братьев и даже навсегда расстались с мамами.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 того времени прошло много лет, и мы имеем возможность видеть картинки, фотографии  происходящих событий того времени. И главное, что бы мы помнили, чего стоила им победа в жестокой войне…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Picture 4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961920" cy="961920"/>
          </a:xfrm>
          <a:prstGeom prst="rect">
            <a:avLst/>
          </a:prstGeom>
          <a:ln w="0">
            <a:noFill/>
          </a:ln>
        </p:spPr>
      </p:pic>
      <p:pic>
        <p:nvPicPr>
          <p:cNvPr id="382" name="Содержимое 7" descr="1945_50.jpg"/>
          <p:cNvPicPr/>
          <p:nvPr/>
        </p:nvPicPr>
        <p:blipFill>
          <a:blip r:embed="rId2"/>
          <a:stretch/>
        </p:blipFill>
        <p:spPr>
          <a:xfrm>
            <a:off x="322200" y="1728720"/>
            <a:ext cx="338616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338040"/>
            <a:ext cx="682956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ы всё зарисовал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4" name="Объект 6" descr="C:\Users\DNS\Downloads\рисунок о войне 3.jpg"/>
          <p:cNvPicPr/>
          <p:nvPr/>
        </p:nvPicPr>
        <p:blipFill>
          <a:blip r:embed="rId1"/>
          <a:stretch/>
        </p:blipFill>
        <p:spPr>
          <a:xfrm>
            <a:off x="5072040" y="1785960"/>
            <a:ext cx="3851280" cy="471816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8" descr="C:\Users\DNS\Downloads\рисунок о войне 2.jpg"/>
          <p:cNvPicPr/>
          <p:nvPr/>
        </p:nvPicPr>
        <p:blipFill>
          <a:blip r:embed="rId2"/>
          <a:stretch/>
        </p:blipFill>
        <p:spPr>
          <a:xfrm>
            <a:off x="214200" y="1357200"/>
            <a:ext cx="4259520" cy="2401920"/>
          </a:xfrm>
          <a:prstGeom prst="rect">
            <a:avLst/>
          </a:prstGeom>
          <a:ln w="0">
            <a:noFill/>
          </a:ln>
        </p:spPr>
      </p:pic>
      <p:pic>
        <p:nvPicPr>
          <p:cNvPr id="386" name="Рисунок 9" descr="C:\Users\DNS\Downloads\рисунок о войне 1.jpg"/>
          <p:cNvPicPr/>
          <p:nvPr/>
        </p:nvPicPr>
        <p:blipFill>
          <a:blip r:embed="rId3"/>
          <a:stretch/>
        </p:blipFill>
        <p:spPr>
          <a:xfrm>
            <a:off x="428760" y="3879720"/>
            <a:ext cx="4486320" cy="29782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5" descr="C:\Users\User\Desktop\карандаш.png"/>
          <p:cNvPicPr/>
          <p:nvPr/>
        </p:nvPicPr>
        <p:blipFill>
          <a:blip r:embed="rId4"/>
          <a:stretch/>
        </p:blipFill>
        <p:spPr>
          <a:xfrm>
            <a:off x="7500960" y="428760"/>
            <a:ext cx="14302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302760" y="1125360"/>
            <a:ext cx="8425080" cy="44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е полученные знания будем использовать в играх в «войнушку», будем героями как наши прадедушки и    прабабушки!</a:t>
            </a:r>
            <a:endParaRPr b="0" lang="en-US" sz="28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90" name="Стрелка вправо 1"/>
          <p:cNvSpPr/>
          <p:nvPr/>
        </p:nvSpPr>
        <p:spPr>
          <a:xfrm>
            <a:off x="4357800" y="3546360"/>
            <a:ext cx="3157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91" name="Содержимое 3" descr="04_warkids_80601.jpg"/>
          <p:cNvPicPr/>
          <p:nvPr/>
        </p:nvPicPr>
        <p:blipFill>
          <a:blip r:embed="rId1"/>
          <a:stretch/>
        </p:blipFill>
        <p:spPr>
          <a:xfrm>
            <a:off x="468360" y="2492280"/>
            <a:ext cx="3743280" cy="396108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7" descr="C:\Users\DNS\Downloads\дети играют в войнушку.jpg"/>
          <p:cNvPicPr/>
          <p:nvPr/>
        </p:nvPicPr>
        <p:blipFill>
          <a:blip r:embed="rId2"/>
          <a:stretch/>
        </p:blipFill>
        <p:spPr>
          <a:xfrm>
            <a:off x="4761000" y="2852640"/>
            <a:ext cx="396720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323640" y="260280"/>
            <a:ext cx="84042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Спасибо </a:t>
            </a:r>
            <a:endParaRPr b="0" lang="en-US" sz="6000" spc="-1" strike="noStrike">
              <a:solidFill>
                <a:srgbClr val="c6e7f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</a:rPr>
              <a:t>за внимание!!!</a:t>
            </a:r>
            <a:endParaRPr b="0" lang="en-US" sz="6000" spc="-1" strike="noStrike">
              <a:solidFill>
                <a:srgbClr val="c6e7fc"/>
              </a:solidFill>
              <a:latin typeface="Times New Roman"/>
            </a:endParaRPr>
          </a:p>
        </p:txBody>
      </p:sp>
      <p:pic>
        <p:nvPicPr>
          <p:cNvPr id="394" name="Содержимое 3" descr="01_warkids_52996.jpg"/>
          <p:cNvPicPr/>
          <p:nvPr/>
        </p:nvPicPr>
        <p:blipFill>
          <a:blip r:embed="rId1"/>
          <a:stretch/>
        </p:blipFill>
        <p:spPr>
          <a:xfrm>
            <a:off x="2795760" y="2478240"/>
            <a:ext cx="594360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1042920" y="1603080"/>
            <a:ext cx="740736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и: 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5bd07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брать информацию о том,  как дети помогали в войну взрослым;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5bd07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знать, кто они – «дети войны»?;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5bd07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помощью взрослых оформить презентацию нашей работы.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5bd07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езультат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чить новые знания о жизни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тей в войну и создать выставку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ь нашей работы в том, чтобы узнать, как жили дети во время вой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Содержимое 3" descr="06_warkids_46561.jpg"/>
          <p:cNvPicPr/>
          <p:nvPr/>
        </p:nvPicPr>
        <p:blipFill>
          <a:blip r:embed="rId1"/>
          <a:stretch/>
        </p:blipFill>
        <p:spPr>
          <a:xfrm>
            <a:off x="5580000" y="3789360"/>
            <a:ext cx="3456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91520" cy="122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ипотеза: каждый ребёнок, переживший войну – герой. Война исковеркала их детство и наложила отпечаток на всю жиз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Picture 5" descr="C:\Users\User\Desktop\iвопрос.jpg"/>
          <p:cNvPicPr/>
          <p:nvPr/>
        </p:nvPicPr>
        <p:blipFill>
          <a:blip r:embed="rId1"/>
          <a:stretch/>
        </p:blipFill>
        <p:spPr>
          <a:xfrm>
            <a:off x="7451640" y="146196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344" name="Содержимое 3" descr="x_a51de3c1.jpg"/>
          <p:cNvPicPr/>
          <p:nvPr/>
        </p:nvPicPr>
        <p:blipFill>
          <a:blip r:embed="rId2"/>
          <a:stretch/>
        </p:blipFill>
        <p:spPr>
          <a:xfrm>
            <a:off x="539640" y="2133720"/>
            <a:ext cx="7272360" cy="43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мы можем об этом узнать?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1185480" y="1547280"/>
            <a:ext cx="70880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7" name="Picture 2" descr="C:\Users\User\Desktop\9.gif"/>
          <p:cNvPicPr/>
          <p:nvPr/>
        </p:nvPicPr>
        <p:blipFill>
          <a:blip r:embed="rId1"/>
          <a:stretch/>
        </p:blipFill>
        <p:spPr>
          <a:xfrm>
            <a:off x="685800" y="1547640"/>
            <a:ext cx="820728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лан сбора информац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176480" y="1657080"/>
            <a:ext cx="7200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2000" spc="-1" strike="noStrike">
              <a:solidFill>
                <a:srgbClr val="c6e7fc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читать в книгах</a:t>
            </a:r>
            <a:endParaRPr b="0" lang="en-US" sz="1800" spc="-1" strike="noStrike">
              <a:solidFill>
                <a:srgbClr val="c6e7fc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1800" spc="-1" strike="noStrike">
              <a:solidFill>
                <a:srgbClr val="c6e7f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росить у взрослого</a:t>
            </a:r>
            <a:endParaRPr b="0" lang="en-US" sz="1800" spc="-1" strike="noStrike">
              <a:solidFill>
                <a:srgbClr val="c6e7fc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етить библиотеку</a:t>
            </a:r>
            <a:endParaRPr b="0" lang="en-US" sz="1800" spc="-1" strike="noStrike">
              <a:solidFill>
                <a:srgbClr val="c6e7fc"/>
              </a:solidFill>
              <a:latin typeface="Times New Roman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252360" y="1544760"/>
            <a:ext cx="1728720" cy="15127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3" descr="C:\Users\User\Desktop\iвос.jpg"/>
          <p:cNvPicPr/>
          <p:nvPr/>
        </p:nvPicPr>
        <p:blipFill>
          <a:blip r:embed="rId2"/>
          <a:stretch/>
        </p:blipFill>
        <p:spPr>
          <a:xfrm>
            <a:off x="395280" y="3238560"/>
            <a:ext cx="1563840" cy="1297080"/>
          </a:xfrm>
          <a:prstGeom prst="rect">
            <a:avLst/>
          </a:prstGeom>
          <a:ln w="0">
            <a:noFill/>
          </a:ln>
        </p:spPr>
      </p:pic>
      <p:sp>
        <p:nvSpPr>
          <p:cNvPr id="352" name="Штриховая стрелка вправо 5"/>
          <p:cNvSpPr/>
          <p:nvPr/>
        </p:nvSpPr>
        <p:spPr>
          <a:xfrm>
            <a:off x="2066760" y="3621240"/>
            <a:ext cx="633600" cy="484200"/>
          </a:xfrm>
          <a:prstGeom prst="pi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3" name="Штриховая стрелка вправо 6"/>
          <p:cNvSpPr/>
          <p:nvPr/>
        </p:nvSpPr>
        <p:spPr>
          <a:xfrm>
            <a:off x="2033640" y="1967040"/>
            <a:ext cx="666720" cy="484200"/>
          </a:xfrm>
          <a:prstGeom prst="pi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4" name="Штриховая стрелка вправо 7"/>
          <p:cNvSpPr/>
          <p:nvPr/>
        </p:nvSpPr>
        <p:spPr>
          <a:xfrm>
            <a:off x="2066760" y="5051520"/>
            <a:ext cx="692280" cy="484200"/>
          </a:xfrm>
          <a:prstGeom prst="pie">
            <a:avLst/>
          </a:prstGeom>
          <a:solidFill>
            <a:srgbClr val="31b6fd"/>
          </a:solidFill>
          <a:ln w="15840">
            <a:solidFill>
              <a:srgbClr val="165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355" name="Рисунок 10" descr="C:\Users\DNS\Downloads\дети в  библиотеке.jpg"/>
          <p:cNvPicPr/>
          <p:nvPr/>
        </p:nvPicPr>
        <p:blipFill>
          <a:blip r:embed="rId3"/>
          <a:stretch/>
        </p:blipFill>
        <p:spPr>
          <a:xfrm>
            <a:off x="379440" y="4856040"/>
            <a:ext cx="1579680" cy="1381320"/>
          </a:xfrm>
          <a:prstGeom prst="rect">
            <a:avLst/>
          </a:prstGeom>
          <a:ln w="0">
            <a:noFill/>
          </a:ln>
        </p:spPr>
      </p:pic>
      <p:pic>
        <p:nvPicPr>
          <p:cNvPr id="356" name="Содержимое 9" descr="09_warkids_124451.jpg"/>
          <p:cNvPicPr/>
          <p:nvPr/>
        </p:nvPicPr>
        <p:blipFill>
          <a:blip r:embed="rId4"/>
          <a:stretch/>
        </p:blipFill>
        <p:spPr>
          <a:xfrm>
            <a:off x="5580000" y="1628640"/>
            <a:ext cx="32162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ы посмотрели много кни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Picture 8" descr=""/>
          <p:cNvPicPr/>
          <p:nvPr/>
        </p:nvPicPr>
        <p:blipFill>
          <a:blip r:embed="rId1"/>
          <a:stretch/>
        </p:blipFill>
        <p:spPr>
          <a:xfrm>
            <a:off x="223920" y="420840"/>
            <a:ext cx="1206360" cy="9363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9" descr="I:\DCIM\100SSCAM\S7305713.JPG"/>
          <p:cNvPicPr/>
          <p:nvPr/>
        </p:nvPicPr>
        <p:blipFill>
          <a:blip r:embed="rId2"/>
          <a:stretch/>
        </p:blipFill>
        <p:spPr>
          <a:xfrm>
            <a:off x="2725560" y="1971720"/>
            <a:ext cx="3168720" cy="2427120"/>
          </a:xfrm>
          <a:prstGeom prst="rect">
            <a:avLst/>
          </a:prstGeom>
          <a:ln w="0">
            <a:noFill/>
          </a:ln>
        </p:spPr>
      </p:pic>
      <p:pic>
        <p:nvPicPr>
          <p:cNvPr id="360" name="Содержимое 3" descr="01_warkids_52996.jpg"/>
          <p:cNvPicPr/>
          <p:nvPr/>
        </p:nvPicPr>
        <p:blipFill>
          <a:blip r:embed="rId3"/>
          <a:stretch/>
        </p:blipFill>
        <p:spPr>
          <a:xfrm>
            <a:off x="3056040" y="4468680"/>
            <a:ext cx="2814480" cy="2386080"/>
          </a:xfrm>
          <a:prstGeom prst="rect">
            <a:avLst/>
          </a:prstGeom>
          <a:ln w="0">
            <a:noFill/>
          </a:ln>
        </p:spPr>
      </p:pic>
      <p:pic>
        <p:nvPicPr>
          <p:cNvPr id="361" name="Содержимое 6" descr="02_warkids_48245.jpg"/>
          <p:cNvPicPr/>
          <p:nvPr/>
        </p:nvPicPr>
        <p:blipFill>
          <a:blip r:embed="rId4"/>
          <a:stretch/>
        </p:blipFill>
        <p:spPr>
          <a:xfrm>
            <a:off x="5745240" y="4398840"/>
            <a:ext cx="3365280" cy="2173320"/>
          </a:xfrm>
          <a:prstGeom prst="rect">
            <a:avLst/>
          </a:prstGeom>
          <a:ln w="0">
            <a:noFill/>
          </a:ln>
        </p:spPr>
      </p:pic>
      <p:pic>
        <p:nvPicPr>
          <p:cNvPr id="362" name="Содержимое 3" descr="1255800608_0_175a7_860e9702_xl.jpg"/>
          <p:cNvPicPr/>
          <p:nvPr/>
        </p:nvPicPr>
        <p:blipFill>
          <a:blip r:embed="rId5"/>
          <a:stretch/>
        </p:blipFill>
        <p:spPr>
          <a:xfrm>
            <a:off x="511200" y="4121280"/>
            <a:ext cx="3008160" cy="2620800"/>
          </a:xfrm>
          <a:prstGeom prst="rect">
            <a:avLst/>
          </a:prstGeom>
          <a:ln w="0">
            <a:noFill/>
          </a:ln>
        </p:spPr>
      </p:pic>
      <p:pic>
        <p:nvPicPr>
          <p:cNvPr id="363" name="Содержимое 3" descr="20_warkids_66619.jpg"/>
          <p:cNvPicPr/>
          <p:nvPr/>
        </p:nvPicPr>
        <p:blipFill>
          <a:blip r:embed="rId6"/>
          <a:stretch/>
        </p:blipFill>
        <p:spPr>
          <a:xfrm>
            <a:off x="219240" y="1425600"/>
            <a:ext cx="2836800" cy="2278080"/>
          </a:xfrm>
          <a:prstGeom prst="rect">
            <a:avLst/>
          </a:prstGeom>
          <a:ln w="0">
            <a:noFill/>
          </a:ln>
        </p:spPr>
      </p:pic>
      <p:pic>
        <p:nvPicPr>
          <p:cNvPr id="364" name="Содержимое 9" descr="75552.jpg"/>
          <p:cNvPicPr/>
          <p:nvPr/>
        </p:nvPicPr>
        <p:blipFill>
          <a:blip r:embed="rId7"/>
          <a:stretch/>
        </p:blipFill>
        <p:spPr>
          <a:xfrm>
            <a:off x="5745240" y="1527120"/>
            <a:ext cx="2671560" cy="3011400"/>
          </a:xfrm>
          <a:prstGeom prst="rect">
            <a:avLst/>
          </a:prstGeom>
          <a:ln w="0">
            <a:noFill/>
          </a:ln>
        </p:spPr>
      </p:pic>
      <p:pic>
        <p:nvPicPr>
          <p:cNvPr id="365" name="Содержимое 10" descr="380102.jpg"/>
          <p:cNvPicPr/>
          <p:nvPr/>
        </p:nvPicPr>
        <p:blipFill>
          <a:blip r:embed="rId8"/>
          <a:stretch/>
        </p:blipFill>
        <p:spPr>
          <a:xfrm>
            <a:off x="101520" y="2678040"/>
            <a:ext cx="194652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росили у взрослог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2195280" y="1844640"/>
            <a:ext cx="4537080" cy="34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8" name="Picture 3" descr="C:\Users\User\Desktop\iвос.jpg"/>
          <p:cNvPicPr/>
          <p:nvPr/>
        </p:nvPicPr>
        <p:blipFill>
          <a:blip r:embed="rId1"/>
          <a:stretch/>
        </p:blipFill>
        <p:spPr>
          <a:xfrm>
            <a:off x="539640" y="907920"/>
            <a:ext cx="1871640" cy="1297080"/>
          </a:xfrm>
          <a:prstGeom prst="rect">
            <a:avLst/>
          </a:prstGeom>
          <a:ln w="0">
            <a:noFill/>
          </a:ln>
        </p:spPr>
      </p:pic>
      <p:pic>
        <p:nvPicPr>
          <p:cNvPr id="369" name="Рисунок 5" descr="C:\Users\DNS\Downloads\спросили у взрослого.jpg"/>
          <p:cNvPicPr/>
          <p:nvPr/>
        </p:nvPicPr>
        <p:blipFill>
          <a:blip r:embed="rId2"/>
          <a:stretch/>
        </p:blipFill>
        <p:spPr>
          <a:xfrm>
            <a:off x="1908000" y="1844640"/>
            <a:ext cx="671364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5" descr="I:\DCIM\100SSCAM\S7305644.JPG"/>
          <p:cNvPicPr/>
          <p:nvPr/>
        </p:nvPicPr>
        <p:blipFill>
          <a:blip r:embed="rId1"/>
          <a:stretch/>
        </p:blipFill>
        <p:spPr>
          <a:xfrm>
            <a:off x="1547640" y="4076640"/>
            <a:ext cx="2376720" cy="7923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" descr="I:\DCIM\100SSCAM\S7305645.JPG"/>
          <p:cNvPicPr/>
          <p:nvPr/>
        </p:nvPicPr>
        <p:blipFill>
          <a:blip r:embed="rId2"/>
          <a:stretch/>
        </p:blipFill>
        <p:spPr>
          <a:xfrm>
            <a:off x="5076720" y="3284640"/>
            <a:ext cx="2374920" cy="26654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C:\Users\User\Desktop\i88.jpg"/>
          <p:cNvPicPr/>
          <p:nvPr/>
        </p:nvPicPr>
        <p:blipFill>
          <a:blip r:embed="rId3"/>
          <a:stretch/>
        </p:blipFill>
        <p:spPr>
          <a:xfrm>
            <a:off x="395280" y="404640"/>
            <a:ext cx="1440000" cy="107964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ходили в библиотек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4" name="Рисунок 9" descr="C:\Users\DNS\Downloads\дети в  библиотеке.jpg"/>
          <p:cNvPicPr/>
          <p:nvPr/>
        </p:nvPicPr>
        <p:blipFill>
          <a:blip r:embed="rId4"/>
          <a:stretch/>
        </p:blipFill>
        <p:spPr>
          <a:xfrm>
            <a:off x="169920" y="100080"/>
            <a:ext cx="1665360" cy="1490760"/>
          </a:xfrm>
          <a:prstGeom prst="rect">
            <a:avLst/>
          </a:prstGeom>
          <a:ln w="0">
            <a:noFill/>
          </a:ln>
        </p:spPr>
      </p:pic>
      <p:pic>
        <p:nvPicPr>
          <p:cNvPr id="375" name="Объект 11" descr="C:\Users\DNS\Downloads\дети сходили в библ.jpg"/>
          <p:cNvPicPr/>
          <p:nvPr/>
        </p:nvPicPr>
        <p:blipFill>
          <a:blip r:embed="rId5"/>
          <a:stretch/>
        </p:blipFill>
        <p:spPr>
          <a:xfrm>
            <a:off x="971640" y="1789200"/>
            <a:ext cx="684036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6840" y="1341360"/>
            <a:ext cx="800244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ногие дети вместе со взрослыми воевали на передовой и уходили в партизанские отряды, становясь настоящими героями. Они ценой своей жизни собирали ценные сведения, взрывали склады с боеприпасами и продовольствием. Уничтожали вражеские поезда, немецких солдат и офицеров. Среди них сыны полка, орлята, пионеры-герои, чье детство опалила война.</a:t>
            </a:r>
            <a:endParaRPr b="0" lang="en-US" sz="2400" spc="-1" strike="noStrike">
              <a:solidFill>
                <a:srgbClr val="c6e7fc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 вот что мы узнал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" name="Содержимое 3" descr="10_warkids_61083.jpg"/>
          <p:cNvPicPr/>
          <p:nvPr/>
        </p:nvPicPr>
        <p:blipFill>
          <a:blip r:embed="rId1"/>
          <a:stretch/>
        </p:blipFill>
        <p:spPr>
          <a:xfrm>
            <a:off x="5148360" y="4437000"/>
            <a:ext cx="3744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4T11:33:23Z</dcterms:created>
  <dc:creator>User</dc:creator>
  <dc:description/>
  <dc:language>en-US</dc:language>
  <cp:lastModifiedBy>Admin</cp:lastModifiedBy>
  <dcterms:modified xsi:type="dcterms:W3CDTF">2024-01-07T15:02:27Z</dcterms:modified>
  <cp:revision>58</cp:revision>
  <dc:subject/>
  <dc:title>Презентация PowerPoint</dc:title>
</cp:coreProperties>
</file>