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3.jpeg" ContentType="image/jpeg"/>
  <Override PartName="/ppt/media/image21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6.png" ContentType="image/png"/>
  <Override PartName="/ppt/media/image32.jpeg" ContentType="image/jpeg"/>
  <Override PartName="/ppt/media/image5.jpeg" ContentType="image/jpeg"/>
  <Override PartName="/ppt/media/image3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1.png" ContentType="image/png"/>
  <Override PartName="/ppt/media/image9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D53F-E109-4E21-934B-C6C0E1AAF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B4EB-EA41-4BF6-B062-CF8CDC8B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A42A-04A1-4FD7-805E-A443CA176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965B-9A04-49DC-BB89-6308BAAB5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FE9B-8AB7-4CD2-9332-C37122171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5513-404F-4216-8786-E79309C7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080EF-E4EA-4E57-8715-D9873180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23C1F-D0A7-484D-9513-363842DF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04C75-98AE-4D03-A09C-F8B21E95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8410-9647-4B7F-BB53-253D0153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1932-F430-40CD-88E1-E0573D4B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AAE7-ECC0-4C5F-9F16-938E8DB4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E001A-9B39-42BF-BDE5-62087727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0615-5125-48E4-8533-03F17AC4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75E8-0747-4E10-8B88-2F367C98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B17F-1159-4563-9170-3CF18F987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F393-7279-4DC2-A603-CBBEB5AF2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C8EFD-8B0F-49B2-A5FD-8A66B82CF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2989F-ABD0-45F9-B7F2-C1068DDB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0512D-F217-4CD0-8C3A-63FCAF5B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D7A92-DC9C-448D-BC5D-EB162283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9BD78-3E20-4D85-B56F-18981823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32A9-0CDD-4910-9797-97F935C7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0DC2B-02A6-49CC-9CA2-5E66852E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8649F-4E2E-425A-8A0B-E0F867D3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BF616-6699-493C-9727-C8168847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E5288-B33D-4CDB-8838-0B880623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B10AD-F21A-4BBE-BF35-3D0441D2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8E28B-0B0C-4C00-A230-6D8E2D834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4F7C6-E4B0-49E5-ABCB-22AA8E878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A2DA7-4DA8-4D78-97A9-E7FD6CE9C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7644F-0E41-4F12-9439-58D0BE25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869A1-4994-4AA5-B4CF-F8150691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AFFC-74D4-418E-8119-6DBB025D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C57AC-90F2-4EFC-AE13-F5932C8B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A3405-A5D2-42E5-8232-CD3BEC70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0A5BB-745D-4A19-8420-B63B2A1B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6D974-6345-45B5-A420-40A6DE78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6B128-40A5-4F27-9FE6-9918E129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020D7-F80F-4C80-BAA2-FEACA22A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FC207-B808-46DF-AA37-423B3121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344CA-FC48-4B4D-8EA5-ADC1BAB6B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1C37D-B0A7-4C3A-9831-F28067086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5F828-569A-479D-962C-4E05DF979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83B9-D5B5-47D6-AE8B-30E2B18E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E9EEF-4B15-418B-88BF-E0EB7E4E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4D10E-56D4-4059-A2C5-D4307C2F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8E349-D675-4231-A22F-10A9F70C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0441E-81C5-4B77-A754-CD4BA603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A7C7F-F575-4E4F-8857-0C41ABC3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F49E2-38BA-4EB5-B485-AC64210D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79FEA-977E-4348-B3DA-CAB4854F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923AB-F5DE-4FD8-8736-0A5D3E1D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0D874-4672-44EC-AEBD-5FEA4703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3268E-700C-4B17-A83B-121622A70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F089-D843-4C10-8708-D29D78BC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39713-3AB4-4B9C-946F-A9448B170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1DE99-CDB6-4CC5-981F-189987AE4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45F2D-93E8-45CC-95B5-8273659D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A9345-ACFE-43FF-B101-6198CC64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49BC9-7BC9-4F4B-BCAB-12550A74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5DD05-AB25-4E78-9DB4-E12D31CF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9A8F9-04ED-41B7-A0C6-9DF4A6D4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B7AC5-E3F2-4963-B4CD-53CDFAB6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70E8C-197E-4FFE-A539-8615D14A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9B57C-12EE-4159-8008-14110763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883E-B0DC-4ED0-9E26-FA6A3B62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6F5EC-75F8-45C0-B4E4-90E7B025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338E2-FB87-4D1B-BA57-E7C033DAA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B7FD4-5C74-4807-AB60-EC7B70B26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4D1CC-A196-47E9-9F30-04361C0C7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399E5-BEA3-415D-8F6F-135EBA3C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5A6D3-82A3-4581-B803-5699F1A4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B876D-6D7D-4AA6-8A19-70F034B6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4A88D-C094-42EE-8D16-BAB385FC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BEC7D-77BF-48B8-A1D9-5513711D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B361B-59D3-4F42-82B2-F7C1FDC9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8354-B24F-4035-B3A8-C0C47138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85F89-06E2-400A-9F9B-FAFA3723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38D7F-39A9-4264-BF1E-737F8E56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1F5A9-9A83-4454-BC49-BFC907EC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ED2B3-6CBC-4F6C-A38F-EAC8B4957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4A8D3-C8B6-4AFC-B479-D921C4A30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CA7F-6783-4410-9B8F-3417F7CA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prstGeom prst="pie">
              <a:avLst/>
            </a:prstGeom>
            <a:solidFill>
              <a:srgbClr val="073e87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prstGeom prst="pie">
              <a:avLst/>
            </a:prstGeom>
            <a:solidFill>
              <a:srgbClr val="073e8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6e7f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3A9E-E518-4CFF-A371-5CD070A84447}" type="slidenum">
              <a:rPr b="0" lang="ru-RU" sz="1000" spc="-1" strike="noStrike">
                <a:solidFill>
                  <a:srgbClr val="c6e7f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prstGeom prst="pie">
              <a:avLst/>
            </a:prstGeom>
            <a:solidFill>
              <a:srgbClr val="073e87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prstGeom prst="pie">
              <a:avLst/>
            </a:prstGeom>
            <a:solidFill>
              <a:srgbClr val="073e8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6e7f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B9A3-B2D5-4458-B64D-508D7E2A5216}" type="slidenum">
              <a:rPr b="0" lang="ru-RU" sz="1000" spc="-1" strike="noStrike">
                <a:solidFill>
                  <a:srgbClr val="c6e7f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prstGeom prst="pie">
            <a:avLst/>
          </a:prstGeom>
          <a:solidFill>
            <a:srgbClr val="073e87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prstGeom prst="pie">
            <a:avLst/>
          </a:prstGeom>
          <a:solidFill>
            <a:srgbClr val="073e8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6e7f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C723-274E-48FB-B8F0-DECFF95A7883}" type="slidenum">
              <a:rPr b="0" lang="ru-RU" sz="1000" spc="-1" strike="noStrike">
                <a:solidFill>
                  <a:srgbClr val="c6e7f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prstGeom prst="pie">
              <a:avLst/>
            </a:prstGeom>
            <a:solidFill>
              <a:srgbClr val="073e87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prstGeom prst="pie">
              <a:avLst/>
            </a:prstGeom>
            <a:solidFill>
              <a:srgbClr val="073e8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6e7f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0A3C-7C7E-4F12-BCC1-A8FDA1BE1F52}" type="slidenum">
              <a:rPr b="0" lang="ru-RU" sz="1000" spc="-1" strike="noStrike">
                <a:solidFill>
                  <a:srgbClr val="c6e7f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prstGeom prst="pie">
              <a:avLst/>
            </a:prstGeom>
            <a:solidFill>
              <a:srgbClr val="073e87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prstGeom prst="pie">
              <a:avLst/>
            </a:prstGeom>
            <a:solidFill>
              <a:srgbClr val="073e8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6e7f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3878-7D98-47C8-BE20-7FA735AE9026}" type="slidenum">
              <a:rPr b="0" lang="ru-RU" sz="1000" spc="-1" strike="noStrike">
                <a:solidFill>
                  <a:srgbClr val="c6e7f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prstGeom prst="pie">
              <a:avLst/>
            </a:prstGeom>
            <a:solidFill>
              <a:srgbClr val="073e87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prstGeom prst="pie">
              <a:avLst/>
            </a:prstGeom>
            <a:solidFill>
              <a:srgbClr val="073e8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6e7f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6E57-203F-40DA-87AE-20E248AA8DB1}" type="slidenum">
              <a:rPr b="0" lang="ru-RU" sz="1000" spc="-1" strike="noStrike">
                <a:solidFill>
                  <a:srgbClr val="c6e7f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prstGeom prst="pie">
              <a:avLst/>
            </a:prstGeom>
            <a:solidFill>
              <a:srgbClr val="073e87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prstGeom prst="pie">
              <a:avLst/>
            </a:prstGeom>
            <a:solidFill>
              <a:srgbClr val="073e8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6e7f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A09F-45F7-465D-BD36-06F356217788}" type="slidenum">
              <a:rPr b="0" lang="ru-RU" sz="1000" spc="-1" strike="noStrike">
                <a:solidFill>
                  <a:srgbClr val="c6e7f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8000" y="549000"/>
            <a:ext cx="8856720" cy="316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Детско-взрослый</a:t>
            </a: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проект </a:t>
            </a:r>
            <a:br>
              <a:rPr sz="44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«Дети Великой Отечественной Войны»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0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5867280" y="4149360"/>
            <a:ext cx="3276720" cy="27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Работу выполнили:                                                                                    воспитатели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подготовительной группы «Красная шапочка»</a:t>
            </a:r>
            <a:endParaRPr b="0" lang="en-US" sz="1600" spc="-1" strike="noStrike">
              <a:solidFill>
                <a:srgbClr val="c6e7fc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Кокташева В.С., Поползина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Т.М. совместно с воспитанниками группы</a:t>
            </a:r>
            <a:endParaRPr b="0" lang="en-US" sz="1600" spc="-1" strike="noStrike">
              <a:solidFill>
                <a:srgbClr val="c6e7fc"/>
              </a:solidFill>
              <a:latin typeface="Times New Roman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6e7fc"/>
              </a:solidFill>
              <a:latin typeface="Times New Roman"/>
            </a:endParaRPr>
          </a:p>
        </p:txBody>
      </p:sp>
      <p:pic>
        <p:nvPicPr>
          <p:cNvPr id="337" name="Содержимое 5" descr="87053.png"/>
          <p:cNvPicPr/>
          <p:nvPr/>
        </p:nvPicPr>
        <p:blipFill>
          <a:blip r:embed="rId2"/>
          <a:stretch/>
        </p:blipFill>
        <p:spPr>
          <a:xfrm>
            <a:off x="112680" y="3402000"/>
            <a:ext cx="5754600" cy="3170160"/>
          </a:xfrm>
          <a:prstGeom prst="rect">
            <a:avLst/>
          </a:prstGeom>
          <a:ln w="0">
            <a:noFill/>
          </a:ln>
        </p:spPr>
      </p:pic>
      <p:sp>
        <p:nvSpPr>
          <p:cNvPr id="338" name="Прямоугольник 4"/>
          <p:cNvSpPr/>
          <p:nvPr/>
        </p:nvSpPr>
        <p:spPr>
          <a:xfrm>
            <a:off x="2108520" y="285840"/>
            <a:ext cx="62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Constantia"/>
              </a:rPr>
              <a:t>МБДОУ «Детский сад № 5» Дельфин»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995280" y="1714320"/>
            <a:ext cx="469116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ти войны – наши прадедушки и прабабушки. Они уже в детстве ощутили всю тяжесть войны. Многие не дождались с фронтов своих отцов и братьев и даже навсегда расстались с мамами.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 того времени прошло много лет, и мы имеем возможность видеть картинки, фотографии  происходящих событий того времени. И главное, что бы мы помнили, чего стоила им победа в жестокой войне…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Picture 4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961920" cy="961920"/>
          </a:xfrm>
          <a:prstGeom prst="rect">
            <a:avLst/>
          </a:prstGeom>
          <a:ln w="0">
            <a:noFill/>
          </a:ln>
        </p:spPr>
      </p:pic>
      <p:pic>
        <p:nvPicPr>
          <p:cNvPr id="382" name="Содержимое 7" descr="1945_50.jpg"/>
          <p:cNvPicPr/>
          <p:nvPr/>
        </p:nvPicPr>
        <p:blipFill>
          <a:blip r:embed="rId2"/>
          <a:stretch/>
        </p:blipFill>
        <p:spPr>
          <a:xfrm>
            <a:off x="322200" y="1728720"/>
            <a:ext cx="338616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338040"/>
            <a:ext cx="682956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ы всё зарисовал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4" name="Объект 6" descr="C:\Users\DNS\Downloads\рисунок о войне 3.jpg"/>
          <p:cNvPicPr/>
          <p:nvPr/>
        </p:nvPicPr>
        <p:blipFill>
          <a:blip r:embed="rId1"/>
          <a:stretch/>
        </p:blipFill>
        <p:spPr>
          <a:xfrm>
            <a:off x="5072040" y="1785960"/>
            <a:ext cx="3851280" cy="471816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8" descr="C:\Users\DNS\Downloads\рисунок о войне 2.jpg"/>
          <p:cNvPicPr/>
          <p:nvPr/>
        </p:nvPicPr>
        <p:blipFill>
          <a:blip r:embed="rId2"/>
          <a:stretch/>
        </p:blipFill>
        <p:spPr>
          <a:xfrm>
            <a:off x="214200" y="1357200"/>
            <a:ext cx="4259520" cy="2401920"/>
          </a:xfrm>
          <a:prstGeom prst="rect">
            <a:avLst/>
          </a:prstGeom>
          <a:ln w="0">
            <a:noFill/>
          </a:ln>
        </p:spPr>
      </p:pic>
      <p:pic>
        <p:nvPicPr>
          <p:cNvPr id="386" name="Рисунок 9" descr="C:\Users\DNS\Downloads\рисунок о войне 1.jpg"/>
          <p:cNvPicPr/>
          <p:nvPr/>
        </p:nvPicPr>
        <p:blipFill>
          <a:blip r:embed="rId3"/>
          <a:stretch/>
        </p:blipFill>
        <p:spPr>
          <a:xfrm>
            <a:off x="428760" y="3879720"/>
            <a:ext cx="4486320" cy="29782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5" descr="C:\Users\User\Desktop\карандаш.png"/>
          <p:cNvPicPr/>
          <p:nvPr/>
        </p:nvPicPr>
        <p:blipFill>
          <a:blip r:embed="rId4"/>
          <a:stretch/>
        </p:blipFill>
        <p:spPr>
          <a:xfrm>
            <a:off x="7500960" y="428760"/>
            <a:ext cx="14302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302760" y="1125360"/>
            <a:ext cx="8425080" cy="44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е полученные знания будем использовать в играх в «войнушку», будем героями как наши прадедушки и    прабабушки!</a:t>
            </a:r>
            <a:endParaRPr b="0" lang="en-US" sz="28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90" name="Стрелка вправо 1"/>
          <p:cNvSpPr/>
          <p:nvPr/>
        </p:nvSpPr>
        <p:spPr>
          <a:xfrm>
            <a:off x="4357800" y="3546360"/>
            <a:ext cx="315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91" name="Содержимое 3" descr="04_warkids_80601.jpg"/>
          <p:cNvPicPr/>
          <p:nvPr/>
        </p:nvPicPr>
        <p:blipFill>
          <a:blip r:embed="rId1"/>
          <a:stretch/>
        </p:blipFill>
        <p:spPr>
          <a:xfrm>
            <a:off x="468360" y="2492280"/>
            <a:ext cx="3743280" cy="396108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7" descr="C:\Users\DNS\Downloads\дети играют в войнушку.jpg"/>
          <p:cNvPicPr/>
          <p:nvPr/>
        </p:nvPicPr>
        <p:blipFill>
          <a:blip r:embed="rId2"/>
          <a:stretch/>
        </p:blipFill>
        <p:spPr>
          <a:xfrm>
            <a:off x="4761000" y="2852640"/>
            <a:ext cx="39672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323640" y="260280"/>
            <a:ext cx="84042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Спасибо </a:t>
            </a:r>
            <a:endParaRPr b="0" lang="en-US" sz="6000" spc="-1" strike="noStrike">
              <a:solidFill>
                <a:srgbClr val="c6e7f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за внимание!!!</a:t>
            </a:r>
            <a:endParaRPr b="0" lang="en-US" sz="6000" spc="-1" strike="noStrike">
              <a:solidFill>
                <a:srgbClr val="c6e7fc"/>
              </a:solidFill>
              <a:latin typeface="Times New Roman"/>
            </a:endParaRPr>
          </a:p>
        </p:txBody>
      </p:sp>
      <p:pic>
        <p:nvPicPr>
          <p:cNvPr id="394" name="Содержимое 3" descr="01_warkids_52996.jpg"/>
          <p:cNvPicPr/>
          <p:nvPr/>
        </p:nvPicPr>
        <p:blipFill>
          <a:blip r:embed="rId1"/>
          <a:stretch/>
        </p:blipFill>
        <p:spPr>
          <a:xfrm>
            <a:off x="2795760" y="2478240"/>
            <a:ext cx="594360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1042920" y="1603080"/>
            <a:ext cx="740736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и: 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5bd07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брать информацию о том,  как дети помогали в войну взрослым;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5bd07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знать, кто они – «дети войны»?;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5bd07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помощью взрослых оформить презентацию нашей работы.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5bd07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зультат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чить новые знания о жизни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тей в войну и создать выставку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ь нашей работы в том, чтобы узнать, как жили дети во время вой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Содержимое 3" descr="06_warkids_46561.jpg"/>
          <p:cNvPicPr/>
          <p:nvPr/>
        </p:nvPicPr>
        <p:blipFill>
          <a:blip r:embed="rId1"/>
          <a:stretch/>
        </p:blipFill>
        <p:spPr>
          <a:xfrm>
            <a:off x="5580000" y="3789360"/>
            <a:ext cx="3456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91520" cy="122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потеза: каждый ребёнок, переживший войну – герой. Война исковеркала их детство и наложила отпечаток на всю жиз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Picture 5" descr="C:\Users\User\Desktop\iвопрос.jpg"/>
          <p:cNvPicPr/>
          <p:nvPr/>
        </p:nvPicPr>
        <p:blipFill>
          <a:blip r:embed="rId1"/>
          <a:stretch/>
        </p:blipFill>
        <p:spPr>
          <a:xfrm>
            <a:off x="7451640" y="14619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344" name="Содержимое 3" descr="x_a51de3c1.jpg"/>
          <p:cNvPicPr/>
          <p:nvPr/>
        </p:nvPicPr>
        <p:blipFill>
          <a:blip r:embed="rId2"/>
          <a:stretch/>
        </p:blipFill>
        <p:spPr>
          <a:xfrm>
            <a:off x="539640" y="2133720"/>
            <a:ext cx="727236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мы можем об этом узнать?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185480" y="1547280"/>
            <a:ext cx="70880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7" name="Picture 2" descr="C:\Users\User\Desktop\9.gif"/>
          <p:cNvPicPr/>
          <p:nvPr/>
        </p:nvPicPr>
        <p:blipFill>
          <a:blip r:embed="rId1"/>
          <a:stretch/>
        </p:blipFill>
        <p:spPr>
          <a:xfrm>
            <a:off x="685800" y="1547640"/>
            <a:ext cx="820728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н сбора информац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176480" y="1657080"/>
            <a:ext cx="7200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2000" spc="-1" strike="noStrike">
              <a:solidFill>
                <a:srgbClr val="c6e7fc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читать в книгах</a:t>
            </a:r>
            <a:endParaRPr b="0" lang="en-US" sz="1800" spc="-1" strike="noStrike">
              <a:solidFill>
                <a:srgbClr val="c6e7fc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1800" spc="-1" strike="noStrike">
              <a:solidFill>
                <a:srgbClr val="c6e7f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росить у взрослого</a:t>
            </a:r>
            <a:endParaRPr b="0" lang="en-US" sz="1800" spc="-1" strike="noStrike">
              <a:solidFill>
                <a:srgbClr val="c6e7fc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етить библиотеку</a:t>
            </a:r>
            <a:endParaRPr b="0" lang="en-US" sz="1800" spc="-1" strike="noStrike">
              <a:solidFill>
                <a:srgbClr val="c6e7fc"/>
              </a:solidFill>
              <a:latin typeface="Times New Roman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252360" y="1544760"/>
            <a:ext cx="1728720" cy="15127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" descr="C:\Users\User\Desktop\iвос.jpg"/>
          <p:cNvPicPr/>
          <p:nvPr/>
        </p:nvPicPr>
        <p:blipFill>
          <a:blip r:embed="rId2"/>
          <a:stretch/>
        </p:blipFill>
        <p:spPr>
          <a:xfrm>
            <a:off x="395280" y="3238560"/>
            <a:ext cx="1563840" cy="1297080"/>
          </a:xfrm>
          <a:prstGeom prst="rect">
            <a:avLst/>
          </a:prstGeom>
          <a:ln w="0">
            <a:noFill/>
          </a:ln>
        </p:spPr>
      </p:pic>
      <p:sp>
        <p:nvSpPr>
          <p:cNvPr id="352" name="Штриховая стрелка вправо 5"/>
          <p:cNvSpPr/>
          <p:nvPr/>
        </p:nvSpPr>
        <p:spPr>
          <a:xfrm>
            <a:off x="2066760" y="3621240"/>
            <a:ext cx="633600" cy="484200"/>
          </a:xfrm>
          <a:prstGeom prst="pi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3" name="Штриховая стрелка вправо 6"/>
          <p:cNvSpPr/>
          <p:nvPr/>
        </p:nvSpPr>
        <p:spPr>
          <a:xfrm>
            <a:off x="2033640" y="1967040"/>
            <a:ext cx="666720" cy="484200"/>
          </a:xfrm>
          <a:prstGeom prst="pi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4" name="Штриховая стрелка вправо 7"/>
          <p:cNvSpPr/>
          <p:nvPr/>
        </p:nvSpPr>
        <p:spPr>
          <a:xfrm>
            <a:off x="2066760" y="5051520"/>
            <a:ext cx="692280" cy="484200"/>
          </a:xfrm>
          <a:prstGeom prst="pi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55" name="Рисунок 10" descr="C:\Users\DNS\Downloads\дети в  библиотеке.jpg"/>
          <p:cNvPicPr/>
          <p:nvPr/>
        </p:nvPicPr>
        <p:blipFill>
          <a:blip r:embed="rId3"/>
          <a:stretch/>
        </p:blipFill>
        <p:spPr>
          <a:xfrm>
            <a:off x="379440" y="4856040"/>
            <a:ext cx="1579680" cy="1381320"/>
          </a:xfrm>
          <a:prstGeom prst="rect">
            <a:avLst/>
          </a:prstGeom>
          <a:ln w="0">
            <a:noFill/>
          </a:ln>
        </p:spPr>
      </p:pic>
      <p:pic>
        <p:nvPicPr>
          <p:cNvPr id="356" name="Содержимое 9" descr="09_warkids_124451.jpg"/>
          <p:cNvPicPr/>
          <p:nvPr/>
        </p:nvPicPr>
        <p:blipFill>
          <a:blip r:embed="rId4"/>
          <a:stretch/>
        </p:blipFill>
        <p:spPr>
          <a:xfrm>
            <a:off x="5580000" y="1628640"/>
            <a:ext cx="32162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ы посмотрели много кни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Picture 8" descr=""/>
          <p:cNvPicPr/>
          <p:nvPr/>
        </p:nvPicPr>
        <p:blipFill>
          <a:blip r:embed="rId1"/>
          <a:stretch/>
        </p:blipFill>
        <p:spPr>
          <a:xfrm>
            <a:off x="223920" y="420840"/>
            <a:ext cx="1206360" cy="9363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9" descr="I:\DCIM\100SSCAM\S7305713.JPG"/>
          <p:cNvPicPr/>
          <p:nvPr/>
        </p:nvPicPr>
        <p:blipFill>
          <a:blip r:embed="rId2"/>
          <a:stretch/>
        </p:blipFill>
        <p:spPr>
          <a:xfrm>
            <a:off x="2725560" y="1971720"/>
            <a:ext cx="3168720" cy="2427120"/>
          </a:xfrm>
          <a:prstGeom prst="rect">
            <a:avLst/>
          </a:prstGeom>
          <a:ln w="0">
            <a:noFill/>
          </a:ln>
        </p:spPr>
      </p:pic>
      <p:pic>
        <p:nvPicPr>
          <p:cNvPr id="360" name="Содержимое 3" descr="01_warkids_52996.jpg"/>
          <p:cNvPicPr/>
          <p:nvPr/>
        </p:nvPicPr>
        <p:blipFill>
          <a:blip r:embed="rId3"/>
          <a:stretch/>
        </p:blipFill>
        <p:spPr>
          <a:xfrm>
            <a:off x="3056040" y="4468680"/>
            <a:ext cx="2814480" cy="2386080"/>
          </a:xfrm>
          <a:prstGeom prst="rect">
            <a:avLst/>
          </a:prstGeom>
          <a:ln w="0">
            <a:noFill/>
          </a:ln>
        </p:spPr>
      </p:pic>
      <p:pic>
        <p:nvPicPr>
          <p:cNvPr id="361" name="Содержимое 6" descr="02_warkids_48245.jpg"/>
          <p:cNvPicPr/>
          <p:nvPr/>
        </p:nvPicPr>
        <p:blipFill>
          <a:blip r:embed="rId4"/>
          <a:stretch/>
        </p:blipFill>
        <p:spPr>
          <a:xfrm>
            <a:off x="5745240" y="4398840"/>
            <a:ext cx="3365280" cy="2173320"/>
          </a:xfrm>
          <a:prstGeom prst="rect">
            <a:avLst/>
          </a:prstGeom>
          <a:ln w="0">
            <a:noFill/>
          </a:ln>
        </p:spPr>
      </p:pic>
      <p:pic>
        <p:nvPicPr>
          <p:cNvPr id="362" name="Содержимое 3" descr="1255800608_0_175a7_860e9702_xl.jpg"/>
          <p:cNvPicPr/>
          <p:nvPr/>
        </p:nvPicPr>
        <p:blipFill>
          <a:blip r:embed="rId5"/>
          <a:stretch/>
        </p:blipFill>
        <p:spPr>
          <a:xfrm>
            <a:off x="511200" y="4121280"/>
            <a:ext cx="3008160" cy="2620800"/>
          </a:xfrm>
          <a:prstGeom prst="rect">
            <a:avLst/>
          </a:prstGeom>
          <a:ln w="0">
            <a:noFill/>
          </a:ln>
        </p:spPr>
      </p:pic>
      <p:pic>
        <p:nvPicPr>
          <p:cNvPr id="363" name="Содержимое 3" descr="20_warkids_66619.jpg"/>
          <p:cNvPicPr/>
          <p:nvPr/>
        </p:nvPicPr>
        <p:blipFill>
          <a:blip r:embed="rId6"/>
          <a:stretch/>
        </p:blipFill>
        <p:spPr>
          <a:xfrm>
            <a:off x="219240" y="1425600"/>
            <a:ext cx="2836800" cy="2278080"/>
          </a:xfrm>
          <a:prstGeom prst="rect">
            <a:avLst/>
          </a:prstGeom>
          <a:ln w="0">
            <a:noFill/>
          </a:ln>
        </p:spPr>
      </p:pic>
      <p:pic>
        <p:nvPicPr>
          <p:cNvPr id="364" name="Содержимое 9" descr="75552.jpg"/>
          <p:cNvPicPr/>
          <p:nvPr/>
        </p:nvPicPr>
        <p:blipFill>
          <a:blip r:embed="rId7"/>
          <a:stretch/>
        </p:blipFill>
        <p:spPr>
          <a:xfrm>
            <a:off x="5745240" y="1527120"/>
            <a:ext cx="2671560" cy="3011400"/>
          </a:xfrm>
          <a:prstGeom prst="rect">
            <a:avLst/>
          </a:prstGeom>
          <a:ln w="0">
            <a:noFill/>
          </a:ln>
        </p:spPr>
      </p:pic>
      <p:pic>
        <p:nvPicPr>
          <p:cNvPr id="365" name="Содержимое 10" descr="380102.jpg"/>
          <p:cNvPicPr/>
          <p:nvPr/>
        </p:nvPicPr>
        <p:blipFill>
          <a:blip r:embed="rId8"/>
          <a:stretch/>
        </p:blipFill>
        <p:spPr>
          <a:xfrm>
            <a:off x="101520" y="2678040"/>
            <a:ext cx="194652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росили у взрослог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2195280" y="1844640"/>
            <a:ext cx="4537080" cy="34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8" name="Picture 3" descr="C:\Users\User\Desktop\iвос.jpg"/>
          <p:cNvPicPr/>
          <p:nvPr/>
        </p:nvPicPr>
        <p:blipFill>
          <a:blip r:embed="rId1"/>
          <a:stretch/>
        </p:blipFill>
        <p:spPr>
          <a:xfrm>
            <a:off x="539640" y="907920"/>
            <a:ext cx="1871640" cy="1297080"/>
          </a:xfrm>
          <a:prstGeom prst="rect">
            <a:avLst/>
          </a:prstGeom>
          <a:ln w="0">
            <a:noFill/>
          </a:ln>
        </p:spPr>
      </p:pic>
      <p:pic>
        <p:nvPicPr>
          <p:cNvPr id="369" name="Рисунок 5" descr="C:\Users\DNS\Downloads\спросили у взрослого.jpg"/>
          <p:cNvPicPr/>
          <p:nvPr/>
        </p:nvPicPr>
        <p:blipFill>
          <a:blip r:embed="rId2"/>
          <a:stretch/>
        </p:blipFill>
        <p:spPr>
          <a:xfrm>
            <a:off x="1908000" y="1844640"/>
            <a:ext cx="671364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5" descr="I:\DCIM\100SSCAM\S7305644.JPG"/>
          <p:cNvPicPr/>
          <p:nvPr/>
        </p:nvPicPr>
        <p:blipFill>
          <a:blip r:embed="rId1"/>
          <a:stretch/>
        </p:blipFill>
        <p:spPr>
          <a:xfrm>
            <a:off x="1547640" y="4076640"/>
            <a:ext cx="2376720" cy="7923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" descr="I:\DCIM\100SSCAM\S7305645.JPG"/>
          <p:cNvPicPr/>
          <p:nvPr/>
        </p:nvPicPr>
        <p:blipFill>
          <a:blip r:embed="rId2"/>
          <a:stretch/>
        </p:blipFill>
        <p:spPr>
          <a:xfrm>
            <a:off x="5076720" y="3284640"/>
            <a:ext cx="2374920" cy="26654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C:\Users\User\Desktop\i88.jpg"/>
          <p:cNvPicPr/>
          <p:nvPr/>
        </p:nvPicPr>
        <p:blipFill>
          <a:blip r:embed="rId3"/>
          <a:stretch/>
        </p:blipFill>
        <p:spPr>
          <a:xfrm>
            <a:off x="395280" y="404640"/>
            <a:ext cx="1440000" cy="107964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ходили в библиотек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4" name="Рисунок 9" descr="C:\Users\DNS\Downloads\дети в  библиотеке.jpg"/>
          <p:cNvPicPr/>
          <p:nvPr/>
        </p:nvPicPr>
        <p:blipFill>
          <a:blip r:embed="rId4"/>
          <a:stretch/>
        </p:blipFill>
        <p:spPr>
          <a:xfrm>
            <a:off x="169920" y="100080"/>
            <a:ext cx="1665360" cy="1490760"/>
          </a:xfrm>
          <a:prstGeom prst="rect">
            <a:avLst/>
          </a:prstGeom>
          <a:ln w="0">
            <a:noFill/>
          </a:ln>
        </p:spPr>
      </p:pic>
      <p:pic>
        <p:nvPicPr>
          <p:cNvPr id="375" name="Объект 11" descr="C:\Users\DNS\Downloads\дети сходили в библ.jpg"/>
          <p:cNvPicPr/>
          <p:nvPr/>
        </p:nvPicPr>
        <p:blipFill>
          <a:blip r:embed="rId5"/>
          <a:stretch/>
        </p:blipFill>
        <p:spPr>
          <a:xfrm>
            <a:off x="971640" y="1789200"/>
            <a:ext cx="684036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6840" y="1341360"/>
            <a:ext cx="800244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ногие дети вместе со взрослыми воевали на передовой и уходили в партизанские отряды, становясь настоящими героями. Они ценой своей жизни собирали ценные сведения, взрывали склады с боеприпасами и продовольствием. Уничтожали вражеские поезда, немецких солдат и офицеров. Среди них сыны полка, орлята, пионеры-герои, чье детство опалила война.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вот что мы узнал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" name="Содержимое 3" descr="10_warkids_61083.jpg"/>
          <p:cNvPicPr/>
          <p:nvPr/>
        </p:nvPicPr>
        <p:blipFill>
          <a:blip r:embed="rId1"/>
          <a:stretch/>
        </p:blipFill>
        <p:spPr>
          <a:xfrm>
            <a:off x="5148360" y="4437000"/>
            <a:ext cx="3744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4T11:33:23Z</dcterms:created>
  <dc:creator>User</dc:creator>
  <dc:description/>
  <dc:language>en-US</dc:language>
  <cp:lastModifiedBy>Admin</cp:lastModifiedBy>
  <dcterms:modified xsi:type="dcterms:W3CDTF">2024-01-07T15:02:27Z</dcterms:modified>
  <cp:revision>58</cp:revision>
  <dc:subject/>
  <dc:title>Презентация PowerPoint</dc:title>
</cp:coreProperties>
</file>