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3AF-4247-414D-8E09-51EC5BA2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7E2-C2E5-4E01-96A1-9A13263564D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7F49-950F-407B-B0DC-F4F5376EC28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E0F8-89DD-4513-A5AA-6F8FD51AF6B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1850-C644-45A2-87DC-0CD121C0160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7872-292E-4C18-860A-8512022E3BC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F20C-66DD-4A6A-8209-ED0B10C3A3F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13BC-FF6D-4226-A3FC-CF0C45E5FB3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98EA-C581-41AE-BE49-65C9F813182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F547-2B4F-48C6-B7B4-52431A5EAB8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14A-8C31-41C0-ADF9-8CD725C3C2B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FA2A-5A86-4534-8C1E-68D5D91C53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65F-FDE6-40C1-A46D-A399658855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541A-B36B-4305-A5EC-7326E3B7B50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191120" y="16761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ompany name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91120" y="685800"/>
            <a:ext cx="31240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Name of presentation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5" name="Picture 9" descr="https://cdn.azbooka.ru/cv/w1100/a0840eda-deeb-4c28-9d23-56c683d59d42.jpg"/>
          <p:cNvPicPr/>
          <p:nvPr/>
        </p:nvPicPr>
        <p:blipFill>
          <a:blip r:embed="rId1"/>
          <a:stretch/>
        </p:blipFill>
        <p:spPr>
          <a:xfrm>
            <a:off x="0" y="571680"/>
            <a:ext cx="4168800" cy="556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https://skazka62.ru/wp-content/uploads/f/8/d/f8d757983d8c85a768acb2b2071c3c14.jpeg"/>
          <p:cNvPicPr/>
          <p:nvPr/>
        </p:nvPicPr>
        <p:blipFill>
          <a:blip r:embed="rId2"/>
          <a:srcRect l="4101" t="0" r="4370" b="0"/>
          <a:stretch/>
        </p:blipFill>
        <p:spPr>
          <a:xfrm>
            <a:off x="4643280" y="214200"/>
            <a:ext cx="4256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2. Где Мишка брал алюминиевые опилки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от кастрюл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от лож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от вил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от мис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3.На что Мишка выменял ёлку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на волшебный фонар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а Друж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ни на что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калейдоскоп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4.На чем мальчики добирались до дома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на повозк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а поезд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на автомобил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пешком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        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5. Закончите фразу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Microsoft Sans Serif"/>
              </a:rPr>
              <a:t>       — </a:t>
            </a:r>
            <a:r>
              <a:rPr b="1" lang="ru-RU" sz="4400" spc="-1" strike="noStrike">
                <a:solidFill>
                  <a:srgbClr val="4d4d4d"/>
                </a:solidFill>
                <a:latin typeface="Microsoft Sans Serif"/>
              </a:rPr>
              <a:t>А вот мы сейчас посмотрим! — закричали ребята. Они расхватали все палочки, загнули проволочки крючочками и развесили их на ………. 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http://content.foto.my.mail.ru/bk/8903zy/_myphoto/h-250.jpg"/>
          <p:cNvPicPr/>
          <p:nvPr/>
        </p:nvPicPr>
        <p:blipFill>
          <a:blip r:embed="rId1"/>
          <a:stretch/>
        </p:blipFill>
        <p:spPr>
          <a:xfrm>
            <a:off x="285840" y="3071880"/>
            <a:ext cx="2786040" cy="330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s://dlyarazvitiya.ru/wp-content/uploads/2020/01/bengalskie-ogni5.jpg"/>
          <p:cNvPicPr/>
          <p:nvPr/>
        </p:nvPicPr>
        <p:blipFill>
          <a:blip r:embed="rId2"/>
          <a:stretch/>
        </p:blipFill>
        <p:spPr>
          <a:xfrm>
            <a:off x="5786280" y="0"/>
            <a:ext cx="3208320" cy="271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s://dlyarazvitiya.ru/wp-content/uploads/2020/01/bengalskie-ogni2-1.jpg"/>
          <p:cNvPicPr/>
          <p:nvPr/>
        </p:nvPicPr>
        <p:blipFill>
          <a:blip r:embed="rId3"/>
          <a:stretch/>
        </p:blipFill>
        <p:spPr>
          <a:xfrm>
            <a:off x="5857920" y="3395520"/>
            <a:ext cx="3286080" cy="346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s://img.labirint.ru/rcimg/6afc644c118357d270844d8b9ba29de7/1920x1080/comments_pic/1845/origin_8_4c712b25721ffe73246badaf3da7e89e.png?1541684660"/>
          <p:cNvPicPr/>
          <p:nvPr/>
        </p:nvPicPr>
        <p:blipFill>
          <a:blip r:embed="rId4"/>
          <a:srcRect l="53965" t="11230" r="0" b="16193"/>
          <a:stretch/>
        </p:blipFill>
        <p:spPr>
          <a:xfrm>
            <a:off x="3071880" y="1500120"/>
            <a:ext cx="3089160" cy="31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ttps://libmir.com/i/97/364697/i_201.jpg"/>
          <p:cNvPicPr/>
          <p:nvPr/>
        </p:nvPicPr>
        <p:blipFill>
          <a:blip r:embed="rId5"/>
          <a:srcRect l="16196" t="0" r="0" b="0"/>
          <a:stretch/>
        </p:blipFill>
        <p:spPr>
          <a:xfrm>
            <a:off x="428760" y="0"/>
            <a:ext cx="235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https://web-skazki.ru/preview-files/rovno-25-kilo-x-1024.jpg"/>
          <p:cNvPicPr/>
          <p:nvPr/>
        </p:nvPicPr>
        <p:blipFill>
          <a:blip r:embed="rId1"/>
          <a:stretch/>
        </p:blipFill>
        <p:spPr>
          <a:xfrm>
            <a:off x="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s://orenburgkniga.ru/wp-content/uploads/b/2/d/b2d7fb66708cfaab6f2bcc6c103cefb4.jpeg"/>
          <p:cNvPicPr/>
          <p:nvPr/>
        </p:nvPicPr>
        <p:blipFill>
          <a:blip r:embed="rId2"/>
          <a:stretch/>
        </p:blipFill>
        <p:spPr>
          <a:xfrm>
            <a:off x="2571840" y="71424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http://www.planetaskazok.ru/images/stories/dragunsky/deniskini_rasskazy/img_42.jpg"/>
          <p:cNvPicPr/>
          <p:nvPr/>
        </p:nvPicPr>
        <p:blipFill>
          <a:blip r:embed="rId3"/>
          <a:stretch/>
        </p:blipFill>
        <p:spPr>
          <a:xfrm>
            <a:off x="214200" y="3643200"/>
            <a:ext cx="4000680" cy="307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https://itexts.net/files/online_html/111696/i_039.png"/>
          <p:cNvPicPr/>
          <p:nvPr/>
        </p:nvPicPr>
        <p:blipFill>
          <a:blip r:embed="rId4"/>
          <a:stretch/>
        </p:blipFill>
        <p:spPr>
          <a:xfrm>
            <a:off x="4286160" y="3714840"/>
            <a:ext cx="4857840" cy="29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s://web-skazki.ru/preview-files/sverkhu-vniz-naiskosok-x-1024.jpg"/>
          <p:cNvPicPr/>
          <p:nvPr/>
        </p:nvPicPr>
        <p:blipFill>
          <a:blip r:embed="rId5"/>
          <a:stretch/>
        </p:blipFill>
        <p:spPr>
          <a:xfrm>
            <a:off x="6419880" y="14292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285840"/>
            <a:ext cx="6934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Zametka_Parletter"/>
              </a:rPr>
              <a:t>«Ровно 25 кило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3437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1. С кем главный герой отправился на детский праздник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С Мишкой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С Денисом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С Петькой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С Шурой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Calibri"/>
                <a:ea typeface="Calibri"/>
              </a:rPr>
              <a:t>2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. В затее, где нужно было попасть из лука в обезьяну, Денис попал в 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друг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езнакомого мальчи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тётю Дусю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дяденьку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3. Сколько весил Мишка, после того как напился ситро?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А) 24 кг 500 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Б) 25 к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В) 25 кг 500 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Г) 26 к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4 . Какой приз полагался для того, кто весит ровно 25 кг.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5 пирожных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1 кг мороженого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подписка на журнал «Мурзилка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мешок конфет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5. После выпитого ситро Денис не мог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стоя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говори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сиде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идт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1. Книга, по которой Мишка делал бенгальские огни.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«Юный Химик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«Занимательная химия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«Химия для мальчиков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«Бенгальские огни своими руками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857240" y="151920"/>
            <a:ext cx="69818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Zametka_Parletter"/>
              </a:rPr>
              <a:t>« Бенгальские огни»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5:32:57Z</dcterms:created>
  <dc:creator>Юра</dc:creator>
  <dc:description/>
  <dc:language>en-US</dc:language>
  <cp:lastModifiedBy>HP</cp:lastModifiedBy>
  <dcterms:modified xsi:type="dcterms:W3CDTF">2024-01-07T15:16:54Z</dcterms:modified>
  <cp:revision>11</cp:revision>
  <dc:subject/>
  <dc:title>Name of presentation</dc:title>
</cp:coreProperties>
</file>