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D71C-1148-404D-8E8E-4EB689D22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665A2-C943-41F1-B0A0-C1A85C2F311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53D4-36C0-4F95-8FC7-15B3E33835D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EE78-51DB-4E56-B2E5-A1F60B6EE71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7A04-162E-45F6-8A9F-E83384973C6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BC2B-8563-4055-B963-568078EF6D9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8AFD-FAE0-4456-B376-DD29D1BD3E5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A0BD-704A-4E03-9600-4545ABC9FB5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24EA-1E95-4E95-B79F-FCFDE57D0DC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FC84-5B2B-4842-BD0C-A7261000116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319B-B6B4-48A2-A279-17DE127393E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1D37-1E19-47D1-9267-25F12107604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8605-B6E1-42D9-938F-C15707416C9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44B5-D3D5-4125-B384-CAE007236355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98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13080" y="13716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666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98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13080" y="356112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52280" y="151920"/>
            <a:ext cx="86868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15360" y="356112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15360" y="13716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356112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66680" y="13716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191120" y="16761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ompany name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4191120" y="685800"/>
            <a:ext cx="312408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Name of presentation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pic>
        <p:nvPicPr>
          <p:cNvPr id="85" name="Picture 9" descr="https://cdn.azbooka.ru/cv/w1100/a0840eda-deeb-4c28-9d23-56c683d59d42.jpg"/>
          <p:cNvPicPr/>
          <p:nvPr/>
        </p:nvPicPr>
        <p:blipFill>
          <a:blip r:embed="rId1"/>
          <a:stretch/>
        </p:blipFill>
        <p:spPr>
          <a:xfrm>
            <a:off x="0" y="571680"/>
            <a:ext cx="4168800" cy="5562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https://skazka62.ru/wp-content/uploads/f/8/d/f8d757983d8c85a768acb2b2071c3c14.jpeg"/>
          <p:cNvPicPr/>
          <p:nvPr/>
        </p:nvPicPr>
        <p:blipFill>
          <a:blip r:embed="rId2"/>
          <a:srcRect l="4101" t="0" r="4370" b="0"/>
          <a:stretch/>
        </p:blipFill>
        <p:spPr>
          <a:xfrm>
            <a:off x="4643280" y="214200"/>
            <a:ext cx="4256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2. Где Мишка брал алюминиевые опилки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от кастрюл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от лож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от вил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от миск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3.На что Мишка выменял ёлку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на волшебный фонар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а Друж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ни на что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калейдоскоп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4.На чем мальчики добирались до дома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на повозк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а поезд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на автомобиле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пешком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        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5. Закончите фразу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Microsoft Sans Serif"/>
              </a:rPr>
              <a:t>       — </a:t>
            </a:r>
            <a:r>
              <a:rPr b="1" lang="ru-RU" sz="4400" spc="-1" strike="noStrike">
                <a:solidFill>
                  <a:srgbClr val="4d4d4d"/>
                </a:solidFill>
                <a:latin typeface="Microsoft Sans Serif"/>
              </a:rPr>
              <a:t>А вот мы сейчас посмотрим! — закричали ребята. Они расхватали все палочки, загнули проволочки крючочками и развесили их на ………. .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http://content.foto.my.mail.ru/bk/8903zy/_myphoto/h-250.jpg"/>
          <p:cNvPicPr/>
          <p:nvPr/>
        </p:nvPicPr>
        <p:blipFill>
          <a:blip r:embed="rId1"/>
          <a:stretch/>
        </p:blipFill>
        <p:spPr>
          <a:xfrm>
            <a:off x="285840" y="3071880"/>
            <a:ext cx="2786040" cy="330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https://dlyarazvitiya.ru/wp-content/uploads/2020/01/bengalskie-ogni5.jpg"/>
          <p:cNvPicPr/>
          <p:nvPr/>
        </p:nvPicPr>
        <p:blipFill>
          <a:blip r:embed="rId2"/>
          <a:stretch/>
        </p:blipFill>
        <p:spPr>
          <a:xfrm>
            <a:off x="5786280" y="0"/>
            <a:ext cx="3208320" cy="27176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https://dlyarazvitiya.ru/wp-content/uploads/2020/01/bengalskie-ogni2-1.jpg"/>
          <p:cNvPicPr/>
          <p:nvPr/>
        </p:nvPicPr>
        <p:blipFill>
          <a:blip r:embed="rId3"/>
          <a:stretch/>
        </p:blipFill>
        <p:spPr>
          <a:xfrm>
            <a:off x="5857920" y="3395520"/>
            <a:ext cx="3286080" cy="3462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https://img.labirint.ru/rcimg/6afc644c118357d270844d8b9ba29de7/1920x1080/comments_pic/1845/origin_8_4c712b25721ffe73246badaf3da7e89e.png?1541684660"/>
          <p:cNvPicPr/>
          <p:nvPr/>
        </p:nvPicPr>
        <p:blipFill>
          <a:blip r:embed="rId4"/>
          <a:srcRect l="53965" t="11230" r="0" b="16193"/>
          <a:stretch/>
        </p:blipFill>
        <p:spPr>
          <a:xfrm>
            <a:off x="3071880" y="1500120"/>
            <a:ext cx="3089160" cy="310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https://libmir.com/i/97/364697/i_201.jpg"/>
          <p:cNvPicPr/>
          <p:nvPr/>
        </p:nvPicPr>
        <p:blipFill>
          <a:blip r:embed="rId5"/>
          <a:srcRect l="16196" t="0" r="0" b="0"/>
          <a:stretch/>
        </p:blipFill>
        <p:spPr>
          <a:xfrm>
            <a:off x="428760" y="0"/>
            <a:ext cx="2357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https://web-skazki.ru/preview-files/rovno-25-kilo-x-1024.jpg"/>
          <p:cNvPicPr/>
          <p:nvPr/>
        </p:nvPicPr>
        <p:blipFill>
          <a:blip r:embed="rId1"/>
          <a:stretch/>
        </p:blipFill>
        <p:spPr>
          <a:xfrm>
            <a:off x="0" y="0"/>
            <a:ext cx="2500200" cy="2500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https://orenburgkniga.ru/wp-content/uploads/b/2/d/b2d7fb66708cfaab6f2bcc6c103cefb4.jpeg"/>
          <p:cNvPicPr/>
          <p:nvPr/>
        </p:nvPicPr>
        <p:blipFill>
          <a:blip r:embed="rId2"/>
          <a:stretch/>
        </p:blipFill>
        <p:spPr>
          <a:xfrm>
            <a:off x="2571840" y="714240"/>
            <a:ext cx="3929040" cy="2928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6" descr="http://www.planetaskazok.ru/images/stories/dragunsky/deniskini_rasskazy/img_42.jpg"/>
          <p:cNvPicPr/>
          <p:nvPr/>
        </p:nvPicPr>
        <p:blipFill>
          <a:blip r:embed="rId3"/>
          <a:stretch/>
        </p:blipFill>
        <p:spPr>
          <a:xfrm>
            <a:off x="214200" y="3643200"/>
            <a:ext cx="4000680" cy="3070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8" descr="https://itexts.net/files/online_html/111696/i_039.png"/>
          <p:cNvPicPr/>
          <p:nvPr/>
        </p:nvPicPr>
        <p:blipFill>
          <a:blip r:embed="rId4"/>
          <a:stretch/>
        </p:blipFill>
        <p:spPr>
          <a:xfrm>
            <a:off x="4286160" y="3714840"/>
            <a:ext cx="4857840" cy="2914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0" descr="https://web-skazki.ru/preview-files/sverkhu-vniz-naiskosok-x-1024.jpg"/>
          <p:cNvPicPr/>
          <p:nvPr/>
        </p:nvPicPr>
        <p:blipFill>
          <a:blip r:embed="rId5"/>
          <a:stretch/>
        </p:blipFill>
        <p:spPr>
          <a:xfrm>
            <a:off x="6419880" y="14292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81080" y="285840"/>
            <a:ext cx="69343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Zametka_Parletter"/>
              </a:rPr>
              <a:t>«Ровно 25 кило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642680"/>
            <a:ext cx="834372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1. С кем главный герой отправился на детский праздник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С Мишкой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С Денисом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С Петькой 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С Шурой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3600" spc="-1" strike="noStrike">
                <a:solidFill>
                  <a:srgbClr val="4d4d4d"/>
                </a:solidFill>
                <a:latin typeface="Calibri"/>
                <a:ea typeface="Calibri"/>
              </a:rPr>
              <a:t>2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. В затее, где нужно было попасть из лука в обезьяну, Денис попал в …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друг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незнакомого мальчика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тётю Дусю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дяденьку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3. Сколько весил Мишка, после того как напился ситро?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А) 24 кг 500 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Б) 25 к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В) 25 кг 500 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  <a:p>
            <a:pPr marL="2844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d4d4d"/>
                </a:solidFill>
                <a:latin typeface="Calibri"/>
                <a:ea typeface="Calibri"/>
              </a:rPr>
              <a:t>Г) 26 кг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4 . Какой приз полагался для того, кто весит ровно 25 кг.?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5 пирожных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1 кг мороженого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подписка на журнал «Мурзилка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21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мешок конфет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5. После выпитого ситро Денис не мог: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стоя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говори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сидеть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1536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идти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280" y="12780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71360" y="999720"/>
            <a:ext cx="8072280" cy="46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 </a:t>
            </a: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1. Книга, по которой Мишка делал бенгальские огни.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А) «Юный Химик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Б) «Занимательная химия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В) «Химия для мальчиков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  <a:p>
            <a:pPr marL="322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d4d4d"/>
                </a:solidFill>
                <a:latin typeface="Calibri"/>
                <a:ea typeface="Calibri"/>
              </a:rPr>
              <a:t>Г) «Бенгальские огни своими руками»</a:t>
            </a:r>
            <a:endParaRPr b="0" lang="en-US" sz="40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857240" y="151920"/>
            <a:ext cx="69818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Zametka_Parletter"/>
              </a:rPr>
              <a:t>« Бенгальские огни»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3T15:32:57Z</dcterms:created>
  <dc:creator>Юра</dc:creator>
  <dc:description/>
  <dc:language>en-US</dc:language>
  <cp:lastModifiedBy>HP</cp:lastModifiedBy>
  <dcterms:modified xsi:type="dcterms:W3CDTF">2024-01-07T15:16:54Z</dcterms:modified>
  <cp:revision>11</cp:revision>
  <dc:subject/>
  <dc:title>Name of presentation</dc:title>
</cp:coreProperties>
</file>