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B118-0BC5-4E56-845A-F8426C12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C62B-903B-4A9D-AD98-4666DA98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3E8-D26B-4446-A34A-33FE03646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7965-5D0C-4458-9AB0-D6E75709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60B6-7F54-49C5-8EAD-FF24485B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8967-8B3D-403C-AAD5-86B1B08C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4BFB-DA27-4CC6-AE3B-D6597971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7978-2CF7-4C05-8F4D-460A300B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39BB-D5BD-4FF0-A08B-CAE54433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CD3A-114A-425A-AA0A-080E81E9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71F3-1B36-4A3D-8A88-91FEAB86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A0C5-D951-4A3C-89A9-A3B31D5E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E291-354D-47E3-9405-49C7B174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A4E3-8AD1-466B-B970-A70188E2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0463-DD04-48A0-8768-AF175553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A586-3C8F-482C-B13C-5BD5D5A3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026B-1D98-4649-9954-D411D349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E413EF-5C41-4504-AFEE-1017D80D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5391C-AC8F-45D1-99BD-B5D11CA1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AA072-16D6-46A7-B6EC-B1E31A78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F3D3E-9B03-4355-B6A0-1E7C8CBC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18BF2-AF8A-4FCD-B8C1-F51195EF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8998-6B72-4627-B665-B4888F71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93DFD-C8BB-4B2F-B320-9A185393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4B7FB-629A-4F5E-A362-30BE4983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FF909C-F374-4330-BA68-ABDB07BB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8F64CB-DAF3-46FF-B30E-0E4CF222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D3BCC-94DF-4D7C-9AF3-2405C4F6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BDEC7-FFFF-478C-8FA1-DE5832CE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5F5D37-A1ED-4A43-A322-DB595F24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1F4EB-0EC5-428F-8D7E-21D30426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4A05B-E828-4C15-8B59-37D85898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B9CC2-F77C-4E40-8314-78542C72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729-2380-4969-A11F-F70EF958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289FA-FD28-4E7F-BAB4-A29D8C23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81FF1-F521-4BC6-BC41-5DF35252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44A03-38D4-439D-A6AB-E224599C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0A052-19C2-4DA2-BD6B-BCD40CC7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65BC5-6EDE-4F6B-8B2E-CC829D36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57978-FCB5-4200-B2C0-8A3F1A74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5C4F4-E69D-450D-8F2B-F591C297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0B63A-1B30-41AF-BCAE-8F6CAB7D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BD693-0ACC-4EA5-BC3F-D98F00A9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DD23-C760-42C7-AC58-FF598DBB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7C8C-E58C-4D31-A02F-D74E4C8B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B7BC-4B4D-4025-B39A-28331982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CBAD-BB22-43A1-9AB8-DF70E966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14BE-6ADF-41EE-A6A7-BAA47465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58B7-4ED8-4ECC-B705-9638C6001E6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9BEC-BFFD-4724-83F5-824EFB2F0F0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E255-2E6F-43DB-B887-CF5BEE2FC54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24C2-3A95-4F30-877A-83AA9F575C06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8458200" cy="23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Брейн-ринг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по тем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«Древняя Греция»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8" name="Picture 3" descr="C:\Documents and Settings\Shkola\Рабочий стол\Мои рисунки\ей.jpg"/>
          <p:cNvPicPr/>
          <p:nvPr/>
        </p:nvPicPr>
        <p:blipFill>
          <a:blip r:embed="rId1"/>
          <a:stretch/>
        </p:blipFill>
        <p:spPr>
          <a:xfrm>
            <a:off x="1441440" y="2714760"/>
            <a:ext cx="5938920" cy="37274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4617b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214200" y="500040"/>
          <a:ext cx="8429760" cy="6149880"/>
        </p:xfrm>
        <a:graphic>
          <a:graphicData uri="http://schemas.openxmlformats.org/drawingml/2006/table">
            <a:tbl>
              <a:tblPr/>
              <a:tblGrid>
                <a:gridCol w="1405080"/>
                <a:gridCol w="1405080"/>
                <a:gridCol w="1404720"/>
                <a:gridCol w="1405080"/>
                <a:gridCol w="1404720"/>
                <a:gridCol w="1405080"/>
              </a:tblGrid>
              <a:tr h="835200"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чны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исны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чны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исны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ф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э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икр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ь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сил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з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э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сил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ямб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е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Rectangle 1"/>
          <p:cNvSpPr/>
          <p:nvPr/>
        </p:nvSpPr>
        <p:spPr>
          <a:xfrm>
            <a:off x="3789000" y="29160"/>
            <a:ext cx="156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ГРЕЧЕСКИЙ АЛФАВИ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rebuchet MS"/>
              </a:rPr>
              <a:t>Станция «Историческая»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2852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Задание 3.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Кто этот человек? Где и когда он жил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6" name="Picture 2" descr="C:\Documents and Settings\Shkola\Рабочий стол\Мои рисунки\сол.jpg"/>
          <p:cNvPicPr/>
          <p:nvPr/>
        </p:nvPicPr>
        <p:blipFill>
          <a:blip r:embed="rId1"/>
          <a:stretch/>
        </p:blipFill>
        <p:spPr>
          <a:xfrm>
            <a:off x="3214800" y="3071880"/>
            <a:ext cx="185868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rebuchet MS"/>
              </a:rPr>
              <a:t>Станция «Историческая»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2852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Задание 4.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ъясните  слова Солона: «Меня корили тем, что я забыл о своем происхождении». Кто и почему корил? Кто обвинял Солона в том, что он де довел дело до конца? Прав ли Солон, утверждая, что не напрасно прожил свою жизнь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9" name="Picture 1" descr="C:\Documents and Settings\Shkola\Рабочий стол\Мои рисунки\греки.jpg"/>
          <p:cNvPicPr/>
          <p:nvPr/>
        </p:nvPicPr>
        <p:blipFill>
          <a:blip r:embed="rId1"/>
          <a:stretch/>
        </p:blipFill>
        <p:spPr>
          <a:xfrm>
            <a:off x="3929040" y="4786200"/>
            <a:ext cx="1428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rebuchet MS"/>
              </a:rPr>
              <a:t>Станция «Историческая»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28556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Задание 5.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берите из схемы ошибки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Georgia"/>
              </a:rPr>
              <a:t>НАРОДНОЕ СОБРА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Скругленный прямоугольник 23"/>
          <p:cNvSpPr/>
          <p:nvPr/>
        </p:nvSpPr>
        <p:spPr>
          <a:xfrm>
            <a:off x="285840" y="3071880"/>
            <a:ext cx="20001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Скругленный прямоугольник 24" descr=""/>
          <p:cNvPicPr/>
          <p:nvPr/>
        </p:nvPicPr>
        <p:blipFill>
          <a:blip r:embed="rId1"/>
          <a:stretch/>
        </p:blipFill>
        <p:spPr>
          <a:xfrm>
            <a:off x="781200" y="4780080"/>
            <a:ext cx="1876320" cy="931680"/>
          </a:xfrm>
          <a:prstGeom prst="rect">
            <a:avLst/>
          </a:prstGeom>
          <a:ln w="0">
            <a:noFill/>
          </a:ln>
        </p:spPr>
      </p:pic>
      <p:sp>
        <p:nvSpPr>
          <p:cNvPr id="264" name="Скругленный прямоугольник 26"/>
          <p:cNvSpPr/>
          <p:nvPr/>
        </p:nvSpPr>
        <p:spPr>
          <a:xfrm>
            <a:off x="3571920" y="2571840"/>
            <a:ext cx="20718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Скругленный прямоугольник 27" descr=""/>
          <p:cNvPicPr/>
          <p:nvPr/>
        </p:nvPicPr>
        <p:blipFill>
          <a:blip r:embed="rId2"/>
          <a:stretch/>
        </p:blipFill>
        <p:spPr>
          <a:xfrm>
            <a:off x="3638520" y="4206960"/>
            <a:ext cx="2019240" cy="931680"/>
          </a:xfrm>
          <a:prstGeom prst="rect">
            <a:avLst/>
          </a:prstGeom>
          <a:ln w="0">
            <a:noFill/>
          </a:ln>
        </p:spPr>
      </p:pic>
      <p:pic>
        <p:nvPicPr>
          <p:cNvPr id="266" name="Скругленный прямоугольник 28" descr=""/>
          <p:cNvPicPr/>
          <p:nvPr/>
        </p:nvPicPr>
        <p:blipFill>
          <a:blip r:embed="rId3"/>
          <a:stretch/>
        </p:blipFill>
        <p:spPr>
          <a:xfrm>
            <a:off x="6778800" y="4853160"/>
            <a:ext cx="2090520" cy="1315800"/>
          </a:xfrm>
          <a:prstGeom prst="rect">
            <a:avLst/>
          </a:prstGeom>
          <a:ln w="0">
            <a:noFill/>
          </a:ln>
        </p:spPr>
      </p:pic>
      <p:pic>
        <p:nvPicPr>
          <p:cNvPr id="267" name="Скругленный прямоугольник 29" descr=""/>
          <p:cNvPicPr/>
          <p:nvPr/>
        </p:nvPicPr>
        <p:blipFill>
          <a:blip r:embed="rId4"/>
          <a:stretch/>
        </p:blipFill>
        <p:spPr>
          <a:xfrm>
            <a:off x="6711840" y="3067200"/>
            <a:ext cx="2444760" cy="931680"/>
          </a:xfrm>
          <a:prstGeom prst="rect">
            <a:avLst/>
          </a:prstGeom>
          <a:ln w="0">
            <a:noFill/>
          </a:ln>
        </p:spPr>
      </p:pic>
      <p:cxnSp>
        <p:nvCxnSpPr>
          <p:cNvPr id="268" name="Прямая со стрелкой 31"/>
          <p:cNvCxnSpPr/>
          <p:nvPr/>
        </p:nvCxnSpPr>
        <p:spPr>
          <a:xfrm flipH="1">
            <a:off x="1642680" y="2286000"/>
            <a:ext cx="1286640" cy="71496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9" name="Прямая со стрелкой 36"/>
          <p:cNvCxnSpPr/>
          <p:nvPr/>
        </p:nvCxnSpPr>
        <p:spPr>
          <a:xfrm flipH="1">
            <a:off x="4498200" y="2142720"/>
            <a:ext cx="2520" cy="42948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0" name="Прямая со стрелкой 38"/>
          <p:cNvCxnSpPr/>
          <p:nvPr/>
        </p:nvCxnSpPr>
        <p:spPr>
          <a:xfrm flipH="1">
            <a:off x="2071080" y="2285640"/>
            <a:ext cx="1572120" cy="242964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1" name="Прямая со стрелкой 40"/>
          <p:cNvCxnSpPr/>
          <p:nvPr/>
        </p:nvCxnSpPr>
        <p:spPr>
          <a:xfrm>
            <a:off x="6286680" y="2214720"/>
            <a:ext cx="1072080" cy="78624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2" name="Прямая со стрелкой 42"/>
          <p:cNvCxnSpPr/>
          <p:nvPr/>
        </p:nvCxnSpPr>
        <p:spPr>
          <a:xfrm>
            <a:off x="5643720" y="2214720"/>
            <a:ext cx="1429200" cy="264384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3" name="Прямая со стрелкой 44"/>
          <p:cNvCxnSpPr>
            <a:endCxn id="265" idx="0"/>
          </p:cNvCxnSpPr>
          <p:nvPr/>
        </p:nvCxnSpPr>
        <p:spPr>
          <a:xfrm flipH="1">
            <a:off x="4642560" y="3573360"/>
            <a:ext cx="2520" cy="64332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pic>
        <p:nvPicPr>
          <p:cNvPr id="274" name="Прямоугольник 45" descr=""/>
          <p:cNvPicPr/>
          <p:nvPr/>
        </p:nvPicPr>
        <p:blipFill>
          <a:blip r:embed="rId5"/>
          <a:stretch/>
        </p:blipFill>
        <p:spPr>
          <a:xfrm>
            <a:off x="360360" y="3144960"/>
            <a:ext cx="1925640" cy="73188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46" descr=""/>
          <p:cNvPicPr/>
          <p:nvPr/>
        </p:nvPicPr>
        <p:blipFill>
          <a:blip r:embed="rId6"/>
          <a:stretch/>
        </p:blipFill>
        <p:spPr>
          <a:xfrm>
            <a:off x="3286080" y="2646360"/>
            <a:ext cx="257184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rebuchet MS"/>
              </a:rPr>
              <a:t>Станция «Патриотическая»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Задание 1.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читайте клятву афинских юношей при вступлении на военную службу. Какие качества ценили греки в воинах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Я не опозорю это священное оружие и никогда не покину своего товарища в битве. Я буду сражаться за моих богов и за мой очаг и оставлю после себя отечество не ослабевшим, но более могущественным…  Да будут свидетелями клятвы боги, границы моего отечества, пшеничные и ячменные поля, виноградники и оливы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rebuchet MS"/>
              </a:rPr>
              <a:t>Станция «Патриотическая»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Задание 2.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Расскажите об афинской школ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чём её сходство и в чём отличие с современной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0" name="Picture 3" descr="C:\Documents and Settings\Shkola\Рабочий стол\Мои рисунки\школа.jpg"/>
          <p:cNvPicPr/>
          <p:nvPr/>
        </p:nvPicPr>
        <p:blipFill>
          <a:blip r:embed="rId1"/>
          <a:stretch/>
        </p:blipFill>
        <p:spPr>
          <a:xfrm>
            <a:off x="3635280" y="3645000"/>
            <a:ext cx="172404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          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Муза истории-Клио  </a:t>
            </a:r>
            <a:r>
              <a:rPr b="0" lang="ru-RU" sz="2000" spc="-1" strike="noStrike">
                <a:solidFill>
                  <a:srgbClr val="04617b"/>
                </a:solidFill>
                <a:latin typeface="Trebuchet MS"/>
              </a:rPr>
              <a:t>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Богиня памяти - Мнемозина</a:t>
            </a:r>
            <a:endParaRPr b="0" lang="en-US" sz="2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31" name="Picture 2" descr="C:\Documents and Settings\Shkola\Рабочий стол\Мои рисунки\мнемозина.jpg"/>
          <p:cNvPicPr/>
          <p:nvPr/>
        </p:nvPicPr>
        <p:blipFill>
          <a:blip r:embed="rId1"/>
          <a:stretch/>
        </p:blipFill>
        <p:spPr>
          <a:xfrm>
            <a:off x="5715000" y="2214720"/>
            <a:ext cx="2286000" cy="3528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E:\Мои рисунки\клио.jpg"/>
          <p:cNvPicPr/>
          <p:nvPr/>
        </p:nvPicPr>
        <p:blipFill>
          <a:blip r:embed="rId2"/>
          <a:stretch/>
        </p:blipFill>
        <p:spPr>
          <a:xfrm>
            <a:off x="1071720" y="2286000"/>
            <a:ext cx="29764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Наш корабль для путешествия называется… 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34" name="Picture 2" descr="C:\Documents and Settings\Shkola\Рабочий стол\Мои рисунки\торговый.jpg"/>
          <p:cNvPicPr/>
          <p:nvPr/>
        </p:nvPicPr>
        <p:blipFill>
          <a:blip r:embed="rId1"/>
          <a:stretch/>
        </p:blipFill>
        <p:spPr>
          <a:xfrm>
            <a:off x="2268360" y="2565360"/>
            <a:ext cx="3961080" cy="285264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7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619776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rebuchet MS"/>
              </a:rPr>
              <a:t>Станция «Географическая»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Задание 1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Покажите на карте территорию Древней Греци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Задание 2.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кажите два крупнейших полиса Эллады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Задание 3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Покажите Олимп и Олимпию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rebuchet MS"/>
              </a:rPr>
              <a:t>Станция «Географическая»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? Задание 4.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ие трудности испытывали земледельцы в Древней Греции? Какие полезные растения они выращивали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Что грекам приходилось покупать в других странах? Что они продавали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rebuchet MS"/>
              </a:rPr>
              <a:t>Станция «Математическая»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07180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Задание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Начертите линию времени, отметьте на ней все необходимые обозначения. Отметьте на линии времени события истории Древней Греции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та реформ Солон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никновение первых олимпийских игр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арафонская битв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ход Ксеркса на Элладу (Фермопильская битва, Саламинское морское сражение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rebuchet MS"/>
              </a:rPr>
              <a:t>Станция «Математическая»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07180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Задача 1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Посчитайте сколько лет прошло от первых олимпийских игр до нашего год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Задача 2.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 участвуете в олимпийских играх в  440 году до н.э.. Какие это по счету олимпийские игры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1" descr="C:\Documents and Settings\Shkola\Рабочий стол\Мои рисунки\бегун.jpg"/>
          <p:cNvPicPr/>
          <p:nvPr/>
        </p:nvPicPr>
        <p:blipFill>
          <a:blip r:embed="rId1"/>
          <a:stretch/>
        </p:blipFill>
        <p:spPr>
          <a:xfrm>
            <a:off x="3348000" y="2997360"/>
            <a:ext cx="22860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rebuchet MS"/>
              </a:rPr>
              <a:t>Станция «Лингвистическая»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пишите слова, которые пришли в русский язык из греческого языка и которыми мы пользуемся до сегодняшнего дня. Каждый ученик пишет одно слово и его значение. Побеждает команда, которая написала больше правильных слов и определен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8" name="Picture 1" descr="C:\Documents and Settings\Shkola\Рабочий стол\Мои рисунки\маска.jpg"/>
          <p:cNvPicPr/>
          <p:nvPr/>
        </p:nvPicPr>
        <p:blipFill>
          <a:blip r:embed="rId1"/>
          <a:stretch/>
        </p:blipFill>
        <p:spPr>
          <a:xfrm>
            <a:off x="3929040" y="4903920"/>
            <a:ext cx="19288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rebuchet MS"/>
              </a:rPr>
              <a:t>Станция «Лингвистическая»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Конкурс капитан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Напиши свою фамилию по-греческ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вестно, что греки подарили всему миру алфавит, в котором уже были гласные буквы. На уроках геометрии и физики вы будете его использовать. Давайте попробуем потренироваться в написании греческих букв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1" name="Picture 1" descr="C:\Documents and Settings\Shkola\Рабочий стол\Мои рисунки\музы.jpg"/>
          <p:cNvPicPr/>
          <p:nvPr/>
        </p:nvPicPr>
        <p:blipFill>
          <a:blip r:embed="rId1"/>
          <a:stretch/>
        </p:blipFill>
        <p:spPr>
          <a:xfrm>
            <a:off x="3429000" y="5572080"/>
            <a:ext cx="291780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4-01-07T16:00:17Z</dcterms:modified>
  <cp:revision>29</cp:revision>
  <dc:subject/>
  <dc:title>Урок повторения и обобщения в 5 классе «Древняя Греция»</dc:title>
</cp:coreProperties>
</file>