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4989-1B71-422B-B909-219084818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6243-310A-4BB7-819F-F5DE2C0C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9322-0C48-4A25-A861-87D35E13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7FE-ED15-40DA-884A-482CBB240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4460-38ED-464B-8F11-5918E52B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67231-C72B-48AB-8186-237AA881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411D-B073-4E64-AF72-5CE13FCF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E0A4-179E-46D2-90D3-613DC016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5430-313C-471B-B4F8-EC064DFA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6A14-0E49-49C3-8644-D525B295B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FA83-354D-4484-8F2C-F02030EF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94A1-FACF-4076-9D99-43441302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7301-FC6A-4EED-8644-EC537F05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949D-72D9-457B-9E24-0C45C11B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72B3F-D9FC-46A1-9634-8E847BCB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20CC-E424-47E8-9443-D9ABE466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CB54-A9DD-4424-AB1A-9CB290A0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D410D-A793-4983-984B-7AE3A883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7C2D38-5621-4ACB-A19E-AB21EC9E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3F617-C061-4480-8AC1-FD798BF5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4A07D-1C11-4CCD-89E2-35BF748B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EFDC17-2D5C-42EE-AF9E-B556B719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DC78-A452-4B9C-A021-B4CDEA52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E9920-60C1-4D18-84F8-4911B687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31B11-16C9-470F-A796-22BDA4D0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0831A3-1680-4247-87D7-17F6A1B5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226B2-2127-47E6-8EB6-D851A434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6D06A-33A3-4C35-8DF2-9493E0B2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3E8AC9-7EE4-467A-B9E4-D3CE11E4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E9FA5-F968-4D59-BF25-E1F84361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62019-7AAE-4E47-B3ED-99EACD42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21B6D-F229-4A62-B0EF-08D38BA6D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AECB9-27A2-4D5A-87DD-3F0B4774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A87-A029-4866-AA33-ADF6EAE4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17FAB-F834-4685-BB0F-B6259250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CF492-9B50-46F5-8958-5015192E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FA216-592B-44B7-85D8-A453D3E42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9A905-DCCF-467E-BDF7-0B57637F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325D9-84B2-4E09-8110-E00D445A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C19DA-4B42-446D-9828-0007743E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91382-D349-4C68-823A-657D13B5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7B021-1441-4C6F-8030-9365A416A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C5F12-604E-4AC1-968A-867337D3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BD08-236B-4436-A767-34EDB6AF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19EC-D2D5-4BB1-94F9-BC02CFD4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9492-3759-432C-830B-0594F1A5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DE98-14F8-456E-AE24-0A60D6B5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6D5F-4E87-49B5-9650-C13A0916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B12B-B43B-40CB-B1AA-403441AFCF0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EFB7-9118-409C-A14A-D19CBEE9E82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9967-166F-4B4C-A884-C73B4EA3072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009dd9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9dd9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7812-38BF-4A35-ADBC-88E86F0884E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8458200" cy="23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Брейн-ринг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по теме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«Древняя Греция»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8" name="Picture 3" descr="C:\Documents and Settings\Shkola\Рабочий стол\Мои рисунки\ей.jpg"/>
          <p:cNvPicPr/>
          <p:nvPr/>
        </p:nvPicPr>
        <p:blipFill>
          <a:blip r:embed="rId1"/>
          <a:stretch/>
        </p:blipFill>
        <p:spPr>
          <a:xfrm>
            <a:off x="1441440" y="2714760"/>
            <a:ext cx="5938920" cy="372744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4617b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214200" y="500040"/>
          <a:ext cx="8429760" cy="6149880"/>
        </p:xfrm>
        <a:graphic>
          <a:graphicData uri="http://schemas.openxmlformats.org/drawingml/2006/table">
            <a:tbl>
              <a:tblPr/>
              <a:tblGrid>
                <a:gridCol w="1405080"/>
                <a:gridCol w="1405080"/>
                <a:gridCol w="1404720"/>
                <a:gridCol w="1405080"/>
                <a:gridCol w="1404720"/>
                <a:gridCol w="1405080"/>
              </a:tblGrid>
              <a:tr h="835200"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чны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исны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чны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писны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в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к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ьф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э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икр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ль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сил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з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г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э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сил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п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ямб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8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е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Rectangle 1"/>
          <p:cNvSpPr/>
          <p:nvPr/>
        </p:nvSpPr>
        <p:spPr>
          <a:xfrm>
            <a:off x="3789000" y="29160"/>
            <a:ext cx="156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ГРЕЧЕСКИЙ АЛФАВИ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rebuchet MS"/>
              </a:rPr>
              <a:t>Станция «Историческая»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2852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Задание 3.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Кто этот человек? Где и когда он жил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6" name="Picture 2" descr="C:\Documents and Settings\Shkola\Рабочий стол\Мои рисунки\сол.jpg"/>
          <p:cNvPicPr/>
          <p:nvPr/>
        </p:nvPicPr>
        <p:blipFill>
          <a:blip r:embed="rId1"/>
          <a:stretch/>
        </p:blipFill>
        <p:spPr>
          <a:xfrm>
            <a:off x="3214800" y="3071880"/>
            <a:ext cx="185868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rebuchet MS"/>
              </a:rPr>
              <a:t>Станция «Историческая»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28520"/>
            <a:ext cx="822960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Задание 4.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бъясните  слова Солона: «Меня корили тем, что я забыл о своем происхождении». Кто и почему корил? Кто обвинял Солона в том, что он де довел дело до конца? Прав ли Солон, утверждая, что не напрасно прожил свою жизнь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9" name="Picture 1" descr="C:\Documents and Settings\Shkola\Рабочий стол\Мои рисунки\греки.jpg"/>
          <p:cNvPicPr/>
          <p:nvPr/>
        </p:nvPicPr>
        <p:blipFill>
          <a:blip r:embed="rId1"/>
          <a:stretch/>
        </p:blipFill>
        <p:spPr>
          <a:xfrm>
            <a:off x="3929040" y="4786200"/>
            <a:ext cx="14288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rebuchet MS"/>
              </a:rPr>
              <a:t>Станция «Историческая»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28556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Задание 5.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Уберите из схемы ошибки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Georgia"/>
              </a:rPr>
              <a:t>НАРОДНОЕ СОБРА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Скругленный прямоугольник 23"/>
          <p:cNvSpPr/>
          <p:nvPr/>
        </p:nvSpPr>
        <p:spPr>
          <a:xfrm>
            <a:off x="285840" y="3071880"/>
            <a:ext cx="20001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eorgi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Скругленный прямоугольник 24" descr=""/>
          <p:cNvPicPr/>
          <p:nvPr/>
        </p:nvPicPr>
        <p:blipFill>
          <a:blip r:embed="rId1"/>
          <a:stretch/>
        </p:blipFill>
        <p:spPr>
          <a:xfrm>
            <a:off x="781200" y="4780080"/>
            <a:ext cx="1876320" cy="931680"/>
          </a:xfrm>
          <a:prstGeom prst="rect">
            <a:avLst/>
          </a:prstGeom>
          <a:ln w="0">
            <a:noFill/>
          </a:ln>
        </p:spPr>
      </p:pic>
      <p:sp>
        <p:nvSpPr>
          <p:cNvPr id="264" name="Скругленный прямоугольник 26"/>
          <p:cNvSpPr/>
          <p:nvPr/>
        </p:nvSpPr>
        <p:spPr>
          <a:xfrm>
            <a:off x="3571920" y="2571840"/>
            <a:ext cx="20718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Скругленный прямоугольник 27" descr=""/>
          <p:cNvPicPr/>
          <p:nvPr/>
        </p:nvPicPr>
        <p:blipFill>
          <a:blip r:embed="rId2"/>
          <a:stretch/>
        </p:blipFill>
        <p:spPr>
          <a:xfrm>
            <a:off x="3638520" y="4206960"/>
            <a:ext cx="2019240" cy="931680"/>
          </a:xfrm>
          <a:prstGeom prst="rect">
            <a:avLst/>
          </a:prstGeom>
          <a:ln w="0">
            <a:noFill/>
          </a:ln>
        </p:spPr>
      </p:pic>
      <p:pic>
        <p:nvPicPr>
          <p:cNvPr id="266" name="Скругленный прямоугольник 28" descr=""/>
          <p:cNvPicPr/>
          <p:nvPr/>
        </p:nvPicPr>
        <p:blipFill>
          <a:blip r:embed="rId3"/>
          <a:stretch/>
        </p:blipFill>
        <p:spPr>
          <a:xfrm>
            <a:off x="6778800" y="4853160"/>
            <a:ext cx="2090520" cy="1315800"/>
          </a:xfrm>
          <a:prstGeom prst="rect">
            <a:avLst/>
          </a:prstGeom>
          <a:ln w="0">
            <a:noFill/>
          </a:ln>
        </p:spPr>
      </p:pic>
      <p:pic>
        <p:nvPicPr>
          <p:cNvPr id="267" name="Скругленный прямоугольник 29" descr=""/>
          <p:cNvPicPr/>
          <p:nvPr/>
        </p:nvPicPr>
        <p:blipFill>
          <a:blip r:embed="rId4"/>
          <a:stretch/>
        </p:blipFill>
        <p:spPr>
          <a:xfrm>
            <a:off x="6711840" y="3067200"/>
            <a:ext cx="2444760" cy="931680"/>
          </a:xfrm>
          <a:prstGeom prst="rect">
            <a:avLst/>
          </a:prstGeom>
          <a:ln w="0">
            <a:noFill/>
          </a:ln>
        </p:spPr>
      </p:pic>
      <p:cxnSp>
        <p:nvCxnSpPr>
          <p:cNvPr id="268" name="Прямая со стрелкой 31"/>
          <p:cNvCxnSpPr/>
          <p:nvPr/>
        </p:nvCxnSpPr>
        <p:spPr>
          <a:xfrm flipH="1">
            <a:off x="1642680" y="2286000"/>
            <a:ext cx="1286640" cy="71496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69" name="Прямая со стрелкой 36"/>
          <p:cNvCxnSpPr/>
          <p:nvPr/>
        </p:nvCxnSpPr>
        <p:spPr>
          <a:xfrm flipH="1">
            <a:off x="4498200" y="2142720"/>
            <a:ext cx="2520" cy="42948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0" name="Прямая со стрелкой 38"/>
          <p:cNvCxnSpPr/>
          <p:nvPr/>
        </p:nvCxnSpPr>
        <p:spPr>
          <a:xfrm flipH="1">
            <a:off x="2071080" y="2285640"/>
            <a:ext cx="1572120" cy="242964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1" name="Прямая со стрелкой 40"/>
          <p:cNvCxnSpPr/>
          <p:nvPr/>
        </p:nvCxnSpPr>
        <p:spPr>
          <a:xfrm>
            <a:off x="6286680" y="2214720"/>
            <a:ext cx="1072080" cy="78624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2" name="Прямая со стрелкой 42"/>
          <p:cNvCxnSpPr/>
          <p:nvPr/>
        </p:nvCxnSpPr>
        <p:spPr>
          <a:xfrm>
            <a:off x="5643720" y="2214720"/>
            <a:ext cx="1429200" cy="264384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cxnSp>
        <p:nvCxnSpPr>
          <p:cNvPr id="273" name="Прямая со стрелкой 44"/>
          <p:cNvCxnSpPr>
            <a:endCxn id="265" idx="0"/>
          </p:cNvCxnSpPr>
          <p:nvPr/>
        </p:nvCxnSpPr>
        <p:spPr>
          <a:xfrm flipH="1">
            <a:off x="4642560" y="3573360"/>
            <a:ext cx="2520" cy="643320"/>
          </a:xfrm>
          <a:prstGeom prst="straightConnector1">
            <a:avLst/>
          </a:prstGeom>
          <a:ln w="9360">
            <a:solidFill>
              <a:srgbClr val="0f6fc6"/>
            </a:solidFill>
            <a:miter/>
            <a:tailEnd len="med" type="arrow" w="med"/>
          </a:ln>
        </p:spPr>
      </p:cxnSp>
      <p:pic>
        <p:nvPicPr>
          <p:cNvPr id="274" name="Прямоугольник 45" descr=""/>
          <p:cNvPicPr/>
          <p:nvPr/>
        </p:nvPicPr>
        <p:blipFill>
          <a:blip r:embed="rId5"/>
          <a:stretch/>
        </p:blipFill>
        <p:spPr>
          <a:xfrm>
            <a:off x="360360" y="3144960"/>
            <a:ext cx="1925640" cy="731880"/>
          </a:xfrm>
          <a:prstGeom prst="rect">
            <a:avLst/>
          </a:prstGeom>
          <a:ln w="0">
            <a:noFill/>
          </a:ln>
        </p:spPr>
      </p:pic>
      <p:pic>
        <p:nvPicPr>
          <p:cNvPr id="275" name="Прямоугольник 46" descr=""/>
          <p:cNvPicPr/>
          <p:nvPr/>
        </p:nvPicPr>
        <p:blipFill>
          <a:blip r:embed="rId6"/>
          <a:stretch/>
        </p:blipFill>
        <p:spPr>
          <a:xfrm>
            <a:off x="3286080" y="2646360"/>
            <a:ext cx="257184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rebuchet MS"/>
              </a:rPr>
              <a:t>Станция «Патриотическая»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Задание 1.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очитайте клятву афинских юношей при вступлении на военную службу. Какие качества ценили греки в воинах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Я не опозорю это священное оружие и никогда не покину своего товарища в битве. Я буду сражаться за моих богов и за мой очаг и оставлю после себя отечество не ослабевшим, но более могущественным…  Да будут свидетелями клятвы боги, границы моего отечества, пшеничные и ячменные поля, виноградники и оливы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858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rebuchet MS"/>
              </a:rPr>
              <a:t>Станция «Патриотическая»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57140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Задание 2.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Расскажите об афинской школ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чём её сходство и в чём отличие с современной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0" name="Picture 3" descr="C:\Documents and Settings\Shkola\Рабочий стол\Мои рисунки\школа.jpg"/>
          <p:cNvPicPr/>
          <p:nvPr/>
        </p:nvPicPr>
        <p:blipFill>
          <a:blip r:embed="rId1"/>
          <a:stretch/>
        </p:blipFill>
        <p:spPr>
          <a:xfrm>
            <a:off x="3635280" y="3645000"/>
            <a:ext cx="172404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1424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rebuchet MS"/>
              </a:rPr>
              <a:t>          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Муза истории-Клио  </a:t>
            </a:r>
            <a:r>
              <a:rPr b="0" lang="ru-RU" sz="2000" spc="-1" strike="noStrike">
                <a:solidFill>
                  <a:srgbClr val="04617b"/>
                </a:solidFill>
                <a:latin typeface="Trebuchet MS"/>
              </a:rPr>
              <a:t>                     </a:t>
            </a: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Богиня памяти - Мнемозина</a:t>
            </a:r>
            <a:endParaRPr b="0" lang="en-US" sz="2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31" name="Picture 2" descr="C:\Documents and Settings\Shkola\Рабочий стол\Мои рисунки\мнемозина.jpg"/>
          <p:cNvPicPr/>
          <p:nvPr/>
        </p:nvPicPr>
        <p:blipFill>
          <a:blip r:embed="rId1"/>
          <a:stretch/>
        </p:blipFill>
        <p:spPr>
          <a:xfrm>
            <a:off x="5715000" y="2214720"/>
            <a:ext cx="2286000" cy="3528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E:\Мои рисунки\клио.jpg"/>
          <p:cNvPicPr/>
          <p:nvPr/>
        </p:nvPicPr>
        <p:blipFill>
          <a:blip r:embed="rId2"/>
          <a:stretch/>
        </p:blipFill>
        <p:spPr>
          <a:xfrm>
            <a:off x="1071720" y="2286000"/>
            <a:ext cx="29764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rebuchet MS"/>
              </a:rPr>
              <a:t>Наш корабль для путешествия называется… 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34" name="Picture 2" descr="C:\Documents and Settings\Shkola\Рабочий стол\Мои рисунки\торговый.jpg"/>
          <p:cNvPicPr/>
          <p:nvPr/>
        </p:nvPicPr>
        <p:blipFill>
          <a:blip r:embed="rId1"/>
          <a:stretch/>
        </p:blipFill>
        <p:spPr>
          <a:xfrm>
            <a:off x="2268360" y="2565360"/>
            <a:ext cx="3961080" cy="285264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7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6197760" cy="41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rebuchet MS"/>
              </a:rPr>
              <a:t>Станция «Географическая»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Задание 1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Покажите на карте территорию Древней Греци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Задание 2.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кажите два крупнейших полиса Эллады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Задание 3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 Покажите Олимп и Олимпию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rebuchet MS"/>
              </a:rPr>
              <a:t>Станция «Географическая»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? Задание 4.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ие трудности испытывали земледельцы в Древней Греции? Какие полезные растения они выращивали?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Что грекам приходилось покупать в других странах? Что они продавали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rebuchet MS"/>
              </a:rPr>
              <a:t>Станция «Математическая»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207180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Задание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Начертите линию времени, отметьте на ней все необходимые обозначения. Отметьте на линии времени события истории Древней Греции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Дата реформ Солон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зникновение первых олимпийских игр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арафонская битв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ход Ксеркса на Элладу (Фермопильская битва, Саламинское морское сражение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rebuchet MS"/>
              </a:rPr>
              <a:t>Станция «Математическая»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07180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Задача 1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Посчитайте сколько лет прошло от первых олимпийских игр до нашего год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Georgia"/>
              </a:rPr>
              <a:t>Задача 2.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ы участвуете в олимпийских играх в  440 году до н.э.. Какие это по счету олимпийские игры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5" name="Picture 1" descr="C:\Documents and Settings\Shkola\Рабочий стол\Мои рисунки\бегун.jpg"/>
          <p:cNvPicPr/>
          <p:nvPr/>
        </p:nvPicPr>
        <p:blipFill>
          <a:blip r:embed="rId1"/>
          <a:stretch/>
        </p:blipFill>
        <p:spPr>
          <a:xfrm>
            <a:off x="3348000" y="2997360"/>
            <a:ext cx="2286000" cy="15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rebuchet MS"/>
              </a:rPr>
              <a:t>Станция «Лингвистическая»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Напишите слова, которые пришли в русский язык из греческого языка и которыми мы пользуемся до сегодняшнего дня. Каждый ученик пишет одно слово и его значение. Побеждает команда, которая написала больше правильных слов и определений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8" name="Picture 1" descr="C:\Documents and Settings\Shkola\Рабочий стол\Мои рисунки\маска.jpg"/>
          <p:cNvPicPr/>
          <p:nvPr/>
        </p:nvPicPr>
        <p:blipFill>
          <a:blip r:embed="rId1"/>
          <a:stretch/>
        </p:blipFill>
        <p:spPr>
          <a:xfrm>
            <a:off x="3929040" y="4903920"/>
            <a:ext cx="192888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716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rebuchet MS"/>
              </a:rPr>
              <a:t>Станция «Лингвистическая»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857240"/>
            <a:ext cx="8229600" cy="47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Конкурс капитан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Напиши свою фамилию по-греческ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Georgi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звестно, что греки подарили всему миру алфавит, в котором уже были гласные буквы. На уроках геометрии и физики вы будете его использовать. Давайте попробуем потренироваться в написании греческих букв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1" name="Picture 1" descr="C:\Documents and Settings\Shkola\Рабочий стол\Мои рисунки\музы.jpg"/>
          <p:cNvPicPr/>
          <p:nvPr/>
        </p:nvPicPr>
        <p:blipFill>
          <a:blip r:embed="rId1"/>
          <a:stretch/>
        </p:blipFill>
        <p:spPr>
          <a:xfrm>
            <a:off x="3429000" y="5572080"/>
            <a:ext cx="291780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4-01-07T16:00:17Z</dcterms:modified>
  <cp:revision>29</cp:revision>
  <dc:subject/>
  <dc:title>Урок повторения и обобщения в 5 классе «Древняя Греция»</dc:title>
</cp:coreProperties>
</file>