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77312-C08D-4E2A-90FE-4B81D0C5DA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2859E-43B7-4969-9D67-D75863C777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BA601-470E-4A35-A56A-93147007E3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0533E-2F7A-4872-B47C-4FFE75E40C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53AD8-BE9C-4EEB-AA82-EDEA5C1F9B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043B7-5C2B-4EDC-BDE2-2DE71D2BC6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928C0-F33B-496C-8727-89E710F384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AA0C8-C0B8-45E4-AF3A-45A8BA230C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00CD8-2AEC-48E9-AA89-1A5A13092E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3A19D-37F5-4014-9CE6-E127E12C6C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FB44F-799C-45A3-BEBE-D61B8F78C5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ADE16-DACA-4B88-A672-A2BA16E95E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F9EC0-6405-4EA0-B5EC-B13D34751D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6B00A-230B-4C8E-BE46-8351B845EB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4F97-BD04-4F68-8215-441542D3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F8D7-7339-4B72-B990-E990C88F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EE7E-4F45-4B22-B7D7-A4B6D1BF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6B03-6787-4126-BDC9-83D3AFE29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B27E-3971-4F4D-80E6-0BD53557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E178-45A0-46C4-815D-23601B19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66CB-E675-4CE8-BF7F-CDC984BC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214F-D807-4F26-97AE-4E15CC81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2CB9-2A89-494C-A285-849221D6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C74C-B9EC-4F28-83D9-71EFE878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06E9-D7A9-47FB-8BE8-7F1A95B9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52F-CB24-49D0-AB94-84C9EB24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3BA19-40A6-4B7C-8C0A-218C74C3CE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3333cc"/>
                </a:solidFill>
                <a:latin typeface="Arial"/>
              </a:rPr>
              <a:t>«Слово о полку Игореве» - величайший памятник </a:t>
            </a:r>
            <a:br>
              <a:rPr sz="3600"/>
            </a:br>
            <a:r>
              <a:rPr b="1" i="1" lang="ru-RU" sz="3600" spc="-1" strike="noStrike">
                <a:solidFill>
                  <a:srgbClr val="3333cc"/>
                </a:solidFill>
                <a:latin typeface="Arial"/>
              </a:rPr>
              <a:t>древнерусской литератур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575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760720" y="1908000"/>
            <a:ext cx="3311640" cy="316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Слово» - прекрасный, благоухающий цветок славянской народной поэзии, достойный внимания, памяти и ув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.Г. Бе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&amp;Kcy;&amp;acy;&amp;rcy;&amp;tcy;&amp;icy;&amp;ncy;&amp;kcy;&amp;acy; &amp;zcy;&amp;acy;&amp;gcy;&amp;rcy;&amp;ucy;&amp;zhcy;&amp;acy;&amp;iecy;&amp;tcy;&amp;scy;&amp;yacy;..."/>
          <p:cNvPicPr/>
          <p:nvPr/>
        </p:nvPicPr>
        <p:blipFill>
          <a:blip r:embed="rId2"/>
          <a:stretch/>
        </p:blipFill>
        <p:spPr>
          <a:xfrm>
            <a:off x="1008000" y="1979640"/>
            <a:ext cx="4535640" cy="32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87280" y="250560"/>
            <a:ext cx="770580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есной 1185 года Игорь неожиданно для всех вместе со своими родственниками- князьями выступил против половцев. Но был жестоко разбит и вместе с князьями взят в плен. Воодушевлённые победой, ханы половецкие Гза и Кончак  вторглись в пределы Русской земли и подвергли её большому опустош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поле побоища"/>
          <p:cNvPicPr/>
          <p:nvPr/>
        </p:nvPicPr>
        <p:blipFill>
          <a:blip r:embed="rId1"/>
          <a:stretch/>
        </p:blipFill>
        <p:spPr>
          <a:xfrm>
            <a:off x="936720" y="2627280"/>
            <a:ext cx="79200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дейное содержание «Слова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2266560"/>
            <a:ext cx="53276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сновная идея «Слова…» - призыв русских князей к единению как раз перед нашествием монголо-тат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 также, противопоставляя картины мирного труда междоусобным войнам и набегам половцев, автор проводит идею защиты мирного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13080" y="1768320"/>
            <a:ext cx="4459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/>
          <a:stretch/>
        </p:blipFill>
        <p:spPr>
          <a:xfrm>
            <a:off x="5653080" y="1547640"/>
            <a:ext cx="44276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Композиция</a:t>
            </a:r>
            <a:br>
              <a:rPr sz="4000"/>
            </a:b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 «Слова о полку Игорев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57520" cy="5396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60012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3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ступ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3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боры в поход, предзнамен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3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ражение с половц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3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ражение войска Иг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3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«Золотое слово» Святосл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3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лач Яросла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3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озвращение Игор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бегство игоря"/>
          <p:cNvPicPr/>
          <p:nvPr/>
        </p:nvPicPr>
        <p:blipFill>
          <a:blip r:embed="rId1"/>
          <a:stretch/>
        </p:blipFill>
        <p:spPr>
          <a:xfrm>
            <a:off x="5113440" y="1908000"/>
            <a:ext cx="4459320" cy="417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98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18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98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86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Жанр</a:t>
            </a:r>
            <a:r>
              <a:rPr b="0" i="1" lang="ru-RU" sz="4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произве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4080" y="1476360"/>
            <a:ext cx="4843440" cy="5469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33360" indent="0">
              <a:lnSpc>
                <a:spcPct val="80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0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– это то, что говорится, что предназначено для устной ре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0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тературное произведение в форме обращения к читателям, слушателям, в форме  ораторской речи, проповеди или послания; повествование, рассказ вообщ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647640" y="2050920"/>
            <a:ext cx="3419640" cy="482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14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500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78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938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938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938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63640" y="301320"/>
            <a:ext cx="69087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Кто автор «Слова…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&amp;Scy;&amp;lcy;&amp;ocy;&amp;vcy;&amp;ocy; &amp;ocy; &amp;pcy;&amp;ocy;&amp;lcy;&amp;kcy;&amp;ucy; &amp;Icy;&amp;gcy;&amp;ocy;&amp;rcy;&amp;iecy;&amp;vcy;&amp;iecy; "/>
          <p:cNvPicPr/>
          <p:nvPr/>
        </p:nvPicPr>
        <p:blipFill>
          <a:blip r:embed="rId1"/>
          <a:stretch/>
        </p:blipFill>
        <p:spPr>
          <a:xfrm>
            <a:off x="2232000" y="1547640"/>
            <a:ext cx="756144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едзнамен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87440" y="4809960"/>
            <a:ext cx="5397480" cy="253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776160" y="1979640"/>
            <a:ext cx="4011840" cy="4975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5327640" y="1979640"/>
            <a:ext cx="4035600" cy="253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5040360" y="4500720"/>
            <a:ext cx="4532400" cy="23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3960" y="396360"/>
            <a:ext cx="9072720" cy="1513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р Тур Всевол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360" y="2184120"/>
            <a:ext cx="44514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60800" y="1587240"/>
            <a:ext cx="4453200" cy="49878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43080" indent="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сражался Всевол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берите к иллюстрации цитату из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360360" y="2195640"/>
            <a:ext cx="3952800" cy="497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тят стрелы калены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2184120"/>
            <a:ext cx="44514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24240" y="2184480"/>
            <a:ext cx="4452840" cy="45352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43080" indent="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эпизод битвы изображен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431640" y="2195640"/>
            <a:ext cx="3721320" cy="476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енение Иго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00600" y="1862280"/>
            <a:ext cx="4772160" cy="4711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33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берите цитат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иллюстр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рирода  сочувствует гер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87280" y="2195640"/>
            <a:ext cx="3713400" cy="496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8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2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32000" y="420840"/>
            <a:ext cx="7345440" cy="15112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Золотое слово» Святосл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881600" y="5843520"/>
            <a:ext cx="4695840" cy="1470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33360" indent="0" algn="ctr">
              <a:lnSpc>
                <a:spcPct val="90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 племянники мои, Игорь и Всеволо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87280" y="2124000"/>
            <a:ext cx="4095720" cy="4954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4896000" y="1547640"/>
            <a:ext cx="4454280" cy="412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77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я открытия «Слова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575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оллекционер письменных и вещественных памятников русской старины - граф А.И.Мусин - Пушкин (1744-1817), обнаруживший рукопись  «Слова о полку Игореве» в Спасо-Преображенском монастыре г. Ярослав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40"/>
          <p:cNvPicPr/>
          <p:nvPr/>
        </p:nvPicPr>
        <p:blipFill>
          <a:blip r:embed="rId1"/>
          <a:stretch/>
        </p:blipFill>
        <p:spPr>
          <a:xfrm>
            <a:off x="6335640" y="2195640"/>
            <a:ext cx="3084480" cy="4136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40"/>
          <p:cNvPicPr/>
          <p:nvPr/>
        </p:nvPicPr>
        <p:blipFill>
          <a:blip r:embed="rId2"/>
          <a:stretch/>
        </p:blipFill>
        <p:spPr>
          <a:xfrm>
            <a:off x="6335640" y="2195640"/>
            <a:ext cx="308448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48000" y="396360"/>
            <a:ext cx="7275600" cy="1513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Плач Ярослав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319280" y="4788000"/>
            <a:ext cx="5329080" cy="194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33360" indent="0">
              <a:lnSpc>
                <a:spcPct val="8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Ярославна рано плачет в Путивле на забрал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436680" y="2050920"/>
            <a:ext cx="3333600" cy="5185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4032360" y="1908000"/>
            <a:ext cx="5635440" cy="288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36360" y="301320"/>
            <a:ext cx="683604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Плач Ярослав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499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468440" y="6240240"/>
            <a:ext cx="7462800" cy="952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.Фаворский. Плач Яросл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плачь рисунок"/>
          <p:cNvPicPr/>
          <p:nvPr/>
        </p:nvPicPr>
        <p:blipFill>
          <a:blip r:embed="rId1"/>
          <a:stretch/>
        </p:blipFill>
        <p:spPr>
          <a:xfrm>
            <a:off x="2376360" y="1332000"/>
            <a:ext cx="7499520" cy="4937040"/>
          </a:xfrm>
          <a:prstGeom prst="rect">
            <a:avLst/>
          </a:prstGeom>
          <a:ln w="0">
            <a:noFill/>
          </a:ln>
        </p:spPr>
      </p:pic>
      <p:pic>
        <p:nvPicPr>
          <p:cNvPr id="127" name="плачь.mp3" descr=""/>
          <p:cNvPicPr/>
          <p:nvPr/>
        </p:nvPicPr>
        <p:blipFill>
          <a:blip r:embed="rId2"/>
          <a:stretch/>
        </p:blipFill>
        <p:spPr>
          <a:xfrm>
            <a:off x="8373960" y="6240600"/>
            <a:ext cx="336600" cy="3348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33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6" dur="57112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Д.С.Лихач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2195280"/>
            <a:ext cx="5689440" cy="4560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33360" indent="-3333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Оно было, несомненно, написано автором, но автор чувствовал свою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вязь с устным словом, с устной поэзи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  автор чувствовал свое произведение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оизнесенным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писанное, оно сохраняет для нас все обаяние живого  устного слова –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лова горячего, убеждающег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олного самой искренней, самой душевной, сердечной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юбви к родин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олного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вер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тех, кому оно обращалос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http://nasledie-rus.ru/img/790000/790509s.jpg"/>
          <p:cNvPicPr/>
          <p:nvPr/>
        </p:nvPicPr>
        <p:blipFill>
          <a:blip r:embed="rId1"/>
          <a:stretch/>
        </p:blipFill>
        <p:spPr>
          <a:xfrm>
            <a:off x="6912000" y="1403280"/>
            <a:ext cx="2906640" cy="532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3640" y="301320"/>
            <a:ext cx="7269120" cy="1260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«Слово…» - величайшая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 патриотическая поэма Древней Рус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57520" cy="4988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3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дчинено великой патриотической идее –    идее патриотизма,  любви к род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бъединились традиции фольклора  и литературы, приметы разных жан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игорь ведёт войско"/>
          <p:cNvPicPr/>
          <p:nvPr/>
        </p:nvPicPr>
        <p:blipFill>
          <a:blip r:embed="rId1"/>
          <a:stretch/>
        </p:blipFill>
        <p:spPr>
          <a:xfrm>
            <a:off x="5832360" y="2050920"/>
            <a:ext cx="3719520" cy="498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4150"/>
                            </p:stCondLst>
                            <p:childTnLst>
                              <p:par>
                                <p:cTn id="3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144720" y="2340000"/>
            <a:ext cx="4321080" cy="4416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Весть о находке быстро распространилась. «Слово» было переписано, и список был отправлен Екатерине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49880" y="2117880"/>
            <a:ext cx="342288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страница"/>
          <p:cNvPicPr/>
          <p:nvPr/>
        </p:nvPicPr>
        <p:blipFill>
          <a:blip r:embed="rId1"/>
          <a:stretch/>
        </p:blipFill>
        <p:spPr>
          <a:xfrm>
            <a:off x="3240000" y="-828720"/>
            <a:ext cx="6445440" cy="7966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страница"/>
          <p:cNvPicPr/>
          <p:nvPr/>
        </p:nvPicPr>
        <p:blipFill>
          <a:blip r:embed="rId2"/>
          <a:stretch/>
        </p:blipFill>
        <p:spPr>
          <a:xfrm>
            <a:off x="3392640" y="-676440"/>
            <a:ext cx="6445080" cy="79660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575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ечатное издание «Слова» вышло в 1800 году. Из-за трудности чтения текста в печатное издание вкралось много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3080" y="1768320"/>
            <a:ext cx="4459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yar_ia93"/>
          <p:cNvPicPr/>
          <p:nvPr/>
        </p:nvPicPr>
        <p:blipFill>
          <a:blip r:embed="rId1"/>
          <a:stretch/>
        </p:blipFill>
        <p:spPr>
          <a:xfrm>
            <a:off x="5977080" y="1692360"/>
            <a:ext cx="347004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2266560"/>
            <a:ext cx="4457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о время пожара Москвы в 1812 году дом Мусина-Пушкина сгорел; сгорела и вся библиотека вместе с найденным сборником. Сохранилось первое печатное издание и рукописный экземпляр, посланный Екатерин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3080" y="1768320"/>
            <a:ext cx="4459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8" descr="0_91d0a_ade3a62c_XXL"/>
          <p:cNvPicPr/>
          <p:nvPr/>
        </p:nvPicPr>
        <p:blipFill>
          <a:blip r:embed="rId1"/>
          <a:stretch/>
        </p:blipFill>
        <p:spPr>
          <a:xfrm>
            <a:off x="5472000" y="3564000"/>
            <a:ext cx="4248360" cy="3058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0_aedd0_c838299f_XXL"/>
          <p:cNvPicPr/>
          <p:nvPr/>
        </p:nvPicPr>
        <p:blipFill>
          <a:blip r:embed="rId2"/>
          <a:stretch/>
        </p:blipFill>
        <p:spPr>
          <a:xfrm>
            <a:off x="5472000" y="395280"/>
            <a:ext cx="424836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сторическая основа Игорева пох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079640" y="2124000"/>
            <a:ext cx="8713800" cy="523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717480" y="272520"/>
            <a:ext cx="10437840" cy="1511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Древнерусские во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4360" y="2184120"/>
            <a:ext cx="44514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04000" y="1618920"/>
            <a:ext cx="3960720" cy="5111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43080" indent="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пишите снаряжение, оружие древних вои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Подтвердите  цитатами из текста  описание вои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Почему « куряне   опытные воины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357120" y="2195640"/>
            <a:ext cx="5079960" cy="49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92360" y="301320"/>
            <a:ext cx="69804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сторическая основа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горева пох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575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Если мы не прекратим междоусобий… то погибнет земля Русская и враги наши, половцы, возьмут землю Русск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ладимир Моно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3080" y="1768320"/>
            <a:ext cx="4459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8" descr="ANd9GcQupFTizICpm1C2f-UndEOGlNPbIBTwGQVb68yR9R2aBWMavMTW"/>
          <p:cNvPicPr/>
          <p:nvPr/>
        </p:nvPicPr>
        <p:blipFill>
          <a:blip r:embed="rId1"/>
          <a:stretch/>
        </p:blipFill>
        <p:spPr>
          <a:xfrm>
            <a:off x="5688000" y="1835280"/>
            <a:ext cx="37148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18920" y="301320"/>
            <a:ext cx="70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сторическая основа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горева пох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575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1183 году киевский князь Святослав Всеволодович провел удачный поход против половцев, разбил их и взял в плен хана Кобяка. Для закрепления успеха князь повторил поход в следующем году. Но князь Игорь Новгород-Северский, обещавший ему помочь, не смог участвовать в пох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3080" y="1768320"/>
            <a:ext cx="4459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ANd9GcQfn7IjyK6ZLaLfhiEH_ZOzdA5RYFRq9amWYrgbUUfnfEV_T4ZZ"/>
          <p:cNvPicPr/>
          <p:nvPr/>
        </p:nvPicPr>
        <p:blipFill>
          <a:blip r:embed="rId1"/>
          <a:stretch/>
        </p:blipFill>
        <p:spPr>
          <a:xfrm>
            <a:off x="5256360" y="1908000"/>
            <a:ext cx="41781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7:53:40Z</dcterms:created>
  <dc:creator/>
  <dc:description/>
  <dc:language>en-US</dc:language>
  <cp:lastModifiedBy>мурик</cp:lastModifiedBy>
  <dcterms:modified xsi:type="dcterms:W3CDTF">2016-11-14T20:46:29Z</dcterms:modified>
  <cp:revision>29</cp:revision>
  <dc:subject/>
  <dc:title>Слайд 1</dc:title>
</cp:coreProperties>
</file>