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3FF6-A2D7-4114-80F6-BE49741A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10E2-EEB9-49D2-8425-1AE88C1A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CD7-5D51-4B96-8503-4E9158B91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ABEE-0722-4637-B332-1E4144AE5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A940-D616-4DBC-9F45-B4A1B6659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45B5-1356-457E-92B4-9A47CA15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2246-B404-4F93-92C7-B9D7EE00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4E5B-A5BA-4703-B6B5-8F303B8B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22995-FDCC-4DCD-949C-4B9F69EAB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AC2E-ABE7-4A5D-99D0-1E47DC7E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E607-C3BC-4258-86B1-583F809D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513E-9812-4ABA-AF47-E51C4BF4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AA069-0636-43E6-AAE0-A777607D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1C5A-1370-40FB-A628-0D05061D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0E2C-354F-4ED9-A934-701DC37E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E042-4BDB-4874-ACAE-49F8F7A9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B0AC-8D64-458F-96C1-30F62443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B0F-896A-4EC7-8889-0EFA32B0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643B-A365-43E8-8C69-44B3AA346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46C-481E-4305-BCF4-92EE7801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BDD-BA4D-4950-8FA1-0126305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BB24-EF3F-4CD6-92CF-68B18821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D9ED-1588-4C0E-B2CF-08DAE0AD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668-33DD-4DCF-B6F8-BAEF1A8B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2B65-2ADC-43B9-9CF0-911EAE74D8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BBCE-3932-4D21-802E-6CE70F01BAC8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шение задач на дви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9880" y="4495320"/>
            <a:ext cx="46483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зентацию состави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дорова Ирина Викторо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РОСТЬ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ЕМ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S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мин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228600" y="2438280"/>
            <a:ext cx="1000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г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2133720" y="838080"/>
            <a:ext cx="1928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1143000" y="1905120"/>
            <a:ext cx="1071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TextBox 13"/>
          <p:cNvSpPr/>
          <p:nvPr/>
        </p:nvSpPr>
        <p:spPr>
          <a:xfrm>
            <a:off x="4724280" y="990720"/>
            <a:ext cx="857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т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extBox 14"/>
          <p:cNvSpPr/>
          <p:nvPr/>
        </p:nvSpPr>
        <p:spPr>
          <a:xfrm>
            <a:off x="3962520" y="2057400"/>
            <a:ext cx="857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Box 15"/>
          <p:cNvSpPr/>
          <p:nvPr/>
        </p:nvSpPr>
        <p:spPr>
          <a:xfrm>
            <a:off x="6324480" y="914400"/>
            <a:ext cx="2000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м</a:t>
            </a:r>
            <a:r>
              <a:rPr b="0" lang="en-US" sz="5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Box 17"/>
          <p:cNvSpPr/>
          <p:nvPr/>
        </p:nvSpPr>
        <p:spPr>
          <a:xfrm>
            <a:off x="1066680" y="3505320"/>
            <a:ext cx="642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Box 18"/>
          <p:cNvSpPr/>
          <p:nvPr/>
        </p:nvSpPr>
        <p:spPr>
          <a:xfrm>
            <a:off x="838080" y="4952880"/>
            <a:ext cx="10717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к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2362320" y="2743200"/>
            <a:ext cx="128592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ут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extBox 20"/>
          <p:cNvSpPr/>
          <p:nvPr/>
        </p:nvSpPr>
        <p:spPr>
          <a:xfrm>
            <a:off x="5486400" y="2971800"/>
            <a:ext cx="1000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м²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TextBox 21"/>
          <p:cNvSpPr/>
          <p:nvPr/>
        </p:nvSpPr>
        <p:spPr>
          <a:xfrm>
            <a:off x="7391520" y="4495680"/>
            <a:ext cx="714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ц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Box 22"/>
          <p:cNvSpPr/>
          <p:nvPr/>
        </p:nvSpPr>
        <p:spPr>
          <a:xfrm>
            <a:off x="5562720" y="4876920"/>
            <a:ext cx="642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ч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TextBox 23"/>
          <p:cNvSpPr/>
          <p:nvPr/>
        </p:nvSpPr>
        <p:spPr>
          <a:xfrm>
            <a:off x="3124080" y="4800600"/>
            <a:ext cx="1143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дм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7086600" y="2514600"/>
            <a:ext cx="1357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м</a:t>
            </a:r>
            <a:r>
              <a:rPr b="0" lang="en-US" sz="5600" spc="-1" strike="noStrike">
                <a:solidFill>
                  <a:srgbClr val="000000"/>
                </a:solidFill>
                <a:latin typeface="Rockwell"/>
              </a:rPr>
              <a:t>/</a:t>
            </a:r>
            <a:r>
              <a:rPr b="0" lang="ru-RU" sz="5600" spc="-1" strike="noStrike">
                <a:solidFill>
                  <a:srgbClr val="000000"/>
                </a:solidFill>
                <a:latin typeface="Cambria"/>
              </a:rPr>
              <a:t>с</a:t>
            </a:r>
            <a:endParaRPr b="0" lang="en-US" sz="5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КОРОСТЬ: КМ/С, КМ/Ч, М/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РЕМЯ: Ч, СЕК, СУТ, 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ССТОЯНИЕ: СМ, ДМ, М,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9" name="Picture 4" descr="ФОРМУЛ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4" descr="ВИД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357120" y="285840"/>
            <a:ext cx="8572680" cy="82548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Мотоциклист проехал 180 км со скоростью 6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. Сколько времени он затратил на дорог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Рисунок 2" descr="r2-03.jpg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319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228600" y="57913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3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214200" y="0"/>
            <a:ext cx="8786880" cy="119124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Велосипедисты ехали 2 часа со скоростью 15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 и 3 часа со скоростью 1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. Какое расстояние проехали велосипедисты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Рисунок 2" descr="bike1.JPG"/>
          <p:cNvPicPr/>
          <p:nvPr/>
        </p:nvPicPr>
        <p:blipFill>
          <a:blip r:embed="rId1"/>
          <a:stretch/>
        </p:blipFill>
        <p:spPr>
          <a:xfrm>
            <a:off x="1219320" y="1523880"/>
            <a:ext cx="6858000" cy="4560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3"/>
          <p:cNvSpPr/>
          <p:nvPr/>
        </p:nvSpPr>
        <p:spPr>
          <a:xfrm>
            <a:off x="428760" y="6072120"/>
            <a:ext cx="44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14200" y="500040"/>
            <a:ext cx="8715600" cy="82548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Автобус ехал 3 часа со скоростью 6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 и 2 часа со скоростью 50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. Какое расстояние проехал автобус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Рисунок 2" descr="coach.jpg"/>
          <p:cNvPicPr/>
          <p:nvPr/>
        </p:nvPicPr>
        <p:blipFill>
          <a:blip r:embed="rId1"/>
          <a:stretch/>
        </p:blipFill>
        <p:spPr>
          <a:xfrm>
            <a:off x="2000160" y="1428840"/>
            <a:ext cx="5396040" cy="43196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3"/>
          <p:cNvSpPr/>
          <p:nvPr/>
        </p:nvSpPr>
        <p:spPr>
          <a:xfrm>
            <a:off x="428760" y="5929200"/>
            <a:ext cx="36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28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1"/>
          <p:cNvSpPr/>
          <p:nvPr/>
        </p:nvSpPr>
        <p:spPr>
          <a:xfrm>
            <a:off x="214200" y="571680"/>
            <a:ext cx="8929800" cy="825480"/>
          </a:xfrm>
          <a:prstGeom prst="rect">
            <a:avLst/>
          </a:prstGeom>
          <a:gradFill rotWithShape="0">
            <a:gsLst>
              <a:gs pos="0">
                <a:srgbClr val="def9ed"/>
              </a:gs>
              <a:gs pos="100000">
                <a:srgbClr val="c9f7e2"/>
              </a:gs>
            </a:gsLst>
            <a:lin ang="5400000"/>
          </a:gradFill>
          <a:ln w="6480">
            <a:solidFill>
              <a:srgbClr val="aaef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Какое расстояние проплывёт катер за 4 часа, если будет плыть со скоростью 40 км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</a:rPr>
              <a:t>ч?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500040" y="607212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вет: 1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Рисунок 4" descr="images5.jpg"/>
          <p:cNvPicPr/>
          <p:nvPr/>
        </p:nvPicPr>
        <p:blipFill>
          <a:blip r:embed="rId1"/>
          <a:stretch/>
        </p:blipFill>
        <p:spPr>
          <a:xfrm>
            <a:off x="1712880" y="1646280"/>
            <a:ext cx="576756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 двух городов А и Б, расстояние между которыми 960 км, шли два поезда. Первый шел со скоростью 80 км/ч, а другой 90 км/ч. Какое расстояние будет между ними через 4 часа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www.igui.mobi/uploads/posts/2011-04/1303302995_27032f052650.jpg"/>
          <p:cNvPicPr/>
          <p:nvPr/>
        </p:nvPicPr>
        <p:blipFill>
          <a:blip r:embed="rId1"/>
          <a:srcRect l="0" t="0" r="0" b="32427"/>
          <a:stretch/>
        </p:blipFill>
        <p:spPr>
          <a:xfrm>
            <a:off x="0" y="0"/>
            <a:ext cx="3135240" cy="299736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2"/>
          <p:cNvSpPr/>
          <p:nvPr/>
        </p:nvSpPr>
        <p:spPr>
          <a:xfrm>
            <a:off x="287280" y="2457360"/>
            <a:ext cx="885672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Три пути ведут к знанию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путь размышления — это путь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самый благородный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путь подражания — это путь самый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легкий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и путь опыта — это путь самый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                                      </a:t>
            </a:r>
            <a:r>
              <a:rPr b="1" i="1" lang="en-US" sz="3600" spc="-1" strike="noStrike">
                <a:solidFill>
                  <a:srgbClr val="000000"/>
                </a:solidFill>
                <a:latin typeface="Cambria"/>
              </a:rPr>
              <a:t>горький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mbria"/>
              </a:rPr>
              <a:t>                                                          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Cambria"/>
              </a:rPr>
              <a:t>Конфуц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Line 4"/>
          <p:cNvSpPr/>
          <p:nvPr/>
        </p:nvSpPr>
        <p:spPr>
          <a:xfrm>
            <a:off x="1295280" y="3809880"/>
            <a:ext cx="6553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AutoShape 5"/>
          <p:cNvSpPr/>
          <p:nvPr/>
        </p:nvSpPr>
        <p:spPr>
          <a:xfrm rot="16200000">
            <a:off x="3924360" y="1790640"/>
            <a:ext cx="1218960" cy="6477120"/>
          </a:xfrm>
          <a:custGeom>
            <a:avLst/>
            <a:gdLst>
              <a:gd name="textAreaLeft" fmla="*/ 778680 w 1218960"/>
              <a:gd name="textAreaRight" fmla="*/ 1219320 w 1218960"/>
              <a:gd name="textAreaTop" fmla="*/ 69480 h 6477120"/>
              <a:gd name="textAreaBottom" fmla="*/ 6407640 h 647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1"/>
                  <a:pt x="10800" y="741"/>
                </a:cubicBezTo>
                <a:lnTo>
                  <a:pt x="10800" y="9714"/>
                </a:lnTo>
                <a:cubicBezTo>
                  <a:pt x="10800" y="10085"/>
                  <a:pt x="5400" y="10455"/>
                  <a:pt x="0" y="10455"/>
                </a:cubicBezTo>
                <a:cubicBezTo>
                  <a:pt x="5400" y="10455"/>
                  <a:pt x="10800" y="10826"/>
                  <a:pt x="10800" y="11196"/>
                </a:cubicBezTo>
                <a:lnTo>
                  <a:pt x="10800" y="20859"/>
                </a:lnTo>
                <a:cubicBezTo>
                  <a:pt x="10800" y="2123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1295280" y="2895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Line 7"/>
          <p:cNvSpPr/>
          <p:nvPr/>
        </p:nvSpPr>
        <p:spPr>
          <a:xfrm flipH="1">
            <a:off x="6629400" y="29718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1143000" y="198108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14300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6248520" y="21337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6095880" y="55627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 = 4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85800" y="3048120"/>
            <a:ext cx="83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57412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696080" y="3048120"/>
            <a:ext cx="83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160" y="380520"/>
            <a:ext cx="8421480" cy="575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0 + 90 = 170 (км/ч) –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сближени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70 х 4=680 (км) – расстояние за 4 час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Clr>
                <a:srgbClr val="3333cc"/>
              </a:buClr>
              <a:buSzPct val="6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60 – 680 = 280 (км) – между поездами через 4 час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вет : при встречном движении через 4 часа между поездами будет 280 к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981080" y="3886200"/>
            <a:ext cx="624852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Line 5"/>
          <p:cNvSpPr/>
          <p:nvPr/>
        </p:nvSpPr>
        <p:spPr>
          <a:xfrm>
            <a:off x="3657600" y="350532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Line 6"/>
          <p:cNvSpPr/>
          <p:nvPr/>
        </p:nvSpPr>
        <p:spPr>
          <a:xfrm>
            <a:off x="6095880" y="342900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AutoShape 7"/>
          <p:cNvSpPr/>
          <p:nvPr/>
        </p:nvSpPr>
        <p:spPr>
          <a:xfrm rot="16200000">
            <a:off x="4495680" y="3657240"/>
            <a:ext cx="762120" cy="2438280"/>
          </a:xfrm>
          <a:custGeom>
            <a:avLst/>
            <a:gdLst>
              <a:gd name="textAreaLeft" fmla="*/ 487080 w 762120"/>
              <a:gd name="textAreaRight" fmla="*/ 762480 w 76212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3429000" y="30481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867280" y="3124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Б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514600" y="3048120"/>
            <a:ext cx="91440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6248520" y="3124080"/>
            <a:ext cx="990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3886200" y="53341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960 к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2514600" y="25909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6172200" y="26668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15"/>
          <p:cNvSpPr/>
          <p:nvPr/>
        </p:nvSpPr>
        <p:spPr>
          <a:xfrm>
            <a:off x="6781680" y="5181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 4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80520" y="-360"/>
            <a:ext cx="8574120" cy="61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) 80 + 90 = 170 (км/ч) – скорость удаления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2) 170 х 4 = 680 (км) расстояние за 4 час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3) 960 + 680 = 1640 (км)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Ответ: при движении в противоположном направлении между поездами будет 1640 км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26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5"/>
          <p:cNvSpPr/>
          <p:nvPr/>
        </p:nvSpPr>
        <p:spPr>
          <a:xfrm>
            <a:off x="1295280" y="3733920"/>
            <a:ext cx="617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9907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441972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8"/>
          <p:cNvSpPr/>
          <p:nvPr/>
        </p:nvSpPr>
        <p:spPr>
          <a:xfrm>
            <a:off x="46483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9"/>
          <p:cNvSpPr/>
          <p:nvPr/>
        </p:nvSpPr>
        <p:spPr>
          <a:xfrm>
            <a:off x="1295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1371600" y="28195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1"/>
          <p:cNvSpPr/>
          <p:nvPr/>
        </p:nvSpPr>
        <p:spPr>
          <a:xfrm>
            <a:off x="4724280" y="2895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129528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4572000" y="2133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AutoShape 14"/>
          <p:cNvSpPr/>
          <p:nvPr/>
        </p:nvSpPr>
        <p:spPr>
          <a:xfrm rot="16200000">
            <a:off x="2857320" y="262836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205740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9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640080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  4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97800" cy="55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90 х 4 = 360 (км) – прошел первый поезд за 4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80 х 4 = 320 ( км) – прошел второй поезд за 4 ча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960 – 360 = 600 ( км) – осталось проехать до города Б первому поез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00 + 320 = 920 (км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 : при движении вдогонку расстояние между поездами будет 920 к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7264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3"/>
          <p:cNvSpPr/>
          <p:nvPr/>
        </p:nvSpPr>
        <p:spPr>
          <a:xfrm>
            <a:off x="1295280" y="3733920"/>
            <a:ext cx="61722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990720" y="30481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4419720" y="30481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6"/>
          <p:cNvSpPr/>
          <p:nvPr/>
        </p:nvSpPr>
        <p:spPr>
          <a:xfrm>
            <a:off x="4648320" y="3505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12952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371600" y="28195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4724280" y="289548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1295280" y="21337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8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572000" y="2133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90 км/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AutoShape 12"/>
          <p:cNvSpPr/>
          <p:nvPr/>
        </p:nvSpPr>
        <p:spPr>
          <a:xfrm rot="16200000">
            <a:off x="2857320" y="262836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057400" y="4876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960 к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14"/>
          <p:cNvSpPr/>
          <p:nvPr/>
        </p:nvSpPr>
        <p:spPr>
          <a:xfrm>
            <a:off x="6400800" y="51055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 =  4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ча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80520" y="456840"/>
            <a:ext cx="85741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80 х 4 = 320 (км) – пройдет за 4 часа первый поез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90 х 4 = 360 (км) – пройдет за 4 часа второй поез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960 – 320 = 640 (км) – осталось до города Б первому поезду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640 + 360 = 1000 (км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вет: придвижении с отставанием между поездами будет 1000 к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ответ задачи зависит от направления движущихся объект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Номер слайда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4E84-E9EF-4F4C-B990-FABD23BD42A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Рисунок 2" descr="http://festival.1september.ru/articles/538151/15.jpg"/>
          <p:cNvPicPr/>
          <p:nvPr/>
        </p:nvPicPr>
        <p:blipFill>
          <a:blip r:embed="rId1"/>
          <a:stretch/>
        </p:blipFill>
        <p:spPr>
          <a:xfrm>
            <a:off x="304920" y="45720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Проверк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82A4-1BCB-483F-A59C-BB50C170B47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Рисунок 3" descr="http://festival.1september.ru/articles/538151/16.jpg"/>
          <p:cNvPicPr/>
          <p:nvPr/>
        </p:nvPicPr>
        <p:blipFill>
          <a:blip r:embed="rId1"/>
          <a:stretch/>
        </p:blipFill>
        <p:spPr>
          <a:xfrm>
            <a:off x="533520" y="1447920"/>
            <a:ext cx="83055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Рефлекс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я узнал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е было…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Хочу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не нужно обратить внимание на…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 х 9 = … Е         9 х 5 = … Е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 х 4 = … И        6 х 9 = … И            3 х 8 = … Д         8 х 6 = … Н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 х 7 = … Ж       6 х 5 =…  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8 х 9 = 72 Е         9 х 5 = 45 Е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9 х 4 = 36 И        6 х 9 = 54  И            3 х 8 = 24 Д         8 х 6 = 48 Н       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6 х 7 = 42 Ж       6 х 5 = 30  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33520" y="2057400"/>
          <a:ext cx="8153280" cy="1523880"/>
        </p:xfrm>
        <a:graphic>
          <a:graphicData uri="http://schemas.openxmlformats.org/drawingml/2006/table">
            <a:tbl>
              <a:tblPr/>
              <a:tblGrid>
                <a:gridCol w="1019160"/>
                <a:gridCol w="1019160"/>
                <a:gridCol w="1019160"/>
                <a:gridCol w="1019160"/>
                <a:gridCol w="1019160"/>
                <a:gridCol w="1019160"/>
                <a:gridCol w="1019160"/>
                <a:gridCol w="1019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скорость"/>
          <p:cNvPicPr/>
          <p:nvPr/>
        </p:nvPicPr>
        <p:blipFill>
          <a:blip r:embed="rId1"/>
          <a:stretch/>
        </p:blipFill>
        <p:spPr>
          <a:xfrm>
            <a:off x="0" y="304920"/>
            <a:ext cx="8763120" cy="558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время"/>
          <p:cNvPicPr/>
          <p:nvPr/>
        </p:nvPicPr>
        <p:blipFill>
          <a:blip r:embed="rId1"/>
          <a:stretch/>
        </p:blipFill>
        <p:spPr>
          <a:xfrm>
            <a:off x="0" y="0"/>
            <a:ext cx="9372600" cy="608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Picture 4" descr="расстояние"/>
          <p:cNvPicPr/>
          <p:nvPr/>
        </p:nvPicPr>
        <p:blipFill>
          <a:blip r:embed="rId1"/>
          <a:stretch/>
        </p:blipFill>
        <p:spPr>
          <a:xfrm>
            <a:off x="0" y="380880"/>
            <a:ext cx="87631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3-15T08:14:0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