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24B-3881-4C8A-9D65-D571F49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A54-5B09-4BC8-BE66-1D469E4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8C6-4986-4483-9FAF-41DD216F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381-DA38-4F38-A66E-29F08CEC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6A85-5A95-41E2-972E-DAE831C45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A20C-4DFC-423D-9866-C64769DF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5D30-9AB1-41D4-8BCF-DF81470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261-7A24-459A-BE92-A9D03E31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9AF2-3D8A-4360-9143-82DD3CC2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834B-F28F-4AAF-B0CA-86483167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7E21-A08B-4551-AFD3-CF2152E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DF4-2093-4E5E-B143-E88B6233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91FB-D51A-4137-94B8-3F4B3DA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D335-9B1F-478A-AA7C-63EABCD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71EF-26B4-4D77-A6B5-5CD801B1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2322-4988-441C-B9AF-53330312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351C-3E41-4A87-8129-DA9AD075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2C8-AD43-4D7F-8B7E-CDE2B0F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973-F924-49B9-9E1C-611DAF24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1E2-372C-4DD2-AC32-DC7EF9BC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1E5-A0CA-440D-BF70-A25035B1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B4A-5F6C-434F-9EE1-02CB350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C63-C679-4F1A-9081-E3A9E7F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699-6218-4B47-B552-4DABC4A1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F87C-0041-4EF7-86B3-B2EA91626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97E4-2E84-41C1-ACE8-649AA653241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 задач на дви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44953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ентацию состав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дорова Ирина Викторо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РОСТЬ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ЕМ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мин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28600" y="2438280"/>
            <a:ext cx="1000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133720" y="838080"/>
            <a:ext cx="1928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1143000" y="1905120"/>
            <a:ext cx="1071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4724280" y="990720"/>
            <a:ext cx="857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962520" y="2057400"/>
            <a:ext cx="857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324480" y="914400"/>
            <a:ext cx="2000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1066680" y="3505320"/>
            <a:ext cx="642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838080" y="4952880"/>
            <a:ext cx="1071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2362320" y="2743200"/>
            <a:ext cx="1285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5486400" y="2971800"/>
            <a:ext cx="1000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7391520" y="4495680"/>
            <a:ext cx="714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5562720" y="4876920"/>
            <a:ext cx="642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3124080" y="4800600"/>
            <a:ext cx="1143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7086600" y="2514600"/>
            <a:ext cx="1357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РОСТЬ: КМ/С, КМ/Ч, М/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ЕМЯ: Ч, СЕК, СУТ, 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ТОЯНИЕ: СМ, ДМ, М,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ФОРМУ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ВИ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357120" y="285840"/>
            <a:ext cx="8572680" cy="82548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Мотоциклист проехал 180 км со скоростью 6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. Сколько времени он затратил на дорог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Рисунок 2" descr="r2-03.jpg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319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28600" y="5791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3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14200" y="0"/>
            <a:ext cx="8786880" cy="119124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Велосипедисты ехали 2 часа со скоростью 15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 и 3 часа со скоростью 1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. Какое расстояние проехали велосипедист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Рисунок 2" descr="bike1.JPG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560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428760" y="6072120"/>
            <a:ext cx="44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14200" y="500040"/>
            <a:ext cx="8715600" cy="82548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Автобус ехал 3 часа со скоростью 6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 и 2 часа со скоростью 50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. Какое расстояние проехал автобус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Рисунок 2" descr="coach.jpg"/>
          <p:cNvPicPr/>
          <p:nvPr/>
        </p:nvPicPr>
        <p:blipFill>
          <a:blip r:embed="rId1"/>
          <a:stretch/>
        </p:blipFill>
        <p:spPr>
          <a:xfrm>
            <a:off x="2000160" y="1428840"/>
            <a:ext cx="5396040" cy="4319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28760" y="592920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28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571680"/>
            <a:ext cx="8929800" cy="82548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акое расстояние проплывёт катер за 4 часа, если будет плыть со скоростью 4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500040" y="60721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1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Рисунок 4" descr="images5.jpg"/>
          <p:cNvPicPr/>
          <p:nvPr/>
        </p:nvPicPr>
        <p:blipFill>
          <a:blip r:embed="rId1"/>
          <a:stretch/>
        </p:blipFill>
        <p:spPr>
          <a:xfrm>
            <a:off x="1712880" y="1646280"/>
            <a:ext cx="57675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двух городов А и Б, расстояние между которыми 960 км, шли два поезда. Первый шел со скоростью 80 км/ч, а другой 90 км/ч. Какое расстояние будет между ними через 4 час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igui.mobi/uploads/posts/2011-04/1303302995_27032f052650.jpg"/>
          <p:cNvPicPr/>
          <p:nvPr/>
        </p:nvPicPr>
        <p:blipFill>
          <a:blip r:embed="rId1"/>
          <a:srcRect l="0" t="0" r="0" b="32427"/>
          <a:stretch/>
        </p:blipFill>
        <p:spPr>
          <a:xfrm>
            <a:off x="0" y="0"/>
            <a:ext cx="3135240" cy="2997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287280" y="2457360"/>
            <a:ext cx="8856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Три пути ведут к знанию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путь размышления — это путь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самый благородный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путь подражания — это путь самый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лег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и путь опыта — это путь сам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горьки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Конфу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4"/>
          <p:cNvSpPr/>
          <p:nvPr/>
        </p:nvSpPr>
        <p:spPr>
          <a:xfrm>
            <a:off x="1295280" y="3809880"/>
            <a:ext cx="655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 rot="16200000">
            <a:off x="3924360" y="1790640"/>
            <a:ext cx="1218960" cy="6477120"/>
          </a:xfrm>
          <a:custGeom>
            <a:avLst/>
            <a:gdLst>
              <a:gd name="textAreaLeft" fmla="*/ 778680 w 1218960"/>
              <a:gd name="textAreaRight" fmla="*/ 1219320 w 1218960"/>
              <a:gd name="textAreaTop" fmla="*/ 69480 h 6477120"/>
              <a:gd name="textAreaBottom" fmla="*/ 6407640 h 647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1"/>
                  <a:pt x="10800" y="741"/>
                </a:cubicBezTo>
                <a:lnTo>
                  <a:pt x="10800" y="9714"/>
                </a:lnTo>
                <a:cubicBezTo>
                  <a:pt x="10800" y="10085"/>
                  <a:pt x="5400" y="10455"/>
                  <a:pt x="0" y="10455"/>
                </a:cubicBezTo>
                <a:cubicBezTo>
                  <a:pt x="5400" y="10455"/>
                  <a:pt x="10800" y="10826"/>
                  <a:pt x="10800" y="11196"/>
                </a:cubicBezTo>
                <a:lnTo>
                  <a:pt x="10800" y="20859"/>
                </a:lnTo>
                <a:cubicBezTo>
                  <a:pt x="10800" y="2123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295280" y="2895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6629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43000" y="1981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14300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248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095880" y="55627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 = 4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85800" y="3048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7412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696080" y="30481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42148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0 + 90 = 170 (км/ч) –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ближ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70 х 4=680 (км) – расстояние за 4 час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60 – 680 = 280 (км) – между поездами через 4 час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вет : при встречном движении через 4 часа между поездами будет 280 к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981080" y="3886200"/>
            <a:ext cx="624852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3657600" y="3505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6095880" y="34290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7"/>
          <p:cNvSpPr/>
          <p:nvPr/>
        </p:nvSpPr>
        <p:spPr>
          <a:xfrm rot="16200000">
            <a:off x="4495680" y="3657240"/>
            <a:ext cx="762120" cy="243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429000" y="3048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86728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514600" y="30481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6248520" y="312408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886200" y="5334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96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251460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172200" y="2666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6781680" y="5181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 4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85741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) 80 + 90 = 170 (км/ч) – скорость удал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) 170 х 4 = 680 (км) расстояние за 4 час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) 960 + 680 = 1640 (км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вет: при движении в противоположном направлении между поездами будет 1640 к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26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295280" y="3733920"/>
            <a:ext cx="617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907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41972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46483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1295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1371600" y="28195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4724280" y="2895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29528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4572000" y="2133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14"/>
          <p:cNvSpPr/>
          <p:nvPr/>
        </p:nvSpPr>
        <p:spPr>
          <a:xfrm rot="16200000">
            <a:off x="2857320" y="262836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05740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9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640080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  4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978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90 х 4 = 360 (км) – прошел первый поезд за 4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80 х 4 = 320 ( км) – прошел второй поезд за 4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960 – 360 = 600 ( км) – осталось проехать до города Б первому поез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00 + 320 = 920 (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 : при движении вдогонку расстояние между поездами будет 920 к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26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1295280" y="3733920"/>
            <a:ext cx="617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907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41972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46483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295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371600" y="28195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4724280" y="2895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29528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572000" y="2133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12"/>
          <p:cNvSpPr/>
          <p:nvPr/>
        </p:nvSpPr>
        <p:spPr>
          <a:xfrm rot="16200000">
            <a:off x="2857320" y="262836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05740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9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640080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  4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741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80 х 4 = 320 (км) – пройдет за 4 часа первый поез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90 х 4 = 360 (км) – пройдет за 4 часа второй поез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960 – 320 = 640 (км) – осталось до города Б первому поез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640 + 360 = 1000 (км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придвижении с отставанием между поездами будет 1000 к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твет задачи зависит от направления движущихся объект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0599-DDC7-41BE-B64B-0C56C714CD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Рисунок 2" descr="http://festival.1september.ru/articles/538151/15.jpg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9BE1-2742-4475-8742-B5CD421F0F6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Рисунок 3" descr="http://festival.1september.ru/articles/538151/16.jpg"/>
          <p:cNvPicPr/>
          <p:nvPr/>
        </p:nvPicPr>
        <p:blipFill>
          <a:blip r:embed="rId1"/>
          <a:stretch/>
        </p:blipFill>
        <p:spPr>
          <a:xfrm>
            <a:off x="533520" y="1447920"/>
            <a:ext cx="8305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я узнал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е было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чу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е нужно обратить внимание на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 х 9 = … Е         9 х 5 = … Е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 х 4 = … И        6 х 9 = … И            3 х 8 = … Д         8 х 6 = … Н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 х 7 = … Ж       6 х 5 =…  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 х 9 = 72 Е         9 х 5 = 45 Е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 х 4 = 36 И        6 х 9 = 54  И            3 х 8 = 24 Д         8 х 6 = 48 Н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 х 7 = 42 Ж       6 х 5 = 30  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2057400"/>
          <a:ext cx="8153280" cy="1523880"/>
        </p:xfrm>
        <a:graphic>
          <a:graphicData uri="http://schemas.openxmlformats.org/drawingml/2006/table">
            <a:tbl>
              <a:tblPr/>
              <a:tblGrid>
                <a:gridCol w="1019160"/>
                <a:gridCol w="1019160"/>
                <a:gridCol w="1019160"/>
                <a:gridCol w="1019160"/>
                <a:gridCol w="1019160"/>
                <a:gridCol w="1019160"/>
                <a:gridCol w="1019160"/>
                <a:gridCol w="1019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скорость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время"/>
          <p:cNvPicPr/>
          <p:nvPr/>
        </p:nvPicPr>
        <p:blipFill>
          <a:blip r:embed="rId1"/>
          <a:stretch/>
        </p:blipFill>
        <p:spPr>
          <a:xfrm>
            <a:off x="0" y="0"/>
            <a:ext cx="9372600" cy="60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расстояние"/>
          <p:cNvPicPr/>
          <p:nvPr/>
        </p:nvPicPr>
        <p:blipFill>
          <a:blip r:embed="rId1"/>
          <a:stretch/>
        </p:blipFill>
        <p:spPr>
          <a:xfrm>
            <a:off x="0" y="380880"/>
            <a:ext cx="8763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3-15T08:14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