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.png" ContentType="image/png"/>
  <Override PartName="/ppt/media/image2.jpeg" ContentType="image/jpeg"/>
  <Override PartName="/ppt/media/image4.gif" ContentType="image/gif"/>
  <Override PartName="/ppt/media/image13.png" ContentType="image/png"/>
  <Override PartName="/ppt/media/image7.wmf" ContentType="image/x-wmf"/>
  <Override PartName="/ppt/media/image12.png" ContentType="image/png"/>
  <Override PartName="/ppt/media/image14.jpeg" ContentType="image/jpeg"/>
  <Override PartName="/ppt/media/image5.gif" ContentType="image/gif"/>
  <Override PartName="/ppt/media/image3.gif" ContentType="image/gif"/>
  <Override PartName="/ppt/media/image6.png" ContentType="image/png"/>
  <Override PartName="/ppt/media/image8.jpeg" ContentType="image/jpeg"/>
  <Override PartName="/ppt/media/image9.gif" ContentType="image/gi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4C13-7B68-42DF-9115-70E856CAA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на слайдах дается постепенно с помощью анимаций, поэтому в комментариях к слайдам будет указано что и за чем появляется, каждая цифра – клик мыш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редлога в словосочета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клик мышкой – русское словосочетание, после перевода его ребенком: второй клик –английский вариант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клик мышкой – появляется шар, уч-ся называют предлог, следующий клик – этот предлог появляется на экра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с картин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яетс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on the picture”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читель поясняет, что в этом случае, имеется в виду, что что-то находится на поверхности картины, например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летает баб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яетс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in the pictu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огично с фотограф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«Ули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яетс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in the stree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яется смайл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дает объяс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between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ъясняет, что этот предлог указывает наличие предмета «между» каких-то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яг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бло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предложения с предлог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редлога в словосочета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клик мышкой – русское словосочетание, после перевода его ребенком: второй клик –английский вариант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next to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ъясняет, что этот предлог указывает наличие предмета «рядом» с каким-то объек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и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предложения с предлог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редлога в словосочета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клик мышкой – русское словосочетание, после перевода его ребенком: второй клик –английский вариант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behind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ъясняет, что этот предлог указывает наличие предмета «за» каким-то объек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и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предложения с предлог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редлога в словосочета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клик мышкой – русское словосочетание, после перевода его ребенком: второй клик –английский вариант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говорит, что предлоги места нам нужны для того, чтобы указать местоположение предмета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Появляется ша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носительно другого предмета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Появляется тум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. Например на чем-т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перемещение ша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ядом с ни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перемещение ша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д ним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перемещение ша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за ни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6. перемещение шар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7. Предлоги места на русс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in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ъясняет, что этот предлог указывает наличие предмета «в» каком-то мес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зинка со зме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предложения с предлог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редлога в словосочета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клик мышкой – русское словосочетание, после перевода его ребенком: второй клик –английский вариант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ъясняет, что этот предлог указывает наличие предмета «на» какой-то поверх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л с час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предложения с предлог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редлога в словосочета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клик мышкой – русское словосочетание, после перевода его ребенком: второй клик –английский вариант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under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ъясняет, что этот предлог указывает наличие предмета «под» каким-то объек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яг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предложения с предлог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редлога в словосочета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клик мышкой – русское словосочетание, после перевода его ребенком: второй клик –английский вариант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above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ъясняет, что этот предлог указывает наличие предмета «над» каким-то объек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яг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предложения с предлог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2F5-D870-471E-BC4A-51BAE4D3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1B9-6444-46A9-BEED-4773C725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DC4-FBDD-4223-B786-E178FC73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6220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82948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9492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6220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82948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4D1-0F95-4805-A9D3-6D03B216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A4C9-FCCE-471F-B79C-7AEC2E49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47D7-0222-4A54-8175-DB2FCF4C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9C85-D4F3-4D4B-974D-0B0DD5C7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91F1-E010-4B31-BA8B-74B7596C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B6A8-B086-47F7-B8CC-2AF26DBF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42640" y="2590560"/>
            <a:ext cx="70866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58F1-23B6-4C1E-AEAA-1DD70A4E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BBC9-4869-4409-8F79-7777E78C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39B-C4D2-4369-A1DA-88339C70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6C63-4E21-4EDA-B47B-C3A644A9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D32E-37A5-4FB1-9927-1B333345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F580-4605-4390-A816-EC6D6852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8F6D-A8ED-4C70-8754-6B544FAF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6220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82948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9492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6220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82948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8F96-756F-477A-AC88-715188E9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A35-5FBE-45B7-AFD3-8BAF3E13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EDF-E39A-4F36-9408-10529305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269-9D2E-46E9-AE45-E9204E23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142640" y="2590560"/>
            <a:ext cx="70866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CA4-AB56-45BB-8690-AC8225C5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C7A-570B-4EB8-B83E-76BA94EA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F19-A174-4553-891C-61DD1D51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B2F8-3FEA-44CD-B148-B48A34E2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281160"/>
            <a:ext cx="9155160" cy="1620720"/>
          </a:xfrm>
          <a:custGeom>
            <a:avLst/>
            <a:gdLst/>
            <a:ahLst/>
            <a:rect l="l" t="t" r="r" b="b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20520" y="533520"/>
            <a:ext cx="9161280" cy="1006200"/>
          </a:xfrm>
          <a:custGeom>
            <a:avLst/>
            <a:gdLst/>
            <a:ahLst/>
            <a:rect l="l" t="t" r="r" b="b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740720" y="347760"/>
            <a:ext cx="387360" cy="366480"/>
            <a:chOff x="7740720" y="347760"/>
            <a:chExt cx="387360" cy="366480"/>
          </a:xfrm>
        </p:grpSpPr>
        <p:sp>
          <p:nvSpPr>
            <p:cNvPr id="3" name=""/>
            <p:cNvSpPr/>
            <p:nvPr/>
          </p:nvSpPr>
          <p:spPr>
            <a:xfrm>
              <a:off x="7740720" y="347760"/>
              <a:ext cx="387360" cy="36648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40720" y="347760"/>
              <a:ext cx="258120" cy="24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8153280" y="54000"/>
            <a:ext cx="609840" cy="592200"/>
            <a:chOff x="8153280" y="54000"/>
            <a:chExt cx="609840" cy="592200"/>
          </a:xfrm>
        </p:grpSpPr>
        <p:sp>
          <p:nvSpPr>
            <p:cNvPr id="6" name=""/>
            <p:cNvSpPr/>
            <p:nvPr/>
          </p:nvSpPr>
          <p:spPr>
            <a:xfrm>
              <a:off x="8153280" y="54000"/>
              <a:ext cx="609840" cy="5922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53280" y="152640"/>
              <a:ext cx="508320" cy="39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171360" y="819000"/>
            <a:ext cx="720720" cy="762120"/>
            <a:chOff x="171360" y="819000"/>
            <a:chExt cx="720720" cy="762120"/>
          </a:xfrm>
        </p:grpSpPr>
        <p:sp>
          <p:nvSpPr>
            <p:cNvPr id="9" name=""/>
            <p:cNvSpPr/>
            <p:nvPr/>
          </p:nvSpPr>
          <p:spPr>
            <a:xfrm>
              <a:off x="171360" y="819000"/>
              <a:ext cx="720720" cy="76212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71360" y="946080"/>
              <a:ext cx="600480" cy="507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1DC1-A793-4D48-9406-79594CEB3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9360" y="1447920"/>
            <a:ext cx="9164520" cy="3832200"/>
          </a:xfrm>
          <a:custGeom>
            <a:avLst/>
            <a:gdLst/>
            <a:ahLst/>
            <a:rect l="l" t="t" r="r" b="b"/>
            <a:pathLst>
              <a:path w="5773" h="2414">
                <a:moveTo>
                  <a:pt x="12" y="124"/>
                </a:moveTo>
                <a:cubicBezTo>
                  <a:pt x="150" y="76"/>
                  <a:pt x="581" y="0"/>
                  <a:pt x="1381" y="12"/>
                </a:cubicBezTo>
                <a:cubicBezTo>
                  <a:pt x="2181" y="23"/>
                  <a:pt x="3370" y="437"/>
                  <a:pt x="4064" y="581"/>
                </a:cubicBezTo>
                <a:cubicBezTo>
                  <a:pt x="4758" y="725"/>
                  <a:pt x="5635" y="219"/>
                  <a:pt x="5773" y="118"/>
                </a:cubicBezTo>
                <a:lnTo>
                  <a:pt x="5766" y="2151"/>
                </a:lnTo>
                <a:cubicBezTo>
                  <a:pt x="4994" y="2407"/>
                  <a:pt x="4326" y="2311"/>
                  <a:pt x="3966" y="2263"/>
                </a:cubicBezTo>
                <a:cubicBezTo>
                  <a:pt x="3606" y="2215"/>
                  <a:pt x="2715" y="1873"/>
                  <a:pt x="1963" y="1897"/>
                </a:cubicBezTo>
                <a:cubicBezTo>
                  <a:pt x="1305" y="1893"/>
                  <a:pt x="0" y="2402"/>
                  <a:pt x="6" y="2407"/>
                </a:cubicBezTo>
                <a:cubicBezTo>
                  <a:pt x="12" y="2414"/>
                  <a:pt x="12" y="568"/>
                  <a:pt x="12" y="124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9360" y="1730520"/>
            <a:ext cx="9150120" cy="3265200"/>
          </a:xfrm>
          <a:custGeom>
            <a:avLst/>
            <a:gdLst/>
            <a:ahLst/>
            <a:rect l="l" t="t" r="r" b="b"/>
            <a:pathLst>
              <a:path w="5764" h="2057">
                <a:moveTo>
                  <a:pt x="6" y="272"/>
                </a:moveTo>
                <a:cubicBezTo>
                  <a:pt x="144" y="233"/>
                  <a:pt x="656" y="0"/>
                  <a:pt x="1453" y="10"/>
                </a:cubicBezTo>
                <a:cubicBezTo>
                  <a:pt x="2250" y="20"/>
                  <a:pt x="3475" y="403"/>
                  <a:pt x="4182" y="482"/>
                </a:cubicBezTo>
                <a:cubicBezTo>
                  <a:pt x="4890" y="561"/>
                  <a:pt x="5626" y="237"/>
                  <a:pt x="5764" y="154"/>
                </a:cubicBezTo>
                <a:lnTo>
                  <a:pt x="5764" y="1806"/>
                </a:lnTo>
                <a:cubicBezTo>
                  <a:pt x="4919" y="2052"/>
                  <a:pt x="4485" y="2057"/>
                  <a:pt x="4005" y="1994"/>
                </a:cubicBezTo>
                <a:cubicBezTo>
                  <a:pt x="3526" y="1929"/>
                  <a:pt x="2640" y="1502"/>
                  <a:pt x="1891" y="1522"/>
                </a:cubicBezTo>
                <a:cubicBezTo>
                  <a:pt x="1234" y="1519"/>
                  <a:pt x="0" y="1962"/>
                  <a:pt x="6" y="1967"/>
                </a:cubicBezTo>
                <a:cubicBezTo>
                  <a:pt x="12" y="1972"/>
                  <a:pt x="6" y="641"/>
                  <a:pt x="6" y="272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086600" y="1947960"/>
            <a:ext cx="533160" cy="532800"/>
            <a:chOff x="7086600" y="1947960"/>
            <a:chExt cx="533160" cy="532800"/>
          </a:xfrm>
        </p:grpSpPr>
        <p:sp>
          <p:nvSpPr>
            <p:cNvPr id="56" name=""/>
            <p:cNvSpPr/>
            <p:nvPr/>
          </p:nvSpPr>
          <p:spPr>
            <a:xfrm>
              <a:off x="7086600" y="1947960"/>
              <a:ext cx="533160" cy="53280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86600" y="1947960"/>
              <a:ext cx="355680" cy="35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620120" y="1371600"/>
            <a:ext cx="914400" cy="914400"/>
            <a:chOff x="7620120" y="1371600"/>
            <a:chExt cx="914400" cy="914400"/>
          </a:xfrm>
        </p:grpSpPr>
        <p:sp>
          <p:nvSpPr>
            <p:cNvPr id="59" name=""/>
            <p:cNvSpPr/>
            <p:nvPr/>
          </p:nvSpPr>
          <p:spPr>
            <a:xfrm>
              <a:off x="7620120" y="1371600"/>
              <a:ext cx="914400" cy="9144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20120" y="1524240"/>
              <a:ext cx="76212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04920" y="3429000"/>
            <a:ext cx="1294920" cy="1371240"/>
            <a:chOff x="304920" y="3429000"/>
            <a:chExt cx="1294920" cy="1371240"/>
          </a:xfrm>
        </p:grpSpPr>
        <p:sp>
          <p:nvSpPr>
            <p:cNvPr id="62" name=""/>
            <p:cNvSpPr/>
            <p:nvPr/>
          </p:nvSpPr>
          <p:spPr>
            <a:xfrm>
              <a:off x="304920" y="3429000"/>
              <a:ext cx="1294920" cy="137124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3657600"/>
              <a:ext cx="10792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5082-1583-4AEF-89F4-B2FC860B1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68" name="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33da9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5a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123640" y="3213000"/>
            <a:ext cx="6551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едлоги м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260280"/>
            <a:ext cx="12970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15920" y="2205000"/>
            <a:ext cx="653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repositions of 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317808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д сто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8000" y="1844640"/>
            <a:ext cx="4176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abov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2565360"/>
            <a:ext cx="3672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д двер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2565360"/>
            <a:ext cx="4176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abov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328464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д дива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88000" y="3284640"/>
            <a:ext cx="38876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abov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so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4005360"/>
            <a:ext cx="3456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д час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2428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д крова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3933720"/>
            <a:ext cx="4176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abov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c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465300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abov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b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877080" y="189000"/>
            <a:ext cx="2037960" cy="1368360"/>
            <a:chOff x="6877080" y="189000"/>
            <a:chExt cx="2037960" cy="1368360"/>
          </a:xfrm>
        </p:grpSpPr>
        <p:sp>
          <p:nvSpPr>
            <p:cNvPr id="197" name=""/>
            <p:cNvSpPr/>
            <p:nvPr/>
          </p:nvSpPr>
          <p:spPr>
            <a:xfrm>
              <a:off x="6877080" y="189000"/>
              <a:ext cx="203796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549360"/>
              <a:ext cx="193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abov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59240" y="255744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92360" y="256536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10000" y="462924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0000" y="258768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140360" y="1700280"/>
            <a:ext cx="861840" cy="895320"/>
            <a:chOff x="4140360" y="1700280"/>
            <a:chExt cx="861840" cy="895320"/>
          </a:xfrm>
        </p:grpSpPr>
        <p:sp>
          <p:nvSpPr>
            <p:cNvPr id="205" name=""/>
            <p:cNvSpPr/>
            <p:nvPr/>
          </p:nvSpPr>
          <p:spPr>
            <a:xfrm>
              <a:off x="4140360" y="1700280"/>
              <a:ext cx="861840" cy="8953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8720" y="1721160"/>
              <a:ext cx="821880" cy="854640"/>
            </a:xfrm>
            <a:prstGeom prst="ellipse">
              <a:avLst/>
            </a:prstGeom>
            <a:gradFill rotWithShape="0">
              <a:gsLst>
                <a:gs pos="0">
                  <a:srgbClr val="16266a"/>
                </a:gs>
                <a:gs pos="100000">
                  <a:srgbClr val="233da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90760" y="1752480"/>
              <a:ext cx="743040" cy="771840"/>
            </a:xfrm>
            <a:prstGeom prst="ellipse">
              <a:avLst/>
            </a:prstGeom>
            <a:gradFill rotWithShape="0">
              <a:gsLst>
                <a:gs pos="0">
                  <a:srgbClr val="192c7a"/>
                </a:gs>
                <a:gs pos="100000">
                  <a:srgbClr val="233d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4158720" y="1752480"/>
              <a:ext cx="5454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6728040" y="1434960"/>
            <a:ext cx="101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2aa2"/>
                </a:solidFill>
                <a:latin typeface="Arial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rot="10800000">
            <a:off x="5147640" y="1915560"/>
            <a:ext cx="2664360" cy="4338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1" name=""/>
          <p:cNvGrpSpPr/>
          <p:nvPr/>
        </p:nvGrpSpPr>
        <p:grpSpPr>
          <a:xfrm>
            <a:off x="4140360" y="3500280"/>
            <a:ext cx="861840" cy="895680"/>
            <a:chOff x="4140360" y="3500280"/>
            <a:chExt cx="861840" cy="895680"/>
          </a:xfrm>
        </p:grpSpPr>
        <p:sp>
          <p:nvSpPr>
            <p:cNvPr id="212" name=""/>
            <p:cNvSpPr/>
            <p:nvPr/>
          </p:nvSpPr>
          <p:spPr>
            <a:xfrm>
              <a:off x="4140360" y="3500280"/>
              <a:ext cx="861840" cy="895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58720" y="3521160"/>
              <a:ext cx="821880" cy="855000"/>
            </a:xfrm>
            <a:prstGeom prst="ellipse">
              <a:avLst/>
            </a:prstGeom>
            <a:gradFill rotWithShape="0">
              <a:gsLst>
                <a:gs pos="0">
                  <a:srgbClr val="16266a"/>
                </a:gs>
                <a:gs pos="100000">
                  <a:srgbClr val="233da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90760" y="3552480"/>
              <a:ext cx="743040" cy="772200"/>
            </a:xfrm>
            <a:prstGeom prst="ellipse">
              <a:avLst/>
            </a:prstGeom>
            <a:gradFill rotWithShape="0">
              <a:gsLst>
                <a:gs pos="0">
                  <a:srgbClr val="192c7a"/>
                </a:gs>
                <a:gs pos="100000">
                  <a:srgbClr val="233d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4158720" y="3552480"/>
              <a:ext cx="545400" cy="56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6919920" y="3500280"/>
            <a:ext cx="79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2aa2"/>
                </a:solidFill>
                <a:latin typeface="Arial"/>
              </a:rPr>
              <a:t>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/>
          <p:nvPr/>
        </p:nvCxnSpPr>
        <p:spPr>
          <a:xfrm rot="10800000">
            <a:off x="5225400" y="3980880"/>
            <a:ext cx="2664360" cy="4338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8" name=""/>
          <p:cNvGrpSpPr/>
          <p:nvPr/>
        </p:nvGrpSpPr>
        <p:grpSpPr>
          <a:xfrm>
            <a:off x="4211640" y="5589720"/>
            <a:ext cx="861840" cy="895320"/>
            <a:chOff x="4211640" y="5589720"/>
            <a:chExt cx="861840" cy="895320"/>
          </a:xfrm>
        </p:grpSpPr>
        <p:sp>
          <p:nvSpPr>
            <p:cNvPr id="219" name=""/>
            <p:cNvSpPr/>
            <p:nvPr/>
          </p:nvSpPr>
          <p:spPr>
            <a:xfrm>
              <a:off x="4211640" y="5589720"/>
              <a:ext cx="861840" cy="8953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5610600"/>
              <a:ext cx="821880" cy="854640"/>
            </a:xfrm>
            <a:prstGeom prst="ellipse">
              <a:avLst/>
            </a:prstGeom>
            <a:gradFill rotWithShape="0">
              <a:gsLst>
                <a:gs pos="0">
                  <a:srgbClr val="16266a"/>
                </a:gs>
                <a:gs pos="100000">
                  <a:srgbClr val="233da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2040" y="5641920"/>
              <a:ext cx="743040" cy="771840"/>
            </a:xfrm>
            <a:prstGeom prst="ellipse">
              <a:avLst/>
            </a:prstGeom>
            <a:gradFill rotWithShape="0">
              <a:gsLst>
                <a:gs pos="0">
                  <a:srgbClr val="192c7a"/>
                </a:gs>
                <a:gs pos="100000">
                  <a:srgbClr val="233d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6"/>
            <a:stretch/>
          </p:blipFill>
          <p:spPr>
            <a:xfrm>
              <a:off x="4230000" y="5641920"/>
              <a:ext cx="545400" cy="566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23" name=""/>
          <p:cNvCxnSpPr/>
          <p:nvPr/>
        </p:nvCxnSpPr>
        <p:spPr>
          <a:xfrm flipV="1">
            <a:off x="395280" y="5876280"/>
            <a:ext cx="3672720" cy="361080"/>
          </a:xfrm>
          <a:prstGeom prst="bentConnector3">
            <a:avLst>
              <a:gd name="adj1" fmla="val 6700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468360" y="5445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2aa2"/>
                </a:solidFill>
                <a:latin typeface="Arial"/>
              </a:rPr>
              <a:t>un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140360" y="260280"/>
            <a:ext cx="861840" cy="895320"/>
            <a:chOff x="4140360" y="260280"/>
            <a:chExt cx="861840" cy="895320"/>
          </a:xfrm>
        </p:grpSpPr>
        <p:sp>
          <p:nvSpPr>
            <p:cNvPr id="226" name=""/>
            <p:cNvSpPr/>
            <p:nvPr/>
          </p:nvSpPr>
          <p:spPr>
            <a:xfrm>
              <a:off x="4140360" y="260280"/>
              <a:ext cx="861840" cy="8953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58720" y="281160"/>
              <a:ext cx="821880" cy="854640"/>
            </a:xfrm>
            <a:prstGeom prst="ellipse">
              <a:avLst/>
            </a:prstGeom>
            <a:gradFill rotWithShape="0">
              <a:gsLst>
                <a:gs pos="0">
                  <a:srgbClr val="16266a"/>
                </a:gs>
                <a:gs pos="100000">
                  <a:srgbClr val="233da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90760" y="312480"/>
              <a:ext cx="743040" cy="771840"/>
            </a:xfrm>
            <a:prstGeom prst="ellipse">
              <a:avLst/>
            </a:prstGeom>
            <a:gradFill rotWithShape="0">
              <a:gsLst>
                <a:gs pos="0">
                  <a:srgbClr val="192c7a"/>
                </a:gs>
                <a:gs pos="100000">
                  <a:srgbClr val="233d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8"/>
            <a:stretch/>
          </p:blipFill>
          <p:spPr>
            <a:xfrm>
              <a:off x="4158720" y="312480"/>
              <a:ext cx="545400" cy="566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30" name=""/>
          <p:cNvCxnSpPr/>
          <p:nvPr/>
        </p:nvCxnSpPr>
        <p:spPr>
          <a:xfrm flipV="1">
            <a:off x="395280" y="980280"/>
            <a:ext cx="3672720" cy="361080"/>
          </a:xfrm>
          <a:prstGeom prst="bentConnector3">
            <a:avLst>
              <a:gd name="adj1" fmla="val 6700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468360" y="47628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2aa2"/>
                </a:solidFill>
                <a:latin typeface="Arial"/>
              </a:rPr>
              <a:t>ab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1547640" y="333360"/>
            <a:ext cx="6193080" cy="4176720"/>
            <a:chOff x="1547640" y="333360"/>
            <a:chExt cx="6193080" cy="417672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1763640" y="333360"/>
              <a:ext cx="5599080" cy="41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547640" y="4294080"/>
              <a:ext cx="619308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700360" y="4508640"/>
            <a:ext cx="45356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the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rot="20618400">
            <a:off x="1547280" y="333000"/>
            <a:ext cx="1810080" cy="1905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771640" y="5300640"/>
            <a:ext cx="45356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the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4016520" cy="5354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843280" y="5805360"/>
            <a:ext cx="4535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the str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851280" y="364500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6156360" y="189000"/>
            <a:ext cx="2758680" cy="1368360"/>
            <a:chOff x="6156360" y="189000"/>
            <a:chExt cx="2758680" cy="1368360"/>
          </a:xfrm>
        </p:grpSpPr>
        <p:sp>
          <p:nvSpPr>
            <p:cNvPr id="242" name=""/>
            <p:cNvSpPr/>
            <p:nvPr/>
          </p:nvSpPr>
          <p:spPr>
            <a:xfrm>
              <a:off x="6156360" y="189000"/>
              <a:ext cx="275868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58960" y="549360"/>
              <a:ext cx="263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betwee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95280" y="551664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is an apple </a:t>
            </a:r>
            <a:r>
              <a:rPr b="1" lang="en-US" sz="3600" spc="-1" strike="noStrike" u="sng">
                <a:solidFill>
                  <a:srgbClr val="692aa2"/>
                </a:solidFill>
                <a:uFillTx/>
                <a:latin typeface="Comic Sans MS"/>
              </a:rPr>
              <a:t>betwe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fr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1457280" cy="2005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804000" y="2421000"/>
            <a:ext cx="1457280" cy="20048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4067280" y="3141720"/>
            <a:ext cx="8762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75708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между столом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 двер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2349360"/>
            <a:ext cx="8280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betwe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table and the 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3068640"/>
            <a:ext cx="7993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между диваном и сту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156360" y="189000"/>
            <a:ext cx="2758680" cy="1368360"/>
            <a:chOff x="6156360" y="189000"/>
            <a:chExt cx="2758680" cy="1368360"/>
          </a:xfrm>
        </p:grpSpPr>
        <p:sp>
          <p:nvSpPr>
            <p:cNvPr id="252" name=""/>
            <p:cNvSpPr/>
            <p:nvPr/>
          </p:nvSpPr>
          <p:spPr>
            <a:xfrm>
              <a:off x="6156360" y="189000"/>
              <a:ext cx="275868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71560" y="549360"/>
              <a:ext cx="2616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betwee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39640" y="3645000"/>
            <a:ext cx="8280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betwe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sofa and the c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4508640"/>
            <a:ext cx="75708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между крес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5157720"/>
            <a:ext cx="8280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betwe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arm-chai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6372360" y="189000"/>
            <a:ext cx="2542680" cy="1368360"/>
            <a:chOff x="6372360" y="189000"/>
            <a:chExt cx="2542680" cy="1368360"/>
          </a:xfrm>
        </p:grpSpPr>
        <p:sp>
          <p:nvSpPr>
            <p:cNvPr id="258" name=""/>
            <p:cNvSpPr/>
            <p:nvPr/>
          </p:nvSpPr>
          <p:spPr>
            <a:xfrm>
              <a:off x="6372360" y="189000"/>
              <a:ext cx="254268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66680" y="549360"/>
              <a:ext cx="2432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next to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95280" y="551664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is a table </a:t>
            </a:r>
            <a:r>
              <a:rPr b="1" lang="en-US" sz="3600" spc="-1" strike="noStrike" u="sng">
                <a:solidFill>
                  <a:srgbClr val="692aa2"/>
                </a:solidFill>
                <a:uFillTx/>
                <a:latin typeface="Comic Sans MS"/>
              </a:rPr>
              <a:t>next t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win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132000" y="907920"/>
            <a:ext cx="285768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317808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 ст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7640" y="1844640"/>
            <a:ext cx="4537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next to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2565360"/>
            <a:ext cx="3672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 две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27640" y="2565360"/>
            <a:ext cx="4537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next to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328464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 див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3284640"/>
            <a:ext cx="4464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next to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so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8360" y="4005360"/>
            <a:ext cx="3456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коло кни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472428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коло крова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3933720"/>
            <a:ext cx="4535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next to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4653000"/>
            <a:ext cx="4321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next to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b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443640" y="189000"/>
            <a:ext cx="2471400" cy="1368360"/>
            <a:chOff x="6443640" y="189000"/>
            <a:chExt cx="2471400" cy="1368360"/>
          </a:xfrm>
        </p:grpSpPr>
        <p:sp>
          <p:nvSpPr>
            <p:cNvPr id="273" name=""/>
            <p:cNvSpPr/>
            <p:nvPr/>
          </p:nvSpPr>
          <p:spPr>
            <a:xfrm>
              <a:off x="6443640" y="189000"/>
              <a:ext cx="247140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30840" y="549360"/>
              <a:ext cx="217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next to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6372360" y="189000"/>
            <a:ext cx="2542680" cy="1368360"/>
            <a:chOff x="6372360" y="189000"/>
            <a:chExt cx="2542680" cy="1368360"/>
          </a:xfrm>
        </p:grpSpPr>
        <p:sp>
          <p:nvSpPr>
            <p:cNvPr id="276" name=""/>
            <p:cNvSpPr/>
            <p:nvPr/>
          </p:nvSpPr>
          <p:spPr>
            <a:xfrm>
              <a:off x="6372360" y="189000"/>
              <a:ext cx="254268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66680" y="549360"/>
              <a:ext cx="2432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behin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24000" y="5516640"/>
            <a:ext cx="849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is a garden </a:t>
            </a:r>
            <a:r>
              <a:rPr b="1" lang="en-US" sz="3600" spc="-1" strike="noStrike" u="sng">
                <a:solidFill>
                  <a:srgbClr val="692aa2"/>
                </a:solidFill>
                <a:uFillTx/>
                <a:latin typeface="Comic Sans MS"/>
              </a:rPr>
              <a:t>behin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04036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317808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 ок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24360" y="1844640"/>
            <a:ext cx="5040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behin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wind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8360" y="2565360"/>
            <a:ext cx="3672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 двер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11640" y="2565360"/>
            <a:ext cx="4753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behin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8360" y="328464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 дива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3284640"/>
            <a:ext cx="4680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behin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so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4005360"/>
            <a:ext cx="3456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 ле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472428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 холм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84720" y="3933720"/>
            <a:ext cx="4751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behin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for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84720" y="4653000"/>
            <a:ext cx="4608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behin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hi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443640" y="189000"/>
            <a:ext cx="2471400" cy="1368360"/>
            <a:chOff x="6443640" y="189000"/>
            <a:chExt cx="2471400" cy="1368360"/>
          </a:xfrm>
        </p:grpSpPr>
        <p:sp>
          <p:nvSpPr>
            <p:cNvPr id="291" name=""/>
            <p:cNvSpPr/>
            <p:nvPr/>
          </p:nvSpPr>
          <p:spPr>
            <a:xfrm>
              <a:off x="6443640" y="189000"/>
              <a:ext cx="247140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33720" y="549360"/>
              <a:ext cx="217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behin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95640" y="-125100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7da0d3"/>
              </a:gs>
              <a:gs pos="100000">
                <a:srgbClr val="2a374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720" y="2852640"/>
            <a:ext cx="26654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д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924280"/>
            <a:ext cx="2759040" cy="269712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51640" y="1628640"/>
            <a:ext cx="1141560" cy="1101960"/>
          </a:xfrm>
          <a:prstGeom prst="ellipse">
            <a:avLst/>
          </a:prstGeom>
          <a:gradFill rotWithShape="0">
            <a:gsLst>
              <a:gs pos="0">
                <a:srgbClr val="692aa2"/>
              </a:gs>
              <a:gs pos="100000">
                <a:srgbClr val="250e3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378936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7da0d3"/>
              </a:gs>
              <a:gs pos="100000">
                <a:srgbClr val="2a374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575640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7da0d3"/>
              </a:gs>
              <a:gs pos="100000">
                <a:srgbClr val="2a374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15 0.13634 E">
                                      <p:cBhvr>
                                        <p:cTn id="1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33333E-006 L 0.00833 0.75949 E">
                                      <p:cBhvr>
                                        <p:cTn id="3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050920" y="2852640"/>
            <a:ext cx="51850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33da9"/>
                    </a:gs>
                    <a:gs pos="100000">
                      <a:srgbClr val="7da0d3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33da9"/>
                  </a:gs>
                  <a:gs pos="100000">
                    <a:srgbClr val="7da0d3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179280" y="189000"/>
            <a:ext cx="208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385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8" dur="385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0" dur="385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2" dur="385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42560" y="5445000"/>
            <a:ext cx="777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is a snake </a:t>
            </a:r>
            <a:r>
              <a:rPr b="1" lang="en-US" sz="3600" spc="-1" strike="noStrike" u="sng">
                <a:solidFill>
                  <a:srgbClr val="692aa2"/>
                </a:solidFill>
                <a:uFillTx/>
                <a:latin typeface="Comic Sans MS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bas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093080" y="189000"/>
            <a:ext cx="1828800" cy="1368360"/>
            <a:chOff x="7093080" y="189000"/>
            <a:chExt cx="1828800" cy="1368360"/>
          </a:xfrm>
        </p:grpSpPr>
        <p:sp>
          <p:nvSpPr>
            <p:cNvPr id="126" name=""/>
            <p:cNvSpPr/>
            <p:nvPr/>
          </p:nvSpPr>
          <p:spPr>
            <a:xfrm>
              <a:off x="7093080" y="189000"/>
              <a:ext cx="182880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71600" y="54936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08360" y="1700280"/>
            <a:ext cx="16858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303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комна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184464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i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2565360"/>
            <a:ext cx="3035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ст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256536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i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284640"/>
            <a:ext cx="3035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кни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328464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i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4005360"/>
            <a:ext cx="3035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до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4724280"/>
            <a:ext cx="3035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дива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393372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i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8360" y="465300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i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so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093080" y="189000"/>
            <a:ext cx="1828800" cy="1368360"/>
            <a:chOff x="7093080" y="189000"/>
            <a:chExt cx="1828800" cy="1368360"/>
          </a:xfrm>
        </p:grpSpPr>
        <p:sp>
          <p:nvSpPr>
            <p:cNvPr id="140" name=""/>
            <p:cNvSpPr/>
            <p:nvPr/>
          </p:nvSpPr>
          <p:spPr>
            <a:xfrm>
              <a:off x="7093080" y="189000"/>
              <a:ext cx="182880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71600" y="54936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7093080" y="189000"/>
            <a:ext cx="1828800" cy="1368360"/>
            <a:chOff x="7093080" y="189000"/>
            <a:chExt cx="1828800" cy="1368360"/>
          </a:xfrm>
        </p:grpSpPr>
        <p:sp>
          <p:nvSpPr>
            <p:cNvPr id="143" name=""/>
            <p:cNvSpPr/>
            <p:nvPr/>
          </p:nvSpPr>
          <p:spPr>
            <a:xfrm>
              <a:off x="7093080" y="189000"/>
              <a:ext cx="182880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70440" y="549360"/>
              <a:ext cx="924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000840" y="2847960"/>
            <a:ext cx="61416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85264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66920" y="3481560"/>
            <a:ext cx="3741840" cy="34416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24360" y="1989000"/>
            <a:ext cx="1139760" cy="1208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00000" y="5516640"/>
            <a:ext cx="777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is a clock </a:t>
            </a:r>
            <a:r>
              <a:rPr b="1" lang="en-US" sz="3600" spc="-1" strike="noStrike" u="sng">
                <a:solidFill>
                  <a:srgbClr val="692aa2"/>
                </a:solidFill>
                <a:uFillTx/>
                <a:latin typeface="Comic Sans MS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303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 дива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8360" y="184464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o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so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565360"/>
            <a:ext cx="3035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 по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48360" y="256536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o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fl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284640"/>
            <a:ext cx="3035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 пар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328464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o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de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4005360"/>
            <a:ext cx="3035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 две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4724280"/>
            <a:ext cx="3035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 сту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393372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o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465300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o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c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93080" y="189000"/>
            <a:ext cx="1828800" cy="1368360"/>
            <a:chOff x="7093080" y="189000"/>
            <a:chExt cx="1828800" cy="1368360"/>
          </a:xfrm>
        </p:grpSpPr>
        <p:sp>
          <p:nvSpPr>
            <p:cNvPr id="161" name=""/>
            <p:cNvSpPr/>
            <p:nvPr/>
          </p:nvSpPr>
          <p:spPr>
            <a:xfrm>
              <a:off x="7093080" y="189000"/>
              <a:ext cx="182880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70440" y="549360"/>
              <a:ext cx="924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6877080" y="189000"/>
            <a:ext cx="2037960" cy="1368360"/>
            <a:chOff x="6877080" y="189000"/>
            <a:chExt cx="2037960" cy="1368360"/>
          </a:xfrm>
        </p:grpSpPr>
        <p:sp>
          <p:nvSpPr>
            <p:cNvPr id="164" name=""/>
            <p:cNvSpPr/>
            <p:nvPr/>
          </p:nvSpPr>
          <p:spPr>
            <a:xfrm>
              <a:off x="6877080" y="189000"/>
              <a:ext cx="203796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89760" y="549360"/>
              <a:ext cx="187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unde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95280" y="551664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is a frog </a:t>
            </a:r>
            <a:r>
              <a:rPr b="1" lang="en-US" sz="3600" spc="-1" strike="noStrike" u="sng">
                <a:solidFill>
                  <a:srgbClr val="692aa2"/>
                </a:solidFill>
                <a:uFillTx/>
                <a:latin typeface="Comic Sans MS"/>
              </a:rPr>
              <a:t>und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umb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14572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317808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д сто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1844640"/>
            <a:ext cx="4176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under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565360"/>
            <a:ext cx="3672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д двер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88000" y="2565360"/>
            <a:ext cx="38876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under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328464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д дива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88000" y="3284640"/>
            <a:ext cx="38876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under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so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4005360"/>
            <a:ext cx="3456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д час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472428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д крова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3933720"/>
            <a:ext cx="4176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under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c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465300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under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b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77080" y="189000"/>
            <a:ext cx="2037960" cy="1368360"/>
            <a:chOff x="6877080" y="189000"/>
            <a:chExt cx="2037960" cy="1368360"/>
          </a:xfrm>
        </p:grpSpPr>
        <p:sp>
          <p:nvSpPr>
            <p:cNvPr id="179" name=""/>
            <p:cNvSpPr/>
            <p:nvPr/>
          </p:nvSpPr>
          <p:spPr>
            <a:xfrm>
              <a:off x="6877080" y="189000"/>
              <a:ext cx="203796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89760" y="549360"/>
              <a:ext cx="187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unde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6802560" y="189000"/>
            <a:ext cx="2252160" cy="1368360"/>
            <a:chOff x="6802560" y="189000"/>
            <a:chExt cx="2252160" cy="1368360"/>
          </a:xfrm>
        </p:grpSpPr>
        <p:sp>
          <p:nvSpPr>
            <p:cNvPr id="182" name=""/>
            <p:cNvSpPr/>
            <p:nvPr/>
          </p:nvSpPr>
          <p:spPr>
            <a:xfrm>
              <a:off x="6802560" y="189000"/>
              <a:ext cx="225216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93720" y="549360"/>
              <a:ext cx="193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abov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95280" y="551664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is an umbrella </a:t>
            </a:r>
            <a:r>
              <a:rPr b="1" lang="en-US" sz="3600" spc="-1" strike="noStrike" u="sng">
                <a:solidFill>
                  <a:srgbClr val="692aa2"/>
                </a:solidFill>
                <a:uFillTx/>
                <a:latin typeface="Comic Sans MS"/>
              </a:rPr>
              <a:t>abo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14572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3:59:59Z</dcterms:created>
  <dc:creator>DNA7 X86</dc:creator>
  <dc:description/>
  <dc:language>en-US</dc:language>
  <cp:lastModifiedBy>DNA7 X86</cp:lastModifiedBy>
  <dcterms:modified xsi:type="dcterms:W3CDTF">2010-12-13T06:38:05Z</dcterms:modified>
  <cp:revision>7</cp:revision>
  <dc:subject/>
  <dc:title>Слайд 1</dc:title>
</cp:coreProperties>
</file>