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gif" ContentType="image/gif"/>
  <Override PartName="/ppt/media/image1.png" ContentType="image/png"/>
  <Override PartName="/ppt/media/image2.jpeg" ContentType="image/jpeg"/>
  <Override PartName="/ppt/media/image4.gif" ContentType="image/gif"/>
  <Override PartName="/ppt/media/image13.png" ContentType="image/png"/>
  <Override PartName="/ppt/media/image7.wmf" ContentType="image/x-wmf"/>
  <Override PartName="/ppt/media/image12.png" ContentType="image/png"/>
  <Override PartName="/ppt/media/image14.jpeg" ContentType="image/jpeg"/>
  <Override PartName="/ppt/media/image5.gif" ContentType="image/gif"/>
  <Override PartName="/ppt/media/image3.gif" ContentType="image/gif"/>
  <Override PartName="/ppt/media/image6.png" ContentType="image/png"/>
  <Override PartName="/ppt/media/image8.jpeg" ContentType="image/jpeg"/>
  <Override PartName="/ppt/media/image9.gif" ContentType="image/gif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5F8E-047A-408C-8318-3E26FCB45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на слайдах дается постепенно с помощью анимаций, поэтому в комментариях к слайдам будет указано что и за чем появляется, каждая цифра – клик мыш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редлога в словосочета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клик мышкой – русское словосочетание, после перевода его ребенком: второй клик –английский вариант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клик мышкой – появляется шар, уч-ся называют предлог, следующий клик – этот предлог появляется на экра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с картино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яетс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on the picture”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учитель поясняет, что в этом случае, имеется в виду, что что-то находится на поверхности картины, например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летает баб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яетс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in the pictur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огично с фотограф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«Ули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яется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in the stree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является смайл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дает объяс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between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ъясняет, что этот предлог указывает наличие предмета «между» каких-то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ягуш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блок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предложения с предлог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редлога в словосочета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клик мышкой – русское словосочетание, после перевода его ребенком: второй клик –английский вариант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next to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ъясняет, что этот предлог указывает наличие предмета «рядом» с каким-то объек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и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предложения с предлог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редлога в словосочета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клик мышкой – русское словосочетание, после перевода его ребенком: второй клик –английский вариант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behind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ъясняет, что этот предлог указывает наличие предмета «за» каким-то объек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и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предложения с предлог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редлога в словосочета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клик мышкой – русское словосочетание, после перевода его ребенком: второй клик –английский вариант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говорит, что предлоги места нам нужны для того, чтобы указать местоположение предмета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1. Появляется ша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тносительно другого предмета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2. Появляется тумб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. Например на чем-то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3. перемещение ша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ядом с ни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4. перемещение ша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под ним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5. перемещение ша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ли за ним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6. перемещение шара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7. Предлоги места на русс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in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ъясняет, что этот предлог указывает наличие предмета «в» каком-то мес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зинка со зме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предложения с предлог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редлога в словосочета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клик мышкой – русское словосочетание, после перевода его ребенком: второй клик –английский вариант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ъясняет, что этот предлог указывает наличие предмета «на» какой-то поверх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л с час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предложения с предлог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редлога в словосочета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клик мышкой – русское словосочетание, после перевода его ребенком: второй клик –английский вариант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under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ъясняет, что этот предлог указывает наличие предмета «под» каким-то объек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яг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предложения с предлог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редлога в словосочета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клик мышкой – русское словосочетание, после перевода его ребенком: второй клик –английский вариант,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ай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above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ъясняет, что этот предлог указывает наличие предмета «над» каким-то объек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ягуш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предложения с предлог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4DF-8A3E-4FE6-81CD-68FDD0D77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C920-CEFB-4AF8-84DD-C5C9FE6D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A9B4-1D47-4841-8D87-F1901CD8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56220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82948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9492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56220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82948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69F-6598-4347-A6EE-64D94885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0816-D301-49F5-BC66-D299E552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9FBE-1C34-45DD-A8E9-9F760935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3C6A-5C5F-469C-886D-13AA9913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2521-EABD-4A54-94C1-E3908826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BE42-7479-494D-BB42-2AD0C879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142640" y="2590560"/>
            <a:ext cx="70866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5766-A78F-47BD-AF5C-13F47559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253B-0615-4309-82F9-09D4D689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AAE-0DD6-4DA4-9C89-E9D2F176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E8FA-F75C-423A-B55B-CAFFA20C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0840-BECF-437D-ADE8-A2146650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2927-D092-42B0-B04B-AB63A3FB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D1CE-05B7-47AA-9C46-829B4049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6220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829480" y="358092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29492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6220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829480" y="3780360"/>
            <a:ext cx="21589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BA1F-9721-4814-8D86-019CFFBF7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67057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F746-C195-45F7-877B-897E10A2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F25-01C5-4307-9D58-489FFDFE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CB3E-CC47-4A9F-9ECB-C8A9C3FC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142640" y="2590560"/>
            <a:ext cx="708660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65F-9941-41A3-8140-23A7F561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2D2-0A3E-44E8-ABF4-BC04D4CB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731120" y="378036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E2F3-B64E-42E5-BD38-D8FE2F529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31120" y="3580920"/>
            <a:ext cx="327204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3780360"/>
            <a:ext cx="6705720" cy="1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56E-F11C-43D9-ABF1-EC843F7F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281160"/>
            <a:ext cx="9155160" cy="1620720"/>
          </a:xfrm>
          <a:custGeom>
            <a:avLst/>
            <a:gdLst/>
            <a:ahLst/>
            <a:rect l="l" t="t" r="r" b="b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20520" y="533520"/>
            <a:ext cx="9161280" cy="1006200"/>
          </a:xfrm>
          <a:custGeom>
            <a:avLst/>
            <a:gdLst/>
            <a:ahLst/>
            <a:rect l="l" t="t" r="r" b="b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7740720" y="347760"/>
            <a:ext cx="387360" cy="366480"/>
            <a:chOff x="7740720" y="347760"/>
            <a:chExt cx="387360" cy="366480"/>
          </a:xfrm>
        </p:grpSpPr>
        <p:sp>
          <p:nvSpPr>
            <p:cNvPr id="3" name=""/>
            <p:cNvSpPr/>
            <p:nvPr/>
          </p:nvSpPr>
          <p:spPr>
            <a:xfrm>
              <a:off x="7740720" y="347760"/>
              <a:ext cx="387360" cy="36648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40720" y="347760"/>
              <a:ext cx="258120" cy="244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8153280" y="54000"/>
            <a:ext cx="609840" cy="592200"/>
            <a:chOff x="8153280" y="54000"/>
            <a:chExt cx="609840" cy="592200"/>
          </a:xfrm>
        </p:grpSpPr>
        <p:sp>
          <p:nvSpPr>
            <p:cNvPr id="6" name=""/>
            <p:cNvSpPr/>
            <p:nvPr/>
          </p:nvSpPr>
          <p:spPr>
            <a:xfrm>
              <a:off x="8153280" y="54000"/>
              <a:ext cx="609840" cy="5922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153280" y="152640"/>
              <a:ext cx="508320" cy="394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171360" y="819000"/>
            <a:ext cx="720720" cy="762120"/>
            <a:chOff x="171360" y="819000"/>
            <a:chExt cx="720720" cy="762120"/>
          </a:xfrm>
        </p:grpSpPr>
        <p:sp>
          <p:nvSpPr>
            <p:cNvPr id="9" name=""/>
            <p:cNvSpPr/>
            <p:nvPr/>
          </p:nvSpPr>
          <p:spPr>
            <a:xfrm>
              <a:off x="171360" y="819000"/>
              <a:ext cx="720720" cy="76212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71360" y="946080"/>
              <a:ext cx="600480" cy="507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5aae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84DD-B9F0-4A4B-88B6-9CBB5C4FE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914400" y="6854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0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9360" y="1447920"/>
            <a:ext cx="9164520" cy="3832200"/>
          </a:xfrm>
          <a:custGeom>
            <a:avLst/>
            <a:gdLst/>
            <a:ahLst/>
            <a:rect l="l" t="t" r="r" b="b"/>
            <a:pathLst>
              <a:path w="5773" h="2414">
                <a:moveTo>
                  <a:pt x="12" y="124"/>
                </a:moveTo>
                <a:cubicBezTo>
                  <a:pt x="150" y="76"/>
                  <a:pt x="581" y="0"/>
                  <a:pt x="1381" y="12"/>
                </a:cubicBezTo>
                <a:cubicBezTo>
                  <a:pt x="2181" y="23"/>
                  <a:pt x="3370" y="437"/>
                  <a:pt x="4064" y="581"/>
                </a:cubicBezTo>
                <a:cubicBezTo>
                  <a:pt x="4758" y="725"/>
                  <a:pt x="5635" y="219"/>
                  <a:pt x="5773" y="118"/>
                </a:cubicBezTo>
                <a:lnTo>
                  <a:pt x="5766" y="2151"/>
                </a:lnTo>
                <a:cubicBezTo>
                  <a:pt x="4994" y="2407"/>
                  <a:pt x="4326" y="2311"/>
                  <a:pt x="3966" y="2263"/>
                </a:cubicBezTo>
                <a:cubicBezTo>
                  <a:pt x="3606" y="2215"/>
                  <a:pt x="2715" y="1873"/>
                  <a:pt x="1963" y="1897"/>
                </a:cubicBezTo>
                <a:cubicBezTo>
                  <a:pt x="1305" y="1893"/>
                  <a:pt x="0" y="2402"/>
                  <a:pt x="6" y="2407"/>
                </a:cubicBezTo>
                <a:cubicBezTo>
                  <a:pt x="12" y="2414"/>
                  <a:pt x="12" y="568"/>
                  <a:pt x="12" y="124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9360" y="1730520"/>
            <a:ext cx="9150120" cy="3265200"/>
          </a:xfrm>
          <a:custGeom>
            <a:avLst/>
            <a:gdLst/>
            <a:ahLst/>
            <a:rect l="l" t="t" r="r" b="b"/>
            <a:pathLst>
              <a:path w="5764" h="2057">
                <a:moveTo>
                  <a:pt x="6" y="272"/>
                </a:moveTo>
                <a:cubicBezTo>
                  <a:pt x="144" y="233"/>
                  <a:pt x="656" y="0"/>
                  <a:pt x="1453" y="10"/>
                </a:cubicBezTo>
                <a:cubicBezTo>
                  <a:pt x="2250" y="20"/>
                  <a:pt x="3475" y="403"/>
                  <a:pt x="4182" y="482"/>
                </a:cubicBezTo>
                <a:cubicBezTo>
                  <a:pt x="4890" y="561"/>
                  <a:pt x="5626" y="237"/>
                  <a:pt x="5764" y="154"/>
                </a:cubicBezTo>
                <a:lnTo>
                  <a:pt x="5764" y="1806"/>
                </a:lnTo>
                <a:cubicBezTo>
                  <a:pt x="4919" y="2052"/>
                  <a:pt x="4485" y="2057"/>
                  <a:pt x="4005" y="1994"/>
                </a:cubicBezTo>
                <a:cubicBezTo>
                  <a:pt x="3526" y="1929"/>
                  <a:pt x="2640" y="1502"/>
                  <a:pt x="1891" y="1522"/>
                </a:cubicBezTo>
                <a:cubicBezTo>
                  <a:pt x="1234" y="1519"/>
                  <a:pt x="0" y="1962"/>
                  <a:pt x="6" y="1967"/>
                </a:cubicBezTo>
                <a:cubicBezTo>
                  <a:pt x="12" y="1972"/>
                  <a:pt x="6" y="641"/>
                  <a:pt x="6" y="272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7086600" y="1947960"/>
            <a:ext cx="533160" cy="532800"/>
            <a:chOff x="7086600" y="1947960"/>
            <a:chExt cx="533160" cy="532800"/>
          </a:xfrm>
        </p:grpSpPr>
        <p:sp>
          <p:nvSpPr>
            <p:cNvPr id="56" name=""/>
            <p:cNvSpPr/>
            <p:nvPr/>
          </p:nvSpPr>
          <p:spPr>
            <a:xfrm>
              <a:off x="7086600" y="1947960"/>
              <a:ext cx="533160" cy="53280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86600" y="1947960"/>
              <a:ext cx="355680" cy="35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7620120" y="1371600"/>
            <a:ext cx="914400" cy="914400"/>
            <a:chOff x="7620120" y="1371600"/>
            <a:chExt cx="914400" cy="914400"/>
          </a:xfrm>
        </p:grpSpPr>
        <p:sp>
          <p:nvSpPr>
            <p:cNvPr id="59" name=""/>
            <p:cNvSpPr/>
            <p:nvPr/>
          </p:nvSpPr>
          <p:spPr>
            <a:xfrm>
              <a:off x="7620120" y="1371600"/>
              <a:ext cx="914400" cy="9144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20120" y="1524240"/>
              <a:ext cx="762120" cy="609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04920" y="3429000"/>
            <a:ext cx="1294920" cy="1371240"/>
            <a:chOff x="304920" y="3429000"/>
            <a:chExt cx="1294920" cy="1371240"/>
          </a:xfrm>
        </p:grpSpPr>
        <p:sp>
          <p:nvSpPr>
            <p:cNvPr id="62" name=""/>
            <p:cNvSpPr/>
            <p:nvPr/>
          </p:nvSpPr>
          <p:spPr>
            <a:xfrm>
              <a:off x="304920" y="3429000"/>
              <a:ext cx="1294920" cy="137124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4920" y="3657600"/>
              <a:ext cx="1079280" cy="914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6FAA-D5FA-4A8F-9ADB-C6D7F4993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68" name="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33da9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5a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1142640" y="2590560"/>
            <a:ext cx="7086600" cy="1012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2123640" y="3213000"/>
            <a:ext cx="6551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Предлоги м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260280"/>
            <a:ext cx="12970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15920" y="2205000"/>
            <a:ext cx="653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Prepositions of p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317808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д сто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8000" y="1844640"/>
            <a:ext cx="4176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abov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360" y="2565360"/>
            <a:ext cx="3672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д двер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88000" y="2565360"/>
            <a:ext cx="4176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abov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328464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д дива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788000" y="3284640"/>
            <a:ext cx="38876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abov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so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8360" y="4005360"/>
            <a:ext cx="3456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д час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472428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д крова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9280" y="3933720"/>
            <a:ext cx="4176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abov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c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859280" y="465300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abov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b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877080" y="189000"/>
            <a:ext cx="2037960" cy="1368360"/>
            <a:chOff x="6877080" y="189000"/>
            <a:chExt cx="2037960" cy="1368360"/>
          </a:xfrm>
        </p:grpSpPr>
        <p:sp>
          <p:nvSpPr>
            <p:cNvPr id="197" name=""/>
            <p:cNvSpPr/>
            <p:nvPr/>
          </p:nvSpPr>
          <p:spPr>
            <a:xfrm>
              <a:off x="6877080" y="189000"/>
              <a:ext cx="203796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957720" y="549360"/>
              <a:ext cx="193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abov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59240" y="255744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92360" y="256536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10000" y="462924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1eca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510000" y="258768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6f3ca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140360" y="1700280"/>
            <a:ext cx="861840" cy="895320"/>
            <a:chOff x="4140360" y="1700280"/>
            <a:chExt cx="861840" cy="895320"/>
          </a:xfrm>
        </p:grpSpPr>
        <p:sp>
          <p:nvSpPr>
            <p:cNvPr id="205" name=""/>
            <p:cNvSpPr/>
            <p:nvPr/>
          </p:nvSpPr>
          <p:spPr>
            <a:xfrm>
              <a:off x="4140360" y="1700280"/>
              <a:ext cx="861840" cy="8953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8720" y="1721160"/>
              <a:ext cx="821880" cy="854640"/>
            </a:xfrm>
            <a:prstGeom prst="ellipse">
              <a:avLst/>
            </a:prstGeom>
            <a:gradFill rotWithShape="0">
              <a:gsLst>
                <a:gs pos="0">
                  <a:srgbClr val="16266a"/>
                </a:gs>
                <a:gs pos="100000">
                  <a:srgbClr val="233da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190760" y="1752480"/>
              <a:ext cx="743040" cy="771840"/>
            </a:xfrm>
            <a:prstGeom prst="ellipse">
              <a:avLst/>
            </a:prstGeom>
            <a:gradFill rotWithShape="0">
              <a:gsLst>
                <a:gs pos="0">
                  <a:srgbClr val="192c7a"/>
                </a:gs>
                <a:gs pos="100000">
                  <a:srgbClr val="233d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4158720" y="1752480"/>
              <a:ext cx="545400" cy="566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>
            <a:off x="6728040" y="1434960"/>
            <a:ext cx="101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2aa2"/>
                </a:solidFill>
                <a:latin typeface="Arial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"/>
          <p:cNvCxnSpPr/>
          <p:nvPr/>
        </p:nvCxnSpPr>
        <p:spPr>
          <a:xfrm rot="10800000">
            <a:off x="5147640" y="1915560"/>
            <a:ext cx="2664360" cy="4338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1" name=""/>
          <p:cNvGrpSpPr/>
          <p:nvPr/>
        </p:nvGrpSpPr>
        <p:grpSpPr>
          <a:xfrm>
            <a:off x="4140360" y="3500280"/>
            <a:ext cx="861840" cy="895680"/>
            <a:chOff x="4140360" y="3500280"/>
            <a:chExt cx="861840" cy="895680"/>
          </a:xfrm>
        </p:grpSpPr>
        <p:sp>
          <p:nvSpPr>
            <p:cNvPr id="212" name=""/>
            <p:cNvSpPr/>
            <p:nvPr/>
          </p:nvSpPr>
          <p:spPr>
            <a:xfrm>
              <a:off x="4140360" y="3500280"/>
              <a:ext cx="861840" cy="8956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58720" y="3521160"/>
              <a:ext cx="821880" cy="855000"/>
            </a:xfrm>
            <a:prstGeom prst="ellipse">
              <a:avLst/>
            </a:prstGeom>
            <a:gradFill rotWithShape="0">
              <a:gsLst>
                <a:gs pos="0">
                  <a:srgbClr val="16266a"/>
                </a:gs>
                <a:gs pos="100000">
                  <a:srgbClr val="233da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90760" y="3552480"/>
              <a:ext cx="743040" cy="772200"/>
            </a:xfrm>
            <a:prstGeom prst="ellipse">
              <a:avLst/>
            </a:prstGeom>
            <a:gradFill rotWithShape="0">
              <a:gsLst>
                <a:gs pos="0">
                  <a:srgbClr val="192c7a"/>
                </a:gs>
                <a:gs pos="100000">
                  <a:srgbClr val="233d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4"/>
            <a:stretch/>
          </p:blipFill>
          <p:spPr>
            <a:xfrm>
              <a:off x="4158720" y="3552480"/>
              <a:ext cx="545400" cy="56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>
            <a:off x="6919920" y="3500280"/>
            <a:ext cx="79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2aa2"/>
                </a:solidFill>
                <a:latin typeface="Arial"/>
              </a:rPr>
              <a:t>i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"/>
          <p:cNvCxnSpPr/>
          <p:nvPr/>
        </p:nvCxnSpPr>
        <p:spPr>
          <a:xfrm rot="10800000">
            <a:off x="5225400" y="3980880"/>
            <a:ext cx="2664360" cy="4338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</a:ln>
        </p:spPr>
      </p:cxnSp>
      <p:grpSp>
        <p:nvGrpSpPr>
          <p:cNvPr id="218" name=""/>
          <p:cNvGrpSpPr/>
          <p:nvPr/>
        </p:nvGrpSpPr>
        <p:grpSpPr>
          <a:xfrm>
            <a:off x="4211640" y="5589720"/>
            <a:ext cx="861840" cy="895320"/>
            <a:chOff x="4211640" y="5589720"/>
            <a:chExt cx="861840" cy="895320"/>
          </a:xfrm>
        </p:grpSpPr>
        <p:sp>
          <p:nvSpPr>
            <p:cNvPr id="219" name=""/>
            <p:cNvSpPr/>
            <p:nvPr/>
          </p:nvSpPr>
          <p:spPr>
            <a:xfrm>
              <a:off x="4211640" y="5589720"/>
              <a:ext cx="861840" cy="8953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30000" y="5610600"/>
              <a:ext cx="821880" cy="854640"/>
            </a:xfrm>
            <a:prstGeom prst="ellipse">
              <a:avLst/>
            </a:prstGeom>
            <a:gradFill rotWithShape="0">
              <a:gsLst>
                <a:gs pos="0">
                  <a:srgbClr val="16266a"/>
                </a:gs>
                <a:gs pos="100000">
                  <a:srgbClr val="233da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2040" y="5641920"/>
              <a:ext cx="743040" cy="771840"/>
            </a:xfrm>
            <a:prstGeom prst="ellipse">
              <a:avLst/>
            </a:prstGeom>
            <a:gradFill rotWithShape="0">
              <a:gsLst>
                <a:gs pos="0">
                  <a:srgbClr val="192c7a"/>
                </a:gs>
                <a:gs pos="100000">
                  <a:srgbClr val="233d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6"/>
            <a:stretch/>
          </p:blipFill>
          <p:spPr>
            <a:xfrm>
              <a:off x="4230000" y="5641920"/>
              <a:ext cx="545400" cy="566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23" name=""/>
          <p:cNvCxnSpPr/>
          <p:nvPr/>
        </p:nvCxnSpPr>
        <p:spPr>
          <a:xfrm flipV="1">
            <a:off x="395280" y="5876280"/>
            <a:ext cx="3672720" cy="361080"/>
          </a:xfrm>
          <a:prstGeom prst="bentConnector3">
            <a:avLst>
              <a:gd name="adj1" fmla="val 6700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24" name=""/>
          <p:cNvSpPr/>
          <p:nvPr/>
        </p:nvSpPr>
        <p:spPr>
          <a:xfrm>
            <a:off x="468360" y="544500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2aa2"/>
                </a:solidFill>
                <a:latin typeface="Arial"/>
              </a:rPr>
              <a:t>und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140360" y="260280"/>
            <a:ext cx="861840" cy="895320"/>
            <a:chOff x="4140360" y="260280"/>
            <a:chExt cx="861840" cy="895320"/>
          </a:xfrm>
        </p:grpSpPr>
        <p:sp>
          <p:nvSpPr>
            <p:cNvPr id="226" name=""/>
            <p:cNvSpPr/>
            <p:nvPr/>
          </p:nvSpPr>
          <p:spPr>
            <a:xfrm>
              <a:off x="4140360" y="260280"/>
              <a:ext cx="861840" cy="89532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158720" y="281160"/>
              <a:ext cx="821880" cy="854640"/>
            </a:xfrm>
            <a:prstGeom prst="ellipse">
              <a:avLst/>
            </a:prstGeom>
            <a:gradFill rotWithShape="0">
              <a:gsLst>
                <a:gs pos="0">
                  <a:srgbClr val="16266a"/>
                </a:gs>
                <a:gs pos="100000">
                  <a:srgbClr val="233da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90760" y="312480"/>
              <a:ext cx="743040" cy="771840"/>
            </a:xfrm>
            <a:prstGeom prst="ellipse">
              <a:avLst/>
            </a:prstGeom>
            <a:gradFill rotWithShape="0">
              <a:gsLst>
                <a:gs pos="0">
                  <a:srgbClr val="192c7a"/>
                </a:gs>
                <a:gs pos="100000">
                  <a:srgbClr val="233d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" descr=""/>
            <p:cNvPicPr/>
            <p:nvPr/>
          </p:nvPicPr>
          <p:blipFill>
            <a:blip r:embed="rId8"/>
            <a:stretch/>
          </p:blipFill>
          <p:spPr>
            <a:xfrm>
              <a:off x="4158720" y="312480"/>
              <a:ext cx="545400" cy="5666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230" name=""/>
          <p:cNvCxnSpPr/>
          <p:nvPr/>
        </p:nvCxnSpPr>
        <p:spPr>
          <a:xfrm flipV="1">
            <a:off x="395280" y="980280"/>
            <a:ext cx="3672720" cy="361080"/>
          </a:xfrm>
          <a:prstGeom prst="bentConnector3">
            <a:avLst>
              <a:gd name="adj1" fmla="val 67003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231" name=""/>
          <p:cNvSpPr/>
          <p:nvPr/>
        </p:nvSpPr>
        <p:spPr>
          <a:xfrm>
            <a:off x="468360" y="476280"/>
            <a:ext cx="23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2aa2"/>
                </a:solidFill>
                <a:latin typeface="Arial"/>
              </a:rPr>
              <a:t>ab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1547640" y="333360"/>
            <a:ext cx="6193080" cy="4176720"/>
            <a:chOff x="1547640" y="333360"/>
            <a:chExt cx="6193080" cy="417672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tretch/>
          </p:blipFill>
          <p:spPr>
            <a:xfrm>
              <a:off x="1763640" y="333360"/>
              <a:ext cx="5599080" cy="414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1547640" y="4294080"/>
              <a:ext cx="619308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2700360" y="4508640"/>
            <a:ext cx="45356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the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rot="20618400">
            <a:off x="1547280" y="333000"/>
            <a:ext cx="1810080" cy="1905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771640" y="5300640"/>
            <a:ext cx="45356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the pi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3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4016520" cy="53546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843280" y="5805360"/>
            <a:ext cx="4535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in the str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851280" y="3645000"/>
            <a:ext cx="12193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"/>
          <p:cNvGrpSpPr/>
          <p:nvPr/>
        </p:nvGrpSpPr>
        <p:grpSpPr>
          <a:xfrm>
            <a:off x="6156360" y="189000"/>
            <a:ext cx="2758680" cy="1368360"/>
            <a:chOff x="6156360" y="189000"/>
            <a:chExt cx="2758680" cy="1368360"/>
          </a:xfrm>
        </p:grpSpPr>
        <p:sp>
          <p:nvSpPr>
            <p:cNvPr id="242" name=""/>
            <p:cNvSpPr/>
            <p:nvPr/>
          </p:nvSpPr>
          <p:spPr>
            <a:xfrm>
              <a:off x="6156360" y="189000"/>
              <a:ext cx="275868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58960" y="549360"/>
              <a:ext cx="2639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betwee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95280" y="551664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is an apple </a:t>
            </a:r>
            <a:r>
              <a:rPr b="1" lang="en-US" sz="3600" spc="-1" strike="noStrike" u="sng">
                <a:solidFill>
                  <a:srgbClr val="692aa2"/>
                </a:solidFill>
                <a:uFillTx/>
                <a:latin typeface="Comic Sans MS"/>
              </a:rPr>
              <a:t>betwee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fr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1457280" cy="20052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804000" y="2421000"/>
            <a:ext cx="1457280" cy="20048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4067280" y="3141720"/>
            <a:ext cx="8762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75708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между столом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и двер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2349360"/>
            <a:ext cx="8280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betwe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table and the 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3068640"/>
            <a:ext cx="7993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между диваном и сту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156360" y="189000"/>
            <a:ext cx="2758680" cy="1368360"/>
            <a:chOff x="6156360" y="189000"/>
            <a:chExt cx="2758680" cy="1368360"/>
          </a:xfrm>
        </p:grpSpPr>
        <p:sp>
          <p:nvSpPr>
            <p:cNvPr id="252" name=""/>
            <p:cNvSpPr/>
            <p:nvPr/>
          </p:nvSpPr>
          <p:spPr>
            <a:xfrm>
              <a:off x="6156360" y="189000"/>
              <a:ext cx="275868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271560" y="549360"/>
              <a:ext cx="26161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betwee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39640" y="3645000"/>
            <a:ext cx="8280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betwe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sofa and the c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4508640"/>
            <a:ext cx="75708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между крес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5157720"/>
            <a:ext cx="8280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betwee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arm-chai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8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8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8" dur="8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6372360" y="189000"/>
            <a:ext cx="2542680" cy="1368360"/>
            <a:chOff x="6372360" y="189000"/>
            <a:chExt cx="2542680" cy="1368360"/>
          </a:xfrm>
        </p:grpSpPr>
        <p:sp>
          <p:nvSpPr>
            <p:cNvPr id="258" name=""/>
            <p:cNvSpPr/>
            <p:nvPr/>
          </p:nvSpPr>
          <p:spPr>
            <a:xfrm>
              <a:off x="6372360" y="189000"/>
              <a:ext cx="254268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466680" y="549360"/>
              <a:ext cx="2432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next to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95280" y="551664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is a table </a:t>
            </a:r>
            <a:r>
              <a:rPr b="1" lang="en-US" sz="3600" spc="-1" strike="noStrike" u="sng">
                <a:solidFill>
                  <a:srgbClr val="692aa2"/>
                </a:solidFill>
                <a:uFillTx/>
                <a:latin typeface="Comic Sans MS"/>
              </a:rPr>
              <a:t>next to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win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3132000" y="907920"/>
            <a:ext cx="2857680" cy="41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317808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 ст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7640" y="1844640"/>
            <a:ext cx="4537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next to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8360" y="2565360"/>
            <a:ext cx="3672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 две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427640" y="2565360"/>
            <a:ext cx="4537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next to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328464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у див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3284640"/>
            <a:ext cx="4464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next to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so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8360" y="4005360"/>
            <a:ext cx="3456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коло кни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8360" y="472428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около крова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00720" y="3933720"/>
            <a:ext cx="4535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next to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0" y="4653000"/>
            <a:ext cx="4321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next to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b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443640" y="189000"/>
            <a:ext cx="2471400" cy="1368360"/>
            <a:chOff x="6443640" y="189000"/>
            <a:chExt cx="2471400" cy="1368360"/>
          </a:xfrm>
        </p:grpSpPr>
        <p:sp>
          <p:nvSpPr>
            <p:cNvPr id="273" name=""/>
            <p:cNvSpPr/>
            <p:nvPr/>
          </p:nvSpPr>
          <p:spPr>
            <a:xfrm>
              <a:off x="6443640" y="189000"/>
              <a:ext cx="247140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630840" y="549360"/>
              <a:ext cx="217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next to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"/>
          <p:cNvGrpSpPr/>
          <p:nvPr/>
        </p:nvGrpSpPr>
        <p:grpSpPr>
          <a:xfrm>
            <a:off x="6372360" y="189000"/>
            <a:ext cx="2542680" cy="1368360"/>
            <a:chOff x="6372360" y="189000"/>
            <a:chExt cx="2542680" cy="1368360"/>
          </a:xfrm>
        </p:grpSpPr>
        <p:sp>
          <p:nvSpPr>
            <p:cNvPr id="276" name=""/>
            <p:cNvSpPr/>
            <p:nvPr/>
          </p:nvSpPr>
          <p:spPr>
            <a:xfrm>
              <a:off x="6372360" y="189000"/>
              <a:ext cx="254268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66680" y="549360"/>
              <a:ext cx="2432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behin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324000" y="5516640"/>
            <a:ext cx="849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is a garden </a:t>
            </a:r>
            <a:r>
              <a:rPr b="1" lang="en-US" sz="3600" spc="-1" strike="noStrike" u="sng">
                <a:solidFill>
                  <a:srgbClr val="692aa2"/>
                </a:solidFill>
                <a:uFillTx/>
                <a:latin typeface="Comic Sans MS"/>
              </a:rPr>
              <a:t>behind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979640" y="1628640"/>
            <a:ext cx="5040360" cy="35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9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0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1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317808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 ок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24360" y="1844640"/>
            <a:ext cx="5040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behin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wind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8360" y="2565360"/>
            <a:ext cx="3672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 двер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11640" y="2565360"/>
            <a:ext cx="4753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behin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8360" y="328464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 дива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284720" y="3284640"/>
            <a:ext cx="4680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behin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so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68360" y="4005360"/>
            <a:ext cx="3456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 лес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472428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за холм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284720" y="3933720"/>
            <a:ext cx="4751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behin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for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284720" y="4653000"/>
            <a:ext cx="4608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behin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hil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6443640" y="189000"/>
            <a:ext cx="2471400" cy="1368360"/>
            <a:chOff x="6443640" y="189000"/>
            <a:chExt cx="2471400" cy="1368360"/>
          </a:xfrm>
        </p:grpSpPr>
        <p:sp>
          <p:nvSpPr>
            <p:cNvPr id="291" name=""/>
            <p:cNvSpPr/>
            <p:nvPr/>
          </p:nvSpPr>
          <p:spPr>
            <a:xfrm>
              <a:off x="6443640" y="189000"/>
              <a:ext cx="247140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33720" y="549360"/>
              <a:ext cx="2175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behind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995640" y="-125100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7da0d3"/>
              </a:gs>
              <a:gs pos="100000">
                <a:srgbClr val="2a374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720" y="2852640"/>
            <a:ext cx="266544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д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д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924280"/>
            <a:ext cx="2759040" cy="269712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51640" y="1628640"/>
            <a:ext cx="1141560" cy="1101960"/>
          </a:xfrm>
          <a:prstGeom prst="ellipse">
            <a:avLst/>
          </a:prstGeom>
          <a:gradFill rotWithShape="0">
            <a:gsLst>
              <a:gs pos="0">
                <a:srgbClr val="692aa2"/>
              </a:gs>
              <a:gs pos="100000">
                <a:srgbClr val="250e3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92360" y="378936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7da0d3"/>
              </a:gs>
              <a:gs pos="100000">
                <a:srgbClr val="2a374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0360" y="575640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7da0d3"/>
              </a:gs>
              <a:gs pos="100000">
                <a:srgbClr val="2a3748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15 0.13634 E">
                                      <p:cBhvr>
                                        <p:cTn id="1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3.33333E-006 L 0.00833 0.75949 E">
                                      <p:cBhvr>
                                        <p:cTn id="3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2050920" y="2852640"/>
            <a:ext cx="5185080" cy="75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33da9"/>
                    </a:gs>
                    <a:gs pos="100000">
                      <a:srgbClr val="7da0d3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33da9"/>
                  </a:gs>
                  <a:gs pos="100000">
                    <a:srgbClr val="7da0d3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294" name=""/>
          <p:cNvSpPr/>
          <p:nvPr/>
        </p:nvSpPr>
        <p:spPr>
          <a:xfrm>
            <a:off x="179280" y="189000"/>
            <a:ext cx="208908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385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8" dur="385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40" dur="385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2" dur="385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42560" y="5445000"/>
            <a:ext cx="777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is a snake </a:t>
            </a:r>
            <a:r>
              <a:rPr b="1" lang="en-US" sz="3600" spc="-1" strike="noStrike" u="sng">
                <a:solidFill>
                  <a:srgbClr val="692aa2"/>
                </a:solidFill>
                <a:uFillTx/>
                <a:latin typeface="Comic Sans MS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bas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093080" y="189000"/>
            <a:ext cx="1828800" cy="1368360"/>
            <a:chOff x="7093080" y="189000"/>
            <a:chExt cx="1828800" cy="1368360"/>
          </a:xfrm>
        </p:grpSpPr>
        <p:sp>
          <p:nvSpPr>
            <p:cNvPr id="126" name=""/>
            <p:cNvSpPr/>
            <p:nvPr/>
          </p:nvSpPr>
          <p:spPr>
            <a:xfrm>
              <a:off x="7093080" y="189000"/>
              <a:ext cx="182880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71600" y="54936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08360" y="1700280"/>
            <a:ext cx="16858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303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комна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148360" y="184464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i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ro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2565360"/>
            <a:ext cx="3035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сто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48360" y="256536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i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3284640"/>
            <a:ext cx="3035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книг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148360" y="328464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i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boo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68360" y="4005360"/>
            <a:ext cx="3035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до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4724280"/>
            <a:ext cx="3035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в дива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48360" y="393372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i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ho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148360" y="465300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i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so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7093080" y="189000"/>
            <a:ext cx="1828800" cy="1368360"/>
            <a:chOff x="7093080" y="189000"/>
            <a:chExt cx="1828800" cy="1368360"/>
          </a:xfrm>
        </p:grpSpPr>
        <p:sp>
          <p:nvSpPr>
            <p:cNvPr id="140" name=""/>
            <p:cNvSpPr/>
            <p:nvPr/>
          </p:nvSpPr>
          <p:spPr>
            <a:xfrm>
              <a:off x="7093080" y="189000"/>
              <a:ext cx="182880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71600" y="549360"/>
              <a:ext cx="721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7093080" y="189000"/>
            <a:ext cx="1828800" cy="1368360"/>
            <a:chOff x="7093080" y="189000"/>
            <a:chExt cx="1828800" cy="1368360"/>
          </a:xfrm>
        </p:grpSpPr>
        <p:sp>
          <p:nvSpPr>
            <p:cNvPr id="143" name=""/>
            <p:cNvSpPr/>
            <p:nvPr/>
          </p:nvSpPr>
          <p:spPr>
            <a:xfrm>
              <a:off x="7093080" y="189000"/>
              <a:ext cx="182880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570440" y="549360"/>
              <a:ext cx="924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000840" y="2847960"/>
            <a:ext cx="61416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423106"/>
              </a:gs>
              <a:gs pos="50000">
                <a:srgbClr val="906b0e"/>
              </a:gs>
              <a:gs pos="100000">
                <a:srgbClr val="42310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85264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solidFill>
            <a:srgbClr val="f2e1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66920" y="3481560"/>
            <a:ext cx="3741840" cy="344160"/>
          </a:xfrm>
          <a:prstGeom prst="rect">
            <a:avLst/>
          </a:prstGeom>
          <a:gradFill rotWithShape="0">
            <a:gsLst>
              <a:gs pos="0">
                <a:srgbClr val="967414"/>
              </a:gs>
              <a:gs pos="50000">
                <a:srgbClr val="d0a11c"/>
              </a:gs>
              <a:gs pos="100000">
                <a:srgbClr val="96741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24360" y="1989000"/>
            <a:ext cx="1139760" cy="12081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00000" y="5516640"/>
            <a:ext cx="777564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is a clock </a:t>
            </a:r>
            <a:r>
              <a:rPr b="1" lang="en-US" sz="3600" spc="-1" strike="noStrike" u="sng">
                <a:solidFill>
                  <a:srgbClr val="692aa2"/>
                </a:solidFill>
                <a:uFillTx/>
                <a:latin typeface="Comic Sans MS"/>
              </a:rPr>
              <a:t>on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3035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 дива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8360" y="184464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o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so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2565360"/>
            <a:ext cx="3035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 пол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48360" y="256536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o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fl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284640"/>
            <a:ext cx="3035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 пар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328464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o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des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4005360"/>
            <a:ext cx="3035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 двер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4724280"/>
            <a:ext cx="30351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на сту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48360" y="393372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o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4653000"/>
            <a:ext cx="35272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on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c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93080" y="189000"/>
            <a:ext cx="1828800" cy="1368360"/>
            <a:chOff x="7093080" y="189000"/>
            <a:chExt cx="1828800" cy="1368360"/>
          </a:xfrm>
        </p:grpSpPr>
        <p:sp>
          <p:nvSpPr>
            <p:cNvPr id="161" name=""/>
            <p:cNvSpPr/>
            <p:nvPr/>
          </p:nvSpPr>
          <p:spPr>
            <a:xfrm>
              <a:off x="7093080" y="189000"/>
              <a:ext cx="182880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570440" y="549360"/>
              <a:ext cx="924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6877080" y="189000"/>
            <a:ext cx="2037960" cy="1368360"/>
            <a:chOff x="6877080" y="189000"/>
            <a:chExt cx="2037960" cy="1368360"/>
          </a:xfrm>
        </p:grpSpPr>
        <p:sp>
          <p:nvSpPr>
            <p:cNvPr id="164" name=""/>
            <p:cNvSpPr/>
            <p:nvPr/>
          </p:nvSpPr>
          <p:spPr>
            <a:xfrm>
              <a:off x="6877080" y="189000"/>
              <a:ext cx="203796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89760" y="549360"/>
              <a:ext cx="187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unde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95280" y="551664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is a frog </a:t>
            </a:r>
            <a:r>
              <a:rPr b="1" lang="en-US" sz="3600" spc="-1" strike="noStrike" u="sng">
                <a:solidFill>
                  <a:srgbClr val="692aa2"/>
                </a:solidFill>
                <a:uFillTx/>
                <a:latin typeface="Comic Sans MS"/>
              </a:rPr>
              <a:t>und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umbrel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14572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317808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д стол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788000" y="1844640"/>
            <a:ext cx="4176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under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565360"/>
            <a:ext cx="3672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д двер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88000" y="2565360"/>
            <a:ext cx="38876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under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do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328464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д диван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88000" y="3284640"/>
            <a:ext cx="388764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under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sof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4005360"/>
            <a:ext cx="34560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д час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472428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д крова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59280" y="3933720"/>
            <a:ext cx="417672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under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c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4653000"/>
            <a:ext cx="381636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92aa2"/>
                </a:solidFill>
                <a:latin typeface="Comic Sans MS"/>
              </a:rPr>
              <a:t>under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b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6877080" y="189000"/>
            <a:ext cx="2037960" cy="1368360"/>
            <a:chOff x="6877080" y="189000"/>
            <a:chExt cx="2037960" cy="1368360"/>
          </a:xfrm>
        </p:grpSpPr>
        <p:sp>
          <p:nvSpPr>
            <p:cNvPr id="179" name=""/>
            <p:cNvSpPr/>
            <p:nvPr/>
          </p:nvSpPr>
          <p:spPr>
            <a:xfrm>
              <a:off x="6877080" y="189000"/>
              <a:ext cx="203796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89760" y="549360"/>
              <a:ext cx="1872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under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"/>
          <p:cNvGrpSpPr/>
          <p:nvPr/>
        </p:nvGrpSpPr>
        <p:grpSpPr>
          <a:xfrm>
            <a:off x="6802560" y="189000"/>
            <a:ext cx="2252160" cy="1368360"/>
            <a:chOff x="6802560" y="189000"/>
            <a:chExt cx="2252160" cy="1368360"/>
          </a:xfrm>
        </p:grpSpPr>
        <p:sp>
          <p:nvSpPr>
            <p:cNvPr id="182" name=""/>
            <p:cNvSpPr/>
            <p:nvPr/>
          </p:nvSpPr>
          <p:spPr>
            <a:xfrm>
              <a:off x="6802560" y="189000"/>
              <a:ext cx="2252160" cy="13683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2683d"/>
                </a:gs>
                <a:gs pos="50000">
                  <a:srgbClr val="b2e385"/>
                </a:gs>
                <a:gs pos="100000">
                  <a:srgbClr val="52683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93720" y="549360"/>
              <a:ext cx="193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abov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95280" y="5516640"/>
            <a:ext cx="8496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is an umbrella </a:t>
            </a:r>
            <a:r>
              <a:rPr b="1" lang="en-US" sz="3600" spc="-1" strike="noStrike" u="sng">
                <a:solidFill>
                  <a:srgbClr val="692aa2"/>
                </a:solidFill>
                <a:uFillTx/>
                <a:latin typeface="Comic Sans MS"/>
              </a:rPr>
              <a:t>abo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he fr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14572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45,-96,12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13:59:59Z</dcterms:created>
  <dc:creator>DNA7 X86</dc:creator>
  <dc:description/>
  <dc:language>en-US</dc:language>
  <cp:lastModifiedBy>DNA7 X86</cp:lastModifiedBy>
  <dcterms:modified xsi:type="dcterms:W3CDTF">2010-12-13T06:38:05Z</dcterms:modified>
  <cp:revision>7</cp:revision>
  <dc:subject/>
  <dc:title>Слайд 1</dc:title>
</cp:coreProperties>
</file>