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A58C-F5D2-4131-BCF7-9C26F9E5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F787-ACDF-4AA8-9C30-7D3353A8E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7D57-CF7D-45F0-A1D1-FECE7A9C7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D3D8-CA25-4C75-B5FA-14E75662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0FD8-5590-484B-BE36-6CCE866B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47A-970F-4CB9-BE6C-6F164A54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D82-A360-4799-8D4E-29A61055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6F21-38F7-41D0-B2A0-ECD2ECDAE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ECC-F635-4C6E-B212-9FC5A9DF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1AE-3086-437F-B7FC-2632CFA4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07E1-8761-4B33-9CAA-42464038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D676-2F74-4761-A2D8-FF49B56D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EBD1-F31A-4608-AE3B-F2CC8C17FF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14240" y="3352680"/>
            <a:ext cx="4343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Monotype Corsiva"/>
              </a:rPr>
              <a:t>Праздник </a:t>
            </a:r>
            <a:br>
              <a:rPr sz="4800"/>
            </a:br>
            <a:r>
              <a:rPr b="0" lang="ru-RU" sz="4800" spc="-1" strike="noStrike">
                <a:solidFill>
                  <a:srgbClr val="ff3300"/>
                </a:solidFill>
                <a:latin typeface="Monotype Corsiva"/>
              </a:rPr>
              <a:t>посвящения </a:t>
            </a:r>
            <a:br>
              <a:rPr sz="4800"/>
            </a:br>
            <a:r>
              <a:rPr b="0" lang="ru-RU" sz="4800" spc="-1" strike="noStrike">
                <a:solidFill>
                  <a:srgbClr val="ff3300"/>
                </a:solidFill>
                <a:latin typeface="Monotype Corsiva"/>
              </a:rPr>
              <a:t>в пятиклассни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золотая звезда"/>
          <p:cNvPicPr/>
          <p:nvPr/>
        </p:nvPicPr>
        <p:blipFill>
          <a:blip r:embed="rId1"/>
          <a:stretch/>
        </p:blipFill>
        <p:spPr>
          <a:xfrm>
            <a:off x="3429000" y="762120"/>
            <a:ext cx="2362320" cy="218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золотая звезда"/>
          <p:cNvPicPr/>
          <p:nvPr/>
        </p:nvPicPr>
        <p:blipFill>
          <a:blip r:embed="rId2"/>
          <a:stretch/>
        </p:blipFill>
        <p:spPr>
          <a:xfrm>
            <a:off x="990720" y="1371600"/>
            <a:ext cx="2361960" cy="2185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золотая звезда"/>
          <p:cNvPicPr/>
          <p:nvPr/>
        </p:nvPicPr>
        <p:blipFill>
          <a:blip r:embed="rId3"/>
          <a:stretch/>
        </p:blipFill>
        <p:spPr>
          <a:xfrm>
            <a:off x="6019920" y="1371600"/>
            <a:ext cx="2361960" cy="2185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4" descr="золотая звезда"/>
          <p:cNvPicPr/>
          <p:nvPr/>
        </p:nvPicPr>
        <p:blipFill>
          <a:blip r:embed="rId4"/>
          <a:stretch/>
        </p:blipFill>
        <p:spPr>
          <a:xfrm>
            <a:off x="533520" y="4267080"/>
            <a:ext cx="2361960" cy="2186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5" descr="золотая звезда"/>
          <p:cNvPicPr/>
          <p:nvPr/>
        </p:nvPicPr>
        <p:blipFill>
          <a:blip r:embed="rId5"/>
          <a:stretch/>
        </p:blipFill>
        <p:spPr>
          <a:xfrm>
            <a:off x="6553080" y="4267080"/>
            <a:ext cx="2362320" cy="218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9900"/>
                </a:solidFill>
                <a:latin typeface="Arial"/>
              </a:rPr>
              <a:t>Конкурс «Театральны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енок-1, сороки-2, петух-1,куры-2, щенок-1,солнце-1, крылечко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9900"/>
                </a:solidFill>
                <a:latin typeface="Arial"/>
              </a:rPr>
              <a:t>Конкурс «Театральны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Рассказать стихотворение « Наша Таня громко плачет», если </a:t>
            </a:r>
            <a:br>
              <a:rPr sz="2000"/>
            </a:b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у вас болит з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вы промокли под дождем и продрог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вам попала в глаз сори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вам кирпич упал на н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у вас чесо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за вами гонится вол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вас обидели 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к вам пристала м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у вас спадывают брю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99"/>
                </a:solidFill>
                <a:latin typeface="Arial"/>
              </a:rPr>
              <a:t>у вас очень хорошее настро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3366"/>
                </a:solidFill>
                <a:latin typeface="Arial"/>
              </a:rPr>
              <a:t>Конкурс «Музыкальны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Если долго, долго, долго,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Если долго в нашей школе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 первом, во втором и в третьем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И в четвертом просидеть,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То пожалуй, то конечно,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То наверно-верно-верно,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То возможно-можно-можно,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Можно в пятый перейт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3366"/>
                </a:solidFill>
                <a:latin typeface="Arial"/>
              </a:rPr>
              <a:t>Конкурс «Музыкальны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пе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в пятом уроки вот такой ширины!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в пятом задачи вот такой сложины!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математика и русский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и английский, и французский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сиди дома, не гуляй!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сиди дома, не гуля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3366"/>
                </a:solidFill>
                <a:latin typeface="Arial"/>
              </a:rPr>
              <a:t>Конкурс «Музыкальны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2.   Если только, только, только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Если только в нашей школе,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Если только в пятом классе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можешь ты чего-нибудь,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разу же любой учитель,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оспитатель и родитель,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Даже иногда директор,</a:t>
            </a:r>
            <a:br>
              <a:rPr sz="3200"/>
            </a:b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Как начнет тебя хвали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93366"/>
                </a:solidFill>
                <a:latin typeface="Arial"/>
              </a:rPr>
              <a:t>Конкурс «Музыкальный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пев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ты молодец, что задачку решил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ты молодец, что стихи сочинил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станцевал и кувыркнулся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подмигнул и улыбнулся,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в том же духе продолжай!</a:t>
            </a:r>
            <a:br>
              <a:rPr sz="3200"/>
            </a:b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-а, в том же духе продолжа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Arial"/>
              </a:rPr>
              <a:t>«Дружный клас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Вам нужно построиться в колонну, но в определенном поряд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1.По росту: от самого высокого к самому низк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2.В алфавитном порядке (по первой букве имен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Весь класс становится в круг и берется за вере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По команде ведущего веревка должна принять форму той фигуры, которую назв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Клятва пятикласс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Мы ученики 5 Б класса Клянем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ибегать в школу к первому уроку с горящими от любознательности глазами. Клянем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 волчьим аппетитом поглощать все знания. Клянем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оддерживать огонь любви и уважения к учителям и воспитателям. Клянем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Быть дружными и инициативными. Клянем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 достоинством нести по Актобе высокое  звание  ученика нашей школы. Клянемся! Клянемся! Клянем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3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Из минут и из мгнов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Грустных и веселы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ырастает мир чуде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Наших школьных д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чень важно в жизни 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равильную школу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Чтобы не было обидно, что учился в 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се, кто верит добрым сказка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Радость в ней отыщ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В школе сказочником каж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тать совсем не пр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И пока дорогу к знань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ятиклашки ищу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Мне, наверное, прид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Им слегка помоч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Конкурс «Математическ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В поисках Царевны-лягушки Иван-царевич обследовал 4 болота. На каждом болоте 357 кочек. На каждой кочке – по 9 лягушек. Сколько лягушек встретил на своем пути Иван – царевич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99"/>
                </a:solidFill>
                <a:latin typeface="Arial"/>
              </a:rPr>
              <a:t>Конкурс «Математический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тв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12857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шение: 4*357=1428      1428*9=1285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Конкурс «Умн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Кто из героев русской народной сказки был хлебобулочным изделие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2. Назовите героиню французской сказки, которая получила свое прозвище благодаря головному убо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3. Назовите героиню русской народной сказки, которая была сельскохозяйственным продук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4. Назовите сказку итальянского писателя, где все герои – фрукты и овощ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cc"/>
                </a:solidFill>
                <a:latin typeface="Arial"/>
              </a:rPr>
              <a:t>5. Где жил и чем занимался самый знаменитый кот А.С.Пушкина?  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Конкурс «Умн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1.  Коло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2.  Красная Шапо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3.  Реп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4. Чиполл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5. У Лукоморья, пел песни, сказки говор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9900"/>
                </a:solidFill>
                <a:latin typeface="Arial"/>
              </a:rPr>
              <a:t>Конкурс «Загад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В огне не горит, в воде не тоне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Через речку поперек великан бетонный ле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Что вниз вершиной расте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Тучек нет на горизонте, но раскрылся в небе зонти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Что идет , не двигаясь с мест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04920" y="563868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Лед, Мост, Сосулька, Парашют,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9900"/>
                </a:solidFill>
                <a:latin typeface="Arial"/>
              </a:rPr>
              <a:t>Конкурс «Загад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За чем мы ед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Сколько надо букв «г», чтобы получилась куча сена?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3. Каким гребнем волосы не расчешеш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4. Когда мальчика называют женским именем?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cc"/>
                </a:solidFill>
                <a:latin typeface="Arial"/>
              </a:rPr>
              <a:t>5. По чему собака бегает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30492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cc"/>
                </a:solidFill>
                <a:latin typeface="Arial"/>
              </a:rPr>
              <a:t>За столом, СТО-г, Петушиным, Соня, по зем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3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24-01-07T02:02:3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