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3.gif" ContentType="image/gif"/>
  <Override PartName="/ppt/media/image40.jpeg" ContentType="image/jpeg"/>
  <Override PartName="/ppt/media/image54.jpeg" ContentType="image/jpeg"/>
  <Override PartName="/ppt/media/image51.jpeg" ContentType="image/jpeg"/>
  <Override PartName="/ppt/media/image48.jpeg" ContentType="image/jpeg"/>
  <Override PartName="/ppt/media/image47.jpeg" ContentType="image/jpeg"/>
  <Override PartName="/ppt/media/image55.png" ContentType="image/png"/>
  <Override PartName="/ppt/media/image20.jpeg" ContentType="image/jpeg"/>
  <Override PartName="/ppt/media/image36.jpeg" ContentType="image/jpeg"/>
  <Override PartName="/ppt/media/image57.png" ContentType="image/png"/>
  <Override PartName="/ppt/media/image23.jpeg" ContentType="image/jpeg"/>
  <Override PartName="/ppt/media/image12.png" ContentType="image/png"/>
  <Override PartName="/ppt/media/image14.jpeg" ContentType="image/jpeg"/>
  <Override PartName="/ppt/media/image2.jpeg" ContentType="image/jpeg"/>
  <Override PartName="/ppt/media/image31.png" ContentType="image/png"/>
  <Override PartName="/ppt/media/image41.jpeg" ContentType="image/jpeg"/>
  <Override PartName="/ppt/media/image66.png" ContentType="image/png"/>
  <Override PartName="/ppt/media/image15.jpeg" ContentType="image/jpeg"/>
  <Override PartName="/ppt/media/image64.png" ContentType="image/png"/>
  <Override PartName="/ppt/media/image49.jpeg" ContentType="image/jpeg"/>
  <Override PartName="/ppt/media/image18.jpeg" ContentType="image/jpeg"/>
  <Override PartName="/ppt/media/image70.jpeg" ContentType="image/jpeg"/>
  <Override PartName="/ppt/media/image17.jpeg" ContentType="image/jpeg"/>
  <Override PartName="/ppt/media/image63.png" ContentType="image/png"/>
  <Override PartName="/ppt/media/image69.jpeg" ContentType="image/jpeg"/>
  <Override PartName="/ppt/media/image67.png" ContentType="image/png"/>
  <Override PartName="/ppt/media/image37.jpeg" ContentType="image/jpeg"/>
  <Override PartName="/ppt/media/image3.jpeg" ContentType="image/jpeg"/>
  <Override PartName="/ppt/media/image30.png" ContentType="image/png"/>
  <Override PartName="/ppt/media/image60.png" ContentType="image/png"/>
  <Override PartName="/ppt/media/image62.png" ContentType="image/png"/>
  <Override PartName="/ppt/media/image25.png" ContentType="image/png"/>
  <Override PartName="/ppt/media/image19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65.png" ContentType="image/png"/>
  <Override PartName="/ppt/media/image59.png" ContentType="image/png"/>
  <Override PartName="/ppt/media/image4.wmf" ContentType="image/x-wmf"/>
  <Override PartName="/ppt/media/image61.png" ContentType="image/png"/>
  <Override PartName="/ppt/media/image5.jpeg" ContentType="image/jpeg"/>
  <Override PartName="/ppt/media/image42.jpeg" ContentType="image/jpeg"/>
  <Override PartName="/ppt/media/image6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68.wmf" ContentType="image/x-wmf"/>
  <Override PartName="/ppt/media/image35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4B0-AF9A-4ECB-8963-97F2A310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A84-94BA-45E7-A6EC-2F995821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E87-4C7B-4FEF-92B1-C0ACE653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CFE-53CD-4B0A-85E7-7A445F20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914-3F92-4735-AB3D-84B1FA12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45A-2E74-45CD-99DD-EC40F33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2A3-E24A-4038-81D2-293745FA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DCE-D89B-4909-8B53-1663D988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F24-4492-4051-BFF7-85E83DB4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D59-8ADB-4A32-95B2-BE7D91B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C71-ED49-4DD5-B6E6-56AEE21A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809-479F-4993-B0F3-F3D105C6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E6D9-69B4-4CE9-BE52-BB57AC052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" Target=""/><Relationship Id="rId5" Type="http://schemas.openxmlformats.org/officeDocument/2006/relationships/slide" Target="slide57.xml"/><Relationship Id="rId6" Type="http://schemas.openxmlformats.org/officeDocument/2006/relationships/slide" Target="slide58.xml"/><Relationship Id="rId7" Type="http://schemas.openxmlformats.org/officeDocument/2006/relationships/slide" Target="slide59.xml"/><Relationship Id="rId8" Type="http://schemas.openxmlformats.org/officeDocument/2006/relationships/slide" Target="slide60.xml"/><Relationship Id="rId9" Type="http://schemas.openxmlformats.org/officeDocument/2006/relationships/slide" Target="slide61.xml"/><Relationship Id="rId10" Type="http://schemas.openxmlformats.org/officeDocument/2006/relationships/slide" Target="slide63.xml"/><Relationship Id="rId11" Type="http://schemas.openxmlformats.org/officeDocument/2006/relationships/slide" Target="slide63.xml"/><Relationship Id="rId12" Type="http://schemas.openxmlformats.org/officeDocument/2006/relationships/slide" Target="slide62.xml"/><Relationship Id="rId1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54.jpe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hyperlink" Target="http://www.artillery-museum.ru/files/Gallery/53_thumb.jpg" TargetMode="External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26.png"/><Relationship Id="rId7" Type="http://schemas.openxmlformats.org/officeDocument/2006/relationships/image" Target="../media/image30.png"/><Relationship Id="rId8" Type="http://schemas.openxmlformats.org/officeDocument/2006/relationships/slide" Target="slide55.xml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60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image" Target="../media/image63.png"/><Relationship Id="rId5" Type="http://schemas.openxmlformats.org/officeDocument/2006/relationships/slide" Target="slide55.xml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67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981080" y="1981080"/>
            <a:ext cx="5105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52300" dir="17036436" blurRad="0" rotWithShape="0">
                    <a:srgbClr val="ffcccc"/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52300" dir="17036436" blurRad="0" rotWithShape="0">
                  <a:srgbClr val="ffcc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12" descr="lec2_1_1-1"/>
          <p:cNvPicPr/>
          <p:nvPr/>
        </p:nvPicPr>
        <p:blipFill>
          <a:blip r:embed="rId1"/>
          <a:stretch/>
        </p:blipFill>
        <p:spPr>
          <a:xfrm>
            <a:off x="914400" y="3895560"/>
            <a:ext cx="25272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1066680"/>
          <a:ext cx="8305560" cy="598968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9896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вский филиал МБОУ «Щекинская СОШ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льского района Курской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«М. Ю. Лермонтов. Стихотворение «Бородино»: история создания, тема, идея, композиция стихотворения, образ рассказчика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ла: учитель русского языка и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рипкина Н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Михайловка, 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3760" y="457200"/>
            <a:ext cx="380988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35 г. первые стихи появились Лермонтова в печати. До тех пор Лермонтов известен как поэт лишь в офицерских и светских круг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12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11" descr="lermontov_03_h150"/>
          <p:cNvPicPr/>
          <p:nvPr/>
        </p:nvPicPr>
        <p:blipFill>
          <a:blip r:embed="rId6"/>
          <a:stretch/>
        </p:blipFill>
        <p:spPr>
          <a:xfrm>
            <a:off x="1143000" y="838080"/>
            <a:ext cx="41878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1837г. Лермонтов узнает о гибели А.С.Пушкина и пишет стихотворение "Смерть поэта". Стихотворение воспринимается как "воззвание к революции"; начинается дело, и уже через несколько дней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(25 февраля),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о Высочайшему повелению, Лермонтова переводят на Кавказ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20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11" descr=""/>
          <p:cNvPicPr/>
          <p:nvPr/>
        </p:nvPicPr>
        <p:blipFill>
          <a:blip r:embed="rId6"/>
          <a:stretch/>
        </p:blipFill>
        <p:spPr>
          <a:xfrm>
            <a:off x="1143000" y="990720"/>
            <a:ext cx="36813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44146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1840г. военный суд за дуэль приговаривает Лермонтова к вторичной ссылке на Кавказ. Он уезжает, где принимает участие в военных действиях и обращает на себя внимание начальника отряда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"расторопностью, верностью взгляда и пылким мужеством",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за которое его представляют к награ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28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10" descr=""/>
          <p:cNvPicPr/>
          <p:nvPr/>
        </p:nvPicPr>
        <p:blipFill>
          <a:blip r:embed="rId6"/>
          <a:stretch/>
        </p:blipFill>
        <p:spPr>
          <a:xfrm>
            <a:off x="5562720" y="1447920"/>
            <a:ext cx="3352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о время ссылки и позднее особенно раскрылось художественное дарование Лермонтова, с детства увлекавшегося живопис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36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2" descr="1"/>
          <p:cNvPicPr/>
          <p:nvPr/>
        </p:nvPicPr>
        <p:blipFill>
          <a:blip r:embed="rId6"/>
          <a:stretch/>
        </p:blipFill>
        <p:spPr>
          <a:xfrm>
            <a:off x="1828800" y="1828800"/>
            <a:ext cx="64008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Ему принадлежат акварели, картины маслом,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44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11" descr="Вид Пятигорска"/>
          <p:cNvPicPr/>
          <p:nvPr/>
        </p:nvPicPr>
        <p:blipFill>
          <a:blip r:embed="rId6"/>
          <a:stretch/>
        </p:blipFill>
        <p:spPr>
          <a:xfrm>
            <a:off x="1295280" y="1104840"/>
            <a:ext cx="739152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рисунки - пейзажи, жанровые сцены, портреты и карик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52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12" descr=""/>
          <p:cNvPicPr/>
          <p:nvPr/>
        </p:nvPicPr>
        <p:blipFill>
          <a:blip r:embed="rId6"/>
          <a:stretch/>
        </p:blipFill>
        <p:spPr>
          <a:xfrm>
            <a:off x="1295280" y="1219320"/>
            <a:ext cx="75438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8320" y="274680"/>
            <a:ext cx="35053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Лучшие из них связаны с кавказской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60" name="Picture 6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7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8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9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0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14" descr="Башня в Сиони"/>
          <p:cNvPicPr/>
          <p:nvPr/>
        </p:nvPicPr>
        <p:blipFill>
          <a:blip r:embed="rId6"/>
          <a:stretch/>
        </p:blipFill>
        <p:spPr>
          <a:xfrm>
            <a:off x="1143000" y="30492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Развалины близ селения Караагач в Кахети"/>
          <p:cNvPicPr/>
          <p:nvPr/>
        </p:nvPicPr>
        <p:blipFill>
          <a:blip r:embed="rId7"/>
          <a:stretch/>
        </p:blipFill>
        <p:spPr>
          <a:xfrm>
            <a:off x="5029200" y="3200400"/>
            <a:ext cx="388620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1295280" y="228600"/>
            <a:ext cx="7620120" cy="570708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0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69" name="Picture 11" descr="mlerm-pic_02"/>
            <p:cNvPicPr/>
            <p:nvPr/>
          </p:nvPicPr>
          <p:blipFill>
            <a:blip r:embed="rId2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2" descr="mlerm-pic_02"/>
            <p:cNvPicPr/>
            <p:nvPr/>
          </p:nvPicPr>
          <p:blipFill>
            <a:blip r:embed="rId3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3" descr="mlerm-pic_02"/>
            <p:cNvPicPr/>
            <p:nvPr/>
          </p:nvPicPr>
          <p:blipFill>
            <a:blip r:embed="rId4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4" descr="mlerm-pic_02"/>
            <p:cNvPicPr/>
            <p:nvPr/>
          </p:nvPicPr>
          <p:blipFill>
            <a:blip r:embed="rId5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5" descr="Крестовая гора"/>
            <p:cNvPicPr/>
            <p:nvPr/>
          </p:nvPicPr>
          <p:blipFill>
            <a:blip r:embed="rId6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57913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оспоминание о Кавк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ид Пятигорс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77" name="Picture 8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5" descr="Вид Пятигорска"/>
          <p:cNvPicPr/>
          <p:nvPr/>
        </p:nvPicPr>
        <p:blipFill>
          <a:blip r:embed="rId6"/>
          <a:stretch/>
        </p:blipFill>
        <p:spPr>
          <a:xfrm>
            <a:off x="1219320" y="973080"/>
            <a:ext cx="769608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990720" y="6216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Крестовая г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85" name="Picture 7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Picture 17" descr=""/>
          <p:cNvPicPr/>
          <p:nvPr/>
        </p:nvPicPr>
        <p:blipFill>
          <a:blip r:embed="rId6"/>
          <a:stretch/>
        </p:blipFill>
        <p:spPr>
          <a:xfrm>
            <a:off x="1447920" y="241200"/>
            <a:ext cx="7391160" cy="60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спомнить и дополнить то, известно о великом русском поэ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спомнить факты истории о войне 181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ознакомиться со стихотворением М.Ю. Лермонтова 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роанализировать его и высказать  свое м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46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10"/>
          <p:cNvSpPr txBox="1"/>
          <p:nvPr/>
        </p:nvSpPr>
        <p:spPr>
          <a:xfrm>
            <a:off x="1066680" y="228600"/>
            <a:ext cx="7696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Цели урока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295280" y="61927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ид Тиф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93" name="Picture 7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8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0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1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5" descr="Вид Тифлиса"/>
          <p:cNvPicPr/>
          <p:nvPr/>
        </p:nvPicPr>
        <p:blipFill>
          <a:blip r:embed="rId6"/>
          <a:stretch/>
        </p:blipFill>
        <p:spPr>
          <a:xfrm>
            <a:off x="1219320" y="304920"/>
            <a:ext cx="7619760" cy="58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62360" y="274320"/>
            <a:ext cx="335268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Лермонтов — один из величайших мастеров русского художественного слова. Преемник Пушкина и продолжатель его работы в стихах и проз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01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1" descr="{57D0CAE2-0BDA-4B75-9F14-54038D12BE83}"/>
          <p:cNvPicPr/>
          <p:nvPr/>
        </p:nvPicPr>
        <p:blipFill>
          <a:blip r:embed="rId6"/>
          <a:stretch/>
        </p:blipFill>
        <p:spPr>
          <a:xfrm>
            <a:off x="1066680" y="1066680"/>
            <a:ext cx="452304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44956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15 июля 1841 г. состоялась дуэль между Лермонтовым и Мартыновым, закончившаяся трагической гибелью поэта. 17 июля Лермонтова похоронили на городском кладбище "при стечении всего Пятигорска" .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1899 г. в Пятигорске открыт памятник Лермонтову, воздвигнутый по всероссийской подпи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09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11" descr=""/>
          <p:cNvPicPr/>
          <p:nvPr/>
        </p:nvPicPr>
        <p:blipFill>
          <a:blip r:embed="rId6"/>
          <a:stretch/>
        </p:blipFill>
        <p:spPr>
          <a:xfrm>
            <a:off x="1981080" y="1332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43240" y="304560"/>
            <a:ext cx="2949480" cy="62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42г. прах Лермонтова был перевезен в Тарханы и похоронен в семейном склепе Арсеньев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mogila_h250"/>
          <p:cNvPicPr/>
          <p:nvPr/>
        </p:nvPicPr>
        <p:blipFill>
          <a:blip r:embed="rId1"/>
          <a:stretch/>
        </p:blipFill>
        <p:spPr>
          <a:xfrm>
            <a:off x="1066680" y="228600"/>
            <a:ext cx="4532400" cy="64008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18" name="Picture 5" descr="mlerm-pic_02"/>
            <p:cNvPicPr/>
            <p:nvPr/>
          </p:nvPicPr>
          <p:blipFill>
            <a:blip r:embed="rId2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6" descr="mlerm-pic_02"/>
            <p:cNvPicPr/>
            <p:nvPr/>
          </p:nvPicPr>
          <p:blipFill>
            <a:blip r:embed="rId3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7" descr="mlerm-pic_02"/>
            <p:cNvPicPr/>
            <p:nvPr/>
          </p:nvPicPr>
          <p:blipFill>
            <a:blip r:embed="rId4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mlerm-pic_02"/>
            <p:cNvPicPr/>
            <p:nvPr/>
          </p:nvPicPr>
          <p:blipFill>
            <a:blip r:embed="rId5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Крестовая гора"/>
            <p:cNvPicPr/>
            <p:nvPr/>
          </p:nvPicPr>
          <p:blipFill>
            <a:blip r:embed="rId6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295280" y="2133720"/>
          <a:ext cx="7239240" cy="3962160"/>
        </p:xfrm>
        <a:graphic>
          <a:graphicData uri="http://schemas.openxmlformats.org/drawingml/2006/table">
            <a:tbl>
              <a:tblPr/>
              <a:tblGrid>
                <a:gridCol w="3657600"/>
                <a:gridCol w="358164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0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4" name="Group 13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25" name="Picture 14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5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6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7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8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WordArt 19"/>
          <p:cNvSpPr txBox="1"/>
          <p:nvPr/>
        </p:nvSpPr>
        <p:spPr>
          <a:xfrm>
            <a:off x="1066680" y="228600"/>
            <a:ext cx="7696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Заполни таблицу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"Знаю - узнал"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1676520" y="2209680"/>
            <a:ext cx="2895480" cy="685800"/>
          </a:xfrm>
          <a:prstGeom prst="rect">
            <a:avLst/>
          </a:prstGeom>
          <a:solidFill>
            <a:srgbClr val="ffcc99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5257800" y="2209680"/>
            <a:ext cx="2895480" cy="6858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Уз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54"/>
          <p:cNvPicPr/>
          <p:nvPr/>
        </p:nvPicPr>
        <p:blipFill>
          <a:blip r:embed="rId2"/>
          <a:srcRect l="2821" t="5201" r="6921" b="35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4"/>
          <p:cNvSpPr txBox="1"/>
          <p:nvPr/>
        </p:nvSpPr>
        <p:spPr>
          <a:xfrm>
            <a:off x="1981080" y="1981080"/>
            <a:ext cx="5410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2300" dir="17036436" blurRad="0" rotWithShape="0">
                    <a:srgbClr val="ffcccc"/>
                  </a:outerShdw>
                </a:effectLst>
                <a:latin typeface="Times New Roman"/>
              </a:rPr>
              <a:t>М.Ю Лермонтов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52300" dir="17036436" blurRad="0" rotWithShape="0">
                  <a:srgbClr val="ffccc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2300" dir="17036436" blurRad="0" rotWithShape="0">
                    <a:srgbClr val="ffcccc"/>
                  </a:outerShdw>
                </a:effectLst>
                <a:latin typeface="Times New Roman"/>
              </a:rPr>
              <a:t>"БОРОДИНО"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52300" dir="17036436" blurRad="0" rotWithShape="0">
                  <a:srgbClr val="ffcc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6" name="Picture 5" descr="07765"/>
          <p:cNvPicPr/>
          <p:nvPr/>
        </p:nvPicPr>
        <p:blipFill>
          <a:blip r:embed="rId3"/>
          <a:stretch/>
        </p:blipFill>
        <p:spPr>
          <a:xfrm>
            <a:off x="3733920" y="3733920"/>
            <a:ext cx="1855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mlerm-pic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собое место в художественной литературе, посвященной героической странице в истории России, занимает стихотворение М. Ю. Лермонтова "Бородино" - первое художественное произведение, в котором исторически точное описание боя сочетается с высочайшим поэтическим мастер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2819520" y="5029200"/>
            <a:ext cx="32763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mlerm-pic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Лермонтов жил среди участников войны, с детских лет слушал рассказы о ней. Его отец, отставной капитан, в 1812 г. записался в ополчение. Его родственники участвовали в Бородинском сражении. Он мог слышать рассказы о событиях 1812 г. от тархановских крестьян, возвратившихся с войны. Он видел сожженную Москву в 1819 г. Судя по кругу знакомств, он общался с офицерами - участниками войны в гусарском полку, где начинал военную служб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3276720" y="5372280"/>
            <a:ext cx="28954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mlerm-pic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Еще юношей (в 1831 г.) Лермонтов написал стихотворение "Поле Бородина", в котором попытался показать ход сражения. В "Бородино" поэт создал яркую картину жестокого боя. Впервые Лермонтов дал рассказ о Бородинском сражении от лица рядового участника, простого солдата-артиллери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2743200" y="4876920"/>
            <a:ext cx="39625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52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Видео Лермонтов Бородино.avi" descr=""/>
          <p:cNvPicPr/>
          <p:nvPr/>
        </p:nvPicPr>
        <p:blipFill>
          <a:blip r:embed="rId6"/>
          <a:stretch/>
        </p:blipFill>
        <p:spPr>
          <a:xfrm>
            <a:off x="1066680" y="4572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793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295280" y="2133720"/>
          <a:ext cx="7239240" cy="3962160"/>
        </p:xfrm>
        <a:graphic>
          <a:graphicData uri="http://schemas.openxmlformats.org/drawingml/2006/table">
            <a:tbl>
              <a:tblPr/>
              <a:tblGrid>
                <a:gridCol w="3657600"/>
                <a:gridCol w="358164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0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53" name="Group 30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54" name="Picture 31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2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33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4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5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WordArt 38"/>
          <p:cNvSpPr txBox="1"/>
          <p:nvPr/>
        </p:nvSpPr>
        <p:spPr>
          <a:xfrm>
            <a:off x="1066680" y="228600"/>
            <a:ext cx="7696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Заполни таблицу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"Знаю - узнал"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0" name="Rectangle 43"/>
          <p:cNvSpPr/>
          <p:nvPr/>
        </p:nvSpPr>
        <p:spPr>
          <a:xfrm>
            <a:off x="1676520" y="2209680"/>
            <a:ext cx="2895480" cy="685800"/>
          </a:xfrm>
          <a:prstGeom prst="rect">
            <a:avLst/>
          </a:prstGeom>
          <a:solidFill>
            <a:srgbClr val="ffcc99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rcRect l="47029" t="-196" r="23250" b="0"/>
          <a:stretch/>
        </p:blipFill>
        <p:spPr>
          <a:xfrm>
            <a:off x="7391520" y="4038480"/>
            <a:ext cx="1752480" cy="2549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2"/>
          <a:stretch/>
        </p:blipFill>
        <p:spPr>
          <a:xfrm>
            <a:off x="160020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"/>
          <p:cNvPicPr/>
          <p:nvPr/>
        </p:nvPicPr>
        <p:blipFill>
          <a:blip r:embed="rId3"/>
          <a:srcRect l="18685" t="-196" r="51640" b="0"/>
          <a:stretch/>
        </p:blipFill>
        <p:spPr>
          <a:xfrm>
            <a:off x="0" y="228600"/>
            <a:ext cx="1606680" cy="2514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54"/>
          <p:cNvPicPr/>
          <p:nvPr/>
        </p:nvPicPr>
        <p:blipFill>
          <a:blip r:embed="rId4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54"/>
          <p:cNvPicPr/>
          <p:nvPr/>
        </p:nvPicPr>
        <p:blipFill>
          <a:blip r:embed="rId5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Lermontov-Borodino.mp3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перед сражением"/>
          <p:cNvPicPr/>
          <p:nvPr/>
        </p:nvPicPr>
        <p:blipFill>
          <a:blip r:embed="rId1"/>
          <a:srcRect l="0" t="16421" r="3337" b="0"/>
          <a:stretch/>
        </p:blipFill>
        <p:spPr>
          <a:xfrm>
            <a:off x="0" y="304920"/>
            <a:ext cx="9144000" cy="639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4"/>
          <p:cNvPicPr/>
          <p:nvPr/>
        </p:nvPicPr>
        <p:blipFill>
          <a:blip r:embed="rId1"/>
          <a:srcRect l="0" t="8655" r="0" b="6854"/>
          <a:stretch/>
        </p:blipFill>
        <p:spPr>
          <a:xfrm>
            <a:off x="1447920" y="304920"/>
            <a:ext cx="6100560" cy="6553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{3B11F92E-A9AF-4414-B393-F282CD340D6D}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бородино001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бородино007"/>
          <p:cNvPicPr/>
          <p:nvPr/>
        </p:nvPicPr>
        <p:blipFill>
          <a:blip r:embed="rId3"/>
          <a:stretch/>
        </p:blipFill>
        <p:spPr>
          <a:xfrm>
            <a:off x="1447920" y="304920"/>
            <a:ext cx="613548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бородино005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бородино006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бородино008"/>
          <p:cNvPicPr/>
          <p:nvPr/>
        </p:nvPicPr>
        <p:blipFill>
          <a:blip r:embed="rId3"/>
          <a:stretch/>
        </p:blipFill>
        <p:spPr>
          <a:xfrm>
            <a:off x="1143000" y="304920"/>
            <a:ext cx="6400800" cy="62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бородино009"/>
          <p:cNvPicPr/>
          <p:nvPr/>
        </p:nvPicPr>
        <p:blipFill>
          <a:blip r:embed="rId3"/>
          <a:stretch/>
        </p:blipFill>
        <p:spPr>
          <a:xfrm>
            <a:off x="1295280" y="304920"/>
            <a:ext cx="6553440" cy="62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62" name="Picture 4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5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8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WordArt 9"/>
          <p:cNvSpPr txBox="1"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оделись находками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68" name="Picture 11" descr="bd07213_"/>
          <p:cNvPicPr/>
          <p:nvPr/>
        </p:nvPicPr>
        <p:blipFill>
          <a:blip r:embed="rId6"/>
          <a:stretch/>
        </p:blipFill>
        <p:spPr>
          <a:xfrm>
            <a:off x="2362320" y="1600200"/>
            <a:ext cx="5181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8" descr="Бивуак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8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бородино004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Бородинский бой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Атака литовцев (Эскиз)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4" descr="Подвиг солдат Раевского под Салтановкой"/>
          <p:cNvPicPr/>
          <p:nvPr/>
        </p:nvPicPr>
        <p:blipFill>
          <a:blip r:embed="rId1"/>
          <a:stretch/>
        </p:blipFill>
        <p:spPr>
          <a:xfrm>
            <a:off x="0" y="9360"/>
            <a:ext cx="9144000" cy="6669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attle009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бородино010"/>
          <p:cNvPicPr/>
          <p:nvPr/>
        </p:nvPicPr>
        <p:blipFill>
          <a:blip r:embed="rId3"/>
          <a:stretch/>
        </p:blipFill>
        <p:spPr>
          <a:xfrm>
            <a:off x="1523880" y="304920"/>
            <a:ext cx="577872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Эпизод Бородинского сраже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18120917borod"/>
          <p:cNvPicPr/>
          <p:nvPr/>
        </p:nvPicPr>
        <p:blipFill>
          <a:blip r:embed="rId1"/>
          <a:stretch/>
        </p:blipFill>
        <p:spPr>
          <a:xfrm>
            <a:off x="0" y="0"/>
            <a:ext cx="9144000" cy="6703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бородино003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09720" y="475920"/>
            <a:ext cx="34290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М.Ю.Лермонтов родился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3 октября 1814г. в Москв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Это самый ранний портрет Миши.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 нем ему около 3-х л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71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10" descr=""/>
          <p:cNvPicPr/>
          <p:nvPr/>
        </p:nvPicPr>
        <p:blipFill>
          <a:blip r:embed="rId6"/>
          <a:stretch/>
        </p:blipFill>
        <p:spPr>
          <a:xfrm>
            <a:off x="1143000" y="762120"/>
            <a:ext cx="42451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28A_52"/>
          <p:cNvPicPr/>
          <p:nvPr/>
        </p:nvPicPr>
        <p:blipFill>
          <a:blip r:embed="rId1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Герои Бородинской битвы"/>
          <p:cNvPicPr/>
          <p:nvPr/>
        </p:nvPicPr>
        <p:blipFill>
          <a:blip r:embed="rId1"/>
          <a:stretch/>
        </p:blipFill>
        <p:spPr>
          <a:xfrm>
            <a:off x="1676520" y="0"/>
            <a:ext cx="578808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4"/>
          <p:cNvPicPr/>
          <p:nvPr/>
        </p:nvPicPr>
        <p:blipFill>
          <a:blip r:embed="rId1"/>
          <a:srcRect l="0" t="8655" r="0" b="6854"/>
          <a:stretch/>
        </p:blipFill>
        <p:spPr>
          <a:xfrm>
            <a:off x="1447920" y="304920"/>
            <a:ext cx="6100560" cy="655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Обратите внимание на значение незнакомых слов. Найдите их в тек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905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 - - - 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 - - - 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 - - -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09880" y="2285640"/>
            <a:ext cx="5029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оянка войска под открытым не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ысокий круглый головной у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анок, на котором укреп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5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6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27"/>
          <p:cNvSpPr/>
          <p:nvPr/>
        </p:nvSpPr>
        <p:spPr>
          <a:xfrm>
            <a:off x="533520" y="2133720"/>
            <a:ext cx="2819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БИВ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8"/>
          <p:cNvSpPr/>
          <p:nvPr/>
        </p:nvSpPr>
        <p:spPr>
          <a:xfrm>
            <a:off x="457200" y="358128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И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457200" y="502920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ЛАФ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Обратите внимание на значение незнакомых слов. Найдите их в тек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905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 - - -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 - -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Х - -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09880" y="2285640"/>
            <a:ext cx="5029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левое укр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ражение, би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Удалой, смел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7"/>
          <p:cNvSpPr/>
          <p:nvPr/>
        </p:nvSpPr>
        <p:spPr>
          <a:xfrm>
            <a:off x="380880" y="205740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РЕ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457200" y="358128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457200" y="495288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ХВ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1" descr="book"/>
          <p:cNvPicPr/>
          <p:nvPr/>
        </p:nvPicPr>
        <p:blipFill>
          <a:blip r:embed="rId1"/>
          <a:stretch/>
        </p:blipFill>
        <p:spPr>
          <a:xfrm>
            <a:off x="0" y="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77" name="WordArt 7"/>
          <p:cNvSpPr txBox="1"/>
          <p:nvPr/>
        </p:nvSpPr>
        <p:spPr>
          <a:xfrm>
            <a:off x="2133720" y="380880"/>
            <a:ext cx="6781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Заглянем в словарь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Ред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Лаф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Кив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Карте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Бив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6"/>
          <p:cNvSpPr/>
          <p:nvPr/>
        </p:nvSpPr>
        <p:spPr>
          <a:xfrm>
            <a:off x="4800600" y="182880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Уланы, драгу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Мус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Хва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Бул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Реду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в старых армиях: сомкнутое прямоугольное, многоугольное или круглое полевое укрепление с наружным рвом и земляной насып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3"/>
          <a:stretch/>
        </p:blipFill>
        <p:spPr>
          <a:xfrm>
            <a:off x="1676520" y="38088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9">
            <a:hlinkClick r:id="rId4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Лафет – </a:t>
            </a:r>
            <a:br>
              <a:rPr sz="4800"/>
            </a:br>
            <a:r>
              <a:rPr b="1" lang="ru-RU" sz="3800" spc="-1" strike="noStrike">
                <a:solidFill>
                  <a:srgbClr val="800000"/>
                </a:solidFill>
                <a:latin typeface="Times New Roman"/>
              </a:rPr>
              <a:t>станок (опора), на котором укрепляется ствол пуш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img2_1059994173"/>
          <p:cNvPicPr/>
          <p:nvPr/>
        </p:nvPicPr>
        <p:blipFill>
          <a:blip r:embed="rId1"/>
          <a:srcRect l="0" t="13895" r="0" b="11111"/>
          <a:stretch/>
        </p:blipFill>
        <p:spPr>
          <a:xfrm>
            <a:off x="1143000" y="1828800"/>
            <a:ext cx="7010280" cy="4673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8">
            <a:hlinkClick r:id="rId4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img_9"/>
          <p:cNvPicPr/>
          <p:nvPr/>
        </p:nvPicPr>
        <p:blipFill>
          <a:blip r:embed="rId2"/>
          <a:stretch/>
        </p:blipFill>
        <p:spPr>
          <a:xfrm>
            <a:off x="5594400" y="1523880"/>
            <a:ext cx="3549600" cy="47246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Киве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высокий головной убор из жесткой кожи с козырь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Картинка 8 из 3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219320"/>
            <a:ext cx="3024360" cy="39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salt_kiver"/>
          <p:cNvPicPr/>
          <p:nvPr/>
        </p:nvPicPr>
        <p:blipFill>
          <a:blip r:embed="rId5"/>
          <a:srcRect l="0" t="0" r="0" b="15004"/>
          <a:stretch/>
        </p:blipFill>
        <p:spPr>
          <a:xfrm>
            <a:off x="2971800" y="243828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54"/>
          <p:cNvPicPr/>
          <p:nvPr/>
        </p:nvPicPr>
        <p:blipFill>
          <a:blip r:embed="rId6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5" descr="54"/>
          <p:cNvPicPr/>
          <p:nvPr/>
        </p:nvPicPr>
        <p:blipFill>
          <a:blip r:embed="rId7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16">
            <a:hlinkClick r:id="rId8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Картеч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–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чиненный круглыми пулями артиллерийский снаряд для массового поражения живых целей на близком расстоя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3"/>
          <a:stretch/>
        </p:blipFill>
        <p:spPr>
          <a:xfrm>
            <a:off x="2590920" y="3124080"/>
            <a:ext cx="4114800" cy="327024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7">
            <a:hlinkClick r:id="rId4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487656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Родители поэта.</a:t>
            </a:r>
            <a:br>
              <a:rPr sz="3200"/>
            </a:b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Отец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- капитан в отставке Юрий Петрович Лермонтов (1787-1831)</a:t>
            </a:r>
            <a:br>
              <a:rPr sz="3200"/>
            </a:b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Мать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- Мария Михайловна (1795-1817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79" name="Picture 6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0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11" descr=""/>
          <p:cNvPicPr/>
          <p:nvPr/>
        </p:nvPicPr>
        <p:blipFill>
          <a:blip r:embed="rId6"/>
          <a:stretch/>
        </p:blipFill>
        <p:spPr>
          <a:xfrm>
            <a:off x="1371600" y="228600"/>
            <a:ext cx="3124080" cy="43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7"/>
          <a:stretch/>
        </p:blipFill>
        <p:spPr>
          <a:xfrm>
            <a:off x="5167440" y="304920"/>
            <a:ext cx="34542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Бивак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– </a:t>
            </a:r>
            <a:br>
              <a:rPr sz="48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привал, расположение войск вне населенного пун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248520" cy="4430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7">
            <a:hlinkClick r:id="rId4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7" descr="офицер уланского полка"/>
          <p:cNvPicPr/>
          <p:nvPr/>
        </p:nvPicPr>
        <p:blipFill>
          <a:blip r:embed="rId1"/>
          <a:srcRect l="0" t="1890" r="3822" b="0"/>
          <a:stretch/>
        </p:blipFill>
        <p:spPr>
          <a:xfrm>
            <a:off x="1012680" y="2362320"/>
            <a:ext cx="3013200" cy="4267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85840" y="457200"/>
            <a:ext cx="52578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Драгун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оеннослужащий кавалерийских (конных) частей. </a:t>
            </a:r>
            <a:br>
              <a:rPr sz="3200"/>
            </a:b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Улан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оеннослужащий из частей легкой кавалерии (вооруженной только пиками).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естрые значки и конские хвосты на киверах были отличительными знаками этих во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4"/>
          <a:stretch/>
        </p:blipFill>
        <p:spPr>
          <a:xfrm>
            <a:off x="0" y="304920"/>
            <a:ext cx="2300400" cy="342900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8">
            <a:hlinkClick r:id="rId5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3300"/>
                </a:solidFill>
                <a:latin typeface="Times New Roman"/>
              </a:rPr>
              <a:t>Булат –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оружие булатной стали, саб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Картинка 47 из 63"/>
          <p:cNvPicPr/>
          <p:nvPr/>
        </p:nvPicPr>
        <p:blipFill>
          <a:blip r:embed="rId1"/>
          <a:stretch/>
        </p:blipFill>
        <p:spPr>
          <a:xfrm>
            <a:off x="3200400" y="1828800"/>
            <a:ext cx="2763720" cy="4495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fad3189fd203"/>
          <p:cNvPicPr/>
          <p:nvPr/>
        </p:nvPicPr>
        <p:blipFill>
          <a:blip r:embed="rId2"/>
          <a:stretch/>
        </p:blipFill>
        <p:spPr>
          <a:xfrm rot="18457200">
            <a:off x="-849240" y="3427200"/>
            <a:ext cx="4965840" cy="1895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Картинка 63 из 63"/>
          <p:cNvPicPr/>
          <p:nvPr/>
        </p:nvPicPr>
        <p:blipFill>
          <a:blip r:embed="rId3"/>
          <a:stretch/>
        </p:blipFill>
        <p:spPr>
          <a:xfrm rot="15221400">
            <a:off x="5184720" y="3196800"/>
            <a:ext cx="4562640" cy="1825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54"/>
          <p:cNvPicPr/>
          <p:nvPr/>
        </p:nvPicPr>
        <p:blipFill>
          <a:blip r:embed="rId4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54"/>
          <p:cNvPicPr/>
          <p:nvPr/>
        </p:nvPicPr>
        <p:blipFill>
          <a:blip r:embed="rId5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9">
            <a:hlinkClick r:id="rId6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Мусью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– ироническое обращение к французу (от месье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Хват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– бойкий, полный молодечества челове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eagle1"/>
          <p:cNvPicPr/>
          <p:nvPr/>
        </p:nvPicPr>
        <p:blipFill>
          <a:blip r:embed="rId3"/>
          <a:stretch/>
        </p:blipFill>
        <p:spPr>
          <a:xfrm>
            <a:off x="3124080" y="5160960"/>
            <a:ext cx="2438640" cy="13003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7">
            <a:hlinkClick r:id="rId4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2"/>
          <p:cNvSpPr txBox="1"/>
          <p:nvPr/>
        </p:nvSpPr>
        <p:spPr>
          <a:xfrm>
            <a:off x="304920" y="380880"/>
            <a:ext cx="8839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одумай и ответь...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26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0" descr="j0294973"/>
          <p:cNvPicPr/>
          <p:nvPr/>
        </p:nvPicPr>
        <p:blipFill>
          <a:blip r:embed="rId3"/>
          <a:stretch/>
        </p:blipFill>
        <p:spPr>
          <a:xfrm>
            <a:off x="2895480" y="1905120"/>
            <a:ext cx="3611520" cy="4572000"/>
          </a:xfrm>
          <a:prstGeom prst="rect">
            <a:avLst/>
          </a:prstGeom>
          <a:ln w="0">
            <a:noFill/>
          </a:ln>
        </p:spPr>
      </p:pic>
      <p:sp>
        <p:nvSpPr>
          <p:cNvPr id="429" name="WordArt 51"/>
          <p:cNvSpPr txBox="1"/>
          <p:nvPr/>
        </p:nvSpPr>
        <p:spPr>
          <a:xfrm>
            <a:off x="6705720" y="190512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0" name="WordArt 52"/>
          <p:cNvSpPr txBox="1"/>
          <p:nvPr/>
        </p:nvSpPr>
        <p:spPr>
          <a:xfrm>
            <a:off x="7467480" y="297180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1" name="WordArt 53"/>
          <p:cNvSpPr txBox="1"/>
          <p:nvPr/>
        </p:nvSpPr>
        <p:spPr>
          <a:xfrm>
            <a:off x="6858000" y="419112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2" name="WordArt 54"/>
          <p:cNvSpPr txBox="1"/>
          <p:nvPr/>
        </p:nvSpPr>
        <p:spPr>
          <a:xfrm>
            <a:off x="1981080" y="251460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55"/>
          <p:cNvSpPr txBox="1"/>
          <p:nvPr/>
        </p:nvSpPr>
        <p:spPr>
          <a:xfrm>
            <a:off x="762120" y="419112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>
            <a:off x="457200" y="380880"/>
            <a:ext cx="8381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Озаглавь словами текста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35" name="Picture 5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57200" y="1600200"/>
          <a:ext cx="8229600" cy="449748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сту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тсту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ыбор места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жидание б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очь перед сраж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Клятва вер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писание Бородинского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ле боя после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Заклю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2"/>
          <p:cNvSpPr txBox="1"/>
          <p:nvPr/>
        </p:nvSpPr>
        <p:spPr>
          <a:xfrm>
            <a:off x="457200" y="38088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Озаглавь словами текста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39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28600" y="1523880"/>
          <a:ext cx="8610480" cy="4748400"/>
        </p:xfrm>
        <a:graphic>
          <a:graphicData uri="http://schemas.openxmlformats.org/drawingml/2006/table">
            <a:tbl>
              <a:tblPr/>
              <a:tblGrid>
                <a:gridCol w="685800"/>
                <a:gridCol w="3733920"/>
                <a:gridCol w="419076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ступ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тсту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Мы долго молча отступали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ыбор места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И вот нашли большое поле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жидание б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Два дня мы были в перестрелке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очь перед сраж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Прилёг вздремнуть я у лафета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Клятва вер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И умереть мы обещали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писание Бородинского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Вам не видать таких сражений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ле боя после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Тогда считать мы стали раны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Заключ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Характеристика рассказч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46" name="WordArt 5"/>
          <p:cNvSpPr txBox="1"/>
          <p:nvPr/>
        </p:nvSpPr>
        <p:spPr>
          <a:xfrm>
            <a:off x="228600" y="380880"/>
            <a:ext cx="8610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Читаем и размышляем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80880" y="2286000"/>
          <a:ext cx="8305920" cy="357840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Кто он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Манера держ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обенно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Характе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Характеристика рассказч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52" name="WordArt 6"/>
          <p:cNvSpPr txBox="1"/>
          <p:nvPr/>
        </p:nvSpPr>
        <p:spPr>
          <a:xfrm>
            <a:off x="228600" y="380880"/>
            <a:ext cx="8610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Читаем и размышляем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04920" y="2057400"/>
          <a:ext cx="8534160" cy="4295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Кто он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Рядовой участник событий, бывший артиллери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5 –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едые волосы и усы, шра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Манера держ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зволнованно, с достои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обенно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спешная, эмоцион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Характе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Решительность, мужество, готовность пожертвовать жизнью за родину, гордость за своих товари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-360" y="1904760"/>
            <a:ext cx="8915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йдите в описании Бородинского сражения в стихотворении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М.Ю.Лермонтова «Бородино»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слова, которые помогают передать стремительное движение,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WordArt 6"/>
          <p:cNvSpPr txBox="1"/>
          <p:nvPr/>
        </p:nvSpPr>
        <p:spPr>
          <a:xfrm>
            <a:off x="228600" y="380880"/>
            <a:ext cx="8610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Читаем и размышляем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Детство Лермонтов проводит в усадьбе своей бабушки Е.А.Арсеньевой в с.Тарханы Пензенской губернии. Мальчик получает домашнее образование, с детства свободно владеет французским и немецким языками.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1827 г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.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Лермонтов переезжает с бабушкой в Москв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88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5029200" y="1066680"/>
            <a:ext cx="3897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-360" y="1904760"/>
            <a:ext cx="8915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йдите в описании Бородинского сражения в стихотворении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М.Ю.Лермонтова «Бородино»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слова, которые помогают передать звуки боя, грохот б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61" name="WordArt 5"/>
          <p:cNvSpPr txBox="1"/>
          <p:nvPr/>
        </p:nvSpPr>
        <p:spPr>
          <a:xfrm>
            <a:off x="228600" y="380880"/>
            <a:ext cx="8610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Читаем и размышляем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6782040" cy="6281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1. Какому событию посвящено стихотворение «Бородино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7"/>
          <p:cNvSpPr txBox="1"/>
          <p:nvPr/>
        </p:nvSpPr>
        <p:spPr>
          <a:xfrm>
            <a:off x="685800" y="3808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1066680" y="35053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ойне 1812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еликой Отечественн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Крымск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2. Кто рассказывает о войн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685800" y="3808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838080" y="35053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осторонний наблюд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Рядовой воин, участник сра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Друг участника сра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3. Какого возраста рассказчи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5"/>
          <p:cNvSpPr txBox="1"/>
          <p:nvPr/>
        </p:nvSpPr>
        <p:spPr>
          <a:xfrm>
            <a:off x="685800" y="3808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838080" y="320040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Старый солд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Молодой солд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о тексту определить нельз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4. Кто из героев стихотворения произносит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Ребята! Не Москва ль за н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мрёмте ж под Моск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ак наши братья умира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WordArt 5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2514600" y="419112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Солдат-рассказ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олков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Францу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7617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5. Каким чувством проникнуто стихотворение «Бородино»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атриотизм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ечал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ностальг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90" name="WordArt 6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6.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Какой прием использует Лермонтов в картине описания боя? «Звучал булат, картечь визжала...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лексический пов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звуко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срав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94" name="WordArt 6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7. Когда огромная армия французского императора Наполеона, покорившая всю Европу, вторглась в Россию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 июне 1812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 октябре 1917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 августе 1800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98" name="WordArt 6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1828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1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2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3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4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5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Ключ к тесту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503" name="Picture 7" descr="tvorch"/>
          <p:cNvPicPr/>
          <p:nvPr/>
        </p:nvPicPr>
        <p:blipFill>
          <a:blip r:embed="rId3"/>
          <a:stretch/>
        </p:blipFill>
        <p:spPr>
          <a:xfrm>
            <a:off x="5105520" y="2133720"/>
            <a:ext cx="2552760" cy="37335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8"/>
          <p:cNvSpPr/>
          <p:nvPr/>
        </p:nvSpPr>
        <p:spPr>
          <a:xfrm>
            <a:off x="2895480" y="1752480"/>
            <a:ext cx="1828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5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6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7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055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30г. Лермонтов поступает в Московский университет. К этому времени относится начало литературной деятельности: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он пишет лирические стих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96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10" descr="{0007CB75-795E-45F4-96EA-6AC418A76B57}"/>
          <p:cNvPicPr/>
          <p:nvPr/>
        </p:nvPicPr>
        <p:blipFill>
          <a:blip r:embed="rId6"/>
          <a:stretch/>
        </p:blipFill>
        <p:spPr>
          <a:xfrm>
            <a:off x="1295280" y="1066680"/>
            <a:ext cx="3810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Подготовить выразительное чтение всего стихо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Наизусть понравившийся отрывок из стихотворения «Бородино» (5 строф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По желанию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– рассказ о героях Бороди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08" name="WordArt 8"/>
          <p:cNvSpPr txBox="1"/>
          <p:nvPr/>
        </p:nvSpPr>
        <p:spPr>
          <a:xfrm>
            <a:off x="304920" y="304920"/>
            <a:ext cx="8534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Домашнее задание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38862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32 г.  Лермонтов вынужден покинуть университет. Он переезжает в Петербург, где поступает в Школу гвардейских подпрапорщиков и кавалерийских юнкер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04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10" descr=""/>
          <p:cNvPicPr/>
          <p:nvPr/>
        </p:nvPicPr>
        <p:blipFill>
          <a:blip r:embed="rId6"/>
          <a:stretch/>
        </p:blipFill>
        <p:spPr>
          <a:xfrm>
            <a:off x="4876920" y="609480"/>
            <a:ext cx="4019400" cy="578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4-01-07T13:49:0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