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8.gif" ContentType="image/gif"/>
  <Override PartName="/ppt/media/image19.gif" ContentType="image/gif"/>
  <Override PartName="/ppt/media/image1.gif" ContentType="image/gif"/>
  <Override PartName="/ppt/media/image18.gif" ContentType="image/gif"/>
  <Override PartName="/ppt/media/image17.gif" ContentType="image/gif"/>
  <Override PartName="/ppt/media/image2.wmf" ContentType="image/x-wmf"/>
  <Override PartName="/ppt/media/image16.png" ContentType="image/png"/>
  <Override PartName="/ppt/media/image14.jpeg" ContentType="image/jpeg"/>
  <Override PartName="/ppt/media/image3.jpeg" ContentType="image/jpeg"/>
  <Override PartName="/ppt/media/image15.wmf" ContentType="image/x-wmf"/>
  <Override PartName="/ppt/media/image4.gif" ContentType="image/gif"/>
  <Override PartName="/ppt/media/image5.wmf" ContentType="image/x-wmf"/>
  <Override PartName="/ppt/media/image7.jpeg" ContentType="image/jpeg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E6C8-B222-489D-8A73-2201E0F9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B63-1EC9-46F6-9792-62553FCD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993-9BED-4EF2-BFC3-E3F2D03AE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8024-2F85-4EB5-A42D-2C2951FEB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A958-DBA3-4F14-B5D5-D76E024E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2611-F2F3-47E8-A2ED-B37BD136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C430-1360-4ED9-9EEA-8AA607A2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2672-B22D-4E2F-B0AE-75213717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80BE-BF21-4802-BC4D-64B05D989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13E3-89C0-47F3-B225-76C498AB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E4D5-5F15-4D5A-B60C-CB8094A5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962-B471-41F4-B243-E5EDE48F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FF9F-6DE0-45B8-AF35-D3CBC425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19E4D-4FAC-4798-BF12-238F9520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2674-5A34-414E-802C-131156C6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4D6-7BFA-4D90-AF5F-1F8830B20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5F7F0-8D2D-41B6-899D-22D021E5A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3418-0B56-4C7D-8CD3-A1626BE9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8DC-B66A-4974-876E-51BEBECD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BA0-8B21-4D52-9EDE-DA4C0AE0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66FC-9538-40C4-A1AC-120AFD1A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E7DA-1DF9-4579-9513-A6CD92A4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EBA4-78F8-43DE-82B9-6F1050D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ACE7-6289-469D-B6AB-529226F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358D-5327-4F65-986F-9A0D76ECAA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00"/>
            </a:gs>
            <a:gs pos="50000">
              <a:srgbClr val="4d6a2a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3300"/>
                </a:gs>
                <a:gs pos="100000">
                  <a:srgbClr val="2e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2e582e"/>
                </a:gs>
                <a:gs pos="100000">
                  <a:srgbClr val="00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527c3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A4E7-73FF-4E24-A1D3-2F6212D4A7D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1.wmf"/><Relationship Id="rId5" Type="http://schemas.openxmlformats.org/officeDocument/2006/relationships/image" Target="../media/image14.jpeg"/><Relationship Id="rId6" Type="http://schemas.openxmlformats.org/officeDocument/2006/relationships/image" Target="../media/image15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9.gif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-152640" y="1980720"/>
            <a:ext cx="92962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0" spc="-1" strike="noStrike">
                <a:solidFill>
                  <a:srgbClr val="ffffff"/>
                </a:solidFill>
                <a:latin typeface="Peterburg"/>
              </a:rPr>
              <a:t>  </a:t>
            </a:r>
            <a:r>
              <a:rPr b="0" i="1" lang="ru-RU" sz="8000" spc="-1" strike="noStrike">
                <a:solidFill>
                  <a:srgbClr val="ffffff"/>
                </a:solidFill>
                <a:latin typeface="Peterburg"/>
              </a:rPr>
              <a:t>Морфологический разбор наречия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6" descr="Рисунок9"/>
          <p:cNvPicPr/>
          <p:nvPr/>
        </p:nvPicPr>
        <p:blipFill>
          <a:blip r:embed="rId1"/>
          <a:stretch/>
        </p:blipFill>
        <p:spPr>
          <a:xfrm>
            <a:off x="6934320" y="22860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77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6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6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9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Мя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жест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______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8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Вставьте вместо пропусков наречия</a:t>
            </a:r>
            <a:endParaRPr b="0" lang="en-US" sz="32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месте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есно</a:t>
            </a:r>
            <a:r>
              <a:rPr b="0" lang="ru-RU" sz="2800" spc="-1" strike="noStrike">
                <a:solidFill>
                  <a:srgbClr val="66cc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порозн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куч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олодому жениться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ра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а стар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озд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то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сегодн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оврал, тому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завтр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не поверя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Ле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брать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трудно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отдав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овори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прям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а дела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крив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 глаз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олой</a:t>
            </a:r>
            <a:r>
              <a:rPr b="0" lang="ru-RU" sz="2800" spc="-1" strike="noStrike">
                <a:solidFill>
                  <a:srgbClr val="2eb62e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з сердц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вон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Мяг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телет, да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жестк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сп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Берись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друж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, не будет </a:t>
            </a:r>
            <a:r>
              <a:rPr b="0" lang="ru-RU" sz="2800" spc="-1" strike="noStrike" u="sng">
                <a:solidFill>
                  <a:srgbClr val="2eb62e"/>
                </a:solidFill>
                <a:uFillTx/>
                <a:latin typeface="Tahoma"/>
              </a:rPr>
              <a:t>грузно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Picture 8" descr="Рисунок5"/>
          <p:cNvPicPr/>
          <p:nvPr/>
        </p:nvPicPr>
        <p:blipFill>
          <a:blip r:embed="rId1"/>
          <a:stretch/>
        </p:blipFill>
        <p:spPr>
          <a:xfrm>
            <a:off x="6418440" y="3581280"/>
            <a:ext cx="1887480" cy="2438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38680" y="2971800"/>
            <a:ext cx="3200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ff99"/>
                </a:solidFill>
                <a:latin typeface="Arial"/>
              </a:rPr>
              <a:t>Сколько в этом стихотворении наречий?</a:t>
            </a:r>
            <a:br>
              <a:rPr sz="2800"/>
            </a:b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533520" y="1981080"/>
            <a:ext cx="5486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Как приятно и отрадно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Что мне все сегодня рады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изнаюсь великодушно -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Думал я у вас здесь скуч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А теперь увидел точно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Собрались вы не нарочно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се ведут себя прилично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Учатся здесь все отлично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от сейчас проверю вас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омните ли вы мой сказ?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Рисунок 3" descr="мальчик пишет.wmf"/>
          <p:cNvPicPr/>
          <p:nvPr/>
        </p:nvPicPr>
        <p:blipFill>
          <a:blip r:embed="rId1"/>
          <a:stretch/>
        </p:blipFill>
        <p:spPr>
          <a:xfrm rot="393600">
            <a:off x="1523520" y="503280"/>
            <a:ext cx="2589480" cy="147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Бедный ребенок"/>
          <p:cNvPicPr/>
          <p:nvPr/>
        </p:nvPicPr>
        <p:blipFill>
          <a:blip r:embed="rId2"/>
          <a:stretch/>
        </p:blipFill>
        <p:spPr>
          <a:xfrm>
            <a:off x="6172200" y="685800"/>
            <a:ext cx="2286000" cy="1984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c6aad6abc112037e33cf671aee1d382b"/>
          <p:cNvPicPr/>
          <p:nvPr/>
        </p:nvPicPr>
        <p:blipFill>
          <a:blip r:embed="rId3"/>
          <a:stretch/>
        </p:blipFill>
        <p:spPr>
          <a:xfrm>
            <a:off x="6553080" y="480060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d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0" y="152280"/>
            <a:ext cx="9601200" cy="644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1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star16"/>
          <p:cNvPicPr/>
          <p:nvPr/>
        </p:nvPicPr>
        <p:blipFill>
          <a:blip r:embed="rId2"/>
          <a:stretch/>
        </p:blipFill>
        <p:spPr>
          <a:xfrm>
            <a:off x="4343400" y="-28440"/>
            <a:ext cx="4800600" cy="70102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          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Рисунок 4" descr="4.gif"/>
          <p:cNvPicPr/>
          <p:nvPr/>
        </p:nvPicPr>
        <p:blipFill>
          <a:blip r:embed="rId3"/>
          <a:stretch/>
        </p:blipFill>
        <p:spPr>
          <a:xfrm>
            <a:off x="4343400" y="533520"/>
            <a:ext cx="784080" cy="13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BOOK2"/>
          <p:cNvPicPr/>
          <p:nvPr/>
        </p:nvPicPr>
        <p:blipFill>
          <a:blip r:embed="rId4"/>
          <a:stretch/>
        </p:blipFill>
        <p:spPr>
          <a:xfrm>
            <a:off x="6248520" y="5562720"/>
            <a:ext cx="1676160" cy="8348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1"/>
          <p:cNvSpPr/>
          <p:nvPr/>
        </p:nvSpPr>
        <p:spPr>
          <a:xfrm>
            <a:off x="0" y="838080"/>
            <a:ext cx="457200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данными словами составьте глагольные словосочетания. Запишите эти словосочетания, образуя степени сравнения нареч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Образец: 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зглянуть строго – строже (более строго) – строже все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но, холодно, жарко, сладко, интересно, звонк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3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1"/>
          <p:cNvSpPr/>
          <p:nvPr/>
        </p:nvSpPr>
        <p:spPr>
          <a:xfrm>
            <a:off x="380880" y="2819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Молодцы, ребята!</a:t>
            </a:r>
            <a:br>
              <a:rPr sz="3200"/>
            </a:br>
            <a:r>
              <a:rPr b="1" i="1" lang="ru-RU" sz="3200" spc="-1" strike="noStrike">
                <a:solidFill>
                  <a:srgbClr val="ccff99"/>
                </a:solidFill>
                <a:latin typeface="Arial"/>
              </a:rPr>
              <a:t>На сегодняшнем уроке вы поработали очень хорош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2" descr="Untitled-4"/>
          <p:cNvPicPr/>
          <p:nvPr/>
        </p:nvPicPr>
        <p:blipFill>
          <a:blip r:embed="rId2"/>
          <a:stretch/>
        </p:blipFill>
        <p:spPr>
          <a:xfrm rot="20731800">
            <a:off x="380880" y="5335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3" descr="рука"/>
          <p:cNvPicPr/>
          <p:nvPr/>
        </p:nvPicPr>
        <p:blipFill>
          <a:blip r:embed="rId3"/>
          <a:stretch/>
        </p:blipFill>
        <p:spPr>
          <a:xfrm rot="21217200">
            <a:off x="6857640" y="3809880"/>
            <a:ext cx="1676520" cy="12844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4" descr="BOOK2"/>
          <p:cNvPicPr/>
          <p:nvPr/>
        </p:nvPicPr>
        <p:blipFill>
          <a:blip r:embed="rId4"/>
          <a:stretch/>
        </p:blipFill>
        <p:spPr>
          <a:xfrm rot="660600">
            <a:off x="533160" y="4571640"/>
            <a:ext cx="3809880" cy="155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Untitled-3"/>
          <p:cNvPicPr/>
          <p:nvPr/>
        </p:nvPicPr>
        <p:blipFill>
          <a:blip r:embed="rId5"/>
          <a:stretch/>
        </p:blipFill>
        <p:spPr>
          <a:xfrm rot="1359600">
            <a:off x="3505320" y="685440"/>
            <a:ext cx="1904760" cy="1449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6" descr="an00790_"/>
          <p:cNvPicPr/>
          <p:nvPr/>
        </p:nvPicPr>
        <p:blipFill>
          <a:blip r:embed="rId6"/>
          <a:stretch/>
        </p:blipFill>
        <p:spPr>
          <a:xfrm rot="20952000">
            <a:off x="5105160" y="4419720"/>
            <a:ext cx="1608120" cy="167616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Рисунок2.png"/>
          <p:cNvPicPr/>
          <p:nvPr/>
        </p:nvPicPr>
        <p:blipFill>
          <a:blip r:embed="rId7"/>
          <a:stretch/>
        </p:blipFill>
        <p:spPr>
          <a:xfrm>
            <a:off x="6477120" y="7621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star16"/>
          <p:cNvPicPr/>
          <p:nvPr/>
        </p:nvPicPr>
        <p:blipFill>
          <a:blip r:embed="rId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4"/>
          <p:cNvSpPr txBox="1"/>
          <p:nvPr/>
        </p:nvSpPr>
        <p:spPr>
          <a:xfrm>
            <a:off x="152280" y="1371600"/>
            <a:ext cx="84582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елаю Ва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новых открыт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 ярких звёзд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4" name="Picture 10" descr="60"/>
          <p:cNvPicPr/>
          <p:nvPr/>
        </p:nvPicPr>
        <p:blipFill>
          <a:blip r:embed="rId3"/>
          <a:stretch/>
        </p:blipFill>
        <p:spPr>
          <a:xfrm rot="1034400">
            <a:off x="5638320" y="3733560"/>
            <a:ext cx="2438640" cy="18446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5" descr="Рисунок1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1760" y="1752480"/>
            <a:ext cx="7924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ccff"/>
                </a:solidFill>
                <a:latin typeface="Peterburg"/>
              </a:rPr>
              <a:t>Спасибо за 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33ccff"/>
                </a:solidFill>
                <a:latin typeface="Peterburg"/>
              </a:rPr>
              <a:t>внимание!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5" descr="an13"/>
          <p:cNvPicPr/>
          <p:nvPr/>
        </p:nvPicPr>
        <p:blipFill>
          <a:blip r:embed="rId2"/>
          <a:stretch/>
        </p:blipFill>
        <p:spPr>
          <a:xfrm>
            <a:off x="1981080" y="5105520"/>
            <a:ext cx="5639040" cy="1009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an13"/>
          <p:cNvPicPr/>
          <p:nvPr/>
        </p:nvPicPr>
        <p:blipFill>
          <a:blip r:embed="rId3"/>
          <a:stretch/>
        </p:blipFill>
        <p:spPr>
          <a:xfrm>
            <a:off x="2057400" y="506520"/>
            <a:ext cx="5562720" cy="995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0" descr="J0095743"/>
          <p:cNvPicPr/>
          <p:nvPr/>
        </p:nvPicPr>
        <p:blipFill>
          <a:blip r:embed="rId4"/>
          <a:stretch/>
        </p:blipFill>
        <p:spPr>
          <a:xfrm rot="1291200">
            <a:off x="837720" y="4800600"/>
            <a:ext cx="838440" cy="8031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11" descr="J0095743"/>
          <p:cNvPicPr/>
          <p:nvPr/>
        </p:nvPicPr>
        <p:blipFill>
          <a:blip r:embed="rId5"/>
          <a:stretch/>
        </p:blipFill>
        <p:spPr>
          <a:xfrm rot="1291200">
            <a:off x="7772400" y="4648320"/>
            <a:ext cx="914400" cy="876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2" descr="J0095743"/>
          <p:cNvPicPr/>
          <p:nvPr/>
        </p:nvPicPr>
        <p:blipFill>
          <a:blip r:embed="rId6"/>
          <a:stretch/>
        </p:blipFill>
        <p:spPr>
          <a:xfrm rot="1291200">
            <a:off x="456840" y="3048120"/>
            <a:ext cx="838080" cy="803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3" descr="J0095743"/>
          <p:cNvPicPr/>
          <p:nvPr/>
        </p:nvPicPr>
        <p:blipFill>
          <a:blip r:embed="rId7"/>
          <a:stretch/>
        </p:blipFill>
        <p:spPr>
          <a:xfrm rot="1291200">
            <a:off x="7924680" y="1066680"/>
            <a:ext cx="838440" cy="803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J0095743"/>
          <p:cNvPicPr/>
          <p:nvPr/>
        </p:nvPicPr>
        <p:blipFill>
          <a:blip r:embed="rId8"/>
          <a:stretch/>
        </p:blipFill>
        <p:spPr>
          <a:xfrm rot="1291200">
            <a:off x="685440" y="762120"/>
            <a:ext cx="838080" cy="803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533520" y="1981080"/>
            <a:ext cx="5486400" cy="42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Как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прият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и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отрад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Что мне все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егодня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рады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изнаюсь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великодуш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-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Думал я у вас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здес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ку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А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тепер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увидел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то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Собрались вы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не наро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се ведут себя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прили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Учатся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здесь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 все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отлично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Вот </a:t>
            </a:r>
            <a:r>
              <a:rPr b="0" lang="ru-RU" sz="2500" spc="-1" strike="noStrike" u="sng">
                <a:solidFill>
                  <a:srgbClr val="2eb62e"/>
                </a:solidFill>
                <a:uFillTx/>
                <a:latin typeface="Peterburg"/>
              </a:rPr>
              <a:t>сейчас </a:t>
            </a: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роверю вас,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cc00"/>
                </a:solidFill>
                <a:latin typeface="Peterburg"/>
              </a:rPr>
              <a:t>Помните ли вы мой сказ?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Рисунок 3" descr="мальчик пишет.wmf"/>
          <p:cNvPicPr/>
          <p:nvPr/>
        </p:nvPicPr>
        <p:blipFill>
          <a:blip r:embed="rId1"/>
          <a:stretch/>
        </p:blipFill>
        <p:spPr>
          <a:xfrm rot="393600">
            <a:off x="1523520" y="503280"/>
            <a:ext cx="2589480" cy="1477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Бедный ребенок"/>
          <p:cNvPicPr/>
          <p:nvPr/>
        </p:nvPicPr>
        <p:blipFill>
          <a:blip r:embed="rId2"/>
          <a:stretch/>
        </p:blipFill>
        <p:spPr>
          <a:xfrm>
            <a:off x="6172200" y="685800"/>
            <a:ext cx="2286000" cy="1984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5638680" y="2971800"/>
            <a:ext cx="3200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0" descr="c6aad6abc112037e33cf671aee1d382b"/>
          <p:cNvPicPr/>
          <p:nvPr/>
        </p:nvPicPr>
        <p:blipFill>
          <a:blip r:embed="rId3"/>
          <a:stretch/>
        </p:blipFill>
        <p:spPr>
          <a:xfrm>
            <a:off x="6553080" y="4800600"/>
            <a:ext cx="1284480" cy="167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7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0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6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2880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9" name="Picture 76" descr="Рисунок1"/>
          <p:cNvPicPr/>
          <p:nvPr/>
        </p:nvPicPr>
        <p:blipFill>
          <a:blip r:embed="rId1"/>
          <a:stretch/>
        </p:blipFill>
        <p:spPr>
          <a:xfrm>
            <a:off x="7543800" y="181944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76320" y="114048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cff99"/>
                </a:solidFill>
                <a:uFillTx/>
                <a:latin typeface="Arial"/>
              </a:rPr>
              <a:t>Заполните кроссвор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                                              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Уклониться в сторо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Запомнить надолг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Сделать что-то очень быст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Прийти в нужный ч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Бежать, догоняя кого-т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6ccff"/>
              </a:buClr>
              <a:buSzPct val="65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ccff"/>
                </a:solidFill>
                <a:latin typeface="Arial"/>
              </a:rPr>
              <a:t>Разбить на мелкие кусоч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029200" y="1752480"/>
          <a:ext cx="3809880" cy="3332160"/>
        </p:xfrm>
        <a:graphic>
          <a:graphicData uri="http://schemas.openxmlformats.org/drawingml/2006/table">
            <a:tbl>
              <a:tblPr/>
              <a:tblGrid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  <a:gridCol w="381240"/>
                <a:gridCol w="380880"/>
                <a:gridCol w="38088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1ff1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6616f6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9999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к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78" descr="Рисунок1"/>
          <p:cNvPicPr/>
          <p:nvPr/>
        </p:nvPicPr>
        <p:blipFill>
          <a:blip r:embed="rId1"/>
          <a:stretch/>
        </p:blipFill>
        <p:spPr>
          <a:xfrm>
            <a:off x="7543800" y="1819440"/>
            <a:ext cx="1160640" cy="2143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1-11T20:54:5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