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8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6.png" ContentType="image/png"/>
  <Override PartName="/ppt/media/image14.jpeg" ContentType="image/jpeg"/>
  <Override PartName="/ppt/media/image3.jpeg" ContentType="image/jpeg"/>
  <Override PartName="/ppt/media/image15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F5A-E847-44D3-834D-B79CEE7E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9E95-FEB8-4D13-A64F-34A86BA3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57F-FD27-44CF-A999-69BBAD71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F6B-FB86-48E7-ADE2-DF585F15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A00-B3D6-43F0-9621-E1B93AEB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0DB5-1054-4E07-95A1-B0573067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D130-0298-43C4-889D-80D81EBF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92D2-2CF0-4E99-B69E-4B082334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FB2C-58D9-49A0-9E4F-B402A97B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5BA6-355C-44E3-8622-59B343AF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F08A-E645-4608-A8F1-BE12A6C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326-EE83-4085-BFB3-77442BAF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A585-A536-4744-9E36-686428E9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4BA8-3DC4-4DBC-ADFE-30AA2AD7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AC5-889B-4DA5-A0C6-58FC0FD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9E29-4CF0-43AE-B7FA-6811A4FA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938F-D67B-4602-A391-2749DBAE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763-86FB-491D-9AB9-DB13612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111-53FE-4246-8A6D-B0E6D559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FC8-782C-4C2B-B3EA-4A929B14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FE9-58B9-4255-8E56-C7A87823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19C-F79F-4895-8A91-A9C1107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D6A-741E-4D02-BF91-D29BFB4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87E-76D8-434C-A4FD-1A7913D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8E5-265C-45E4-90B3-479B876544A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3A14-16EB-416E-8EB4-7C34D7461E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152640" y="1980720"/>
            <a:ext cx="9296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Peterburg"/>
              </a:rPr>
              <a:t>  </a:t>
            </a:r>
            <a:r>
              <a:rPr b="0" i="1" lang="ru-RU" sz="8000" spc="-1" strike="noStrike">
                <a:solidFill>
                  <a:srgbClr val="ffffff"/>
                </a:solidFill>
                <a:latin typeface="Peterburg"/>
              </a:rPr>
              <a:t>Морфологический разбор наречи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6" descr="Рисунок9"/>
          <p:cNvPicPr/>
          <p:nvPr/>
        </p:nvPicPr>
        <p:blipFill>
          <a:blip r:embed="rId1"/>
          <a:stretch/>
        </p:blipFill>
        <p:spPr>
          <a:xfrm>
            <a:off x="6934320" y="228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77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9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Мя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жест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Мя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жест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руж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груз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38680" y="2971800"/>
            <a:ext cx="3200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Сколько в этом стихотворении наречий?</a:t>
            </a:r>
            <a:br>
              <a:rPr sz="2800"/>
            </a:b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33520" y="1981080"/>
            <a:ext cx="5486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Как приятно и отрадно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Что мне все сегодня рады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изнаюсь великодушно -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Думал я у вас здесь скуч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А теперь увидел точно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Собрались вы не нароч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се ведут себя прилично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Учатся здесь все отлично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от сейчас проверю вас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омните ли вы мой сказ?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3" descr="мальчик пишет.wmf"/>
          <p:cNvPicPr/>
          <p:nvPr/>
        </p:nvPicPr>
        <p:blipFill>
          <a:blip r:embed="rId1"/>
          <a:stretch/>
        </p:blipFill>
        <p:spPr>
          <a:xfrm rot="393600">
            <a:off x="1523520" y="503280"/>
            <a:ext cx="2589480" cy="147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Бедный ребенок"/>
          <p:cNvPicPr/>
          <p:nvPr/>
        </p:nvPicPr>
        <p:blipFill>
          <a:blip r:embed="rId2"/>
          <a:stretch/>
        </p:blipFill>
        <p:spPr>
          <a:xfrm>
            <a:off x="6172200" y="685800"/>
            <a:ext cx="2286000" cy="198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6aad6abc112037e33cf671aee1d382b"/>
          <p:cNvPicPr/>
          <p:nvPr/>
        </p:nvPicPr>
        <p:blipFill>
          <a:blip r:embed="rId3"/>
          <a:stretch/>
        </p:blipFill>
        <p:spPr>
          <a:xfrm>
            <a:off x="6553080" y="480060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60120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1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star16"/>
          <p:cNvPicPr/>
          <p:nvPr/>
        </p:nvPicPr>
        <p:blipFill>
          <a:blip r:embed="rId2"/>
          <a:stretch/>
        </p:blipFill>
        <p:spPr>
          <a:xfrm>
            <a:off x="4343400" y="-28440"/>
            <a:ext cx="4800600" cy="7010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Рисунок 4" descr="4.gif"/>
          <p:cNvPicPr/>
          <p:nvPr/>
        </p:nvPicPr>
        <p:blipFill>
          <a:blip r:embed="rId3"/>
          <a:stretch/>
        </p:blipFill>
        <p:spPr>
          <a:xfrm>
            <a:off x="4343400" y="533520"/>
            <a:ext cx="784080" cy="13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BOOK2"/>
          <p:cNvPicPr/>
          <p:nvPr/>
        </p:nvPicPr>
        <p:blipFill>
          <a:blip r:embed="rId4"/>
          <a:stretch/>
        </p:blipFill>
        <p:spPr>
          <a:xfrm>
            <a:off x="6248520" y="5562720"/>
            <a:ext cx="1676160" cy="8348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0" y="838080"/>
            <a:ext cx="4572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анными словами составьте глагольные словосочетания. Запишите эти словосочетания, образуя степени сравнения нареч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ец: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зглянуть строго – строже (более строго) – строже все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, холодно, жарко, сладко, интересно, звон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3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1"/>
          <p:cNvSpPr/>
          <p:nvPr/>
        </p:nvSpPr>
        <p:spPr>
          <a:xfrm>
            <a:off x="3808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Молодцы, ребята!</a:t>
            </a:r>
            <a:br>
              <a:rPr sz="3200"/>
            </a:b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На сегодняшнем уроке вы поработали очень хорош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2" descr="Untitled-4"/>
          <p:cNvPicPr/>
          <p:nvPr/>
        </p:nvPicPr>
        <p:blipFill>
          <a:blip r:embed="rId2"/>
          <a:stretch/>
        </p:blipFill>
        <p:spPr>
          <a:xfrm rot="20731800">
            <a:off x="380880" y="533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рука"/>
          <p:cNvPicPr/>
          <p:nvPr/>
        </p:nvPicPr>
        <p:blipFill>
          <a:blip r:embed="rId3"/>
          <a:stretch/>
        </p:blipFill>
        <p:spPr>
          <a:xfrm rot="21217200">
            <a:off x="6857640" y="3809880"/>
            <a:ext cx="1676520" cy="1284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BOOK2"/>
          <p:cNvPicPr/>
          <p:nvPr/>
        </p:nvPicPr>
        <p:blipFill>
          <a:blip r:embed="rId4"/>
          <a:stretch/>
        </p:blipFill>
        <p:spPr>
          <a:xfrm rot="660600">
            <a:off x="533160" y="4571640"/>
            <a:ext cx="3809880" cy="155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Untitled-3"/>
          <p:cNvPicPr/>
          <p:nvPr/>
        </p:nvPicPr>
        <p:blipFill>
          <a:blip r:embed="rId5"/>
          <a:stretch/>
        </p:blipFill>
        <p:spPr>
          <a:xfrm rot="1359600">
            <a:off x="3505320" y="685440"/>
            <a:ext cx="1904760" cy="1449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an00790_"/>
          <p:cNvPicPr/>
          <p:nvPr/>
        </p:nvPicPr>
        <p:blipFill>
          <a:blip r:embed="rId6"/>
          <a:stretch/>
        </p:blipFill>
        <p:spPr>
          <a:xfrm rot="20952000">
            <a:off x="5105160" y="4419720"/>
            <a:ext cx="1608120" cy="1676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Рисунок2.png"/>
          <p:cNvPicPr/>
          <p:nvPr/>
        </p:nvPicPr>
        <p:blipFill>
          <a:blip r:embed="rId7"/>
          <a:stretch/>
        </p:blipFill>
        <p:spPr>
          <a:xfrm>
            <a:off x="6477120" y="762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star16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4"/>
          <p:cNvSpPr txBox="1"/>
          <p:nvPr/>
        </p:nvSpPr>
        <p:spPr>
          <a:xfrm>
            <a:off x="152280" y="137160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елаю В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овых открыт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 ярких звёз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4" name="Picture 10" descr="60"/>
          <p:cNvPicPr/>
          <p:nvPr/>
        </p:nvPicPr>
        <p:blipFill>
          <a:blip r:embed="rId3"/>
          <a:stretch/>
        </p:blipFill>
        <p:spPr>
          <a:xfrm rot="1034400">
            <a:off x="5638320" y="3733560"/>
            <a:ext cx="2438640" cy="1844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ccff"/>
                </a:solidFill>
                <a:latin typeface="Peterburg"/>
              </a:rPr>
              <a:t>Спасибо за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ccff"/>
                </a:solidFill>
                <a:latin typeface="Peterburg"/>
              </a:rPr>
              <a:t>внимание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an13"/>
          <p:cNvPicPr/>
          <p:nvPr/>
        </p:nvPicPr>
        <p:blipFill>
          <a:blip r:embed="rId2"/>
          <a:stretch/>
        </p:blipFill>
        <p:spPr>
          <a:xfrm>
            <a:off x="1981080" y="5105520"/>
            <a:ext cx="5639040" cy="100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13"/>
          <p:cNvPicPr/>
          <p:nvPr/>
        </p:nvPicPr>
        <p:blipFill>
          <a:blip r:embed="rId3"/>
          <a:stretch/>
        </p:blipFill>
        <p:spPr>
          <a:xfrm>
            <a:off x="2057400" y="506520"/>
            <a:ext cx="5562720" cy="99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095743"/>
          <p:cNvPicPr/>
          <p:nvPr/>
        </p:nvPicPr>
        <p:blipFill>
          <a:blip r:embed="rId4"/>
          <a:stretch/>
        </p:blipFill>
        <p:spPr>
          <a:xfrm rot="1291200">
            <a:off x="837720" y="4800600"/>
            <a:ext cx="838440" cy="803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J0095743"/>
          <p:cNvPicPr/>
          <p:nvPr/>
        </p:nvPicPr>
        <p:blipFill>
          <a:blip r:embed="rId5"/>
          <a:stretch/>
        </p:blipFill>
        <p:spPr>
          <a:xfrm rot="1291200">
            <a:off x="7772400" y="46483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J0095743"/>
          <p:cNvPicPr/>
          <p:nvPr/>
        </p:nvPicPr>
        <p:blipFill>
          <a:blip r:embed="rId6"/>
          <a:stretch/>
        </p:blipFill>
        <p:spPr>
          <a:xfrm rot="1291200">
            <a:off x="456840" y="304812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J0095743"/>
          <p:cNvPicPr/>
          <p:nvPr/>
        </p:nvPicPr>
        <p:blipFill>
          <a:blip r:embed="rId7"/>
          <a:stretch/>
        </p:blipFill>
        <p:spPr>
          <a:xfrm rot="1291200">
            <a:off x="7924680" y="1066680"/>
            <a:ext cx="838440" cy="803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J0095743"/>
          <p:cNvPicPr/>
          <p:nvPr/>
        </p:nvPicPr>
        <p:blipFill>
          <a:blip r:embed="rId8"/>
          <a:stretch/>
        </p:blipFill>
        <p:spPr>
          <a:xfrm rot="1291200">
            <a:off x="685440" y="762120"/>
            <a:ext cx="838080" cy="80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3520" y="1981080"/>
            <a:ext cx="5486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Как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прият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и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отрад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Что мне все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егодня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рады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изнаюсь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великодуш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-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Думал я у вас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здес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ку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А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тепер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увидел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то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Собрались вы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не наро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се ведут себя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прили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Учатся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здес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все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отли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от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ейчас 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оверю вас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омните ли вы мой сказ?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Рисунок 3" descr="мальчик пишет.wmf"/>
          <p:cNvPicPr/>
          <p:nvPr/>
        </p:nvPicPr>
        <p:blipFill>
          <a:blip r:embed="rId1"/>
          <a:stretch/>
        </p:blipFill>
        <p:spPr>
          <a:xfrm rot="393600">
            <a:off x="1523520" y="503280"/>
            <a:ext cx="2589480" cy="147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Бедный ребенок"/>
          <p:cNvPicPr/>
          <p:nvPr/>
        </p:nvPicPr>
        <p:blipFill>
          <a:blip r:embed="rId2"/>
          <a:stretch/>
        </p:blipFill>
        <p:spPr>
          <a:xfrm>
            <a:off x="6172200" y="685800"/>
            <a:ext cx="2286000" cy="1984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5638680" y="2971800"/>
            <a:ext cx="3200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c6aad6abc112037e33cf671aee1d382b"/>
          <p:cNvPicPr/>
          <p:nvPr/>
        </p:nvPicPr>
        <p:blipFill>
          <a:blip r:embed="rId3"/>
          <a:stretch/>
        </p:blipFill>
        <p:spPr>
          <a:xfrm>
            <a:off x="6553080" y="480060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1944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78" descr="Рисунок1"/>
          <p:cNvPicPr/>
          <p:nvPr/>
        </p:nvPicPr>
        <p:blipFill>
          <a:blip r:embed="rId1"/>
          <a:stretch/>
        </p:blipFill>
        <p:spPr>
          <a:xfrm>
            <a:off x="7543800" y="181944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1-11T20:54:5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