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6440-F32E-4813-8D64-AE5BBE669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D902-7420-4127-8B96-EC637BB97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3D4D-5968-47E2-8D7A-42FE63E52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57DC-B194-4374-B58F-56E9EA2E1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72C0-F8E0-4472-8BD5-700824B0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FEA5-E725-4187-A8CC-0B49BC237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8116-B9B9-42D4-972C-89A4546A5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C657-B0F3-4C1B-B4EE-C39C2634C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6E23-0E32-4588-8E52-97189764B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BA53-4E36-47B3-A14B-D82EB1C2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116D-16F1-4E5A-9948-DBFE57DA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5B27-2FDC-472D-9F3C-8B3219F3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04D0D-4CCE-4151-A3B0-CD59DFA531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4284720" y="428760"/>
            <a:ext cx="4680000" cy="60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хайловский филиал МБОУ «Щекинская СОШ» Рыльского района Кур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С. Пушкин. Роман "Капитанская дочка": образ Пугачева, его историческая основа и особенности авторской интерпре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учитель русского язы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литератур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рипкина Н. 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Михайловка, 2023 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357120" y="357120"/>
            <a:ext cx="389412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казнь пугачева.wmv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555040" cy="5624640"/>
          </a:xfrm>
          <a:prstGeom prst="rect">
            <a:avLst/>
          </a:prstGeom>
          <a:ln w="0">
            <a:noFill/>
          </a:ln>
        </p:spPr>
      </p:pic>
      <p:sp>
        <p:nvSpPr>
          <p:cNvPr id="67" name="TextBox 2"/>
          <p:cNvSpPr/>
          <p:nvPr/>
        </p:nvSpPr>
        <p:spPr>
          <a:xfrm>
            <a:off x="1204920" y="0"/>
            <a:ext cx="688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р из фильма «История Пугачевского бунта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цена «Казнь Пугаче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4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1"/>
          <p:cNvSpPr/>
          <p:nvPr/>
        </p:nvSpPr>
        <p:spPr>
          <a:xfrm>
            <a:off x="1187280" y="333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ВЫВОД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"/>
          <p:cNvSpPr/>
          <p:nvPr/>
        </p:nvSpPr>
        <p:spPr>
          <a:xfrm>
            <a:off x="900000" y="1125360"/>
            <a:ext cx="755964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гачев у Пушкина беспощадный, жестокий злодей, талантливый военачальник, дерзкий человек, любимец народа, что соответствует исторической действительности. Но в то же время он человек, способный оказать помощь нуждающимся, отблагодарить, защитить, а также человек чуткий, милосердный, проницательный, мудрый, но несмотря на это, несчастный и одино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ем переплелись качества зверя, загнанного в угол жизненными обстоятельствами, несправедливостью и человеческое благородство, уважение к достойному противни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539640" y="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Кто о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Пугачев: « изверг и злодей или умный талантливый народный вождь»; волк или челове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4405320" cy="5184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5076720" y="1413000"/>
            <a:ext cx="357372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395280" y="18900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Глава «Вожатый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rcRect l="0" t="0" r="16426" b="0"/>
          <a:stretch/>
        </p:blipFill>
        <p:spPr>
          <a:xfrm>
            <a:off x="179280" y="1125360"/>
            <a:ext cx="5776920" cy="556128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6084720" y="1844640"/>
            <a:ext cx="2808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 сорока, росту среднего. Худощав и широкоплеч. Черная борода с проседью, живые большие глаза так и бегали. Лицо его имело выражение довольно приятное, но плутовское. Волосы обстрижены в кружок. Оборванный армяк и татарские шарова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2"/>
          <p:cNvSpPr/>
          <p:nvPr/>
        </p:nvSpPr>
        <p:spPr>
          <a:xfrm>
            <a:off x="324000" y="26028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Глава «Приступ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4356000" y="981000"/>
            <a:ext cx="4319640" cy="564984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684360" y="2565360"/>
            <a:ext cx="266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Между ими на белом коне ехал человек в красном кафтане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187280" y="1536840"/>
            <a:ext cx="7056720" cy="503388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179280" y="189000"/>
            <a:ext cx="8785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«Пугачев сидел в креслах на крыльце комендантского дома… прямо взглянул, мрачно нахмурился, протянул жилистую руку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250920" y="26028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Глава «Незваный гость»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rcRect l="5747" t="0" r="14938" b="6848"/>
          <a:stretch/>
        </p:blipFill>
        <p:spPr>
          <a:xfrm>
            <a:off x="324000" y="1197000"/>
            <a:ext cx="5473440" cy="4680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3"/>
          <p:cNvSpPr/>
          <p:nvPr/>
        </p:nvSpPr>
        <p:spPr>
          <a:xfrm>
            <a:off x="6012000" y="1557360"/>
            <a:ext cx="223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Пугачев на первом месте сидел, облокотясь на стол  и подпирая черную бороду своим широким кулаком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2"/>
          <p:cNvSpPr/>
          <p:nvPr/>
        </p:nvSpPr>
        <p:spPr>
          <a:xfrm>
            <a:off x="755640" y="18900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Глава «Мятежная слобод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5580000" y="2060640"/>
            <a:ext cx="316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Пугачев сидел под образами, в красном кафтане, в высокой шапке и важно подбоча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лаза сверкали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4680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2"/>
          <p:cNvSpPr/>
          <p:nvPr/>
        </p:nvSpPr>
        <p:spPr>
          <a:xfrm>
            <a:off x="1258920" y="33336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Глава «Сирот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5364000" y="1197000"/>
            <a:ext cx="3240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зглянул грозно, смягчился, устремил огненные  свои глаза, лицо омрачилось, сказал смеясь: «Прощайте, ваше благородие! Авось увидимся когда-нибуд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4165560" cy="54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1258920" y="47628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Казнь Пугач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4140360" y="1042920"/>
            <a:ext cx="4032000" cy="5281560"/>
          </a:xfrm>
          <a:prstGeom prst="rect">
            <a:avLst/>
          </a:prstGeom>
          <a:ln w="0">
            <a:noFill/>
          </a:ln>
        </p:spPr>
      </p:pic>
      <p:sp>
        <p:nvSpPr>
          <p:cNvPr id="65" name="TextBox 3"/>
          <p:cNvSpPr/>
          <p:nvPr/>
        </p:nvSpPr>
        <p:spPr>
          <a:xfrm>
            <a:off x="539640" y="2708280"/>
            <a:ext cx="316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Прости, народ православный; отпусти мне, в чем я согрубил перед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обою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08:03:23Z</dcterms:created>
  <dc:creator>снежана</dc:creator>
  <dc:description/>
  <dc:language>en-US</dc:language>
  <cp:lastModifiedBy>Asus</cp:lastModifiedBy>
  <dcterms:modified xsi:type="dcterms:W3CDTF">2024-01-07T14:16:29Z</dcterms:modified>
  <cp:revision>36</cp:revision>
  <dc:subject/>
  <dc:title>Слайд 1</dc:title>
</cp:coreProperties>
</file>