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9FEA-9320-439A-8956-63C10C86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A88-4071-4210-8306-EF303557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3A3C-3824-4639-8FF6-FE7337D3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05F4-F3DA-4631-A840-CED2C787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050F-E7CE-42D3-9CB8-2011ECF0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2C82-356E-4028-B4CB-BBD532FF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6E7A-B421-42C9-9E09-2CEB3900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8AE5-2638-41BD-8390-9A68A51EE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D70E-F03C-4AE2-BF70-FBB76B2D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5375-2D38-4037-9A1D-104264AD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678E-D09F-4FA6-9546-E1C8FC79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94E-2E62-41CF-B7E1-CAD060B7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BEB4-AF88-47D6-A4D7-72D33924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E4F1-A325-4A2B-87DE-5220EB1B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9619-034A-40DE-AB77-466573F0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879A-D36E-44ED-A084-676FBD7CE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C9FB-3E5B-4B44-AF43-9F51B4C6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C55B5-26B4-4787-922E-0379B10D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2C0F5-5FB2-4AF5-B4DE-C1BAB137F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A4872-DAEB-4AEF-B774-D168F2C4F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43041-DDA4-475E-9649-F407228F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EEBB0-429D-4800-838A-342769D99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DE11-5DFB-4900-B50A-444DBD2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FD7F-1982-41B8-838E-FA5164B4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B71C8-CA9E-4C22-8934-C97D9819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A10B-2611-4340-A925-122883EB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8DB2C-B22F-439D-B48C-2A3BE609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A3C7D-A088-4A7F-8B54-29C51F25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27CD7-B10F-4EDE-9389-15569522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8ACA9-9A5D-40DB-BF4D-B14902E3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8351A-FF90-453F-9146-33DB8DD3D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1AD5F-C121-4F3F-B83D-5FF6DABE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71E0-2588-4183-B603-AFCDE0DC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C267-6425-4A46-8779-C0139CDF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0990ED-B6EB-4D87-A539-AC55DC47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16936-EBEB-44A1-87C6-69084B05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63B9-D3DC-4B94-9E3E-4B025DAEF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14B8-60BD-4150-8FD4-D474A60F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B779-EC7C-4E37-AA6C-78B1CECB0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5CBE9-3289-4E3F-9361-444AED93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253AB-3824-452E-B83C-CA1800CA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561F1-F9F9-487A-8EA3-227EA03AB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F69C-06D5-4D62-92D6-B0709E252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FB0E1-A3C3-41E0-A920-CF82A107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E70D-E34D-4248-AB15-D986A24E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B22A6-493D-4A8B-AA1F-0B7D8FFD3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9D0B9-7199-4011-BB8B-C416F750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11E59-3EEC-4564-9B85-6EE5B72C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BD51A-0B5E-41A7-B102-C1DB47DF8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51C54-ADC4-4378-8CCE-77B5E106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8959C-10EE-465E-9D57-EA3FBAE9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B2661-C8FD-492E-ACAC-1BCA3EAD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47B67E-5ECD-4782-A258-1701E979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9AA89-09AF-483D-BC89-EE61CD6C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19047-6EEC-4736-ABF0-3A0D96F51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6837-D0AB-48BC-8F95-5B2F42CB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43323-EC1B-493E-BFD3-6709978A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045CC-8D64-4869-A2C9-E6D70AD2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7727B-8B92-40F6-A289-DC9B8A03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F0FC7-90C4-4BBF-B7C8-B324B2D8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16C56-6F88-4F0A-B4A4-7E7EBE19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304F-358D-4CC2-B8DA-AF566F84D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554CD-B536-487C-B855-A566EF6C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18FC-A2EB-42F6-B537-0C2FB57A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5DE6-B805-4F33-8429-A4A78755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7DE9F-3959-4CC1-93F8-0ADE1E0A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A9F3-61D2-42FE-8C78-AFA5A581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97A67-61A6-4518-9E47-86A54B80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9D80A-5509-4B37-A3B7-5EFCC32A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EE7EBC-DDC3-4EE5-A560-C7921722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A06F5-09BB-4F41-9CD0-C91F52F4D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1CB8D-0B27-4D06-8D95-47DC9EA9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BF015-B3C9-47FC-B120-912B4C4D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2280A-7004-4110-A8CD-D346E624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4989F4-5C17-4CB7-BAD8-35C797AC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F2E5A-2EE5-4F2E-8A0F-8EE3483A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1A25-0335-488F-90CB-193E54C2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5DF6-DE3B-46DF-A6B8-C7B7AA49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29286-83C6-40CB-AD77-BBC46AED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57F027-E136-4352-B82F-EDBB029D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E8249-9B22-493C-BFBC-82E78A536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A42EB-170D-4AF8-9C92-D217FA3D0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C6E3A-7FE8-451D-B107-3ABBCB1D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91A-18C2-48A8-BCF1-594FF62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24DF-C6ED-41FC-BAB4-BD2CA0308D33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CD50-C149-4A06-AD45-2145F5636C60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073e8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073e8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91C6E-54AF-49CA-9C23-4C391F17E787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D134-1BBF-4EA7-ACF3-66936DF83D45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13FE-197B-4954-A74A-088FA4C693AF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A6454-6AD1-4A22-9988-D589A51329C3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CC80-D29C-40D3-B418-A534CC623B47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993080" cy="31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Детско-взрослый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проект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«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Дети войны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867280" y="4149360"/>
            <a:ext cx="32767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Работу выполнили:                                                                                    воспитатели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одготовительной группы «Красная шапочка»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Кокташева В.С., Поползина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Т.М. совместно с воспитанниками группы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37" name="Содержимое 5" descr="87053.png"/>
          <p:cNvPicPr/>
          <p:nvPr/>
        </p:nvPicPr>
        <p:blipFill>
          <a:blip r:embed="rId2"/>
          <a:stretch/>
        </p:blipFill>
        <p:spPr>
          <a:xfrm>
            <a:off x="112680" y="3402000"/>
            <a:ext cx="5754600" cy="3170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4"/>
          <p:cNvSpPr/>
          <p:nvPr/>
        </p:nvSpPr>
        <p:spPr>
          <a:xfrm>
            <a:off x="2108520" y="28584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onstantia"/>
              </a:rPr>
              <a:t>МБДОУ «Детский сад № 5» Дельфин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95280" y="1714320"/>
            <a:ext cx="4691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войны – наши прадедушки и прабабушки. Они уже в детстве ощутили всю тяжесть войны. Многие не дождались с фронтов своих отцов и братьев и даже навсегда расстались с мамами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того времени прошло много лет, и мы имеем возможность видеть картинки, фотографии  происходящих событий того времени. И главное, что бы мы помнили, чего стоила им победа в жестокой войне…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7" descr="1945_50.jpg"/>
          <p:cNvPicPr/>
          <p:nvPr/>
        </p:nvPicPr>
        <p:blipFill>
          <a:blip r:embed="rId2"/>
          <a:stretch/>
        </p:blipFill>
        <p:spPr>
          <a:xfrm>
            <a:off x="322200" y="1728720"/>
            <a:ext cx="33861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68295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всё зарисов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Объект 6" descr="C:\Users\DNS\Downloads\рисунок о войне 3.jpg"/>
          <p:cNvPicPr/>
          <p:nvPr/>
        </p:nvPicPr>
        <p:blipFill>
          <a:blip r:embed="rId1"/>
          <a:stretch/>
        </p:blipFill>
        <p:spPr>
          <a:xfrm>
            <a:off x="5072040" y="1785960"/>
            <a:ext cx="3851280" cy="4718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C:\Users\DNS\Downloads\рисунок о войне 2.jpg"/>
          <p:cNvPicPr/>
          <p:nvPr/>
        </p:nvPicPr>
        <p:blipFill>
          <a:blip r:embed="rId2"/>
          <a:stretch/>
        </p:blipFill>
        <p:spPr>
          <a:xfrm>
            <a:off x="214200" y="1357200"/>
            <a:ext cx="4259520" cy="2401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C:\Users\DNS\Downloads\рисунок о войне 1.jpg"/>
          <p:cNvPicPr/>
          <p:nvPr/>
        </p:nvPicPr>
        <p:blipFill>
          <a:blip r:embed="rId3"/>
          <a:stretch/>
        </p:blipFill>
        <p:spPr>
          <a:xfrm>
            <a:off x="428760" y="3879720"/>
            <a:ext cx="4486320" cy="2978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C:\Users\User\Desktop\карандаш.png"/>
          <p:cNvPicPr/>
          <p:nvPr/>
        </p:nvPicPr>
        <p:blipFill>
          <a:blip r:embed="rId4"/>
          <a:stretch/>
        </p:blipFill>
        <p:spPr>
          <a:xfrm>
            <a:off x="7500960" y="428760"/>
            <a:ext cx="1430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2760" y="1125360"/>
            <a:ext cx="8425080" cy="4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полученные знания будем использовать в играх в «войнушку», будем героями как наши прадедушки и    прабабушки!</a:t>
            </a:r>
            <a:endParaRPr b="0" lang="en-US" sz="28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0" name="Стрелка вправо 1"/>
          <p:cNvSpPr/>
          <p:nvPr/>
        </p:nvSpPr>
        <p:spPr>
          <a:xfrm>
            <a:off x="4357800" y="3546360"/>
            <a:ext cx="315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1" name="Содержимое 3" descr="04_warkids_80601.jpg"/>
          <p:cNvPicPr/>
          <p:nvPr/>
        </p:nvPicPr>
        <p:blipFill>
          <a:blip r:embed="rId1"/>
          <a:stretch/>
        </p:blipFill>
        <p:spPr>
          <a:xfrm>
            <a:off x="468360" y="2492280"/>
            <a:ext cx="3743280" cy="39610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C:\Users\DNS\Downloads\дети играют в войнушку.jpg"/>
          <p:cNvPicPr/>
          <p:nvPr/>
        </p:nvPicPr>
        <p:blipFill>
          <a:blip r:embed="rId2"/>
          <a:stretch/>
        </p:blipFill>
        <p:spPr>
          <a:xfrm>
            <a:off x="4761000" y="2852640"/>
            <a:ext cx="3967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404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 внимание!!!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94" name="Содержимое 3" descr="01_warkids_52996.jpg"/>
          <p:cNvPicPr/>
          <p:nvPr/>
        </p:nvPicPr>
        <p:blipFill>
          <a:blip r:embed="rId1"/>
          <a:stretch/>
        </p:blipFill>
        <p:spPr>
          <a:xfrm>
            <a:off x="2795760" y="2478240"/>
            <a:ext cx="59436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42920" y="1603080"/>
            <a:ext cx="740736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 о том,  как дети помогали в войну взрослым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, кто они – «дети войны»?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взрослых оформить презентацию нашей работы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новые знания о жизни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 в войну и создать выставку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нашей работы в том, чтобы узнать, как жили дети во время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Содержимое 3" descr="06_warkids_46561.jpg"/>
          <p:cNvPicPr/>
          <p:nvPr/>
        </p:nvPicPr>
        <p:blipFill>
          <a:blip r:embed="rId1"/>
          <a:stretch/>
        </p:blipFill>
        <p:spPr>
          <a:xfrm>
            <a:off x="5580000" y="378936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за: каждый ребёнок, переживший войну – герой. Война исковеркала их детство и наложила отпечаток на всю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C:\Users\User\Desktop\iвопрос.jpg"/>
          <p:cNvPicPr/>
          <p:nvPr/>
        </p:nvPicPr>
        <p:blipFill>
          <a:blip r:embed="rId1"/>
          <a:stretch/>
        </p:blipFill>
        <p:spPr>
          <a:xfrm>
            <a:off x="7451640" y="146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3" descr="x_a51de3c1.jpg"/>
          <p:cNvPicPr/>
          <p:nvPr/>
        </p:nvPicPr>
        <p:blipFill>
          <a:blip r:embed="rId2"/>
          <a:stretch/>
        </p:blipFill>
        <p:spPr>
          <a:xfrm>
            <a:off x="539640" y="2133720"/>
            <a:ext cx="7272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мы можем об этом узнать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5480" y="1547280"/>
            <a:ext cx="70880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Picture 2" descr="C:\Users\User\Desktop\9.gif"/>
          <p:cNvPicPr/>
          <p:nvPr/>
        </p:nvPicPr>
        <p:blipFill>
          <a:blip r:embed="rId1"/>
          <a:stretch/>
        </p:blipFill>
        <p:spPr>
          <a:xfrm>
            <a:off x="685800" y="1547640"/>
            <a:ext cx="8207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сбора информ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76480" y="1657080"/>
            <a:ext cx="720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тать в книгах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осить у взрослого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тить библиотеку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2360" y="1544760"/>
            <a:ext cx="1728720" cy="151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C:\Users\User\Desktop\iвос.jpg"/>
          <p:cNvPicPr/>
          <p:nvPr/>
        </p:nvPicPr>
        <p:blipFill>
          <a:blip r:embed="rId2"/>
          <a:stretch/>
        </p:blipFill>
        <p:spPr>
          <a:xfrm>
            <a:off x="395280" y="3238560"/>
            <a:ext cx="1563840" cy="1297080"/>
          </a:xfrm>
          <a:prstGeom prst="rect">
            <a:avLst/>
          </a:prstGeom>
          <a:ln w="0">
            <a:noFill/>
          </a:ln>
        </p:spPr>
      </p:pic>
      <p:sp>
        <p:nvSpPr>
          <p:cNvPr id="352" name="Штриховая стрелка вправо 5"/>
          <p:cNvSpPr/>
          <p:nvPr/>
        </p:nvSpPr>
        <p:spPr>
          <a:xfrm>
            <a:off x="2066760" y="3621240"/>
            <a:ext cx="63360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Штриховая стрелка вправо 6"/>
          <p:cNvSpPr/>
          <p:nvPr/>
        </p:nvSpPr>
        <p:spPr>
          <a:xfrm>
            <a:off x="2033640" y="1967040"/>
            <a:ext cx="66672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Штриховая стрелка вправо 7"/>
          <p:cNvSpPr/>
          <p:nvPr/>
        </p:nvSpPr>
        <p:spPr>
          <a:xfrm>
            <a:off x="2066760" y="5051520"/>
            <a:ext cx="69228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Рисунок 10" descr="C:\Users\DNS\Downloads\дети в  библиотеке.jpg"/>
          <p:cNvPicPr/>
          <p:nvPr/>
        </p:nvPicPr>
        <p:blipFill>
          <a:blip r:embed="rId3"/>
          <a:stretch/>
        </p:blipFill>
        <p:spPr>
          <a:xfrm>
            <a:off x="379440" y="4856040"/>
            <a:ext cx="1579680" cy="138132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9" descr="09_warkids_124451.jpg"/>
          <p:cNvPicPr/>
          <p:nvPr/>
        </p:nvPicPr>
        <p:blipFill>
          <a:blip r:embed="rId4"/>
          <a:stretch/>
        </p:blipFill>
        <p:spPr>
          <a:xfrm>
            <a:off x="5580000" y="1628640"/>
            <a:ext cx="3216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посмотрели много кни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223920" y="42084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I:\DCIM\100SSCAM\S7305713.JPG"/>
          <p:cNvPicPr/>
          <p:nvPr/>
        </p:nvPicPr>
        <p:blipFill>
          <a:blip r:embed="rId2"/>
          <a:stretch/>
        </p:blipFill>
        <p:spPr>
          <a:xfrm>
            <a:off x="2725560" y="1971720"/>
            <a:ext cx="3168720" cy="242712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01_warkids_52996.jpg"/>
          <p:cNvPicPr/>
          <p:nvPr/>
        </p:nvPicPr>
        <p:blipFill>
          <a:blip r:embed="rId3"/>
          <a:stretch/>
        </p:blipFill>
        <p:spPr>
          <a:xfrm>
            <a:off x="3056040" y="4468680"/>
            <a:ext cx="2814480" cy="238608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6" descr="02_warkids_48245.jpg"/>
          <p:cNvPicPr/>
          <p:nvPr/>
        </p:nvPicPr>
        <p:blipFill>
          <a:blip r:embed="rId4"/>
          <a:stretch/>
        </p:blipFill>
        <p:spPr>
          <a:xfrm>
            <a:off x="5745240" y="4398840"/>
            <a:ext cx="3365280" cy="217332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3" descr="1255800608_0_175a7_860e9702_xl.jpg"/>
          <p:cNvPicPr/>
          <p:nvPr/>
        </p:nvPicPr>
        <p:blipFill>
          <a:blip r:embed="rId5"/>
          <a:stretch/>
        </p:blipFill>
        <p:spPr>
          <a:xfrm>
            <a:off x="511200" y="4121280"/>
            <a:ext cx="3008160" cy="262080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20_warkids_66619.jpg"/>
          <p:cNvPicPr/>
          <p:nvPr/>
        </p:nvPicPr>
        <p:blipFill>
          <a:blip r:embed="rId6"/>
          <a:stretch/>
        </p:blipFill>
        <p:spPr>
          <a:xfrm>
            <a:off x="219240" y="1425600"/>
            <a:ext cx="2836800" cy="22780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9" descr="75552.jpg"/>
          <p:cNvPicPr/>
          <p:nvPr/>
        </p:nvPicPr>
        <p:blipFill>
          <a:blip r:embed="rId7"/>
          <a:stretch/>
        </p:blipFill>
        <p:spPr>
          <a:xfrm>
            <a:off x="5745240" y="1527120"/>
            <a:ext cx="2671560" cy="30114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0" descr="380102.jpg"/>
          <p:cNvPicPr/>
          <p:nvPr/>
        </p:nvPicPr>
        <p:blipFill>
          <a:blip r:embed="rId8"/>
          <a:stretch/>
        </p:blipFill>
        <p:spPr>
          <a:xfrm>
            <a:off x="101520" y="2678040"/>
            <a:ext cx="19465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осили у взросл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4537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Picture 3" descr="C:\Users\User\Desktop\iвос.jpg"/>
          <p:cNvPicPr/>
          <p:nvPr/>
        </p:nvPicPr>
        <p:blipFill>
          <a:blip r:embed="rId1"/>
          <a:stretch/>
        </p:blipFill>
        <p:spPr>
          <a:xfrm>
            <a:off x="539640" y="90792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5" descr="C:\Users\DNS\Downloads\спросили у взрослого.jpg"/>
          <p:cNvPicPr/>
          <p:nvPr/>
        </p:nvPicPr>
        <p:blipFill>
          <a:blip r:embed="rId2"/>
          <a:stretch/>
        </p:blipFill>
        <p:spPr>
          <a:xfrm>
            <a:off x="1908000" y="1844640"/>
            <a:ext cx="6713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I:\DCIM\100SSCAM\S7305644.JPG"/>
          <p:cNvPicPr/>
          <p:nvPr/>
        </p:nvPicPr>
        <p:blipFill>
          <a:blip r:embed="rId1"/>
          <a:stretch/>
        </p:blipFill>
        <p:spPr>
          <a:xfrm>
            <a:off x="1547640" y="4076640"/>
            <a:ext cx="2376720" cy="792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I:\DCIM\100SSCAM\S7305645.JPG"/>
          <p:cNvPicPr/>
          <p:nvPr/>
        </p:nvPicPr>
        <p:blipFill>
          <a:blip r:embed="rId2"/>
          <a:stretch/>
        </p:blipFill>
        <p:spPr>
          <a:xfrm>
            <a:off x="5076720" y="3284640"/>
            <a:ext cx="2374920" cy="2665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User\Desktop\i88.jpg"/>
          <p:cNvPicPr/>
          <p:nvPr/>
        </p:nvPicPr>
        <p:blipFill>
          <a:blip r:embed="rId3"/>
          <a:stretch/>
        </p:blipFill>
        <p:spPr>
          <a:xfrm>
            <a:off x="395280" y="40464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ходили в библиоте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Рисунок 9" descr="C:\Users\DNS\Downloads\дети в  библиотеке.jpg"/>
          <p:cNvPicPr/>
          <p:nvPr/>
        </p:nvPicPr>
        <p:blipFill>
          <a:blip r:embed="rId4"/>
          <a:stretch/>
        </p:blipFill>
        <p:spPr>
          <a:xfrm>
            <a:off x="169920" y="100080"/>
            <a:ext cx="1665360" cy="149076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11" descr="C:\Users\DNS\Downloads\дети сходили в библ.jpg"/>
          <p:cNvPicPr/>
          <p:nvPr/>
        </p:nvPicPr>
        <p:blipFill>
          <a:blip r:embed="rId5"/>
          <a:stretch/>
        </p:blipFill>
        <p:spPr>
          <a:xfrm>
            <a:off x="971640" y="1789200"/>
            <a:ext cx="6840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341360"/>
            <a:ext cx="8002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ногие дети вместе со взрослыми воевали на передовой и уходили в партизанские отряды, становясь настоящими героями. Они ценой своей жизни собирали ценные сведения, взрывали склады с боеприпасами и продовольствием. Уничтожали вражеские поезда, немецких солдат и офицеров. Среди них сыны полка, орлята, пионеры-герои, чье детство опалила война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от что мы узн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Содержимое 3" descr="10_warkids_61083.jpg"/>
          <p:cNvPicPr/>
          <p:nvPr/>
        </p:nvPicPr>
        <p:blipFill>
          <a:blip r:embed="rId1"/>
          <a:stretch/>
        </p:blipFill>
        <p:spPr>
          <a:xfrm>
            <a:off x="5148360" y="4437000"/>
            <a:ext cx="374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1:33:23Z</dcterms:created>
  <dc:creator>User</dc:creator>
  <dc:description/>
  <dc:language>en-US</dc:language>
  <cp:lastModifiedBy>Admin</cp:lastModifiedBy>
  <dcterms:modified xsi:type="dcterms:W3CDTF">2024-01-07T13:58:00Z</dcterms:modified>
  <cp:revision>57</cp:revision>
  <dc:subject/>
  <dc:title>Презентация PowerPoint</dc:title>
</cp:coreProperties>
</file>