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74F-8F52-4F66-A2D8-91EF41F1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87A-0E3F-493A-A5F1-D28D3B40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2F4-87B0-4A49-855E-B4880FDF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092-A414-4285-AA29-FCC3E3B3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292D-D940-46A5-8782-DD282B4F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62DA-F6A4-40F6-9C46-BE7925DF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2B32-5FD6-4CED-B174-6449E610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AD18-9495-4358-BDA2-029015D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D577-603B-4EF3-BB3C-4D211E59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30B1-6500-428A-84DE-CD4BA0E3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A0F1-AAA4-441C-BBD8-02FD191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BE4-1AA0-4CC2-8C96-B293F431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68E1-8474-4FCE-9B1F-06BF3A2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54ED-FAD8-47B8-8E98-3B002F78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86AC-E99D-406D-B705-6B04EA3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822E-3DD7-4087-B2EB-9CF9074B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1C94-4586-47C2-A75C-88B8B41F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D5BB-85CA-485A-8851-3BA7B552B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2644-770E-45B2-9D10-B46ABB9E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59CC-06A0-40E3-8749-8961BAD9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619C0-5DD6-4398-830E-168C56BB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A60E-DE18-4958-8DAF-F89E74C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D9A-935C-44C3-960E-516F124F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9C9A-C3BA-4BD4-8A1C-FFAC81E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81391-0823-4A93-BB93-D159254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9105-3A84-4F74-B54B-93E21C3B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111B-8D14-4D9E-96C6-47825F0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8C27-6D98-4223-B225-4FBF72EF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6681A-1715-491B-993B-CBAE30E1D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8CCE8-CD45-4A0D-A16C-22A4D802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7F19B-E326-444D-BC98-AAC9A746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8EA25-0985-4378-939C-B751A7D7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DDC2-2CD5-4A61-A394-21C19C61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8FF-F8DD-4564-832D-F2EDFE8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9D438-CCA3-469C-AC29-EFE4E2AF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C9B1D-5DBD-4834-BE25-56F9570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7B4A-2F01-4E3F-A714-F046439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C5F1A-9A85-4115-B669-5196A922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0131-F245-40EF-B46D-9C6DE446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25ED2-700A-48DD-9C73-D11B288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4599E-CC9A-49CC-B894-8F09891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06F75-D9C1-4965-8DD6-A15751E6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2153-A5B3-4FD9-906B-3DA4DC32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38536-B8B8-4B9D-9585-C945294E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242-B34C-4C1D-A027-63550C7F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D95C2-8EDF-4C89-991E-8828BFC5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8BD9-2337-485A-A833-07D9CEC5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F577-272E-4515-ACA3-8FB5BA06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A0D60-25DA-4FE2-8D7D-2105FF50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D3027-E412-457F-8C3D-F720896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F147D-E26B-40A0-B525-95C821B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F7E18-60CD-4C0D-8F78-BA1AF33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39FB5-54CA-4DF7-9F32-AC33508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C6F03-4E10-45DD-AD80-C081FEDF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F84A-A719-49D1-B6BC-406A7420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F14-5539-4EE4-ACD7-3077B338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A5E5C-96B5-434F-9874-0900E416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37BEE-0A13-48AA-963D-5D90AA24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1AA1C-909F-4034-BC49-5156F9D8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88CEB-E543-4C7C-A49D-5547E9EE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5F7DF-135C-4D6C-898F-810D4B35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A9700-9784-47EA-A9A6-5D4D6F9E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A1D81-6B3F-4D38-A1A0-5AACA9D1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741D-B1B5-4087-BA85-ED2ED184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4087B-C567-4CC0-B445-5D4530C9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B64FD-6710-4754-9EE2-BCE4C9AF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8BD-0DF5-4A74-8597-E563FB84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79126-0A1A-475A-89E5-E1A88332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AAB4F-DF2D-4F80-90D9-163676DE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9F54-E2D9-4D34-BE98-F6208FA0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046A9-09F0-43CF-814C-6F237C8C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2F358-A16A-43E9-BF2B-91ACF316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818B4-79E3-40C3-A063-351E74E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AEBEE-75C5-4737-8C1C-CAAF32AC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57998-5B5C-45D5-8CD3-8A7FA8C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65BC1-9964-4D8E-B6B7-0F39D0E2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E8CF6-5315-4A02-87A3-F0BF3F29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F8A-E99D-4D21-91D8-410A0ED9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9D55-98F6-4599-AF9D-D2B3307A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8ADAC-E367-4E6F-9D5D-92102C1C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63534-5861-4A27-958B-4EDB7270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FE9B3-B4F9-4B73-A2ED-20CD0FAF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F2BEF-826E-48D5-9D47-923E071A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364-CB23-47E6-A451-4AF8195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9A3C-C53E-4DE8-95BB-5DE0BF2409CB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338C-B13A-49AE-9338-8E079A732ABA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073e8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073e8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B440-956E-44B4-9A11-526CE44E8586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158-AA64-49EF-9F3F-77302AF704DC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B836-E6EE-4669-8F2D-D355FF2A8362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723B-9052-4F96-8C63-43EC971BE6F5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3A60-96D5-4F2F-9655-0AAA706017DF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93080" cy="31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Детско-взрослый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проект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ти войны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867280" y="4149360"/>
            <a:ext cx="32767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Работу выполнили:                                                                                    воспитатели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одготовительной группы «Красная шапочка»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Кокташева В.С., Поползина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Т.М. совместно с воспитанниками группы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37" name="Содержимое 5" descr="87053.png"/>
          <p:cNvPicPr/>
          <p:nvPr/>
        </p:nvPicPr>
        <p:blipFill>
          <a:blip r:embed="rId2"/>
          <a:stretch/>
        </p:blipFill>
        <p:spPr>
          <a:xfrm>
            <a:off x="112680" y="3402000"/>
            <a:ext cx="5754600" cy="3170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4"/>
          <p:cNvSpPr/>
          <p:nvPr/>
        </p:nvSpPr>
        <p:spPr>
          <a:xfrm>
            <a:off x="2108520" y="28584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onstantia"/>
              </a:rPr>
              <a:t>МБДОУ «Детский сад № 5» Дельфин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95280" y="1714320"/>
            <a:ext cx="4691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войны – наши прадедушки и прабабушки. Они уже в детстве ощутили всю тяжесть войны. Многие не дождались с фронтов своих отцов и братьев и даже навсегда расстались с мамами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того времени прошло много лет, и мы имеем возможность видеть картинки, фотографии  происходящих событий того времени. И главное, что бы мы помнили, чего стоила им победа в жестокой войне…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7" descr="1945_50.jpg"/>
          <p:cNvPicPr/>
          <p:nvPr/>
        </p:nvPicPr>
        <p:blipFill>
          <a:blip r:embed="rId2"/>
          <a:stretch/>
        </p:blipFill>
        <p:spPr>
          <a:xfrm>
            <a:off x="322200" y="1728720"/>
            <a:ext cx="33861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68295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всё зарисов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Объект 6" descr="C:\Users\DNS\Downloads\рисунок о войне 3.jpg"/>
          <p:cNvPicPr/>
          <p:nvPr/>
        </p:nvPicPr>
        <p:blipFill>
          <a:blip r:embed="rId1"/>
          <a:stretch/>
        </p:blipFill>
        <p:spPr>
          <a:xfrm>
            <a:off x="5072040" y="1785960"/>
            <a:ext cx="3851280" cy="4718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C:\Users\DNS\Downloads\рисунок о войне 2.jpg"/>
          <p:cNvPicPr/>
          <p:nvPr/>
        </p:nvPicPr>
        <p:blipFill>
          <a:blip r:embed="rId2"/>
          <a:stretch/>
        </p:blipFill>
        <p:spPr>
          <a:xfrm>
            <a:off x="214200" y="1357200"/>
            <a:ext cx="4259520" cy="2401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C:\Users\DNS\Downloads\рисунок о войне 1.jpg"/>
          <p:cNvPicPr/>
          <p:nvPr/>
        </p:nvPicPr>
        <p:blipFill>
          <a:blip r:embed="rId3"/>
          <a:stretch/>
        </p:blipFill>
        <p:spPr>
          <a:xfrm>
            <a:off x="428760" y="3879720"/>
            <a:ext cx="4486320" cy="2978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C:\Users\User\Desktop\карандаш.png"/>
          <p:cNvPicPr/>
          <p:nvPr/>
        </p:nvPicPr>
        <p:blipFill>
          <a:blip r:embed="rId4"/>
          <a:stretch/>
        </p:blipFill>
        <p:spPr>
          <a:xfrm>
            <a:off x="7500960" y="428760"/>
            <a:ext cx="1430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2760" y="1125360"/>
            <a:ext cx="8425080" cy="4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полученные знания будем использовать в играх в «войнушку», будем героями как наши прадедушки и    прабабушки!</a:t>
            </a:r>
            <a:endParaRPr b="0" lang="en-US" sz="28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0" name="Стрелка вправо 1"/>
          <p:cNvSpPr/>
          <p:nvPr/>
        </p:nvSpPr>
        <p:spPr>
          <a:xfrm>
            <a:off x="4357800" y="3546360"/>
            <a:ext cx="315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1" name="Содержимое 3" descr="04_warkids_80601.jpg"/>
          <p:cNvPicPr/>
          <p:nvPr/>
        </p:nvPicPr>
        <p:blipFill>
          <a:blip r:embed="rId1"/>
          <a:stretch/>
        </p:blipFill>
        <p:spPr>
          <a:xfrm>
            <a:off x="468360" y="2492280"/>
            <a:ext cx="3743280" cy="39610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C:\Users\DNS\Downloads\дети играют в войнушку.jpg"/>
          <p:cNvPicPr/>
          <p:nvPr/>
        </p:nvPicPr>
        <p:blipFill>
          <a:blip r:embed="rId2"/>
          <a:stretch/>
        </p:blipFill>
        <p:spPr>
          <a:xfrm>
            <a:off x="4761000" y="2852640"/>
            <a:ext cx="3967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404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 внимание!!!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94" name="Содержимое 3" descr="01_warkids_52996.jpg"/>
          <p:cNvPicPr/>
          <p:nvPr/>
        </p:nvPicPr>
        <p:blipFill>
          <a:blip r:embed="rId1"/>
          <a:stretch/>
        </p:blipFill>
        <p:spPr>
          <a:xfrm>
            <a:off x="2795760" y="2478240"/>
            <a:ext cx="59436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42920" y="1603080"/>
            <a:ext cx="740736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 о том,  как дети помогали в войну взрослым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, кто они – «дети войны»?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взрослых оформить презентацию нашей работы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новые знания о жизни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 в войну и создать выставку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нашей работы в том, чтобы узнать, как жили дети во время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Содержимое 3" descr="06_warkids_46561.jpg"/>
          <p:cNvPicPr/>
          <p:nvPr/>
        </p:nvPicPr>
        <p:blipFill>
          <a:blip r:embed="rId1"/>
          <a:stretch/>
        </p:blipFill>
        <p:spPr>
          <a:xfrm>
            <a:off x="5580000" y="378936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за: каждый ребёнок, переживший войну – герой. Война исковеркала их детство и наложила отпечаток на всю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C:\Users\User\Desktop\iвопрос.jpg"/>
          <p:cNvPicPr/>
          <p:nvPr/>
        </p:nvPicPr>
        <p:blipFill>
          <a:blip r:embed="rId1"/>
          <a:stretch/>
        </p:blipFill>
        <p:spPr>
          <a:xfrm>
            <a:off x="7451640" y="146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3" descr="x_a51de3c1.jpg"/>
          <p:cNvPicPr/>
          <p:nvPr/>
        </p:nvPicPr>
        <p:blipFill>
          <a:blip r:embed="rId2"/>
          <a:stretch/>
        </p:blipFill>
        <p:spPr>
          <a:xfrm>
            <a:off x="539640" y="2133720"/>
            <a:ext cx="7272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мы можем об этом узнать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5480" y="1547280"/>
            <a:ext cx="70880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Picture 2" descr="C:\Users\User\Desktop\9.gif"/>
          <p:cNvPicPr/>
          <p:nvPr/>
        </p:nvPicPr>
        <p:blipFill>
          <a:blip r:embed="rId1"/>
          <a:stretch/>
        </p:blipFill>
        <p:spPr>
          <a:xfrm>
            <a:off x="685800" y="1547640"/>
            <a:ext cx="8207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сбора информ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76480" y="1657080"/>
            <a:ext cx="720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тать в книгах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осить у взрослого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тить библиотеку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2360" y="1544760"/>
            <a:ext cx="1728720" cy="151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C:\Users\User\Desktop\iвос.jpg"/>
          <p:cNvPicPr/>
          <p:nvPr/>
        </p:nvPicPr>
        <p:blipFill>
          <a:blip r:embed="rId2"/>
          <a:stretch/>
        </p:blipFill>
        <p:spPr>
          <a:xfrm>
            <a:off x="395280" y="3238560"/>
            <a:ext cx="1563840" cy="1297080"/>
          </a:xfrm>
          <a:prstGeom prst="rect">
            <a:avLst/>
          </a:prstGeom>
          <a:ln w="0">
            <a:noFill/>
          </a:ln>
        </p:spPr>
      </p:pic>
      <p:sp>
        <p:nvSpPr>
          <p:cNvPr id="352" name="Штриховая стрелка вправо 5"/>
          <p:cNvSpPr/>
          <p:nvPr/>
        </p:nvSpPr>
        <p:spPr>
          <a:xfrm>
            <a:off x="2066760" y="3621240"/>
            <a:ext cx="63360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Штриховая стрелка вправо 6"/>
          <p:cNvSpPr/>
          <p:nvPr/>
        </p:nvSpPr>
        <p:spPr>
          <a:xfrm>
            <a:off x="2033640" y="1967040"/>
            <a:ext cx="66672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Штриховая стрелка вправо 7"/>
          <p:cNvSpPr/>
          <p:nvPr/>
        </p:nvSpPr>
        <p:spPr>
          <a:xfrm>
            <a:off x="2066760" y="5051520"/>
            <a:ext cx="69228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Рисунок 10" descr="C:\Users\DNS\Downloads\дети в  библиотеке.jpg"/>
          <p:cNvPicPr/>
          <p:nvPr/>
        </p:nvPicPr>
        <p:blipFill>
          <a:blip r:embed="rId3"/>
          <a:stretch/>
        </p:blipFill>
        <p:spPr>
          <a:xfrm>
            <a:off x="379440" y="4856040"/>
            <a:ext cx="1579680" cy="138132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9" descr="09_warkids_124451.jpg"/>
          <p:cNvPicPr/>
          <p:nvPr/>
        </p:nvPicPr>
        <p:blipFill>
          <a:blip r:embed="rId4"/>
          <a:stretch/>
        </p:blipFill>
        <p:spPr>
          <a:xfrm>
            <a:off x="5580000" y="1628640"/>
            <a:ext cx="3216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посмотрели много кни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223920" y="42084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I:\DCIM\100SSCAM\S7305713.JPG"/>
          <p:cNvPicPr/>
          <p:nvPr/>
        </p:nvPicPr>
        <p:blipFill>
          <a:blip r:embed="rId2"/>
          <a:stretch/>
        </p:blipFill>
        <p:spPr>
          <a:xfrm>
            <a:off x="2725560" y="1971720"/>
            <a:ext cx="3168720" cy="242712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01_warkids_52996.jpg"/>
          <p:cNvPicPr/>
          <p:nvPr/>
        </p:nvPicPr>
        <p:blipFill>
          <a:blip r:embed="rId3"/>
          <a:stretch/>
        </p:blipFill>
        <p:spPr>
          <a:xfrm>
            <a:off x="3056040" y="4468680"/>
            <a:ext cx="2814480" cy="238608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6" descr="02_warkids_48245.jpg"/>
          <p:cNvPicPr/>
          <p:nvPr/>
        </p:nvPicPr>
        <p:blipFill>
          <a:blip r:embed="rId4"/>
          <a:stretch/>
        </p:blipFill>
        <p:spPr>
          <a:xfrm>
            <a:off x="5745240" y="4398840"/>
            <a:ext cx="3365280" cy="217332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3" descr="1255800608_0_175a7_860e9702_xl.jpg"/>
          <p:cNvPicPr/>
          <p:nvPr/>
        </p:nvPicPr>
        <p:blipFill>
          <a:blip r:embed="rId5"/>
          <a:stretch/>
        </p:blipFill>
        <p:spPr>
          <a:xfrm>
            <a:off x="511200" y="4121280"/>
            <a:ext cx="3008160" cy="262080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20_warkids_66619.jpg"/>
          <p:cNvPicPr/>
          <p:nvPr/>
        </p:nvPicPr>
        <p:blipFill>
          <a:blip r:embed="rId6"/>
          <a:stretch/>
        </p:blipFill>
        <p:spPr>
          <a:xfrm>
            <a:off x="219240" y="1425600"/>
            <a:ext cx="2836800" cy="22780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9" descr="75552.jpg"/>
          <p:cNvPicPr/>
          <p:nvPr/>
        </p:nvPicPr>
        <p:blipFill>
          <a:blip r:embed="rId7"/>
          <a:stretch/>
        </p:blipFill>
        <p:spPr>
          <a:xfrm>
            <a:off x="5745240" y="1527120"/>
            <a:ext cx="2671560" cy="30114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0" descr="380102.jpg"/>
          <p:cNvPicPr/>
          <p:nvPr/>
        </p:nvPicPr>
        <p:blipFill>
          <a:blip r:embed="rId8"/>
          <a:stretch/>
        </p:blipFill>
        <p:spPr>
          <a:xfrm>
            <a:off x="101520" y="2678040"/>
            <a:ext cx="19465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осили у взросл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4537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Picture 3" descr="C:\Users\User\Desktop\iвос.jpg"/>
          <p:cNvPicPr/>
          <p:nvPr/>
        </p:nvPicPr>
        <p:blipFill>
          <a:blip r:embed="rId1"/>
          <a:stretch/>
        </p:blipFill>
        <p:spPr>
          <a:xfrm>
            <a:off x="539640" y="90792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5" descr="C:\Users\DNS\Downloads\спросили у взрослого.jpg"/>
          <p:cNvPicPr/>
          <p:nvPr/>
        </p:nvPicPr>
        <p:blipFill>
          <a:blip r:embed="rId2"/>
          <a:stretch/>
        </p:blipFill>
        <p:spPr>
          <a:xfrm>
            <a:off x="1908000" y="1844640"/>
            <a:ext cx="6713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I:\DCIM\100SSCAM\S7305644.JPG"/>
          <p:cNvPicPr/>
          <p:nvPr/>
        </p:nvPicPr>
        <p:blipFill>
          <a:blip r:embed="rId1"/>
          <a:stretch/>
        </p:blipFill>
        <p:spPr>
          <a:xfrm>
            <a:off x="1547640" y="4076640"/>
            <a:ext cx="2376720" cy="792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I:\DCIM\100SSCAM\S7305645.JPG"/>
          <p:cNvPicPr/>
          <p:nvPr/>
        </p:nvPicPr>
        <p:blipFill>
          <a:blip r:embed="rId2"/>
          <a:stretch/>
        </p:blipFill>
        <p:spPr>
          <a:xfrm>
            <a:off x="5076720" y="3284640"/>
            <a:ext cx="2374920" cy="2665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User\Desktop\i88.jpg"/>
          <p:cNvPicPr/>
          <p:nvPr/>
        </p:nvPicPr>
        <p:blipFill>
          <a:blip r:embed="rId3"/>
          <a:stretch/>
        </p:blipFill>
        <p:spPr>
          <a:xfrm>
            <a:off x="395280" y="40464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ходили в библиоте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Рисунок 9" descr="C:\Users\DNS\Downloads\дети в  библиотеке.jpg"/>
          <p:cNvPicPr/>
          <p:nvPr/>
        </p:nvPicPr>
        <p:blipFill>
          <a:blip r:embed="rId4"/>
          <a:stretch/>
        </p:blipFill>
        <p:spPr>
          <a:xfrm>
            <a:off x="169920" y="100080"/>
            <a:ext cx="1665360" cy="149076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11" descr="C:\Users\DNS\Downloads\дети сходили в библ.jpg"/>
          <p:cNvPicPr/>
          <p:nvPr/>
        </p:nvPicPr>
        <p:blipFill>
          <a:blip r:embed="rId5"/>
          <a:stretch/>
        </p:blipFill>
        <p:spPr>
          <a:xfrm>
            <a:off x="971640" y="1789200"/>
            <a:ext cx="6840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341360"/>
            <a:ext cx="8002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ногие дети вместе со взрослыми воевали на передовой и уходили в партизанские отряды, становясь настоящими героями. Они ценой своей жизни собирали ценные сведения, взрывали склады с боеприпасами и продовольствием. Уничтожали вражеские поезда, немецких солдат и офицеров. Среди них сыны полка, орлята, пионеры-герои, чье детство опалила война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от что мы узн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Содержимое 3" descr="10_warkids_61083.jpg"/>
          <p:cNvPicPr/>
          <p:nvPr/>
        </p:nvPicPr>
        <p:blipFill>
          <a:blip r:embed="rId1"/>
          <a:stretch/>
        </p:blipFill>
        <p:spPr>
          <a:xfrm>
            <a:off x="5148360" y="4437000"/>
            <a:ext cx="374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1:33:23Z</dcterms:created>
  <dc:creator>User</dc:creator>
  <dc:description/>
  <dc:language>en-US</dc:language>
  <cp:lastModifiedBy>Admin</cp:lastModifiedBy>
  <dcterms:modified xsi:type="dcterms:W3CDTF">2024-01-07T13:58:00Z</dcterms:modified>
  <cp:revision>57</cp:revision>
  <dc:subject/>
  <dc:title>Презентация PowerPoint</dc:title>
</cp:coreProperties>
</file>