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EC0-C487-43D9-9435-999AF769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6CA-22F8-4AAC-A871-2B7F7D6D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99E-E78A-4A68-9FA5-8686E681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5C8-27B4-4C39-8E9A-493D8BC1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CDA8-58F3-443A-AFD7-58E6B14F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CF9E-704C-4BB4-AC8C-167C56CB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9943-922F-4EC7-B8BC-2D63F2FB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6D47-EDCF-41D6-9D56-C783BB67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AC58-2A8B-44D6-A28E-1492E36D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9815-5D36-468B-9903-68A2BD32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623E-3328-47B7-A14A-7D9315D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462-850F-4DD7-9DCE-2E66AF58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4DD-8456-470E-9D66-438F93D7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78CF-6234-4F26-A82E-BD980DE3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A81C-177E-4E85-8CBF-EA35FF3D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7DA7-E4D7-41F0-88A5-FCEEE197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7F5B-9554-49DA-8C1F-DA84418A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FE6-0A6E-40AF-B480-8B92A8A8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FF3-E1CF-4062-B5EB-6310601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162-3C0E-4B8D-8695-8702161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080-BBF7-44D3-B91E-1857DE93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C0F-7832-4EED-AAB3-317CA297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F37-D430-4E9B-BD80-C83B25D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2F9-33FE-4B2F-97BB-58FC48C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3976-FA18-46B0-A08F-C91C0FC125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7CC0-790C-403E-A070-49092CC8A0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Путешествие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город «Предложение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Главные члены предлож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длежаще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1143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533520"/>
          <a:ext cx="8915400" cy="5790960"/>
        </p:xfrm>
        <a:graphic>
          <a:graphicData uri="http://schemas.openxmlformats.org/drawingml/2006/table">
            <a:tbl>
              <a:tblPr/>
              <a:tblGrid>
                <a:gridCol w="1795320"/>
                <a:gridCol w="2013120"/>
                <a:gridCol w="2641680"/>
                <a:gridCol w="2465280"/>
              </a:tblGrid>
              <a:tr h="160020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лен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акой вопрос отве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ой частью речи явля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ПО'Ч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и,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ж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Маленькая и тонкая цепь.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Ц. для час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Группа бойцов, двигающихся друг за другом в какой-н. линии (воен.).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Ц. конных разъезд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Ряд, вереница кого-, чего-л.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округ был мрак, и только тускло светилась цепочка фонар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 книги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. 76, упр. 161,16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5" descr="Книга"/>
          <p:cNvPicPr/>
          <p:nvPr/>
        </p:nvPicPr>
        <p:blipFill>
          <a:blip r:embed="rId1"/>
          <a:stretch/>
        </p:blipFill>
        <p:spPr>
          <a:xfrm>
            <a:off x="2874960" y="1719360"/>
            <a:ext cx="339264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гровой за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шло тёплое _________. Наступает ненастная, дождливая ________. Перелётные _______ собираются в дальний путь. Первыми улетают наши _______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ными цепочками летят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частливого вам пути, наши дорогие друзья!  Синт. разбор пред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ли существовать предложение без главных член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кие вопросы чаще отвечает подлежаще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бычно выражается подлежащее в предложен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4" descr="i?id=11656712-04"/>
          <p:cNvPicPr/>
          <p:nvPr/>
        </p:nvPicPr>
        <p:blipFill>
          <a:blip r:embed="rId1"/>
          <a:stretch/>
        </p:blipFill>
        <p:spPr>
          <a:xfrm>
            <a:off x="2387520" y="1719360"/>
            <a:ext cx="437364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.32,выучи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. 159, 160 определить грамматические осно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090386"/>
          <p:cNvPicPr/>
          <p:nvPr/>
        </p:nvPicPr>
        <p:blipFill>
          <a:blip r:embed="rId1"/>
          <a:stretch/>
        </p:blipFill>
        <p:spPr>
          <a:xfrm>
            <a:off x="5540400" y="3591000"/>
            <a:ext cx="2857320" cy="23702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22400"/>
            <a:ext cx="8229600" cy="60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1332000" y="2133720"/>
            <a:ext cx="65023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6" descr="Рисунок13"/>
          <p:cNvPicPr/>
          <p:nvPr/>
        </p:nvPicPr>
        <p:blipFill>
          <a:blip r:embed="rId3"/>
          <a:stretch/>
        </p:blipFill>
        <p:spPr>
          <a:xfrm>
            <a:off x="6227640" y="4365720"/>
            <a:ext cx="20894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5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66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6600"/>
                </a:solidFill>
                <a:latin typeface="Arial"/>
              </a:rPr>
              <a:t>Мы у городских ворот. Чтобы открыть ворота и пройти в город, нам нужно будет выполнить ответственное задание: ответить на вопрос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ворота22"/>
          <p:cNvPicPr/>
          <p:nvPr/>
        </p:nvPicPr>
        <p:blipFill>
          <a:blip r:embed="rId1"/>
          <a:stretch/>
        </p:blipFill>
        <p:spPr>
          <a:xfrm>
            <a:off x="1905120" y="3521160"/>
            <a:ext cx="5790960" cy="295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ья разноцветные -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ноцветные листья ложатся под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олотая осень -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аступила золотая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уршащий ковер -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 ногами пестреет шуршащий кове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Вопрос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члены предложения называют главны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такое грамматическая основа предлож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ли существовать предложение без главных член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кие вопросы отвечает подлежаще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называются остальные члены предлож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Не зверь, не птица, а по небу мчится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Picture 7" descr="i?id=11656712-04"/>
          <p:cNvPicPr/>
          <p:nvPr/>
        </p:nvPicPr>
        <p:blipFill>
          <a:blip r:embed="rId1"/>
          <a:stretch/>
        </p:blipFill>
        <p:spPr>
          <a:xfrm>
            <a:off x="2158920" y="1719360"/>
            <a:ext cx="482436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 путешеств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удем составлять простые предложения, учиться находить сказуемое и подлежащее, которое выражено существительным, местоимением или сочетанием сл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учимся хорошо относится друг к дру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ворец главных членов предлож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Picture 5" descr="Замок"/>
          <p:cNvPicPr/>
          <p:nvPr/>
        </p:nvPicPr>
        <p:blipFill>
          <a:blip r:embed="rId1"/>
          <a:stretch/>
        </p:blipFill>
        <p:spPr>
          <a:xfrm>
            <a:off x="685800" y="1689120"/>
            <a:ext cx="7412040" cy="516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22400"/>
            <a:ext cx="8229600" cy="60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я------ морем.---- меняется на глазах каждый час. Штормовой_____гонит крупную зыбь. От этой зыби на воде образовываются пенные-----. То оно-------бараш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лова для справо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 залюбовался, оно, играет, цепочки, ве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лежащее может быть выражен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нем существитель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стоиме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четанием с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3-04-09T11:57:2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