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F30-652D-4A4E-9DF0-44CA3E04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100-E7B5-413A-BA65-A39B543B5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424-4CD5-4C4D-81C1-4B8E11D8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844-8851-4ABF-8B16-150F82F4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8E67-79A3-4885-95F3-DCD2F845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C41B-EB92-477A-B5BB-02D19042B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3E2F-2E72-4500-9946-03138C6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2E9E-8647-443D-8C1B-02CF1137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7506-7748-4450-9D21-A42F5945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731C-C426-4C01-BFC2-CD5E5A10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2499C-A2FD-4F8A-B206-3857C343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AF4-14A5-43AB-A830-0C39B238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D976-5A62-45ED-BEA2-44AE1E41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442FC-99CD-4A06-98D8-0E2ACD8E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F563-3DED-4450-A9B9-9A6BC030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FDD7-CA1A-48DC-8DA6-0F0533B34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B8663-23A6-4038-BD78-32D5F18A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5CA-8F54-4A27-BAAC-FBA1957F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1FDF-722E-49F6-935E-12F6EFC0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A86-7F0D-4C7E-B87C-E49EDD50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DDC3-BF1E-4320-B30A-0D0AED70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245C-074C-4EAC-AA40-00884E43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D2B2-F8DD-49C7-ACA2-5D8659C8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29BF-D33B-4BE5-A1A3-A0CEB9AF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D65B-7232-47B3-9CC3-3788D5451B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E04A-5B1C-4DB4-A1C9-8A80B759DE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-64764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3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Путешествие 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ru-RU" sz="5400" spc="-1" strike="noStrike">
                <a:solidFill>
                  <a:srgbClr val="ff0000"/>
                </a:solidFill>
                <a:latin typeface="Arial"/>
              </a:rPr>
              <a:t>город «Предложение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Главные члены предлож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длежаще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-1143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28600" y="533520"/>
          <a:ext cx="8915400" cy="5790960"/>
        </p:xfrm>
        <a:graphic>
          <a:graphicData uri="http://schemas.openxmlformats.org/drawingml/2006/table">
            <a:tbl>
              <a:tblPr/>
              <a:tblGrid>
                <a:gridCol w="1795320"/>
                <a:gridCol w="2013120"/>
                <a:gridCol w="2641680"/>
                <a:gridCol w="2465280"/>
              </a:tblGrid>
              <a:tr h="160020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лен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какой вопрос отвеча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акой частью речи являе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мер предлож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44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360">
                    <a:lnL w="13680">
                      <a:solidFill>
                        <a:srgbClr val="00000a"/>
                      </a:solidFill>
                    </a:lnL>
                    <a:lnR w="13680">
                      <a:solidFill>
                        <a:srgbClr val="00000a"/>
                      </a:solidFill>
                    </a:lnR>
                    <a:lnT w="13680">
                      <a:solidFill>
                        <a:srgbClr val="00000a"/>
                      </a:solidFill>
                    </a:lnT>
                    <a:lnB w="13680">
                      <a:solidFill>
                        <a:srgbClr val="00000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ЦЕПО'ЧК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и,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ж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Маленькая и тонкая цепь.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Ц. для часов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Группа бойцов, двигающихся друг за другом в какой-н. линии (воен.).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Ц. конных разъезд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 Ряд, вереница кого-, чего-л. 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Вокруг был мрак, и только тускло светилась цепочка фонар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002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 книги</a:t>
            </a:r>
            <a:br>
              <a:rPr sz="3900"/>
            </a:b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. 76, упр. 161,162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1" name="Picture 5" descr="Книга"/>
          <p:cNvPicPr/>
          <p:nvPr/>
        </p:nvPicPr>
        <p:blipFill>
          <a:blip r:embed="rId1"/>
          <a:stretch/>
        </p:blipFill>
        <p:spPr>
          <a:xfrm>
            <a:off x="2874960" y="1719360"/>
            <a:ext cx="339264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гровой за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шло тёплое _________. Наступает ненастная, дождливая ________. Перелётные _______ собираются в дальний путь. Первыми улетают наши _______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линными цепочками летят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частливого вам пути, наши дорогие друзья!  Синт. разбор предлож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ли существовать предложение без главных член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кие вопросы чаще отвечает подлежаще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обычно выражается подлежащее в предложени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7" name="Picture 4" descr="i?id=11656712-04"/>
          <p:cNvPicPr/>
          <p:nvPr/>
        </p:nvPicPr>
        <p:blipFill>
          <a:blip r:embed="rId1"/>
          <a:stretch/>
        </p:blipFill>
        <p:spPr>
          <a:xfrm>
            <a:off x="2387520" y="1719360"/>
            <a:ext cx="437364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омашнее зада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.32,выучи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. 159, 160 определить грамматические основ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090386"/>
          <p:cNvPicPr/>
          <p:nvPr/>
        </p:nvPicPr>
        <p:blipFill>
          <a:blip r:embed="rId1"/>
          <a:stretch/>
        </p:blipFill>
        <p:spPr>
          <a:xfrm>
            <a:off x="5540400" y="3591000"/>
            <a:ext cx="2857320" cy="237024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22400"/>
            <a:ext cx="8229600" cy="60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4"/>
          <p:cNvSpPr txBox="1"/>
          <p:nvPr/>
        </p:nvSpPr>
        <p:spPr>
          <a:xfrm>
            <a:off x="1332000" y="2133720"/>
            <a:ext cx="65023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" name="Picture 6" descr="Рисунок13"/>
          <p:cNvPicPr/>
          <p:nvPr/>
        </p:nvPicPr>
        <p:blipFill>
          <a:blip r:embed="rId3"/>
          <a:stretch/>
        </p:blipFill>
        <p:spPr>
          <a:xfrm>
            <a:off x="6227640" y="4365720"/>
            <a:ext cx="2089440" cy="158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7720" y="1143000"/>
            <a:ext cx="805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6600"/>
                </a:solidFill>
                <a:latin typeface="Arial"/>
              </a:rPr>
              <a:t>–</a:t>
            </a:r>
            <a:r>
              <a:rPr b="0" lang="ru-RU" sz="3000" spc="-1" strike="noStrike">
                <a:solidFill>
                  <a:srgbClr val="006600"/>
                </a:solidFill>
                <a:latin typeface="Arial"/>
              </a:rPr>
              <a:t>Мы у городских ворот. Чтобы открыть ворота и пройти в город, нам нужно будет выполнить ответственное задание: ответить на вопрос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ворота22"/>
          <p:cNvPicPr/>
          <p:nvPr/>
        </p:nvPicPr>
        <p:blipFill>
          <a:blip r:embed="rId1"/>
          <a:stretch/>
        </p:blipFill>
        <p:spPr>
          <a:xfrm>
            <a:off x="1905120" y="3521160"/>
            <a:ext cx="5790960" cy="2955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ья разноцветные -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Разноцветные листья ложатся под н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Золотая осень -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Наступила золотая ос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Шуршащий ковер -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Под ногами пестреет шуршащий ковер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Вопрос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ие члены предложения называют главными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то такое грамматическая основа предлож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ли существовать предложение без главных членов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какие вопросы отвечает подлежащее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 называются остальные члены предложения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Не зверь, не птица, а по небу мчится.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58" name="Picture 7" descr="i?id=11656712-04"/>
          <p:cNvPicPr/>
          <p:nvPr/>
        </p:nvPicPr>
        <p:blipFill>
          <a:blip r:embed="rId1"/>
          <a:stretch/>
        </p:blipFill>
        <p:spPr>
          <a:xfrm>
            <a:off x="2158920" y="1719360"/>
            <a:ext cx="4824360" cy="4411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Цели путешеств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удем составлять простые предложения, учиться находить сказуемое и подлежащее, которое выражено существительным, местоимением или сочетанием слов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учимся хорошо относится друг к друг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Дворец главных членов предлож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2" name="Picture 5" descr="Замок"/>
          <p:cNvPicPr/>
          <p:nvPr/>
        </p:nvPicPr>
        <p:blipFill>
          <a:blip r:embed="rId1"/>
          <a:stretch/>
        </p:blipFill>
        <p:spPr>
          <a:xfrm>
            <a:off x="685800" y="1689120"/>
            <a:ext cx="7412040" cy="516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22400"/>
            <a:ext cx="8229600" cy="60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я------ морем.---- меняется на глазах каждый час. Штормовой_____гонит крупную зыбь. От этой зыби на воде образовываются пенные-----. То оно-------бараш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Bef>
                <a:spcPts val="799"/>
              </a:spcBef>
              <a:spcAft>
                <a:spcPts val="751"/>
              </a:spcAft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Слова для справок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: залюбовался, оно, играет, цепочки, вет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Подлежащее может быть выражено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менем существительны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естоимение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очетанием с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dcterms:modified xsi:type="dcterms:W3CDTF">2023-04-09T11:57:21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