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970-F689-4BFE-A685-16C6EB3A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DA2F-5395-4B83-982D-413A8BEB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0AAE-B75F-47C3-A264-1073D14A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DD56-0A58-4381-B08C-5CB39FC6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B396-DA01-47A9-8F73-ABA12A32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A9CF-E31F-4A5F-8842-8B1A745E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F39F-6F07-4A3A-AD96-BC5F4DAA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8C86-30B7-43D9-BA19-878EE7B1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2316-0546-40BE-97C6-B1831417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603B-CF42-4C75-AD60-6DC7FD60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544A-D75B-4A14-837C-0AB5C267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D26E-FB78-490D-ACEF-FC06092E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4719-9CDF-4F9F-9A48-155C074B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7D3A-BEAD-4B27-B9A8-FFCE53C0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0FD3-A69F-43D0-B61D-995AC070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4742-3EFE-4A27-A4DB-1C43DE0A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8C4C-10FB-440B-B18B-A88CC840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731B1-9F35-4A0D-A1BF-FC51DF4B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F20FB-BA1F-4317-AB44-AB6B5FFD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1514F-A38E-4D41-8239-11F2A88C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336B9-50FD-4CE6-A98A-37CA6937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EE679-B480-475A-B34B-E4A44F7F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9CCB-A7A6-462E-B8A1-B8596FB5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6BB84-D9DC-482D-B9CA-7D0BE362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4F300-B433-4026-8A8F-7AF89FD0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EFF7B-3E11-4DE0-9E99-2F92CC36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90A2C-5B16-4572-AFA8-9DE3AFD0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E5077-5AD1-403B-B302-6DB1B5C8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D719E-EE33-4BA1-BB07-8CE1EFB3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B586B-B454-476C-B588-894AD620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8906-3B3F-491B-BA0A-5943EF02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1C9-F00D-4E60-BD64-0693A1A4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BDBE-84A8-409B-92D6-B69F7C9A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48AE-11D1-4359-B982-0A551736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3D35-A0B2-4090-937E-E7C0E871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0D4-5C2C-414B-8582-44FD4157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B3BC-A06D-4441-BC2F-7809BA7C3C3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9EE2-9E7A-4096-95AA-B298E7839A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FB0D-6A6B-41CB-9146-EB2E61D604A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hkolanakuhne.ru/wp-content/uploads/2011/05/1289330462_05110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unhome.ru/cards/115410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7">
            <a:hlinkClick r:id="" action="ppaction://hlinkshowjump?jump=nextslide"/>
          </p:cNvPr>
          <p:cNvSpPr/>
          <p:nvPr/>
        </p:nvSpPr>
        <p:spPr>
          <a:xfrm>
            <a:off x="472428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9906120" y="3022560"/>
            <a:ext cx="46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219320" y="121932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Первая групп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Вторая групп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Третья груп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6767ff"/>
                </a:solidFill>
                <a:uFillTx/>
                <a:latin typeface="Arial"/>
                <a:hlinkClick r:id="rId4" action="ppaction://hlinksldjump"/>
              </a:rPr>
              <a:t>Четвертая груп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6553080" y="5715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609480" y="457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ние для первой груп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39560" y="2819520"/>
            <a:ext cx="8077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370160"/>
          <a:ext cx="8229600" cy="272556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  <a:gridCol w="549360"/>
                <a:gridCol w="547560"/>
                <a:gridCol w="549360"/>
                <a:gridCol w="547560"/>
                <a:gridCol w="549360"/>
                <a:gridCol w="549360"/>
                <a:gridCol w="547560"/>
                <a:gridCol w="549360"/>
                <a:gridCol w="547560"/>
                <a:gridCol w="549360"/>
              </a:tblGrid>
              <a:tr h="1654920">
                <a:tc gridSpan="9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аблице приведено число пользователей  Интернета в 10 крупнейших по площади странах мира. Какое из найденных  значений лучше характеризует численность пользователей Интернета в этих странах? Кратко обоснуйте свое мн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3320">
                <a:tc gridSpan="6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3320">
                <a:tc gridSpan="15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320">
                <a:tc gridSpan="5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6" name="Рисунок 13" descr=""/>
          <p:cNvPicPr/>
          <p:nvPr/>
        </p:nvPicPr>
        <p:blipFill>
          <a:blip r:embed="rId1"/>
          <a:stretch/>
        </p:blipFill>
        <p:spPr>
          <a:xfrm>
            <a:off x="5479920" y="1596960"/>
            <a:ext cx="3224520" cy="44942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7"/>
          <p:cNvSpPr/>
          <p:nvPr/>
        </p:nvSpPr>
        <p:spPr>
          <a:xfrm>
            <a:off x="53352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609480" y="457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ние для второй груп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439560" y="2819520"/>
            <a:ext cx="8077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53352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7"/>
          <p:cNvSpPr/>
          <p:nvPr/>
        </p:nvSpPr>
        <p:spPr>
          <a:xfrm>
            <a:off x="1143000" y="83808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идент компании получает зарплату 100 000 руб., четверо его заместителей получают по 20 000 руб., а 20 служащих компании – по 10 000 руб. Найдите все средние характеристики (среднее арифметическое, моду, медиану) зарплат в компании. Какую из этих характеристик выгоднее использовать президенту в рекламных целя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609480" y="457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ние для третьей груп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39560" y="2819520"/>
            <a:ext cx="8077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617400" y="6984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численность населения городов-миллионников в России, одним чис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6" descr=""/>
          <p:cNvPicPr/>
          <p:nvPr/>
        </p:nvPicPr>
        <p:blipFill>
          <a:blip r:embed="rId1"/>
          <a:stretch/>
        </p:blipFill>
        <p:spPr>
          <a:xfrm>
            <a:off x="1981080" y="1898640"/>
            <a:ext cx="5181840" cy="47084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7"/>
          <p:cNvSpPr/>
          <p:nvPr/>
        </p:nvSpPr>
        <p:spPr>
          <a:xfrm>
            <a:off x="53352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609480" y="457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ние для четвертой груп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439560" y="2819520"/>
            <a:ext cx="8077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592200" y="7081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школьной спартакиаде проводится несколько квалификационных забегов на 100 метров, по результатам которых в финал выходит ровно половина от числа всех участников. Какой результат позволит пройти в фина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6" descr=""/>
          <p:cNvPicPr/>
          <p:nvPr/>
        </p:nvPicPr>
        <p:blipFill>
          <a:blip r:embed="rId1"/>
          <a:stretch/>
        </p:blipFill>
        <p:spPr>
          <a:xfrm>
            <a:off x="4529160" y="2347920"/>
            <a:ext cx="2398680" cy="43578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7"/>
          <p:cNvSpPr/>
          <p:nvPr/>
        </p:nvSpPr>
        <p:spPr>
          <a:xfrm>
            <a:off x="53352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6" descr=""/>
          <p:cNvPicPr/>
          <p:nvPr/>
        </p:nvPicPr>
        <p:blipFill>
          <a:blip r:embed="rId1"/>
          <a:srcRect l="0" t="76632" r="0" b="-39950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7"/>
          <p:cNvSpPr/>
          <p:nvPr/>
        </p:nvSpPr>
        <p:spPr>
          <a:xfrm>
            <a:off x="228600" y="47242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Определите по графику медиану ряда цен на одну акци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80880" y="48769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0, 500, 750, 750, 750, 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152280" y="3809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ах цены одной акци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0 – 250 = 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28600" y="43434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а цены одной акци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69720" y="5402160"/>
            <a:ext cx="87631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диана ряда цен на одну акци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 750+ 750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2 = 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2"/>
          <p:cNvSpPr/>
          <p:nvPr/>
        </p:nvSpPr>
        <p:spPr>
          <a:xfrm>
            <a:off x="2946240" y="1549440"/>
            <a:ext cx="1288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3"/>
          <p:cNvSpPr/>
          <p:nvPr/>
        </p:nvSpPr>
        <p:spPr>
          <a:xfrm>
            <a:off x="3200400" y="1346040"/>
            <a:ext cx="128520" cy="141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3517920" y="1778040"/>
            <a:ext cx="1285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5"/>
          <p:cNvSpPr/>
          <p:nvPr/>
        </p:nvSpPr>
        <p:spPr>
          <a:xfrm>
            <a:off x="3784680" y="1130400"/>
            <a:ext cx="1285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6"/>
          <p:cNvSpPr/>
          <p:nvPr/>
        </p:nvSpPr>
        <p:spPr>
          <a:xfrm>
            <a:off x="4089240" y="1384200"/>
            <a:ext cx="128880" cy="141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7"/>
          <p:cNvSpPr/>
          <p:nvPr/>
        </p:nvSpPr>
        <p:spPr>
          <a:xfrm>
            <a:off x="4432320" y="1371600"/>
            <a:ext cx="1285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8"/>
          <p:cNvSpPr/>
          <p:nvPr/>
        </p:nvSpPr>
        <p:spPr>
          <a:xfrm>
            <a:off x="533520" y="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лец одного частного предприятия уволил большую часть своих рабочих, а оставшимся снизил заработную плату на 20%. После этого он заявил, что средний заработок его рабочих повысился. Так ли э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52280" y="2133720"/>
          <a:ext cx="8458200" cy="2103480"/>
        </p:xfrm>
        <a:graphic>
          <a:graphicData uri="http://schemas.openxmlformats.org/drawingml/2006/table">
            <a:tbl>
              <a:tblPr/>
              <a:tblGrid>
                <a:gridCol w="1760760"/>
                <a:gridCol w="1643040"/>
                <a:gridCol w="1473120"/>
                <a:gridCol w="1792440"/>
                <a:gridCol w="1788840"/>
              </a:tblGrid>
              <a:tr h="8233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Cyr"/>
                        </a:rPr>
                        <a:t>Заработок до уволь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Заработок после уволь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Cyr"/>
                        </a:rPr>
                        <a:t>10 000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Cyr"/>
                        </a:rPr>
                        <a:t>4 000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8 000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3 200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исло р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оч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Cyr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Cyr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04920" y="4495680"/>
          <a:ext cx="8381880" cy="213372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о уволь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осле уволь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Text Box 172"/>
          <p:cNvSpPr/>
          <p:nvPr/>
        </p:nvSpPr>
        <p:spPr>
          <a:xfrm>
            <a:off x="0" y="9144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3"/>
          <p:cNvSpPr/>
          <p:nvPr/>
        </p:nvSpPr>
        <p:spPr>
          <a:xfrm>
            <a:off x="457200" y="5181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ода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4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74"/>
          <p:cNvSpPr/>
          <p:nvPr/>
        </p:nvSpPr>
        <p:spPr>
          <a:xfrm>
            <a:off x="4800600" y="5181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ода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75"/>
          <p:cNvSpPr/>
          <p:nvPr/>
        </p:nvSpPr>
        <p:spPr>
          <a:xfrm>
            <a:off x="304920" y="5562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едиана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4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76"/>
          <p:cNvSpPr/>
          <p:nvPr/>
        </p:nvSpPr>
        <p:spPr>
          <a:xfrm>
            <a:off x="4724280" y="55627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едиана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8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77"/>
          <p:cNvSpPr/>
          <p:nvPr/>
        </p:nvSpPr>
        <p:spPr>
          <a:xfrm>
            <a:off x="304920" y="58672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реднее арифметическое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5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8"/>
          <p:cNvSpPr/>
          <p:nvPr/>
        </p:nvSpPr>
        <p:spPr>
          <a:xfrm>
            <a:off x="4495680" y="586728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реднее арифметическое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6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4"/>
          <p:cNvSpPr txBox="1"/>
          <p:nvPr/>
        </p:nvSpPr>
        <p:spPr>
          <a:xfrm>
            <a:off x="914400" y="304920"/>
            <a:ext cx="7010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8" name="Picture 6" descr="Картинка 10 из 156503"/>
          <p:cNvPicPr/>
          <p:nvPr/>
        </p:nvPicPr>
        <p:blipFill>
          <a:blip r:embed="rId1"/>
          <a:stretch/>
        </p:blipFill>
        <p:spPr>
          <a:xfrm>
            <a:off x="5029200" y="28954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80880" y="3409920"/>
          <a:ext cx="8143920" cy="1403280"/>
        </p:xfrm>
        <a:graphic>
          <a:graphicData uri="http://schemas.openxmlformats.org/drawingml/2006/table">
            <a:tbl>
              <a:tblPr/>
              <a:tblGrid>
                <a:gridCol w="1017720"/>
                <a:gridCol w="1019160"/>
                <a:gridCol w="1017720"/>
                <a:gridCol w="1017360"/>
                <a:gridCol w="1017720"/>
                <a:gridCol w="1019160"/>
                <a:gridCol w="1017720"/>
                <a:gridCol w="101736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74"/>
          <p:cNvSpPr/>
          <p:nvPr/>
        </p:nvSpPr>
        <p:spPr>
          <a:xfrm>
            <a:off x="762120" y="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80880" y="4991040"/>
          <a:ext cx="8143920" cy="1447920"/>
        </p:xfrm>
        <a:graphic>
          <a:graphicData uri="http://schemas.openxmlformats.org/drawingml/2006/table">
            <a:tbl>
              <a:tblPr/>
              <a:tblGrid>
                <a:gridCol w="905040"/>
                <a:gridCol w="904680"/>
                <a:gridCol w="905040"/>
                <a:gridCol w="905040"/>
                <a:gridCol w="904680"/>
                <a:gridCol w="905040"/>
                <a:gridCol w="904680"/>
                <a:gridCol w="905040"/>
                <a:gridCol w="90468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Box 6"/>
          <p:cNvSpPr/>
          <p:nvPr/>
        </p:nvSpPr>
        <p:spPr>
          <a:xfrm>
            <a:off x="990720" y="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чер тихий и морозный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снега нет и нет..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окном включили звёзды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оме выключили све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-за леса туча вышл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 притих и замолчал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чью кто-то еле слышн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кна лапками стучал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од утро в серебристой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оснежной тишин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-то чистый и пушисты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ём лежал ок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990720" y="685800"/>
            <a:ext cx="75438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атистическ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арактеристики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и практических зада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AutoShape 5">
            <a:hlinkClick r:id="" action="ppaction://hlinkshowjump?jump=nextslide"/>
          </p:cNvPr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23968" y="10800"/>
                </a:lnTo>
                <a:lnTo>
                  <a:pt x="9955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04560" y="380520"/>
            <a:ext cx="88390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реднее арифметическое числовог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частное от деления суммы чисел на их количе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ода числовог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число, которое встречается в ряду чаще все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Размах числовог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азность между наибольшим и наименьшим из чисе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диана упорядоченного числовог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число, записанное посередине, если число членов ряда нечётно или среднее арифметическое двух чисел,  записанных посередине, если число членов ряда чётн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609480" y="457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76320" y="0"/>
            <a:ext cx="90676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орядоченный ряд чисе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31920" y="16588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ма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80880" y="2325600"/>
            <a:ext cx="8077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еднее арифметическо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457200" y="45720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80880" y="5486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диа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2819520" y="1770120"/>
            <a:ext cx="4190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406440" y="3038400"/>
            <a:ext cx="79246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+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2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·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13+16+1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17,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2427120" y="45594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3213000" y="5506920"/>
            <a:ext cx="99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74"/>
          <p:cNvSpPr/>
          <p:nvPr/>
        </p:nvSpPr>
        <p:spPr>
          <a:xfrm>
            <a:off x="762120" y="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828800" y="44197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АЛЛИТЕР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8"/>
          <p:cNvSpPr/>
          <p:nvPr/>
        </p:nvSpPr>
        <p:spPr>
          <a:xfrm>
            <a:off x="609480" y="5335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чер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ий и морозный.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ко снега н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окном вк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чи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звёзды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оме вык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чи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в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-за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 вышл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 при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и замо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л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чью к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е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 с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шн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кна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ками с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л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од у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 в серебрис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й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ежной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шин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чистый и пушис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ём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жал ок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52280" y="457200"/>
            <a:ext cx="807732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  получил в течение четверти по математике оцен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, 4, 3, 3,  4,  5,  4, 5, 5, 5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ую четвертную оценку он получит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33520" y="3505320"/>
            <a:ext cx="792468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нее арифметическое числового ряд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+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+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10=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,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685800" y="510552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Четвертная оценка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304920" y="304920"/>
            <a:ext cx="868680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  получил в течение четверти по математике оцен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, 4, 5, 4, 4, 4, 5, 5, 4, 4, 4, 5, 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ую четвертную оценку он получит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33520" y="35053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а числового ряд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85800" y="510552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Четвертная оценка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Картинка 2 из 1605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895480"/>
            <a:ext cx="2388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380880" y="304920"/>
            <a:ext cx="87631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лужбы на подводной лодке отбирают призывников с рост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более 165 с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Есть 4 группы призывников, про которые известно следующе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вой групп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рост равен 162 с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торой групп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имальный рост равен 169 с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етьей групп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мальный рост равен 158 с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твёртой групп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ана ряда роста равна 163 с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й из групп половина призывников заведомо годна к службе на подводной лод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День моряка-подводника открыт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4724280"/>
            <a:ext cx="2171880" cy="1551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1447920" y="4648320"/>
            <a:ext cx="1901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8:38:32Z</dcterms:created>
  <dc:creator>Natalja</dc:creator>
  <dc:description/>
  <dc:language>en-US</dc:language>
  <cp:lastModifiedBy>Сомова</cp:lastModifiedBy>
  <dcterms:modified xsi:type="dcterms:W3CDTF">2023-11-30T03:02:44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