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7B45-7D8A-42B4-8544-38FE79A12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7BB-C211-4A4B-93F9-0B06E0DB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E26-2C1B-45EF-9692-82DD2E76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41F5-102C-4513-8C93-1F596BF10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9571-CDD3-4B28-927F-26B0655E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C8DF-0A8C-42BE-BBB8-A8818AB3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BBAD-050B-42F6-94CA-894C05BD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49BE-D130-450D-A237-5F2542F9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E4145-C637-49FB-A202-91012B30E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B798-7408-4A24-874A-FF8EF7FE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3AC6-5841-431D-9275-30B13A06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93BE-F33F-4559-BD2B-E374E687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3001-8763-4D56-8D5D-E8F9888C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7F72-CDEB-4D9C-B25C-6C1664AE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AA38-6E7C-4EBE-ADB1-C851EDAD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3739-022B-4881-A0F0-26B16302D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A711-7ECF-4982-8618-B697C832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1DB72-2A28-47DE-9808-5333D339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F8EF6-78C8-4C9E-A537-E4F169B3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58921-4E43-4C09-8963-4603C1E2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AA89F-964A-44A8-80DF-CF6203F9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C72AE-7D3B-4110-9308-926E1A38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D3E2-5EE6-4BB5-A8A7-CFEC82DB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4F734-F0FC-4B03-9C14-C9F1EA3D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43FE6-67C9-4579-9B4C-72CC48C6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DC9B1-DD37-4480-BDFF-E57A2D75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CEF0F-1C09-44A4-8BEA-FE42930E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90483-B32B-44F9-BB8C-D958AA7A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1A4B7-51A7-45AF-9424-143D65481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5DDEC-96B5-4778-A7FA-981F5A229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F594-F865-4AC3-8F6B-93B9A839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722D-0E96-4472-9636-77A126A9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2CB4-492D-4866-A8FF-3E3E243C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EF15-36D7-476D-BEB7-B10F7E9A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E515-CC7C-4869-B9D0-3598892A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4959-654B-4561-8BC5-E0D120B5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9FDC-4991-46F4-967D-E925DDF25BE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1F74-E50B-4519-ACF9-E38832EF91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89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74B1-C7A4-4BF2-96E8-FF95F1BC2F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hkolanakuhne.ru/wp-content/uploads/2011/05/1289330462_051109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unhome.ru/cards/115410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7">
            <a:hlinkClick r:id="" action="ppaction://hlinkshowjump?jump=nextslide"/>
          </p:cNvPr>
          <p:cNvSpPr/>
          <p:nvPr/>
        </p:nvSpPr>
        <p:spPr>
          <a:xfrm>
            <a:off x="4724280" y="61722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9906120" y="3022560"/>
            <a:ext cx="461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4" descr="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219320" y="1219320"/>
            <a:ext cx="723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6767ff"/>
                </a:solidFill>
                <a:uFillTx/>
                <a:latin typeface="Arial"/>
                <a:hlinkClick r:id="rId1" action="ppaction://hlinksldjump"/>
              </a:rPr>
              <a:t>Первая групп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Вторая групп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6767ff"/>
                </a:solidFill>
                <a:uFillTx/>
                <a:latin typeface="Arial"/>
                <a:hlinkClick r:id="rId3" action="ppaction://hlinksldjump"/>
              </a:rPr>
              <a:t>Третья груп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6767ff"/>
                </a:solidFill>
                <a:uFillTx/>
                <a:latin typeface="Arial"/>
                <a:hlinkClick r:id="rId4" action="ppaction://hlinksldjump"/>
              </a:rPr>
              <a:t>Четвертая групп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6553080" y="57150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4"/>
          <p:cNvSpPr/>
          <p:nvPr/>
        </p:nvSpPr>
        <p:spPr>
          <a:xfrm>
            <a:off x="609480" y="457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ние для первой груп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39560" y="2819520"/>
            <a:ext cx="8077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370160"/>
          <a:ext cx="8229600" cy="2725560"/>
        </p:xfrm>
        <a:graphic>
          <a:graphicData uri="http://schemas.openxmlformats.org/drawingml/2006/table">
            <a:tbl>
              <a:tblPr/>
              <a:tblGrid>
                <a:gridCol w="549360"/>
                <a:gridCol w="547560"/>
                <a:gridCol w="549360"/>
                <a:gridCol w="547560"/>
                <a:gridCol w="549360"/>
                <a:gridCol w="549360"/>
                <a:gridCol w="547560"/>
                <a:gridCol w="549360"/>
                <a:gridCol w="547560"/>
                <a:gridCol w="549360"/>
                <a:gridCol w="549360"/>
                <a:gridCol w="547560"/>
                <a:gridCol w="549360"/>
                <a:gridCol w="547560"/>
                <a:gridCol w="549360"/>
              </a:tblGrid>
              <a:tr h="1654920">
                <a:tc gridSpan="9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аблице приведено число пользователей  Интернета в 10 крупнейших по площади странах мира. Какое из найденных  значений лучше характеризует численность пользователей Интернета в этих странах? Кратко обоснуйте свое мне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3320">
                <a:tc gridSpan="6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3320">
                <a:tc gridSpan="15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3320">
                <a:tc gridSpan="5"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12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6" name="Рисунок 13" descr=""/>
          <p:cNvPicPr/>
          <p:nvPr/>
        </p:nvPicPr>
        <p:blipFill>
          <a:blip r:embed="rId1"/>
          <a:stretch/>
        </p:blipFill>
        <p:spPr>
          <a:xfrm>
            <a:off x="5479920" y="1596960"/>
            <a:ext cx="3224520" cy="44942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7"/>
          <p:cNvSpPr/>
          <p:nvPr/>
        </p:nvSpPr>
        <p:spPr>
          <a:xfrm>
            <a:off x="53352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767ff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609480" y="457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ние для второй груп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439560" y="2819520"/>
            <a:ext cx="8077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53352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7"/>
          <p:cNvSpPr/>
          <p:nvPr/>
        </p:nvSpPr>
        <p:spPr>
          <a:xfrm>
            <a:off x="1143000" y="83808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идент компании получает зарплату 100 000 руб., четверо его заместителей получают по 20 000 руб., а 20 служащих компании – по 10 000 руб. Найдите все средние характеристики (среднее арифметическое, моду, медиану) зарплат в компании. Какую из этих характеристик выгоднее использовать президенту в рекламных целя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4"/>
          <p:cNvSpPr/>
          <p:nvPr/>
        </p:nvSpPr>
        <p:spPr>
          <a:xfrm>
            <a:off x="609480" y="457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ние для третьей груп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39560" y="2819520"/>
            <a:ext cx="8077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2"/>
          <p:cNvSpPr/>
          <p:nvPr/>
        </p:nvSpPr>
        <p:spPr>
          <a:xfrm>
            <a:off x="617400" y="69840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ишите численность населения городов-миллионников в России, одним числ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Рисунок 6" descr=""/>
          <p:cNvPicPr/>
          <p:nvPr/>
        </p:nvPicPr>
        <p:blipFill>
          <a:blip r:embed="rId1"/>
          <a:stretch/>
        </p:blipFill>
        <p:spPr>
          <a:xfrm>
            <a:off x="1981080" y="1898640"/>
            <a:ext cx="5181840" cy="4708440"/>
          </a:xfrm>
          <a:prstGeom prst="rect">
            <a:avLst/>
          </a:prstGeom>
          <a:ln w="0">
            <a:noFill/>
          </a:ln>
        </p:spPr>
      </p:pic>
      <p:sp>
        <p:nvSpPr>
          <p:cNvPr id="188" name="TextBox 7"/>
          <p:cNvSpPr/>
          <p:nvPr/>
        </p:nvSpPr>
        <p:spPr>
          <a:xfrm>
            <a:off x="53352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609480" y="457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дание для четвертой групп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439560" y="2819520"/>
            <a:ext cx="8077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"/>
          <p:cNvSpPr/>
          <p:nvPr/>
        </p:nvSpPr>
        <p:spPr>
          <a:xfrm>
            <a:off x="592200" y="70812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школьной спартакиаде проводится несколько квалификационных забегов на 100 метров, по результатам которых в финал выходит ровно половина от числа всех участников. Какой результат позволит пройти в фина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6" descr=""/>
          <p:cNvPicPr/>
          <p:nvPr/>
        </p:nvPicPr>
        <p:blipFill>
          <a:blip r:embed="rId1"/>
          <a:stretch/>
        </p:blipFill>
        <p:spPr>
          <a:xfrm>
            <a:off x="4529160" y="2347920"/>
            <a:ext cx="2398680" cy="4357800"/>
          </a:xfrm>
          <a:prstGeom prst="rect">
            <a:avLst/>
          </a:prstGeom>
          <a:ln w="0">
            <a:noFill/>
          </a:ln>
        </p:spPr>
      </p:pic>
      <p:sp>
        <p:nvSpPr>
          <p:cNvPr id="194" name="TextBox 7"/>
          <p:cNvSpPr/>
          <p:nvPr/>
        </p:nvSpPr>
        <p:spPr>
          <a:xfrm>
            <a:off x="533520" y="60199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6" descr=""/>
          <p:cNvPicPr/>
          <p:nvPr/>
        </p:nvPicPr>
        <p:blipFill>
          <a:blip r:embed="rId1"/>
          <a:srcRect l="0" t="76632" r="0" b="-39950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7"/>
          <p:cNvSpPr/>
          <p:nvPr/>
        </p:nvSpPr>
        <p:spPr>
          <a:xfrm>
            <a:off x="228600" y="47242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Определите по графику медиану ряда цен на одну акци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380880" y="487692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50, 500, 750, 750, 750, 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152280" y="3809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ах цены одной акци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0 – 250 = 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28600" y="43434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а цены одной акци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369720" y="5402160"/>
            <a:ext cx="876312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диана ряда цен на одну акци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 750+ 750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2 = 7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2"/>
          <p:cNvSpPr/>
          <p:nvPr/>
        </p:nvSpPr>
        <p:spPr>
          <a:xfrm>
            <a:off x="2946240" y="1549440"/>
            <a:ext cx="12888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3"/>
          <p:cNvSpPr/>
          <p:nvPr/>
        </p:nvSpPr>
        <p:spPr>
          <a:xfrm>
            <a:off x="3200400" y="1346040"/>
            <a:ext cx="128520" cy="141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3517920" y="1778040"/>
            <a:ext cx="1285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5"/>
          <p:cNvSpPr/>
          <p:nvPr/>
        </p:nvSpPr>
        <p:spPr>
          <a:xfrm>
            <a:off x="3784680" y="1130400"/>
            <a:ext cx="1285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6"/>
          <p:cNvSpPr/>
          <p:nvPr/>
        </p:nvSpPr>
        <p:spPr>
          <a:xfrm>
            <a:off x="4089240" y="1384200"/>
            <a:ext cx="128880" cy="141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7"/>
          <p:cNvSpPr/>
          <p:nvPr/>
        </p:nvSpPr>
        <p:spPr>
          <a:xfrm>
            <a:off x="4432320" y="1371600"/>
            <a:ext cx="128520" cy="141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35" repeatCount="1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8"/>
          <p:cNvSpPr/>
          <p:nvPr/>
        </p:nvSpPr>
        <p:spPr>
          <a:xfrm>
            <a:off x="533520" y="0"/>
            <a:ext cx="830556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ладелец одного частного предприятия уволил большую часть своих рабочих, а оставшимся снизил заработную плату на 20%. После этого он заявил, что средний заработок его рабочих повысился. Так ли э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52280" y="2133720"/>
          <a:ext cx="8458200" cy="2103480"/>
        </p:xfrm>
        <a:graphic>
          <a:graphicData uri="http://schemas.openxmlformats.org/drawingml/2006/table">
            <a:tbl>
              <a:tblPr/>
              <a:tblGrid>
                <a:gridCol w="1760760"/>
                <a:gridCol w="1643040"/>
                <a:gridCol w="1473120"/>
                <a:gridCol w="1792440"/>
                <a:gridCol w="1788840"/>
              </a:tblGrid>
              <a:tr h="823320">
                <a:tc rowSpan="2"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Cyr"/>
                        </a:rPr>
                        <a:t>Заработок до уволь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Заработок после увольн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Cyr"/>
                        </a:rPr>
                        <a:t>10 000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Cyr"/>
                        </a:rPr>
                        <a:t>4 000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8 000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3 200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Число ра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боч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Cyr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cc"/>
                          </a:solidFill>
                          <a:latin typeface="Arial Cyr"/>
                        </a:rPr>
                        <a:t>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3300"/>
                          </a:solidFill>
                          <a:latin typeface="Arial Cyr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04920" y="4495680"/>
          <a:ext cx="8381880" cy="213372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о уволь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После уволь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Text Box 172"/>
          <p:cNvSpPr/>
          <p:nvPr/>
        </p:nvSpPr>
        <p:spPr>
          <a:xfrm>
            <a:off x="0" y="9144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3"/>
          <p:cNvSpPr/>
          <p:nvPr/>
        </p:nvSpPr>
        <p:spPr>
          <a:xfrm>
            <a:off x="457200" y="5181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ода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4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74"/>
          <p:cNvSpPr/>
          <p:nvPr/>
        </p:nvSpPr>
        <p:spPr>
          <a:xfrm>
            <a:off x="4800600" y="5181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ода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75"/>
          <p:cNvSpPr/>
          <p:nvPr/>
        </p:nvSpPr>
        <p:spPr>
          <a:xfrm>
            <a:off x="304920" y="5562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Медиана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 4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76"/>
          <p:cNvSpPr/>
          <p:nvPr/>
        </p:nvSpPr>
        <p:spPr>
          <a:xfrm>
            <a:off x="4724280" y="556272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едиана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8 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77"/>
          <p:cNvSpPr/>
          <p:nvPr/>
        </p:nvSpPr>
        <p:spPr>
          <a:xfrm>
            <a:off x="304920" y="58672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Среднее арифметическое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cc"/>
                </a:solidFill>
                <a:latin typeface="Arial"/>
              </a:rPr>
              <a:t>5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8"/>
          <p:cNvSpPr/>
          <p:nvPr/>
        </p:nvSpPr>
        <p:spPr>
          <a:xfrm>
            <a:off x="4495680" y="586728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реднее арифметическое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6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4"/>
          <p:cNvSpPr txBox="1"/>
          <p:nvPr/>
        </p:nvSpPr>
        <p:spPr>
          <a:xfrm>
            <a:off x="914400" y="304920"/>
            <a:ext cx="70102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8" name="Picture 6" descr="Картинка 10 из 156503"/>
          <p:cNvPicPr/>
          <p:nvPr/>
        </p:nvPicPr>
        <p:blipFill>
          <a:blip r:embed="rId1"/>
          <a:stretch/>
        </p:blipFill>
        <p:spPr>
          <a:xfrm>
            <a:off x="5029200" y="2895480"/>
            <a:ext cx="38098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380880" y="3409920"/>
          <a:ext cx="8143920" cy="1403280"/>
        </p:xfrm>
        <a:graphic>
          <a:graphicData uri="http://schemas.openxmlformats.org/drawingml/2006/table">
            <a:tbl>
              <a:tblPr/>
              <a:tblGrid>
                <a:gridCol w="1017720"/>
                <a:gridCol w="1019160"/>
                <a:gridCol w="1017720"/>
                <a:gridCol w="1017360"/>
                <a:gridCol w="1017720"/>
                <a:gridCol w="1019160"/>
                <a:gridCol w="1017720"/>
                <a:gridCol w="101736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74"/>
          <p:cNvSpPr/>
          <p:nvPr/>
        </p:nvSpPr>
        <p:spPr>
          <a:xfrm>
            <a:off x="762120" y="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80880" y="4991040"/>
          <a:ext cx="8143920" cy="1447920"/>
        </p:xfrm>
        <a:graphic>
          <a:graphicData uri="http://schemas.openxmlformats.org/drawingml/2006/table">
            <a:tbl>
              <a:tblPr/>
              <a:tblGrid>
                <a:gridCol w="905040"/>
                <a:gridCol w="904680"/>
                <a:gridCol w="905040"/>
                <a:gridCol w="905040"/>
                <a:gridCol w="904680"/>
                <a:gridCol w="905040"/>
                <a:gridCol w="904680"/>
                <a:gridCol w="905040"/>
                <a:gridCol w="90468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Box 6"/>
          <p:cNvSpPr/>
          <p:nvPr/>
        </p:nvSpPr>
        <p:spPr>
          <a:xfrm>
            <a:off x="990720" y="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чер тихий и морозный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снега нет и нет..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окном включили звёзды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оме выключили све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-за леса туча вышл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 притих и замолчал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чью кто-то еле слышн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кна лапками стучал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од утро в серебристой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лоснежной тишин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то-то чистый и пушисты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ём лежал ок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2"/>
          <p:cNvSpPr txBox="1"/>
          <p:nvPr/>
        </p:nvSpPr>
        <p:spPr>
          <a:xfrm>
            <a:off x="990720" y="685800"/>
            <a:ext cx="754380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татистическ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характеристики при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и практических зада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4" name="AutoShape 5">
            <a:hlinkClick r:id="" action="ppaction://hlinkshowjump?jump=nextslide"/>
          </p:cNvPr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23968" y="10800"/>
                </a:lnTo>
                <a:lnTo>
                  <a:pt x="9955" y="17806"/>
                </a:lnTo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04560" y="380520"/>
            <a:ext cx="8839080" cy="61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Среднее арифметическое числовог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частное от деления суммы чисел на их количе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ода числовог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число, которое встречается в ряду чаще все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Размах числовог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азность между наибольшим и наименьшим из чисе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Медиана упорядоченного числовог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число, записанное посередине, если число членов ряда нечётно или среднее арифметическое двух чисел,  записанных посередине, если число членов ряда чётн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609480" y="45720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76320" y="0"/>
            <a:ext cx="906768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порядоченный ряд чисе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31920" y="16588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мах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80880" y="2325600"/>
            <a:ext cx="80773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еднее арифметическо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457200" y="457200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о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80880" y="5486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диан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2819520" y="1770120"/>
            <a:ext cx="41907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406440" y="3038400"/>
            <a:ext cx="792468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0+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2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·2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+13+16+1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=17,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2427120" y="45594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3213000" y="5506920"/>
            <a:ext cx="990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74"/>
          <p:cNvSpPr/>
          <p:nvPr/>
        </p:nvSpPr>
        <p:spPr>
          <a:xfrm>
            <a:off x="762120" y="0"/>
            <a:ext cx="69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1828800" y="44197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АЛЛИТЕР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8"/>
          <p:cNvSpPr/>
          <p:nvPr/>
        </p:nvSpPr>
        <p:spPr>
          <a:xfrm>
            <a:off x="609480" y="53352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чер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ий и морозный. </a:t>
            </a:r>
            <a:br>
              <a:rPr sz="1800"/>
            </a:b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ько снега н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.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окном вк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чи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звёзды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оме вык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чи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ве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-за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а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 вышл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м при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х и замо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л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чью к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е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 с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шно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кна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ками с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л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од у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 в серебрис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й,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бе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ежной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шин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-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 чистый и пушис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ы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моём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жал ок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6477120" y="15228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152280" y="457200"/>
            <a:ext cx="807732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  получил в течение четверти по математике оцен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, 4, 3, 3,  4,  5,  4, 5, 5, 5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ую четвертную оценку он получит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533520" y="3505320"/>
            <a:ext cx="7924680" cy="15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нее арифметическое числового ряд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+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+3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10=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,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685800" y="510552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Четвертная оценка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"/>
          <p:cNvSpPr/>
          <p:nvPr/>
        </p:nvSpPr>
        <p:spPr>
          <a:xfrm>
            <a:off x="304920" y="304920"/>
            <a:ext cx="8686800" cy="24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еник  получил в течение четверти по математике оцен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5, 4, 5, 4, 4, 4, 5, 5, 4, 4, 4, 5, 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ую четвертную оценку он получит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33520" y="35053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а числового ряд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85800" y="5105520"/>
            <a:ext cx="563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Четвертная оценка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Картинка 2 из 1605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77120" y="2895480"/>
            <a:ext cx="2388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380880" y="304920"/>
            <a:ext cx="87631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лужбы на подводной лодке отбирают призывников с росто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более 165 с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Есть 4 группы призывников, про которые известно следующе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вой групп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рост равен 162 с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торой групп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ксимальный рост равен 169 с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ретьей групп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нимальный рост равен 158 с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четвёртой групп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ана ряда роста равна 163 с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акой из групп половина призывников заведомо годна к службе на подводной лод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День моряка-подводника открытк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4724280"/>
            <a:ext cx="2171880" cy="15512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"/>
          <p:cNvPicPr/>
          <p:nvPr/>
        </p:nvPicPr>
        <p:blipFill>
          <a:blip r:embed="rId3"/>
          <a:stretch/>
        </p:blipFill>
        <p:spPr>
          <a:xfrm>
            <a:off x="1447920" y="4648320"/>
            <a:ext cx="19018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6T18:38:32Z</dcterms:created>
  <dc:creator>Natalja</dc:creator>
  <dc:description/>
  <dc:language>en-US</dc:language>
  <cp:lastModifiedBy>Сомова</cp:lastModifiedBy>
  <dcterms:modified xsi:type="dcterms:W3CDTF">2023-11-30T03:02:44Z</dcterms:modified>
  <cp:revision>5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