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2E95-9F31-47A8-A23A-1F2591304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5E6B-413C-4AD2-AB88-916A2ADB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34A3-1F5A-425D-85A4-70BB631E9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1534-F183-4C8E-B32E-DBF79D1B6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F190-AE99-4C85-98A4-5AE21BCC0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D657-9A87-4816-A335-2626C980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F194-955A-42B3-8FBC-D9938115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FA96-A25E-49BF-8054-F2C64216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8E55-7BF4-4B77-B2E3-77E16366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5513-B2CE-41EB-8422-1607A8CD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BF6A-19C1-4EC1-B7AE-4192F35B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296D-26F8-4A46-A9BF-0CE00332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0FE0-AED7-4887-B427-F12E5B94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E7D1-4E75-43AB-8522-58F59681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110B-28D5-4469-80E0-9214E8DFC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3FE3-EE6A-4968-B7A7-50EDA3213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0B13-7525-4045-A5E3-DC537625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2D444-4CEC-444A-AE18-779A56CE2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84AFF-A815-4709-B48B-DF43865B3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1007E-7A82-40BE-A49B-B0FB7FE8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D67E9-2B21-4D87-98CC-2783C0A6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26B1A-942B-4D45-882E-FB1253F6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A428-2A5F-4E9E-A851-A8D5BA64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39A66-58EC-46EA-A34F-48A7BA99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E1E15-DA10-42B8-906D-DA8CCE36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CB40A-FB7D-43B8-A433-CC6B7743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F1FB5-67BD-4B90-8EAC-B7E973D3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30BAD-E993-42E7-9BA8-FAE644D0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83B24-E993-4544-9C90-1E29E90A6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ECDC4-1457-4C99-A025-D553D39AE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7A8A-BF59-4C72-B0E1-B04F66E5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D7CE-DF5F-4EC1-BA66-E6E7C2C6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53FF-F753-4E88-B7FE-DFB5B8E8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0FFC-C1CF-415B-A2CA-6650EC72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6316-9703-49AF-9951-F0524827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7368-BAA4-433E-962E-236D4367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10A7-2DC7-4B9E-BF3A-63F7BB4E963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A26D-1BDD-4461-817B-E7C903489F8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81C5D-5F8F-4F8B-B666-AE4F160D33C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8forward.ucoz.ru/_ph/1/2/255700270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5/smartcat.1/0_328e_7b9b32fd_XL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5/rag1975.0/0_34fd_d92ab78a_XL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360" y="2565360"/>
            <a:ext cx="831996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0" y="141300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444255"/>
                </a:solidFill>
                <a:latin typeface="Calibri"/>
              </a:rPr>
              <a:t>Внеурочная </a:t>
            </a:r>
            <a:br>
              <a:rPr sz="5000"/>
            </a:br>
            <a:r>
              <a:rPr b="1" lang="ru-RU" sz="5000" spc="-1" strike="noStrike">
                <a:solidFill>
                  <a:srgbClr val="444255"/>
                </a:solidFill>
                <a:latin typeface="Calibri"/>
              </a:rPr>
              <a:t>деятельность школьников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89596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alibri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Организация внеурочной деятельност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79520" y="1916280"/>
          <a:ext cx="7843680" cy="4533840"/>
        </p:xfrm>
        <a:graphic>
          <a:graphicData uri="http://schemas.openxmlformats.org/drawingml/2006/table">
            <a:tbl>
              <a:tblPr/>
              <a:tblGrid>
                <a:gridCol w="879480"/>
                <a:gridCol w="5506920"/>
                <a:gridCol w="1457280"/>
              </a:tblGrid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запросов родителей</a:t>
                      </a: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о выбору направлений внеурочной деятельности: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дительское собрание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Особенности обучения и воспитания школьников по ФГОС»;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кетирование родителе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</a:t>
                      </a: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адровых </a:t>
                      </a: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сурсов</a:t>
                      </a: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и материально-технической базы для реализации внеурочной деятельности по запросам родителей.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Организация внеурочной деятельност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838080" y="2197080"/>
          <a:ext cx="7385040" cy="3870360"/>
        </p:xfrm>
        <a:graphic>
          <a:graphicData uri="http://schemas.openxmlformats.org/drawingml/2006/table">
            <a:tbl>
              <a:tblPr/>
              <a:tblGrid>
                <a:gridCol w="828720"/>
                <a:gridCol w="5272200"/>
                <a:gridCol w="1284120"/>
              </a:tblGrid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бор кадров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реализующих внеурочную деятельность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ширенные заседания предметных кафедр (с приглашением руководителей кружков) «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ка программ внеурочной деятельност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Организация внеурочной деятельност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01680" y="1844640"/>
          <a:ext cx="8157960" cy="4732200"/>
        </p:xfrm>
        <a:graphic>
          <a:graphicData uri="http://schemas.openxmlformats.org/drawingml/2006/table">
            <a:tbl>
              <a:tblPr/>
              <a:tblGrid>
                <a:gridCol w="814320"/>
                <a:gridCol w="5904000"/>
                <a:gridCol w="1439640"/>
              </a:tblGrid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работ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авление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ели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ганизации внеурочной деятельности, индивидуальных учебных планов, расписания кружков.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т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ждение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рабочих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рамм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неурочной деятельности.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здание санитарно-бытовых, материально-технических условий для организации внеурочной деятельности.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следование мнения родителей,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бучающихся и руководителей кружков по вопросам организации внеурочной деятельности: анкетирование, опрос, наблюдение, посещение занятий.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ru-RU" sz="3900" spc="-1" strike="noStrike">
                <a:solidFill>
                  <a:srgbClr val="444255"/>
                </a:solidFill>
                <a:latin typeface="Calibri"/>
              </a:rPr>
              <a:t>Программа внеурочной деятельности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79280" y="1915920"/>
            <a:ext cx="850752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лжна обеспечивать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стижение планируемых результат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своения ООП НО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c0504d"/>
                </a:solidFill>
                <a:latin typeface="Calibri"/>
              </a:rPr>
              <a:t>Исходя из региональных особенностей образовательных учреждений Республики Башкортостан, инновационным компонентом образовательной программы образовательного учреждения должна стать программа внеурочной деятельности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35640"/>
            <a:ext cx="77724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Врем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отводимое на внеурочную деятельность, должно составлять до 10 часов в неделю, до 1350 часов на все 4 года обуче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Наполняемость групп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зависит от формы организации и состава участников внеурочной деятельн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444255"/>
                </a:solidFill>
                <a:latin typeface="Calibri"/>
              </a:rPr>
              <a:t>Структура программы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1320" y="1773360"/>
            <a:ext cx="85345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. Пояснительная запис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ней должны быть отражены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цели и задач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заимодействия педагогов и учащихся,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писание основных подходо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(системно-деятельностного) обеспечивающих взаимосвязь содержания урочной и внеурочной деятельности учащих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Общая характеристика программы по внеурочной деятельно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444255"/>
                </a:solidFill>
                <a:latin typeface="Calibri"/>
              </a:rPr>
              <a:t>Структура программы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 Описание места программы и ценностных ориентиров содержания программы по внеурочной деятельности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. Результат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своения программы по внеурочной деятельности учащихся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тапредмет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ичностные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оказатели уровней и степени владения ими, их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заимосвязь с другими результатам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своения ООП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444255"/>
                </a:solidFill>
                <a:latin typeface="Calibri"/>
              </a:rPr>
              <a:t>Структура программы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14400" y="2060640"/>
            <a:ext cx="77724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. Содержание программ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о внеурочной деятельност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6. Тематическое планирова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 определением основных видов деятельности обучающихся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исани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териально-технического обеспеч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неурочной деятель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444255"/>
                </a:solidFill>
                <a:latin typeface="Calibri"/>
              </a:rPr>
              <a:t>Внеурочная деятельность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24000" y="2421000"/>
          <a:ext cx="8640720" cy="4103640"/>
        </p:xfrm>
        <a:graphic>
          <a:graphicData uri="http://schemas.openxmlformats.org/drawingml/2006/table">
            <a:tbl>
              <a:tblPr/>
              <a:tblGrid>
                <a:gridCol w="1079280"/>
                <a:gridCol w="1728720"/>
                <a:gridCol w="1800360"/>
                <a:gridCol w="1295280"/>
                <a:gridCol w="1440000"/>
                <a:gridCol w="129708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урочное занятие (тема, названи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ы организации внеуроч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-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ятель-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щих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-руемые ум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444255"/>
                </a:solidFill>
                <a:latin typeface="Calibri"/>
              </a:rPr>
              <a:t>Программа внеурочной деятельности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1320" y="1915920"/>
            <a:ext cx="85345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стоятельно разрабатывается и утверждается образовательным учреждение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рианты проведения внеурочной деятельности могут быть самые разнообразные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омплексны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 направлени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 форма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т.д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16" descr="P:\Планы и отчеты ЦИПР\ПРЕЗЕНТАЦИИ ДЛЯ ВСЕХ 2010!!!\Обложки для презентации Центр Стандарты\работаем по новым стандартам\38.jpg"/>
          <p:cNvPicPr/>
          <p:nvPr/>
        </p:nvPicPr>
        <p:blipFill>
          <a:blip r:embed="rId1"/>
          <a:stretch/>
        </p:blipFill>
        <p:spPr>
          <a:xfrm>
            <a:off x="4284720" y="1413000"/>
            <a:ext cx="1438200" cy="216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29" name="Picture 18" descr="P:\Планы и отчеты ЦИПР\ПРЕЗЕНТАЦИИ ДЛЯ ВСЕХ 2010!!!\Обложки для презентации Центр Стандарты\Работаем 2\футбол.jpg"/>
          <p:cNvPicPr/>
          <p:nvPr/>
        </p:nvPicPr>
        <p:blipFill>
          <a:blip r:embed="rId2"/>
          <a:stretch/>
        </p:blipFill>
        <p:spPr>
          <a:xfrm>
            <a:off x="324000" y="1844640"/>
            <a:ext cx="1439640" cy="21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0" name="Picture 19" descr="P:\Планы и отчеты ЦИПР\ПРЕЗЕНТАЦИИ ДЛЯ ВСЕХ 2010!!!\Обложки для презентации Центр Стандарты\Работаем 2\волейбол.jpg"/>
          <p:cNvPicPr/>
          <p:nvPr/>
        </p:nvPicPr>
        <p:blipFill>
          <a:blip r:embed="rId3"/>
          <a:stretch/>
        </p:blipFill>
        <p:spPr>
          <a:xfrm>
            <a:off x="1763640" y="1557360"/>
            <a:ext cx="1440000" cy="21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1" name="Picture 20" descr="P:\Планы и отчеты ЦИПР\ПРЕЗЕНТАЦИИ ДЛЯ ВСЕХ 2010!!!\Обложки для презентации Центр Стандарты\Работаем 2\игра и досуг.jpg"/>
          <p:cNvPicPr/>
          <p:nvPr/>
        </p:nvPicPr>
        <p:blipFill>
          <a:blip r:embed="rId4"/>
          <a:stretch/>
        </p:blipFill>
        <p:spPr>
          <a:xfrm>
            <a:off x="5796000" y="1413000"/>
            <a:ext cx="1441440" cy="215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2" name="Picture 15" descr="P:\Планы и отчеты ЦИПР\ПРЕЗЕНТАЦИИ ДЛЯ ВСЕХ 2010!!!\Обложки для презентации Центр Стандарты\работаем по новым стандартам\37.jpg"/>
          <p:cNvPicPr/>
          <p:nvPr/>
        </p:nvPicPr>
        <p:blipFill>
          <a:blip r:embed="rId5"/>
          <a:stretch/>
        </p:blipFill>
        <p:spPr>
          <a:xfrm>
            <a:off x="7308720" y="2349360"/>
            <a:ext cx="1440000" cy="215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3" name="Рисунок 1" descr="C:\Documents and Settings\IAntonova\Рабочий стол\Обложки Стандарты\federal_gos_obraz_stand.jpg"/>
          <p:cNvPicPr/>
          <p:nvPr/>
        </p:nvPicPr>
        <p:blipFill>
          <a:blip r:embed="rId6"/>
          <a:stretch/>
        </p:blipFill>
        <p:spPr>
          <a:xfrm>
            <a:off x="3276720" y="3933720"/>
            <a:ext cx="1726920" cy="273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4" name="Picture 17" descr="P:\Планы и отчеты ЦИПР\ПРЕЗЕНТАЦИИ ДЛЯ ВСЕХ 2010!!!\Обложки для презентации Центр Стандарты\Пртим.прогр.внеурочка.jpg"/>
          <p:cNvPicPr/>
          <p:nvPr/>
        </p:nvPicPr>
        <p:blipFill>
          <a:blip r:embed="rId7"/>
          <a:stretch/>
        </p:blipFill>
        <p:spPr>
          <a:xfrm>
            <a:off x="1476360" y="4221000"/>
            <a:ext cx="1584360" cy="2374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5" name="Picture 8" descr="vneuroch_deyat"/>
          <p:cNvPicPr/>
          <p:nvPr/>
        </p:nvPicPr>
        <p:blipFill>
          <a:blip r:embed="rId8"/>
          <a:stretch/>
        </p:blipFill>
        <p:spPr>
          <a:xfrm>
            <a:off x="5219640" y="4221000"/>
            <a:ext cx="1657440" cy="244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Calibri"/>
              </a:rPr>
              <a:t>Виды внеурочной деятельности</a:t>
            </a:r>
            <a:r>
              <a:rPr b="0" lang="ru-RU" sz="3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гровая деятельнос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знавательная деятельнос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блемно-ценностное общени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угово-развлекательная деятельность (досуговое общение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удожественное творчество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циальное творчество (социально значимая волонтерская деятельность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удовая (производственная) деятельнос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ртивно-оздоровительная деятельность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уристско-краеведческая деятельн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68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700" spc="-1" strike="noStrike">
                <a:solidFill>
                  <a:srgbClr val="444255"/>
                </a:solidFill>
                <a:latin typeface="Calibri"/>
              </a:rPr>
              <a:t>Программа внеурочной деятельности</a:t>
            </a:r>
            <a:endParaRPr b="0" lang="en-US" sz="4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14400" y="2553840"/>
            <a:ext cx="777240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лжна быть направлена на реализацию различных направлений развития и воспитания младших школьников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ортивно-оздоровитель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удожественно-эстетическог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учно-познавательног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щественно полезная деятельнос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444255"/>
                </a:solidFill>
                <a:latin typeface="Calibri"/>
              </a:rPr>
              <a:t>Внеурочная деятельность школьников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14400" y="1703520"/>
            <a:ext cx="7772400" cy="44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еализуется в таких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формах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 как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экскурси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ружк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екци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туди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еатр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астерски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онференции, диспуты, круглые столы, школьные научные общества, олимпиады, соревнования, поисковые и научные исследования, общественно полезные практик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ВОСПИТАНИЕ-это не специальные мероприятия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914400" y="2204640"/>
            <a:ext cx="777240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питание школе должно идти только через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вместную деятельно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зрослых и дете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тей друг с другом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которой единственно возможно присвоение (а не просто узнавание) детьми ценност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9720"/>
            <a:ext cx="77724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914400" y="691920"/>
            <a:ext cx="77724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2500" spc="-1" strike="noStrike">
                <a:solidFill>
                  <a:srgbClr val="0000ff"/>
                </a:solidFill>
                <a:latin typeface="Times New Roman"/>
              </a:rPr>
              <a:t>Результат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– это то, что стало непосредственным итогом участия школьника в деятельности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Например, школьник, пройдя туристический маршрут, не только переместился в пространстве из точки А в точку В </a:t>
            </a:r>
            <a:r>
              <a:rPr b="1" lang="ru-RU" sz="2100" spc="-1" strike="noStrike">
                <a:solidFill>
                  <a:srgbClr val="0000ff"/>
                </a:solidFill>
                <a:latin typeface="Times New Roman"/>
              </a:rPr>
              <a:t>(фактический результат),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но и приобрел некое знание о себе и окружающих, пережил и прочувствовал нечто как ценность, приобрел опыт самостоятельного действия </a:t>
            </a:r>
            <a:r>
              <a:rPr b="1" lang="ru-RU" sz="2100" spc="-1" strike="noStrike">
                <a:solidFill>
                  <a:srgbClr val="0000ff"/>
                </a:solidFill>
                <a:latin typeface="Times New Roman"/>
              </a:rPr>
              <a:t>(воспитательный результат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Times New Roman"/>
              </a:rPr>
              <a:t>Эффект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– это последствие результата; то, к чему привело достижение результата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Например, приобретенное знание, пережитые чувства и отношения, совершённые действия развили человека как личность, способствовали формированию его компетентности, идентичности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оспитательные результаты и эффек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Воспитательный результат внеурочной деятельност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– непосредственное духовно-нравственное приобретение ребенка благодаря его участию в том или ином виде внеурочной деятельност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Воспитательный эффект внеурочной деятельности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– влияние (последствие) того или иного духовно-нравственного приобретения  на весь процесс развития личности ребенк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444255"/>
                </a:solidFill>
                <a:latin typeface="Calibri"/>
              </a:rPr>
              <a:t>Система воспитательной работы во внеурочной деятельности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1320" y="2060640"/>
            <a:ext cx="85345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оится на следующих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нципах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разрывной связи воспитания и обуч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знания ученика субъектом собственного воспитания наравне с другими субъектами: родителями и педагог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гласованного распределения полномочий всех субъектов воспитания в школ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Calibri"/>
              </a:rPr>
              <a:t>Уровни воспитательных результатов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0" y="1773360"/>
            <a:ext cx="6084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Первый уровень –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приобретение школьником социальных знаний (об общественных нормах, об устройстве общества, о социально одобряемых и неодобряемых формах поведения в обществе и т.п.), первичного понимания социальной реальности и повседневной жизни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4572000" y="1557360"/>
            <a:ext cx="3394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5940360" y="2205000"/>
            <a:ext cx="3024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Calibri"/>
              </a:rPr>
              <a:t>Уровни воспитательных результатов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78920" y="1915920"/>
            <a:ext cx="4537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Второй уровень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– получение школьником опыта переживания и  позитивного отношения к базовым ценностям общества, ценностного отношения к социальной реальности в целом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4427640" y="1628640"/>
            <a:ext cx="360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4859280" y="1989000"/>
            <a:ext cx="38894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Calibri"/>
              </a:rPr>
              <a:t>Уровни воспитательных результатов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36720" y="2057400"/>
            <a:ext cx="3473280" cy="39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Третий уровень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– получение школьником опыта самостоятельного общественного действи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5" descr="25570027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2781360"/>
            <a:ext cx="4032000" cy="3527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3416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r>
              <a:rPr b="1" lang="ru-RU" sz="3700" spc="-1" strike="noStrike">
                <a:solidFill>
                  <a:srgbClr val="444255"/>
                </a:solidFill>
                <a:latin typeface="Calibri"/>
              </a:rPr>
              <a:t>Основная образовательная программа </a:t>
            </a:r>
            <a:r>
              <a:rPr b="1" lang="ru-RU" sz="3700" spc="-1" strike="noStrike" u="sng">
                <a:solidFill>
                  <a:srgbClr val="444255"/>
                </a:solidFill>
                <a:uFillTx/>
                <a:latin typeface="Calibri"/>
              </a:rPr>
              <a:t>основного общего образования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14400" y="2636640"/>
            <a:ext cx="777240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лжна соответствовать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ипу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иду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овательного учрежд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быть преемственной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о отношению к основной образовательной программ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чального общего образ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963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444255"/>
                </a:solidFill>
                <a:latin typeface="Calibri"/>
              </a:rPr>
              <a:t>Уровни воспитательных результатов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914400" y="1599840"/>
            <a:ext cx="3813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начальной школ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иоритет 1 уровн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873680" y="1599840"/>
            <a:ext cx="38131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пасно форсировать процесс воспитания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0" y="2637000"/>
            <a:ext cx="8207280" cy="38876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4"/>
          <p:cNvSpPr/>
          <p:nvPr/>
        </p:nvSpPr>
        <p:spPr>
          <a:xfrm>
            <a:off x="2556000" y="3357720"/>
            <a:ext cx="3168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ов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700360" y="4724280"/>
            <a:ext cx="46195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-й уровен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2627280" y="4076640"/>
            <a:ext cx="3384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-й уров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-й уровень – школьник  знает и понимает общественную жизн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-й уровень – школьник ценит общественную жизн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-й уровень – школьник самостоятельно действует в общественной жизн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406080"/>
            <a:ext cx="762804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444255"/>
                </a:solidFill>
                <a:latin typeface="Calibri"/>
              </a:rPr>
              <a:t>Методический конструктор внеурочной деятельности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Line 3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8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9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50920" y="1628640"/>
          <a:ext cx="8569080" cy="4680000"/>
        </p:xfrm>
        <a:graphic>
          <a:graphicData uri="http://schemas.openxmlformats.org/drawingml/2006/table">
            <a:tbl>
              <a:tblPr/>
              <a:tblGrid>
                <a:gridCol w="2411280"/>
                <a:gridCol w="2052720"/>
                <a:gridCol w="2052720"/>
                <a:gridCol w="2052360"/>
              </a:tblGrid>
              <a:tr h="210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90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Игрова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левая игр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овая игр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 моделирующая игр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23400" y="290160"/>
            <a:ext cx="761868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444255"/>
                </a:solidFill>
                <a:latin typeface="Calibri"/>
              </a:rPr>
              <a:t>Методический конструктор внеурочной деятельности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Line 3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7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8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9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0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1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2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3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250920" y="1413000"/>
          <a:ext cx="8713800" cy="4968720"/>
        </p:xfrm>
        <a:graphic>
          <a:graphicData uri="http://schemas.openxmlformats.org/drawingml/2006/table">
            <a:tbl>
              <a:tblPr/>
              <a:tblGrid>
                <a:gridCol w="2176200"/>
                <a:gridCol w="2178360"/>
                <a:gridCol w="2179440"/>
                <a:gridCol w="2179800"/>
              </a:tblGrid>
              <a:tr h="175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47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Познавательна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ые беседы, предметные факультативы, олимпиад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дактический театр, общественный смотр знаний, интеллектуальный клуб «Что? Где? Когда?»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ие исследовательские проекты, внешкольные акции познавательной направленности (конференции учащихся, интеллектуальные марафоны и т.п.), школьный музей-клуб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23760" y="290160"/>
            <a:ext cx="762984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444255"/>
                </a:solidFill>
                <a:latin typeface="Calibri"/>
              </a:rPr>
              <a:t>Методический конструктор внеурочной деятельности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Line 3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4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5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7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9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1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2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3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4"/>
          <p:cNvSpPr/>
          <p:nvPr/>
        </p:nvSpPr>
        <p:spPr>
          <a:xfrm>
            <a:off x="4572000" y="34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5"/>
          <p:cNvSpPr/>
          <p:nvPr/>
        </p:nvSpPr>
        <p:spPr>
          <a:xfrm>
            <a:off x="457200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6"/>
          <p:cNvSpPr/>
          <p:nvPr/>
        </p:nvSpPr>
        <p:spPr>
          <a:xfrm>
            <a:off x="604692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68360" y="1484280"/>
          <a:ext cx="8353440" cy="4510080"/>
        </p:xfrm>
        <a:graphic>
          <a:graphicData uri="http://schemas.openxmlformats.org/drawingml/2006/table">
            <a:tbl>
              <a:tblPr/>
              <a:tblGrid>
                <a:gridCol w="2085840"/>
                <a:gridCol w="2089080"/>
                <a:gridCol w="2090880"/>
                <a:gridCol w="2087640"/>
              </a:tblGrid>
              <a:tr h="24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2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роблемно-ценностное общ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ическая бесе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баты, тематический дисп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но-ценностная дискуссия с участием внешних экспер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23760" y="464760"/>
            <a:ext cx="762984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444255"/>
                </a:solidFill>
                <a:latin typeface="Calibri"/>
              </a:rPr>
              <a:t>Методический конструктор внеурочной деятельности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Line 3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5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7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8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9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0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1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2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3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4"/>
          <p:cNvSpPr/>
          <p:nvPr/>
        </p:nvSpPr>
        <p:spPr>
          <a:xfrm>
            <a:off x="4572000" y="34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5"/>
          <p:cNvSpPr/>
          <p:nvPr/>
        </p:nvSpPr>
        <p:spPr>
          <a:xfrm>
            <a:off x="457200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6"/>
          <p:cNvSpPr/>
          <p:nvPr/>
        </p:nvSpPr>
        <p:spPr>
          <a:xfrm>
            <a:off x="604692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7"/>
          <p:cNvSpPr/>
          <p:nvPr/>
        </p:nvSpPr>
        <p:spPr>
          <a:xfrm>
            <a:off x="4572000" y="321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8"/>
          <p:cNvSpPr/>
          <p:nvPr/>
        </p:nvSpPr>
        <p:spPr>
          <a:xfrm>
            <a:off x="457200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9"/>
          <p:cNvSpPr/>
          <p:nvPr/>
        </p:nvSpPr>
        <p:spPr>
          <a:xfrm>
            <a:off x="604692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395280" y="1413000"/>
          <a:ext cx="8497800" cy="5060880"/>
        </p:xfrm>
        <a:graphic>
          <a:graphicData uri="http://schemas.openxmlformats.org/drawingml/2006/table">
            <a:tbl>
              <a:tblPr/>
              <a:tblGrid>
                <a:gridCol w="2122560"/>
                <a:gridCol w="2125440"/>
                <a:gridCol w="2124360"/>
                <a:gridCol w="2125440"/>
              </a:tblGrid>
              <a:tr h="20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Досугово-развлекательная деятельность (досуговое общение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походы в театры, музеи, концертные залы, выстав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церты, инсценировки, праздничные «огоньки» на уровне класса и школ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угово-развлекательные акции школьников в окружающем школу социуме (благотворительные концерты, гастроли школьной самодеятельности и т.п.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90720" y="290520"/>
            <a:ext cx="7627680" cy="8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444255"/>
                </a:solidFill>
                <a:latin typeface="Calibri"/>
              </a:rPr>
              <a:t>Методический конструктор внеурочной деятельности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Line 3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4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7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9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0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1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2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3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4"/>
          <p:cNvSpPr/>
          <p:nvPr/>
        </p:nvSpPr>
        <p:spPr>
          <a:xfrm>
            <a:off x="4572000" y="34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5"/>
          <p:cNvSpPr/>
          <p:nvPr/>
        </p:nvSpPr>
        <p:spPr>
          <a:xfrm>
            <a:off x="457200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6"/>
          <p:cNvSpPr/>
          <p:nvPr/>
        </p:nvSpPr>
        <p:spPr>
          <a:xfrm>
            <a:off x="604692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7"/>
          <p:cNvSpPr/>
          <p:nvPr/>
        </p:nvSpPr>
        <p:spPr>
          <a:xfrm>
            <a:off x="4572000" y="321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8"/>
          <p:cNvSpPr/>
          <p:nvPr/>
        </p:nvSpPr>
        <p:spPr>
          <a:xfrm>
            <a:off x="457200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9"/>
          <p:cNvSpPr/>
          <p:nvPr/>
        </p:nvSpPr>
        <p:spPr>
          <a:xfrm>
            <a:off x="604692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0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1"/>
          <p:cNvSpPr/>
          <p:nvPr/>
        </p:nvSpPr>
        <p:spPr>
          <a:xfrm>
            <a:off x="457200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2"/>
          <p:cNvSpPr/>
          <p:nvPr/>
        </p:nvSpPr>
        <p:spPr>
          <a:xfrm>
            <a:off x="604692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324000" y="1413000"/>
          <a:ext cx="8569080" cy="4895640"/>
        </p:xfrm>
        <a:graphic>
          <a:graphicData uri="http://schemas.openxmlformats.org/drawingml/2006/table">
            <a:tbl>
              <a:tblPr/>
              <a:tblGrid>
                <a:gridCol w="2141280"/>
                <a:gridCol w="2140200"/>
                <a:gridCol w="2143080"/>
                <a:gridCol w="2144520"/>
              </a:tblGrid>
              <a:tr h="23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1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Художественное творче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жки художественного твор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634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дожественные выставки, фестивали искусств, спектакли в классе, шко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дожественные акции школьников в окружающем школу социу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23760" y="465120"/>
            <a:ext cx="7629840" cy="57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444255"/>
                </a:solidFill>
                <a:latin typeface="Calibri"/>
              </a:rPr>
              <a:t>Методический конструктор внеурочной деятельности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Line 3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4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5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7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8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9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0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1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2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3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4"/>
          <p:cNvSpPr/>
          <p:nvPr/>
        </p:nvSpPr>
        <p:spPr>
          <a:xfrm>
            <a:off x="4572000" y="34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5"/>
          <p:cNvSpPr/>
          <p:nvPr/>
        </p:nvSpPr>
        <p:spPr>
          <a:xfrm>
            <a:off x="457200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6"/>
          <p:cNvSpPr/>
          <p:nvPr/>
        </p:nvSpPr>
        <p:spPr>
          <a:xfrm>
            <a:off x="604692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7"/>
          <p:cNvSpPr/>
          <p:nvPr/>
        </p:nvSpPr>
        <p:spPr>
          <a:xfrm>
            <a:off x="4572000" y="321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8"/>
          <p:cNvSpPr/>
          <p:nvPr/>
        </p:nvSpPr>
        <p:spPr>
          <a:xfrm>
            <a:off x="457200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9"/>
          <p:cNvSpPr/>
          <p:nvPr/>
        </p:nvSpPr>
        <p:spPr>
          <a:xfrm>
            <a:off x="604692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0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1"/>
          <p:cNvSpPr/>
          <p:nvPr/>
        </p:nvSpPr>
        <p:spPr>
          <a:xfrm>
            <a:off x="457200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2"/>
          <p:cNvSpPr/>
          <p:nvPr/>
        </p:nvSpPr>
        <p:spPr>
          <a:xfrm>
            <a:off x="604692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3"/>
          <p:cNvSpPr/>
          <p:nvPr/>
        </p:nvSpPr>
        <p:spPr>
          <a:xfrm>
            <a:off x="4572000" y="3125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4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25"/>
          <p:cNvSpPr/>
          <p:nvPr/>
        </p:nvSpPr>
        <p:spPr>
          <a:xfrm>
            <a:off x="604692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50920" y="1413000"/>
          <a:ext cx="8642160" cy="4905360"/>
        </p:xfrm>
        <a:graphic>
          <a:graphicData uri="http://schemas.openxmlformats.org/drawingml/2006/table">
            <a:tbl>
              <a:tblPr/>
              <a:tblGrid>
                <a:gridCol w="2158920"/>
                <a:gridCol w="2160720"/>
                <a:gridCol w="2162160"/>
                <a:gridCol w="2160360"/>
              </a:tblGrid>
              <a:tr h="180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3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Социальное творчество (социально преобразующая добровольческая деятельность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ые пробы (инициативное участие ребенка в социальных акциях, организованных взрослым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Д (коллективное творческое дел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-образовательный прое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444255"/>
                </a:solidFill>
                <a:latin typeface="Calibri"/>
              </a:rPr>
              <a:t>Методический конструктор внеурочной деятельности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Line 3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4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5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7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8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9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0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1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2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3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4"/>
          <p:cNvSpPr/>
          <p:nvPr/>
        </p:nvSpPr>
        <p:spPr>
          <a:xfrm>
            <a:off x="4572000" y="34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5"/>
          <p:cNvSpPr/>
          <p:nvPr/>
        </p:nvSpPr>
        <p:spPr>
          <a:xfrm>
            <a:off x="457200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6"/>
          <p:cNvSpPr/>
          <p:nvPr/>
        </p:nvSpPr>
        <p:spPr>
          <a:xfrm>
            <a:off x="604692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7"/>
          <p:cNvSpPr/>
          <p:nvPr/>
        </p:nvSpPr>
        <p:spPr>
          <a:xfrm>
            <a:off x="4572000" y="321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8"/>
          <p:cNvSpPr/>
          <p:nvPr/>
        </p:nvSpPr>
        <p:spPr>
          <a:xfrm>
            <a:off x="457200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9"/>
          <p:cNvSpPr/>
          <p:nvPr/>
        </p:nvSpPr>
        <p:spPr>
          <a:xfrm>
            <a:off x="604692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20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21"/>
          <p:cNvSpPr/>
          <p:nvPr/>
        </p:nvSpPr>
        <p:spPr>
          <a:xfrm>
            <a:off x="457200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22"/>
          <p:cNvSpPr/>
          <p:nvPr/>
        </p:nvSpPr>
        <p:spPr>
          <a:xfrm>
            <a:off x="604692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23"/>
          <p:cNvSpPr/>
          <p:nvPr/>
        </p:nvSpPr>
        <p:spPr>
          <a:xfrm>
            <a:off x="4572000" y="3125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24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25"/>
          <p:cNvSpPr/>
          <p:nvPr/>
        </p:nvSpPr>
        <p:spPr>
          <a:xfrm>
            <a:off x="604692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26"/>
          <p:cNvSpPr/>
          <p:nvPr/>
        </p:nvSpPr>
        <p:spPr>
          <a:xfrm>
            <a:off x="4572000" y="297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7"/>
          <p:cNvSpPr/>
          <p:nvPr/>
        </p:nvSpPr>
        <p:spPr>
          <a:xfrm>
            <a:off x="4572000" y="3432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28"/>
          <p:cNvSpPr/>
          <p:nvPr/>
        </p:nvSpPr>
        <p:spPr>
          <a:xfrm>
            <a:off x="6046920" y="3432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179280" y="1125360"/>
          <a:ext cx="8713800" cy="5328000"/>
        </p:xfrm>
        <a:graphic>
          <a:graphicData uri="http://schemas.openxmlformats.org/drawingml/2006/table">
            <a:tbl>
              <a:tblPr/>
              <a:tblGrid>
                <a:gridCol w="2357640"/>
                <a:gridCol w="2179440"/>
                <a:gridCol w="1997280"/>
                <a:gridCol w="2179440"/>
              </a:tblGrid>
              <a:tr h="151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13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Трудовая (производственная) деятельност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я по конструированию, кружки технического творчества, домашних ремесел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овые десанты, сюжетно-ролевые продуктивные игры («Почта», «Город мастеров», «Фабрика»), детская производственная бригада под руководством взрослог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о-взрослое образовательное производство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23760" y="464760"/>
            <a:ext cx="7629840" cy="44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444255"/>
                </a:solidFill>
                <a:latin typeface="Calibri"/>
              </a:rPr>
              <a:t>Методический конструктор внеурочной деятельности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Line 3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4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5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7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8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9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0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1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2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3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4"/>
          <p:cNvSpPr/>
          <p:nvPr/>
        </p:nvSpPr>
        <p:spPr>
          <a:xfrm>
            <a:off x="4572000" y="34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5"/>
          <p:cNvSpPr/>
          <p:nvPr/>
        </p:nvSpPr>
        <p:spPr>
          <a:xfrm>
            <a:off x="457200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6"/>
          <p:cNvSpPr/>
          <p:nvPr/>
        </p:nvSpPr>
        <p:spPr>
          <a:xfrm>
            <a:off x="604692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7"/>
          <p:cNvSpPr/>
          <p:nvPr/>
        </p:nvSpPr>
        <p:spPr>
          <a:xfrm>
            <a:off x="4572000" y="321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8"/>
          <p:cNvSpPr/>
          <p:nvPr/>
        </p:nvSpPr>
        <p:spPr>
          <a:xfrm>
            <a:off x="457200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9"/>
          <p:cNvSpPr/>
          <p:nvPr/>
        </p:nvSpPr>
        <p:spPr>
          <a:xfrm>
            <a:off x="604692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20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21"/>
          <p:cNvSpPr/>
          <p:nvPr/>
        </p:nvSpPr>
        <p:spPr>
          <a:xfrm>
            <a:off x="457200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22"/>
          <p:cNvSpPr/>
          <p:nvPr/>
        </p:nvSpPr>
        <p:spPr>
          <a:xfrm>
            <a:off x="604692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23"/>
          <p:cNvSpPr/>
          <p:nvPr/>
        </p:nvSpPr>
        <p:spPr>
          <a:xfrm>
            <a:off x="4572000" y="3125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4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5"/>
          <p:cNvSpPr/>
          <p:nvPr/>
        </p:nvSpPr>
        <p:spPr>
          <a:xfrm>
            <a:off x="604692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26"/>
          <p:cNvSpPr/>
          <p:nvPr/>
        </p:nvSpPr>
        <p:spPr>
          <a:xfrm>
            <a:off x="4572000" y="297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27"/>
          <p:cNvSpPr/>
          <p:nvPr/>
        </p:nvSpPr>
        <p:spPr>
          <a:xfrm>
            <a:off x="4572000" y="3432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28"/>
          <p:cNvSpPr/>
          <p:nvPr/>
        </p:nvSpPr>
        <p:spPr>
          <a:xfrm>
            <a:off x="6046920" y="3432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9"/>
          <p:cNvSpPr/>
          <p:nvPr/>
        </p:nvSpPr>
        <p:spPr>
          <a:xfrm>
            <a:off x="4572000" y="3127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30"/>
          <p:cNvSpPr/>
          <p:nvPr/>
        </p:nvSpPr>
        <p:spPr>
          <a:xfrm>
            <a:off x="4572000" y="3402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31"/>
          <p:cNvSpPr/>
          <p:nvPr/>
        </p:nvSpPr>
        <p:spPr>
          <a:xfrm>
            <a:off x="6046920" y="3402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395280" y="1557360"/>
          <a:ext cx="8569440" cy="4938840"/>
        </p:xfrm>
        <a:graphic>
          <a:graphicData uri="http://schemas.openxmlformats.org/drawingml/2006/table">
            <a:tbl>
              <a:tblPr/>
              <a:tblGrid>
                <a:gridCol w="2139840"/>
                <a:gridCol w="2143080"/>
                <a:gridCol w="2144880"/>
                <a:gridCol w="2141640"/>
              </a:tblGrid>
              <a:tr h="164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6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Спортивно-оздоровительная деятельность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я спортивных секций, беседы о ЗОЖ, участие в оздоровительных процедурах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ьные спортивные турниры и оздоровительные акци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ртивные и оздоровительные акции школьников в окружающем школу социуме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444255"/>
                </a:solidFill>
                <a:latin typeface="Calibri"/>
              </a:rPr>
              <a:t>Основная образовательная программа основного общего образования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36720" y="1988640"/>
            <a:ext cx="775008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язательна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часть -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7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сть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ормируемая участниками образовательного процесс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0%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т общего объёма основной образовательной программы основного общего образова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23760" y="464760"/>
            <a:ext cx="7629840" cy="44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444255"/>
                </a:solidFill>
                <a:latin typeface="Calibri"/>
              </a:rPr>
              <a:t>Методический конструктор внеурочной деятельности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Line 3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4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5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468360" y="1628640"/>
            <a:ext cx="82296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"/>
          <p:cNvSpPr/>
          <p:nvPr/>
        </p:nvSpPr>
        <p:spPr>
          <a:xfrm>
            <a:off x="4572000" y="3187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8"/>
          <p:cNvSpPr/>
          <p:nvPr/>
        </p:nvSpPr>
        <p:spPr>
          <a:xfrm>
            <a:off x="457200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9"/>
          <p:cNvSpPr/>
          <p:nvPr/>
        </p:nvSpPr>
        <p:spPr>
          <a:xfrm>
            <a:off x="6046920" y="3462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0"/>
          <p:cNvSpPr/>
          <p:nvPr/>
        </p:nvSpPr>
        <p:spPr>
          <a:xfrm>
            <a:off x="4572000" y="3036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1"/>
          <p:cNvSpPr/>
          <p:nvPr/>
        </p:nvSpPr>
        <p:spPr>
          <a:xfrm>
            <a:off x="4572000" y="30672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2"/>
          <p:cNvSpPr/>
          <p:nvPr/>
        </p:nvSpPr>
        <p:spPr>
          <a:xfrm>
            <a:off x="457200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3"/>
          <p:cNvSpPr/>
          <p:nvPr/>
        </p:nvSpPr>
        <p:spPr>
          <a:xfrm>
            <a:off x="6046920" y="33415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4"/>
          <p:cNvSpPr/>
          <p:nvPr/>
        </p:nvSpPr>
        <p:spPr>
          <a:xfrm>
            <a:off x="4572000" y="3460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5"/>
          <p:cNvSpPr/>
          <p:nvPr/>
        </p:nvSpPr>
        <p:spPr>
          <a:xfrm>
            <a:off x="457200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6"/>
          <p:cNvSpPr/>
          <p:nvPr/>
        </p:nvSpPr>
        <p:spPr>
          <a:xfrm>
            <a:off x="6046920" y="3735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7"/>
          <p:cNvSpPr/>
          <p:nvPr/>
        </p:nvSpPr>
        <p:spPr>
          <a:xfrm>
            <a:off x="4572000" y="3218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8"/>
          <p:cNvSpPr/>
          <p:nvPr/>
        </p:nvSpPr>
        <p:spPr>
          <a:xfrm>
            <a:off x="457200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9"/>
          <p:cNvSpPr/>
          <p:nvPr/>
        </p:nvSpPr>
        <p:spPr>
          <a:xfrm>
            <a:off x="6046920" y="3492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20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21"/>
          <p:cNvSpPr/>
          <p:nvPr/>
        </p:nvSpPr>
        <p:spPr>
          <a:xfrm>
            <a:off x="457200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22"/>
          <p:cNvSpPr/>
          <p:nvPr/>
        </p:nvSpPr>
        <p:spPr>
          <a:xfrm>
            <a:off x="604692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3"/>
          <p:cNvSpPr/>
          <p:nvPr/>
        </p:nvSpPr>
        <p:spPr>
          <a:xfrm>
            <a:off x="4572000" y="3125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24"/>
          <p:cNvSpPr/>
          <p:nvPr/>
        </p:nvSpPr>
        <p:spPr>
          <a:xfrm>
            <a:off x="457200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5"/>
          <p:cNvSpPr/>
          <p:nvPr/>
        </p:nvSpPr>
        <p:spPr>
          <a:xfrm>
            <a:off x="6046920" y="3400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6"/>
          <p:cNvSpPr/>
          <p:nvPr/>
        </p:nvSpPr>
        <p:spPr>
          <a:xfrm>
            <a:off x="4572000" y="2975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27"/>
          <p:cNvSpPr/>
          <p:nvPr/>
        </p:nvSpPr>
        <p:spPr>
          <a:xfrm>
            <a:off x="4572000" y="3432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28"/>
          <p:cNvSpPr/>
          <p:nvPr/>
        </p:nvSpPr>
        <p:spPr>
          <a:xfrm>
            <a:off x="6046920" y="3432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29"/>
          <p:cNvSpPr/>
          <p:nvPr/>
        </p:nvSpPr>
        <p:spPr>
          <a:xfrm>
            <a:off x="4572000" y="3127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30"/>
          <p:cNvSpPr/>
          <p:nvPr/>
        </p:nvSpPr>
        <p:spPr>
          <a:xfrm>
            <a:off x="4572000" y="3402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31"/>
          <p:cNvSpPr/>
          <p:nvPr/>
        </p:nvSpPr>
        <p:spPr>
          <a:xfrm>
            <a:off x="6046920" y="3402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32"/>
          <p:cNvSpPr/>
          <p:nvPr/>
        </p:nvSpPr>
        <p:spPr>
          <a:xfrm>
            <a:off x="4572000" y="30351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33"/>
          <p:cNvSpPr/>
          <p:nvPr/>
        </p:nvSpPr>
        <p:spPr>
          <a:xfrm>
            <a:off x="4572000" y="3309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34"/>
          <p:cNvSpPr/>
          <p:nvPr/>
        </p:nvSpPr>
        <p:spPr>
          <a:xfrm>
            <a:off x="6046920" y="3309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179280" y="1484280"/>
          <a:ext cx="8964720" cy="4952880"/>
        </p:xfrm>
        <a:graphic>
          <a:graphicData uri="http://schemas.openxmlformats.org/drawingml/2006/table">
            <a:tbl>
              <a:tblPr/>
              <a:tblGrid>
                <a:gridCol w="2335320"/>
                <a:gridCol w="2144880"/>
                <a:gridCol w="2242800"/>
                <a:gridCol w="2241720"/>
              </a:tblGrid>
              <a:tr h="166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внеурочно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ятельно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обретение школьником  социальных знан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ценностного отношения к социальной реально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 опыта самостоятельного общественного действ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9. </a:t>
                      </a:r>
                      <a:r>
                        <a:rPr b="1" lang="ru-RU" sz="2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Туристско-краеведческая деятельност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ая экскурсия, туристическая поездка, краеведческий кружок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истский поход, краеведческий клуб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5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истско-краеведческая экспедиц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исково-краеведческая экспедиц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кольный краеведческий музе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ff"/>
                </a:solidFill>
                <a:latin typeface="Calibri"/>
              </a:rPr>
              <a:t>Типы образовательных программ внеурочной деятельност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комплексные образовательные программы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, предполагающие последовательный переход от воспитательных результатов первого к результатам третьего уровня в различных видах внеурочной деятельност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Times New Roman"/>
              </a:rPr>
              <a:t>тематические образовательные программы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, направленные на получение воспитательных результатов в определенном проблемном поле и использующие при этом возможности различных видов внеурочной деятельности (например, образовательная программа патриотического воспитания, образовательная программа воспитания толерантности и т.п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ff"/>
                </a:solidFill>
                <a:latin typeface="Calibri"/>
              </a:rPr>
              <a:t>Типы образовательных программ внеурочной деятельност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образовательные программы, ориентированные на достижение результатов определенного уровн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ие программы могут иметь возрастную привязку, например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1-го класса – образовательная программа, ориентированная на приобретение школьником социальных знаний в различных видах деятельност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2 – 3-го класса – образовательная программа, формирующая ценностное отношение к социальной реальност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4-го класса – образовательная программа, дающая ребенку опыт самостоятельного общественного действ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ff"/>
                </a:solidFill>
                <a:latin typeface="Calibri"/>
              </a:rPr>
              <a:t>Типы образовательных программ внеурочной деятельност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образовательные программы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по конкретным видам внеурочной деятельности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возрастные образовательные программы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(образовательная программа внеурочной деятельности младших школьников; образовательная программа внеурочной деятельности подростков; образовательная программа внеурочной деятельности старшеклассников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индивидуальные образовательные программы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для учащихс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341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699920"/>
            <a:ext cx="8686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спользовать туристско-краеведческую деятельность как средство экологического воспитания младших школьн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пособствовать не только расширению представлений детей об окружающем мире, но и реализации деятельностного подх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еспечить формирование умений и навыков, применение которых способствует организации разнообразной деятельности ребенка в окружающей среде, но не наносит ей вре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Arial"/>
                <a:ea typeface="Times New Roman"/>
              </a:rPr>
              <a:t>Туристско-краеведческая деятельность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ль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оспитание у детей чувства бережного отношения к приро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орм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туристской деятельност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скурс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гулка с отдыхом в лесу (парк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ходы выходного д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гры-соревнования на местности (игра-путешестви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иды игр - путешеств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4842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Маршрутная игр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Игра на преодоления этапо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Игра по станциям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Игра – эстафет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ознавательная активность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(коммуникативные и организаторские умения, умение совместно планировать деятельность, умение наблюдать окружающую природу и анализировать ее явления, осознание ценностных отношений между людьми…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444255"/>
                </a:solidFill>
                <a:latin typeface="Calibri"/>
              </a:rPr>
              <a:t>Алгоритм проведения</a:t>
            </a:r>
            <a:br>
              <a:rPr sz="3700"/>
            </a:br>
            <a:r>
              <a:rPr b="1" lang="ru-RU" sz="3700" spc="-1" strike="noStrike">
                <a:solidFill>
                  <a:srgbClr val="444255"/>
                </a:solidFill>
                <a:latin typeface="Calibri"/>
              </a:rPr>
              <a:t> игры-путешествия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дготов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участников к восприятию цели и содержания игры-путешеств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ляется маршрут путешеств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ределяются стан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(«Пришкольная кругосветка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путешествие в мир растений и животных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«Улицы и парки», «Растения города»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444255"/>
                </a:solidFill>
                <a:latin typeface="Calibri"/>
              </a:rPr>
              <a:t>Алгоритм проведения игры-путешествия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914400" y="2553840"/>
            <a:ext cx="7772400" cy="35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Сбор – стар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Движение команд по маршру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 Участие команд в организуемой на площадках деятель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. Сбор – фини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Анали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444255"/>
                </a:solidFill>
                <a:latin typeface="Calibri"/>
              </a:rPr>
              <a:t>Игра - путешествие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324000" y="1557000"/>
            <a:ext cx="853416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утешествие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«По радуг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дание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читайте загадки. Постарайтесь их запомнить и загадайте родным и друзья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.А Жуков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.И.Тютче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родная загад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2200" cy="17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444255"/>
                </a:solidFill>
                <a:latin typeface="Calibri"/>
              </a:rPr>
              <a:t>Основной образовательной программе основного общего образования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936720" y="2484000"/>
            <a:ext cx="775008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 целях обеспечения индивидуальных потребностей обучающихс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редусматриваютс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бные кур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еурочная деятель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444255"/>
                </a:solidFill>
                <a:latin typeface="Calibri"/>
              </a:rPr>
              <a:t>Познавательный рассказ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914400" y="2839680"/>
            <a:ext cx="7772400" cy="32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ово «радуга» произошло от сложения слов «рай» и «дуга». В разных районах России радугу так и величали – «рай-дуга» (небесная райская дуга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444255"/>
                </a:solidFill>
                <a:latin typeface="Calibri"/>
              </a:rPr>
              <a:t>Задание 2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826920" y="1988640"/>
            <a:ext cx="7772400" cy="33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Представьте, что вам удалось взлететь высоко-высоко, к самой радуге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Напишите, как вы путешествовали по радуге, что чувствовали, «прохаживаясь» по каждой из семи разноцветных дорожек?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С кем вы разделили радость этого необыкновенного путешествия?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Кем из жителей природы вы представляли себя, почему?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444255"/>
                </a:solidFill>
                <a:latin typeface="Calibri"/>
              </a:rPr>
              <a:t>Задание 3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914400" y="2484000"/>
            <a:ext cx="77724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теперь представьте себя художником. Раскрасьте радугу. Каждый нарисует себя на той дорожке, цвет которой ему больше всего по душ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5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ормы организаци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неурочной деятельности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в начальной школе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01320" y="2636640"/>
            <a:ext cx="853452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Кружок –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форма добровольного объединения детей, оптимальная форма организации внеурочной деятельности в начальной школе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Функции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сширение, углубление, компенсация предметных знаний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иобщения детей к разнообразным социокультурным видам деятельности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сширения коммуникативного опыта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рганизации детского досуга и отдых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7" name="Picture 4" descr="Картинка 10 из 341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189000"/>
            <a:ext cx="2952720" cy="2232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Calibri"/>
              </a:rPr>
              <a:t>Кружок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915920"/>
            <a:ext cx="77724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особенность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Calibri"/>
              </a:rPr>
              <a:t>форма выражения итога, результата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Чаще всего он воплощается в конкретных и внешне эффектных показательных выступлениях, концертах, фестивалях, диспутах, семинарах и т. д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На базе кружков могут быть созданы клубы, научные общества и школы, профильные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групп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Calibri"/>
              </a:rPr>
              <a:t>Формы организации внеурочной деятельности в начальной школе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01320" y="1989000"/>
            <a:ext cx="85345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луб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форма объединения детей на основе совпадения интересов, стремления к общению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инципы клуб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бровольность членств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управл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динство цел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вместная деятельность в непосредственном контакте друг с друг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луб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301320" y="1523520"/>
            <a:ext cx="85345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ет име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ста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грамм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мблем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евиз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другие внешние атрибуты. Возглавляется клуб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ветом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избираемым общим собранием членов клуб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месте с тем, состав клуба не отличается обязательным постоянств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Клу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301320" y="980640"/>
            <a:ext cx="85345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зличаются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о масштабам деятельности: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ногопрофильные и однопрофильные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о преобладающим видам деятельнос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учебные, -дискуссионные, - творческие, -досуговые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о степени организованности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фициальные и  неформальны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о возрастному признаку членов клуб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дновозрастные и разновозрастны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о  временному фактору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стоянные и временны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Результатами деятельности клуба является: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14400" y="1699920"/>
            <a:ext cx="7772400" cy="369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личие у детей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пособов, приемов, техник мышления, деятельности, культуры рефлексии, поведе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84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екция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324000" y="1457280"/>
            <a:ext cx="8534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форма объединения детей для занятия физической культурой и спортом (шахматная секция, секция дзюдо и т. д.)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отличительные признаки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пецифические образовательные задачи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инадлежность содержания деятельности к определенному виду спорта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риентированность на умения и достижение уровня мастерства в овладении определенным видом спорта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емонстрационно-исполнительское выражение практических результатов и достижений детей (конкурсы, соревнования, состязания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444255"/>
                </a:solidFill>
                <a:latin typeface="Calibri"/>
              </a:rPr>
              <a:t>Реализация внеурочной деятельности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14400" y="1988640"/>
            <a:ext cx="77724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отсутствии возможност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бразовательное учрежде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рамках соответствующих государственных (муниципальных) заданий, формируемых учредителем,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спользует возможности образовательных учреждений дополнительного образования детей, организаций культуры и спор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Принципы организации работы секции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01320" y="1773000"/>
            <a:ext cx="85345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сторон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знательности и актив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епен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торяем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гляднос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дивидуализ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нятия в секциях должны носить регулярный характе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Тренировочные занятия включают в себя следующие 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методы обучения спортивной технике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словесный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(рассказ, объяснение, лекция, беседа, анализ и обсуждение своих действий и действий противника…)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наглядность упражнений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(показ отдельных упражнений, учебные фильмы, видеофильмы, макеты игровых площадок и полей для демонстрации тактических схем и т. д.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методы практических упражнений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включают в себя две группы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- методы, направленные на освоение спортивной техники (разучивание упражнения в целом и по частям)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-  методы, направленные на развитие двигательных качеств (повторный, переменный, интервальный, соревновательный и др.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Calibri"/>
              </a:rPr>
              <a:t>Результат деятельности секции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914400" y="2484000"/>
            <a:ext cx="77724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явление у ребенка техники спортивного мастерств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екция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среда формирования физической культуры и здорового образа жиз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туд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301320" y="1557360"/>
            <a:ext cx="853452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—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форма добровольного объединения детей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для занятий творчеством в определенном виде деятельност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тличительными особенностями студии являются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бщие задач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единые ценности совместной деятельно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моциональный характер межличностных отношен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туд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01320" y="1523520"/>
            <a:ext cx="85345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цели деятельности студий 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звитие художественных и творческих способностей дете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ыявление ранней творческой одаренно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оддержка  и развитие творческой одаренно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театр-студия, киностудия, музыкально-хореографическая студия 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4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Calibri"/>
              </a:rPr>
              <a:t>Театр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01320" y="2491920"/>
            <a:ext cx="853452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форма добровольного объединения детей, где разделение труда, ролей, видов деятельности определяется индивидуальными способностями и единым стремлением добиться успеха в исполнении сложного совместного художественного действия на сцене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еатр – объединение, которое может организовывать свою деятельность в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комплексе самых разнообразных форм, видов занятости, методов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развития творческого потенциала личности и его актуализации (фольклорный театр, театр моды и пр.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2" name="Picture 4" descr="Картинка 15 из 1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3095640" cy="196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Calibri"/>
              </a:rPr>
              <a:t>Мастерская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01320" y="1125000"/>
            <a:ext cx="85345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форма добровольного объединения детей для занятий определенной деятельностью. Учитель выступает в роли мастера (творца, автора), создавшего свою «школу – производство» учеников, последователей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отличительные черты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ринадлежность содержания деятельности к определенному виду прикладного творчества, ремесла, искусства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риоритет целей обучения и предметно-практических задач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ориентированность на прикладные умения и достижение уровня мастерства в освоении определенного вида деятельности, в освоении специальных технологий;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демонстрационно-исполнительское выражение практических результатов и достижений детей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(выставки, конкурсы, фестивали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86800" cy="13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Проект - наиболее перспективная форма организации внеурочной деятельности.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24000" y="1557360"/>
            <a:ext cx="853416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Его универсальность позволяет реализовывать все направления внеурочной деятельности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Вся внеурочная деятельность образовательного учреждения может проходить под </a:t>
            </a: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единой воспитательной темой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. Эти вопросы должны найти место своего обсуждения на каждом внеурочном занятии, не зависимо от выбранного направления деятельности и формы организации.  Причем это обсуждение должно происходить по определенному алгоритму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- исходная проблема (установление отсутствия знаний и умений)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- информация по решению проблемы (кто, что, как, почему)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- применение новой информации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- оценка результатов применения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Внеурочная деятельность образовательного учреждения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250920" y="1628640"/>
            <a:ext cx="864216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Может проходить под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единой воспитательной темой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 Эти вопросы должны найти место своего обсуждения на каждом внеурочном занятии, не зависимо от выбранного направления деятельности и формы организации. Обсуждение должно проходить по данному алгоритму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исходная проблема (установление отсутствия знаний и умений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информация по решению проблемы (кто, что, как, почему)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применение новой информации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оценка результатов применен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9" name=""/>
          <p:cNvGraphicFramePr/>
          <p:nvPr/>
        </p:nvGraphicFramePr>
        <p:xfrm>
          <a:off x="250920" y="260280"/>
          <a:ext cx="8447040" cy="6273720"/>
        </p:xfrm>
        <a:graphic>
          <a:graphicData uri="http://schemas.openxmlformats.org/drawingml/2006/table">
            <a:tbl>
              <a:tblPr/>
              <a:tblGrid>
                <a:gridCol w="1697040"/>
                <a:gridCol w="1811160"/>
                <a:gridCol w="1648080"/>
                <a:gridCol w="1644480"/>
                <a:gridCol w="1646280"/>
              </a:tblGrid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верть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вайте знакомиться 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о - 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и ми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– челове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верть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я семь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зья и близк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и люд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– гражда-ни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верть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ша шко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ла школьной жиз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ши успех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 – ученик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верть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ди вокруг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и разные ро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р профес-с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ем быть? Каким быть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4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444255"/>
                </a:solidFill>
                <a:latin typeface="Calibri"/>
              </a:rPr>
              <a:t>Внеурочная деятельность школьников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914400" y="2420640"/>
            <a:ext cx="7772400" cy="297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ним из ведущих направлений модернизации образования является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здание эффективной системы воспитания в   общеобразовательных  учреждения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400" y="7200"/>
            <a:ext cx="77724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68360" y="4724280"/>
            <a:ext cx="2232000" cy="4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tIns="360" bIns="360" anchor="ctr">
            <a:normAutofit/>
          </a:bodyPr>
          <a:p>
            <a:pPr marL="343080" indent="-343080" algn="ctr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250920" y="0"/>
            <a:ext cx="8424720" cy="836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Ценообразование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468360" y="1628640"/>
            <a:ext cx="223200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Виды це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468360" y="2276640"/>
            <a:ext cx="223200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Государственны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8"/>
          <p:cNvSpPr/>
          <p:nvPr/>
        </p:nvSpPr>
        <p:spPr>
          <a:xfrm>
            <a:off x="6588000" y="1557360"/>
            <a:ext cx="206532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alibri"/>
              </a:rPr>
              <a:t>Функции це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9"/>
          <p:cNvSpPr/>
          <p:nvPr/>
        </p:nvSpPr>
        <p:spPr>
          <a:xfrm>
            <a:off x="468360" y="2852640"/>
            <a:ext cx="2232000" cy="93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0"/>
          <p:cNvSpPr/>
          <p:nvPr/>
        </p:nvSpPr>
        <p:spPr>
          <a:xfrm>
            <a:off x="468360" y="3500280"/>
            <a:ext cx="2232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2"/>
          <p:cNvSpPr/>
          <p:nvPr/>
        </p:nvSpPr>
        <p:spPr>
          <a:xfrm>
            <a:off x="468360" y="4221000"/>
            <a:ext cx="2232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3"/>
          <p:cNvSpPr/>
          <p:nvPr/>
        </p:nvSpPr>
        <p:spPr>
          <a:xfrm>
            <a:off x="6875640" y="5589720"/>
            <a:ext cx="1800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4"/>
          <p:cNvSpPr/>
          <p:nvPr/>
        </p:nvSpPr>
        <p:spPr>
          <a:xfrm>
            <a:off x="6875640" y="2276640"/>
            <a:ext cx="1800000" cy="77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5"/>
          <p:cNvSpPr/>
          <p:nvPr/>
        </p:nvSpPr>
        <p:spPr>
          <a:xfrm>
            <a:off x="6877080" y="3068640"/>
            <a:ext cx="179856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6"/>
          <p:cNvSpPr/>
          <p:nvPr/>
        </p:nvSpPr>
        <p:spPr>
          <a:xfrm>
            <a:off x="6875640" y="3789360"/>
            <a:ext cx="1777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егулирующа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18"/>
          <p:cNvSpPr/>
          <p:nvPr/>
        </p:nvSpPr>
        <p:spPr>
          <a:xfrm flipH="1">
            <a:off x="2268000" y="981000"/>
            <a:ext cx="1008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0"/>
          <p:cNvSpPr/>
          <p:nvPr/>
        </p:nvSpPr>
        <p:spPr>
          <a:xfrm>
            <a:off x="5724360" y="981000"/>
            <a:ext cx="1008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7"/>
          <p:cNvSpPr/>
          <p:nvPr/>
        </p:nvSpPr>
        <p:spPr>
          <a:xfrm>
            <a:off x="6588000" y="2708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8"/>
          <p:cNvSpPr/>
          <p:nvPr/>
        </p:nvSpPr>
        <p:spPr>
          <a:xfrm>
            <a:off x="6012000" y="3716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9"/>
          <p:cNvSpPr/>
          <p:nvPr/>
        </p:nvSpPr>
        <p:spPr>
          <a:xfrm>
            <a:off x="6588000" y="220500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12"/>
          <p:cNvSpPr/>
          <p:nvPr/>
        </p:nvSpPr>
        <p:spPr>
          <a:xfrm>
            <a:off x="468360" y="5229360"/>
            <a:ext cx="2232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2"/>
          <p:cNvSpPr/>
          <p:nvPr/>
        </p:nvSpPr>
        <p:spPr>
          <a:xfrm>
            <a:off x="468360" y="5732640"/>
            <a:ext cx="2232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6"/>
          <p:cNvSpPr/>
          <p:nvPr/>
        </p:nvSpPr>
        <p:spPr>
          <a:xfrm>
            <a:off x="6875640" y="4724280"/>
            <a:ext cx="17776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27"/>
          <p:cNvSpPr/>
          <p:nvPr/>
        </p:nvSpPr>
        <p:spPr>
          <a:xfrm>
            <a:off x="6588000" y="3429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27"/>
          <p:cNvSpPr/>
          <p:nvPr/>
        </p:nvSpPr>
        <p:spPr>
          <a:xfrm>
            <a:off x="6588000" y="414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27"/>
          <p:cNvSpPr/>
          <p:nvPr/>
        </p:nvSpPr>
        <p:spPr>
          <a:xfrm>
            <a:off x="6588000" y="5157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27"/>
          <p:cNvSpPr/>
          <p:nvPr/>
        </p:nvSpPr>
        <p:spPr>
          <a:xfrm>
            <a:off x="6588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29"/>
          <p:cNvSpPr/>
          <p:nvPr/>
        </p:nvSpPr>
        <p:spPr>
          <a:xfrm>
            <a:off x="250920" y="220500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27"/>
          <p:cNvSpPr/>
          <p:nvPr/>
        </p:nvSpPr>
        <p:spPr>
          <a:xfrm>
            <a:off x="250920" y="49417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27"/>
          <p:cNvSpPr/>
          <p:nvPr/>
        </p:nvSpPr>
        <p:spPr>
          <a:xfrm>
            <a:off x="250920" y="38606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27"/>
          <p:cNvSpPr/>
          <p:nvPr/>
        </p:nvSpPr>
        <p:spPr>
          <a:xfrm>
            <a:off x="250920" y="3213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27"/>
          <p:cNvSpPr/>
          <p:nvPr/>
        </p:nvSpPr>
        <p:spPr>
          <a:xfrm>
            <a:off x="250920" y="4437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27"/>
          <p:cNvSpPr/>
          <p:nvPr/>
        </p:nvSpPr>
        <p:spPr>
          <a:xfrm>
            <a:off x="250920" y="2565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27"/>
          <p:cNvSpPr/>
          <p:nvPr/>
        </p:nvSpPr>
        <p:spPr>
          <a:xfrm>
            <a:off x="250920" y="5445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27"/>
          <p:cNvSpPr/>
          <p:nvPr/>
        </p:nvSpPr>
        <p:spPr>
          <a:xfrm>
            <a:off x="250920" y="587700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12"/>
          <p:cNvSpPr/>
          <p:nvPr/>
        </p:nvSpPr>
        <p:spPr>
          <a:xfrm>
            <a:off x="468360" y="4724280"/>
            <a:ext cx="223200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057040" y="16002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228240"/>
            <a:ext cx="8585280" cy="15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44255"/>
                </a:solidFill>
                <a:latin typeface="Calibri"/>
              </a:rPr>
              <a:t>Внеурочная деятельность -неотъемлемая часть образовательного процес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10920" y="2060280"/>
            <a:ext cx="822492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Обязательными условиями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организации внеурочной деятельности в образовательном учреждении является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родительский запрос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наличие необходимой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учебно-материальной базы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наличие укомплектованных штатов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подготовленных кадров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соблюдение СанПиНов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 в том числе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требований к сменности занятий и составлению расписани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15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444255"/>
                </a:solidFill>
                <a:latin typeface="Calibri"/>
              </a:rPr>
              <a:t>Внеурочная деятельность -неотъемлемая часть образовательного процесс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1320" y="2781360"/>
            <a:ext cx="85345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еобразовательное учреждение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амостоятельно выбирае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формы, средства и методы организации внеурочной деятельности в соответствии со своим уставом и с Законом Российской Федерации «Об образовании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1</cp:lastModifiedBy>
  <dcterms:modified xsi:type="dcterms:W3CDTF">2017-10-10T11:27:08Z</dcterms:modified>
  <cp:revision>90</cp:revision>
  <dc:subject/>
  <dc:title>Внеурочная деятельность школьников</dc:title>
</cp:coreProperties>
</file>