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62A5-20BB-458E-B1F0-B3B1695AE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AD73-97ED-4DFE-A076-1F604F94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BB4B-F18F-4B9F-B866-5989B88D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0FC0-A26A-4F46-8539-834F39C5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A1ECF-6AD5-4D1E-A276-725316A1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5DCDC-5AAD-4DA1-A33F-FA1B8DE3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F35A-CF85-4322-8885-B4BA504B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E341-24BF-433E-B2AC-D81157F2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8484-A911-4C58-88AC-E07D37F9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4091-AEC0-4A08-BAEC-516938D52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ED8C-D8C7-417D-8026-16BA51C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C2E-1EF5-42C1-A6A0-F59AA2A5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1E25-C13D-4E9E-A057-4CC250C6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9561-6BC9-410F-BB49-E908351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4625-AFD1-4CEF-AF21-DC04F17A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7FE1-812F-416E-9FAC-5DC0FB939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672D-75CE-4167-A43B-D0A96AB3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F58-27B9-494D-A3DA-850D7AC2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DA8-D8DF-4518-94AF-19687352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736-E686-44D2-B4C3-B224A812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8F90-3410-4A7F-A449-8BE6A69DE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95A6-8127-4BD6-B266-F0FBD29F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CCB-5F3D-4116-97B4-4EC6C9D0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F51-59C6-43CC-A77A-D5B8D31D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9C77-7585-4F70-AB89-781EDE97D3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66ff"/>
                </a:solidFill>
                <a:latin typeface="Majestic"/>
              </a:rPr>
              <a:t>Click to edit the title text format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6A74-28E0-4F08-909A-B678157379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1806480"/>
            <a:ext cx="8915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ajestic"/>
              </a:rPr>
              <a:t>Конспект логопедического занятия для ребенка </a:t>
            </a:r>
            <a:br>
              <a:rPr sz="4800"/>
            </a:br>
            <a:r>
              <a:rPr b="0" lang="ru-RU" sz="4800" spc="-1" strike="noStrike">
                <a:solidFill>
                  <a:srgbClr val="3366ff"/>
                </a:solidFill>
                <a:latin typeface="Majestic"/>
              </a:rPr>
              <a:t>с ринолалией в послеоперационный период</a:t>
            </a: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3657600" y="5257800"/>
            <a:ext cx="5105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5684040" y="3962520"/>
            <a:ext cx="34513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а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рипова Светлана Ра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Характеристика звука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05" name="Содержимое 3" descr="http://festival.1september.ru/articles/575003/img7.gif"/>
          <p:cNvPicPr/>
          <p:nvPr/>
        </p:nvPicPr>
        <p:blipFill>
          <a:blip r:embed="rId1"/>
          <a:stretch/>
        </p:blipFill>
        <p:spPr>
          <a:xfrm>
            <a:off x="3219480" y="2116080"/>
            <a:ext cx="27050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3366ff"/>
                </a:solidFill>
                <a:latin typeface="Majestic"/>
              </a:rPr>
              <a:t>Фонематические процессы:</a:t>
            </a:r>
            <a:br>
              <a:rPr sz="4400"/>
            </a:br>
            <a:endParaRPr b="0" lang="en-US" sz="44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ушай внимательно и хлопни в ладоши, когда услышишь звук “С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, З, С, Ц, Ж, С, З, Ш, Ц, С, Ш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ff"/>
                </a:solidFill>
                <a:latin typeface="Majestic"/>
              </a:rPr>
              <a:t>Выдели картинки где есть </a:t>
            </a:r>
            <a:br>
              <a:rPr sz="4400"/>
            </a:br>
            <a:r>
              <a:rPr b="0" lang="ru-RU" sz="4400" spc="-1" strike="noStrike">
                <a:solidFill>
                  <a:srgbClr val="3366ff"/>
                </a:solidFill>
                <a:latin typeface="Majestic"/>
              </a:rPr>
              <a:t>звук С</a:t>
            </a:r>
            <a:endParaRPr b="0" lang="en-US" sz="44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09" name="Содержимое 3" descr="http://logopsi.ucoz.com/_fr/2/0829096.jpg"/>
          <p:cNvPicPr/>
          <p:nvPr/>
        </p:nvPicPr>
        <p:blipFill>
          <a:blip r:embed="rId1"/>
          <a:stretch/>
        </p:blipFill>
        <p:spPr>
          <a:xfrm>
            <a:off x="990720" y="1600200"/>
            <a:ext cx="6914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Какой ты молодец!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111" name="Содержимое 3" descr="http://ukr-suvenir.com/published/publicdata/UKRSUVEN12/attachments/SC/products_pictures/00111-2%20%D1%81%D0%BB%D0%BE%D0%BD%20001_enl.jpg"/>
          <p:cNvPicPr/>
          <p:nvPr/>
        </p:nvPicPr>
        <p:blipFill>
          <a:blip r:embed="rId1"/>
          <a:stretch/>
        </p:blipFill>
        <p:spPr>
          <a:xfrm>
            <a:off x="380880" y="1600200"/>
            <a:ext cx="4038840" cy="4267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тебя все получилось, теперь ты сам можешь делать массаж и гимнасти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ощание давай еще поиграем в одну игру: «Посмотри вокруг, и назови мне предмет где есть звук С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ru-RU" sz="4800" spc="-1" strike="noStrike">
                <a:solidFill>
                  <a:srgbClr val="0070c0"/>
                </a:solidFill>
                <a:latin typeface="Majestic"/>
              </a:rPr>
              <a:t>Тема: постановка звука С</a:t>
            </a:r>
            <a:br>
              <a:rPr sz="6600"/>
            </a:b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ционно – образов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ка звука С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точнить слова содержащих данный зв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ционно – развивающ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правильного артикуляционного укла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фонематического слух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речевого дых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артикуляционного аппар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имической мускул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екционно – воспитатель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спитывать познавательный интерес к логопедическому занят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2466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ожительный эмоциональный настрой на занят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Оборудование: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углый леденец на палочке, слон мягкая игрушка, тазик с водой, бумажные кораблики, две куколки, предметные картин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Здравствуй </a:t>
            </a:r>
            <a:br>
              <a:rPr sz="6000"/>
            </a:b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я слоненок Саша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pic>
        <p:nvPicPr>
          <p:cNvPr id="90" name="Содержимое 3" descr="http://ukr-suvenir.com/published/publicdata/UKRSUVEN12/attachments/SC/products_pictures/00111-2%20%D1%81%D0%BB%D0%BE%D0%BD%20001_enl.jpg"/>
          <p:cNvPicPr/>
          <p:nvPr/>
        </p:nvPicPr>
        <p:blipFill>
          <a:blip r:embed="rId1"/>
          <a:stretch/>
        </p:blipFill>
        <p:spPr>
          <a:xfrm>
            <a:off x="457200" y="18432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647960" y="1981080"/>
            <a:ext cx="4343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7625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очень люблю делать гимнастику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не простую, а языко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вай вместе попробуем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сначала надо подготовиться и сделать массаж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SzPct val="17625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Массаж 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0" y="4572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родольное поглажив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пальцем проводятся движения по направлению от резцов верхней челюсти вдоль границ расщелины по линии послеоперационного шва с обеих сторон к глотке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оперечное поглажив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  проводятся движения по направлению от средней линии неба до шеек зубов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кругообразное поглажив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круговые движения по направлению от средней линии неба от резцов верхней челюсти к глотке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рямолинейное растир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по направлению от резцов верхней челюсти по линии послеоперационного шва с обеих сторон к глотке и обратно) – 10-20 се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круговое растир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  круговые растирающие движения по направлению от средней линии неба от резцов верхней челюсти к глотке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спиралевидное растир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по спирали по направлению от резцов верхней челюсти к глотке и от средней линии неба к шейкам зубов) –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родольное разминани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плавные неторопливые движения  по направлению от средней линии неба от резцов верхней челюсти к глотке)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  сдвиганием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с легким сдвиганием тканей твердого и мягкого неба в разных направлениях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 надавливанием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с легким надавливанием на ткани твердого и мягкого неба в разных направлениях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 растягиванием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с легким растягиванием - без давления на ткани - твердого и мягкого неба в разных направлениях). Особое внимание уделяется границе твердого и мягкого неба. Проводится  постепенное увеличение нагрузки на ткани мягкого неба и растягивание-надавливание их по средней линии и в стороны от средней линии кверху – 10-2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 диагональное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м или средним пальцем проводятся движения по диагонали средней линии твердого неба по направлению к глотке вправо от и влево до краев небной занавески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 пружинно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(указательным или средним пальцем проводятся движения с резким отрыванием от тканей по направлению от средней линии неба к шейкам зубов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прерывистая вибрация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кончиками указательных или средних пальцев обеих рук производятся легкие удары по твердому и мягкому небу по направлению от резцов верхней челюсти к глотке) – 10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ибрация пунктированием (ударная)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указательные или средние пальцы обеих рук производят движения подобные выбиванию дроби на барабане, короткими отрывистыми касаниями от передних резцов  по направлению к глотке) – 5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непрерывная вибрация (лабильная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(указательным или средним пальцем тканям сообщаются безотрывные колебательные движения в области выхода сосудисто-нервного пучка неба и далее по его ходу) – 5 сек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разминание-надавливание в области крыло-целюстных складок.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некоторых методиках уранопластики производятся разрезы Эрнста, которые проходят по крыло-челюстным складкам. В случае интенсивного рубцевания возможно развитие внесуставной контрактуры нижней челюсти. В профилактических целях проводят массаж крыло-челюстных складок (указательный или средний палец ставят на область складки, между последними зубами на верхней и на нижней челюсти и производят разминающие движения по рубцам) – 10-30 се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SzPct val="4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Артикуляционная гимнастика</a:t>
            </a: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я для губ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Лягуш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абор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Заборчик-трубочк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 для язы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тенч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Желоб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SzPct val="15424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чистим нижние зуб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66ff"/>
                </a:solidFill>
                <a:latin typeface="Majestic"/>
              </a:rPr>
              <a:t>Дыхательная гимнастика</a:t>
            </a:r>
            <a:endParaRPr b="0" lang="en-US" sz="48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SzPct val="27424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ж в лесу гуля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воздухом дышать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ыши, как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ох – пф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дыхания – пф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дыхания – с-с-с-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дыхания – пфф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у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SzPct val="274241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врат дыхания – с-с-с-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SzPct val="176258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76258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Футбол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дуть через желобок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76258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ох с высунутым язы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3366ff"/>
                </a:solidFill>
                <a:latin typeface="Majestic"/>
              </a:rPr>
              <a:t>Мимическая гимнастика</a:t>
            </a:r>
            <a:br>
              <a:rPr sz="3600"/>
            </a:br>
            <a:r>
              <a:rPr b="0" lang="ru-RU" sz="6000" spc="-1" strike="noStrike">
                <a:solidFill>
                  <a:srgbClr val="3366ff"/>
                </a:solidFill>
                <a:latin typeface="Majestic"/>
              </a:rPr>
              <a:t> </a:t>
            </a:r>
            <a:br>
              <a:rPr sz="6000"/>
            </a:b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мотри-ка, Слонику понравилась твоя гимнастика, и он широко улыбается, давай и мы улыбнёмся ему широко-широко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сейчас, посмотри, наверное, он съел кислый лимон и весь сморщился, давай и мы сморщим лиц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он рассердился, что мы его не предупредили, давай и мы рассерд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все удивимся, что же зд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исход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5" descr="http://x3.cdn03.imgwykop.pl/c3201142/comment_d62d20hvbxwBCetaXJFtowAmM33d9uCk.jpg"/>
          <p:cNvPicPr/>
          <p:nvPr/>
        </p:nvPicPr>
        <p:blipFill>
          <a:blip r:embed="rId5"/>
          <a:stretch/>
        </p:blipFill>
        <p:spPr>
          <a:xfrm>
            <a:off x="6858000" y="3733920"/>
            <a:ext cx="14763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r>
              <a:rPr b="1" lang="ru-RU" sz="6000" spc="-1" strike="noStrike">
                <a:solidFill>
                  <a:srgbClr val="3366ff"/>
                </a:solidFill>
                <a:latin typeface="Majestic"/>
              </a:rPr>
              <a:t>Постановка звука:</a:t>
            </a:r>
            <a:br>
              <a:rPr sz="6000"/>
            </a:br>
            <a:endParaRPr b="0" lang="en-US" sz="6000" spc="-1" strike="noStrike">
              <a:solidFill>
                <a:srgbClr val="3366ff"/>
              </a:solidFill>
              <a:latin typeface="Majestic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вай встанем,  сделаем язычок «Горкой» и “накачаем насос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”, глубокий вдох носом и выдох «катится» с горки, через щёлочку между зубов(ребёнок делает имитационные движения, как будто он “накачивает насос” наклоняясь вперёд и произнося звук с-с-с-с , взрослый следит за артикуляцией звук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5424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Бачурин</dc:creator>
  <dc:description/>
  <dc:language>en-US</dc:language>
  <cp:lastModifiedBy>светлана шарипова</cp:lastModifiedBy>
  <dcterms:modified xsi:type="dcterms:W3CDTF">2024-01-07T15:21:5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