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7C9-F038-46F2-A796-1F6FD48C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0BCD-D2A5-4541-A767-C4C65111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79F-4BCD-41D5-BA4E-034E3E22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AD6-C42B-4FF4-9DFD-D8AD80AB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A018-7808-4241-9BFD-13E143A9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F037-D65C-4172-90F4-6EA0533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A1B4-9167-4ADC-B421-F921F6AB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18BC-F4F0-435A-B236-6039CBF4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7FB0-5BAC-40DF-A084-828A8AAE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2D34-3826-4975-8515-5A5C0544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74EF-C6C6-460F-A4BD-3FEB4324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A71-85D6-474A-A4B6-131B659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41CA-7F6F-485B-A395-20D966CA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2C3D-6974-4227-A535-23CD976A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099F-8018-4BA3-8A7C-2954D9ED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227E-D558-4BA3-8619-D641054C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0266-0380-427F-96E8-72D24C70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CA5-6FA0-4B82-BECA-C8192FE2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284-C2F7-46FD-9461-1D0714A3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26E-B1B1-4DD4-AB8D-79D6E196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FDD-E047-44EF-BB28-FF6F9980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CC6-75DB-46C8-9F85-3BF25F11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3A3-9EE7-459F-A9C2-43E712FB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A48-1230-4913-9BA4-9FBE09AE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0AC3-2E1D-46CF-B979-5EF3484BC0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2986-6A45-461B-BE03-1711DD0160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806480"/>
            <a:ext cx="8915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ajestic"/>
              </a:rPr>
              <a:t>Конспект логопедического занятия для ребенка </a:t>
            </a:r>
            <a:br>
              <a:rPr sz="4800"/>
            </a:br>
            <a:r>
              <a:rPr b="0" lang="ru-RU" sz="4800" spc="-1" strike="noStrike">
                <a:solidFill>
                  <a:srgbClr val="3366ff"/>
                </a:solidFill>
                <a:latin typeface="Majestic"/>
              </a:rPr>
              <a:t>с ринолалией в послеоперационный период</a:t>
            </a: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657600" y="52578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684040" y="3962520"/>
            <a:ext cx="345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пова Светлана Ра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Характеристика звука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05" name="Содержимое 3" descr="http://festival.1september.ru/articles/575003/img7.gif"/>
          <p:cNvPicPr/>
          <p:nvPr/>
        </p:nvPicPr>
        <p:blipFill>
          <a:blip r:embed="rId1"/>
          <a:stretch/>
        </p:blipFill>
        <p:spPr>
          <a:xfrm>
            <a:off x="3219480" y="2116080"/>
            <a:ext cx="27050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3366ff"/>
                </a:solidFill>
                <a:latin typeface="Majestic"/>
              </a:rPr>
              <a:t>Фонематические процессы:</a:t>
            </a:r>
            <a:br>
              <a:rPr sz="4400"/>
            </a:br>
            <a:endParaRPr b="0" lang="en-US" sz="44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ушай внимательно и хлопни в ладоши, когда услышишь звук “С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, З, С, Ц, Ж, С, З, Ш, Ц, С, Ш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Majestic"/>
              </a:rPr>
              <a:t>Выдели картинки где есть </a:t>
            </a:r>
            <a:br>
              <a:rPr sz="4400"/>
            </a:br>
            <a:r>
              <a:rPr b="0" lang="ru-RU" sz="4400" spc="-1" strike="noStrike">
                <a:solidFill>
                  <a:srgbClr val="3366ff"/>
                </a:solidFill>
                <a:latin typeface="Majestic"/>
              </a:rPr>
              <a:t>звук С</a:t>
            </a:r>
            <a:endParaRPr b="0" lang="en-US" sz="44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09" name="Содержимое 3" descr="http://logopsi.ucoz.com/_fr/2/0829096.jpg"/>
          <p:cNvPicPr/>
          <p:nvPr/>
        </p:nvPicPr>
        <p:blipFill>
          <a:blip r:embed="rId1"/>
          <a:stretch/>
        </p:blipFill>
        <p:spPr>
          <a:xfrm>
            <a:off x="99072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Какой ты молодец!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11" name="Содержимое 3" descr="http://ukr-suvenir.com/published/publicdata/UKRSUVEN12/attachments/SC/products_pictures/00111-2%20%D1%81%D0%BB%D0%BE%D0%BD%20001_enl.jpg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267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ебя все получилось, теперь ты сам можешь делать массаж и гимнаст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щание давай еще поиграем в одну игру: «Посмотри вокруг, и назови мне предмет где есть звук С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Majestic"/>
              </a:rPr>
              <a:t>Тема: постановка звука С</a:t>
            </a:r>
            <a:br>
              <a:rPr sz="6600"/>
            </a:b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ционно – 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а звука 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ить слова содержащих данный зв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ционно – 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правильного артикуляционного укла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фонематического слу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речевого дых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артикуляционного аппа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имической мускул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ционно – 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познавательный интерес к логопедическому занят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ительный эмоциональный настрой на зан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Оборудование: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й леденец на палочке, слон мягкая игрушка, тазик с водой, бумажные кораблики, две куколки, предметные кар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Здравствуй </a:t>
            </a:r>
            <a:br>
              <a:rPr sz="6000"/>
            </a:b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я слоненок Саша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90" name="Содержимое 3" descr="http://ukr-suvenir.com/published/publicdata/UKRSUVEN12/attachments/SC/products_pictures/00111-2%20%D1%81%D0%BB%D0%BE%D0%BD%20001_enl.jpg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47960" y="1981080"/>
            <a:ext cx="4343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очень люблю делать гимнастик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е простую, а язык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ай вместе попробуем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сначала надо подготовиться и сделать масс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Массаж 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родольное поглажив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пальцем проводятся движения по направлению от резцов верхней челюсти вдоль границ расщелины по линии послеоперационного шва с обеих сторон к глотке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оперечное поглажив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  проводятся движения по направлению от средней линии неба до шеек зубов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кругообразное поглажив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круговые движения по направлению от средней линии неба от резцов верхней челюсти к глотке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рямолинейное растир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по направлению от резцов верхней челюсти по линии послеоперационного шва с обеих сторон к глотке и обратно) – 10-20 се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круговое растир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  круговые растирающие движения по направлению от средней линии неба от резцов верхней челюсти к глотке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пиралевидное растир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по спирали по направлению от резцов верхней челюсти к глотке и от средней линии неба к шейкам зубов) –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родольное размин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плавные неторопливые движения  по направлению от средней линии неба от резцов верхней челюсти к глотке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  сдвиганием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с легким сдвиганием тканей твердого и мягкого неба в разных направлениях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 надавливанием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с легким надавливанием на ткани твердого и мягкого неба в разных направлениях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 растягиванием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с легким растягиванием - без давления на ткани - твердого и мягкого неба в разных направлениях). Особое внимание уделяется границе твердого и мягкого неба. Проводится  постепенное увеличение нагрузки на ткани мягкого неба и растягивание-надавливание их по средней линии и в стороны от средней линии кверху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 диагонально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по диагонали средней линии твердого неба по направлению к глотке вправо от и влево до краев небной занавески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 пружинно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(указательным или средним пальцем проводятся движения с резким отрыванием от тканей по направлению от средней линии неба к шейкам зубов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рерывистая вибрация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кончиками указательных или средних пальцев обеих рук производятся легкие удары по твердому и мягкому небу по направлению от резцов верхней челюсти к глотке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ибрация пунктированием (ударная)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е или средние пальцы обеих рук производят движения подобные выбиванию дроби на барабане, короткими отрывистыми касаниями от передних резцов  по направлению к глотке) – 5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епрерывная вибрация (лабильная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(указательным или средним пальцем тканям сообщаются безотрывные колебательные движения в области выхода сосудисто-нервного пучка неба и далее по его ходу) – 5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-надавливание в области крыло-целюстных складок.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некоторых методиках уранопластики производятся разрезы Эрнста, которые проходят по крыло-челюстным складкам. В случае интенсивного рубцевания возможно развитие внесуставной контрактуры нижней челюсти. В профилактических целях проводят массаж крыло-челюстных складок (указательный или средний палец ставят на область складки, между последними зубами на верхней и на нижней челюсти и производят разминающие движения по рубцам) – 10-30 се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Артикуляционная гимнастика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я для гу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яг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абор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аборчик-труб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 для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тен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Желоб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чистим нижние зуб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ajestic"/>
              </a:rPr>
              <a:t>Дыхательная гимнастика</a:t>
            </a: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SzPct val="2742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ж в лесу гу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воздухом дыш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ыши, как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ох – пф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дыхания – пф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дыхания – с-с-с-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дыхания – пф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дыхания – с-с-с-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7625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утбо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дуть через желоб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ох с высунутым язы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66ff"/>
                </a:solidFill>
                <a:latin typeface="Majestic"/>
              </a:rPr>
              <a:t>Мимическая гимнастика</a:t>
            </a:r>
            <a:br>
              <a:rPr sz="3600"/>
            </a:b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 </a:t>
            </a:r>
            <a:br>
              <a:rPr sz="6000"/>
            </a:b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-ка, Слонику понравилась твоя гимнастика, и он широко улыбается, давай и мы улыбнёмся ему широко-широк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ейчас, посмотри, наверное, он съел кислый лимон и весь сморщился, давай и мы сморщим ли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он рассердился, что мы его не предупредили, давай и мы рассерд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все удивимся, что же зд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http://x3.cdn03.imgwykop.pl/c3201142/comment_d62d20hvbxwBCetaXJFtowAmM33d9uCk.jpg"/>
          <p:cNvPicPr/>
          <p:nvPr/>
        </p:nvPicPr>
        <p:blipFill>
          <a:blip r:embed="rId5"/>
          <a:stretch/>
        </p:blipFill>
        <p:spPr>
          <a:xfrm>
            <a:off x="6858000" y="3733920"/>
            <a:ext cx="147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Постановка звука:</a:t>
            </a:r>
            <a:br>
              <a:rPr sz="6000"/>
            </a:b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 встанем,  сделаем язычок «Горкой» и “накачаем насос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”, глубокий вдох носом и выдох «катится» с горки, через щёлочку между зубов(ребёнок делает имитационные движения, как будто он “накачивает насос” наклоняясь вперёд и произнося звук с-с-с-с , взрослый следит за артикуляцией зву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Бачурин</dc:creator>
  <dc:description/>
  <dc:language>en-US</dc:language>
  <cp:lastModifiedBy>светлана шарипова</cp:lastModifiedBy>
  <dcterms:modified xsi:type="dcterms:W3CDTF">2024-01-07T15:21:5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