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3971-9B3A-4014-85AC-CC0EFBA41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C549-1042-49CE-BD4F-19965169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616C-82D9-4EDE-8111-F6CEA818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8458-6230-420E-82E9-412EDFF0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FDCD-DA93-4001-9300-EE9A6E78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B638-829A-4597-8041-2C2CA0D4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B7B2-09CE-43FF-99E0-0EB65643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5EF7-A10D-42D7-A102-621E7321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30E-0F49-43E4-8FE5-83CEB7F7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947-21F3-4D89-90FC-37F78A92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BF42-3357-47B6-A5FD-440F448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FD3A-07A2-48E3-952D-E37C9B8C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F31C-C3A2-4AE0-ABB5-A242FF759D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372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 Light"/>
              </a:rPr>
              <a:t>Алгоритм написания сочинения-рассуждения (13.2) </a:t>
            </a:r>
            <a:br>
              <a:rPr sz="5400"/>
            </a:br>
            <a:r>
              <a:rPr b="1" lang="ru-RU" sz="4400" spc="-1" strike="noStrike">
                <a:solidFill>
                  <a:srgbClr val="0070c0"/>
                </a:solidFill>
                <a:latin typeface="Calibri Light"/>
              </a:rPr>
              <a:t>(объяснение смысла фрагмента исходного текста )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5042880"/>
            <a:ext cx="9144000" cy="8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372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Сочинение готово!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Поздравляю!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38080" y="4333680"/>
            <a:ext cx="10515600" cy="184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9880" y="364680"/>
            <a:ext cx="1051560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 Light"/>
              </a:rPr>
              <a:t>Этапы работы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9520" y="1680840"/>
            <a:ext cx="515772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39520" y="1609200"/>
            <a:ext cx="515772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итайте внимательно тек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итаем фрагмент текста, который надо объяснить, выделяем ключевые слова и отвечаем на вопрос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какой части текста находится данное предложение(фрагмент)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му принадлежит высказывание герою или повествователю(рассказчику)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данное высказывание связано с основной мыслью текста?(подсказк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ую основную мысль автор хотел передать читателю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ируем смысл фрагмента и подбираем номера предложений, которые будут примерами – иллюстрациям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172200" y="1680840"/>
            <a:ext cx="518328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172200" y="1365120"/>
            <a:ext cx="51832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ксте предложение, смысл которого надо объяснить находится в финальной ча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казывание в тексте принадлежит повествовате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хотел донести до читателя мысль, что неприметная девочка любит Лёшу.Именно поэтому она с тревогой ждёт ответа красавицы, боится, что Галя посмеётся над мальчиком. Номера предложений, в которых содержатся примеры-иллюстрации 8, 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авая фигурная скобка 6"/>
          <p:cNvSpPr/>
          <p:nvPr/>
        </p:nvSpPr>
        <p:spPr>
          <a:xfrm>
            <a:off x="5537160" y="4456080"/>
            <a:ext cx="527040" cy="2014560"/>
          </a:xfrm>
          <a:custGeom>
            <a:avLst/>
            <a:gdLst>
              <a:gd name="textAreaLeft" fmla="*/ 0 w 527040"/>
              <a:gd name="textAreaRight" fmla="*/ 190440 w 527040"/>
              <a:gd name="textAreaTop" fmla="*/ 13680 h 2014560"/>
              <a:gd name="textAreaBottom" fmla="*/ 2000880 h 20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36"/>
                  <a:pt x="10800" y="471"/>
                </a:cubicBezTo>
                <a:lnTo>
                  <a:pt x="10800" y="10329"/>
                </a:lnTo>
                <a:cubicBezTo>
                  <a:pt x="10800" y="10565"/>
                  <a:pt x="16200" y="10800"/>
                  <a:pt x="21600" y="10800"/>
                </a:cubicBezTo>
                <a:cubicBezTo>
                  <a:pt x="16200" y="10800"/>
                  <a:pt x="10800" y="11036"/>
                  <a:pt x="10800" y="11271"/>
                </a:cubicBezTo>
                <a:lnTo>
                  <a:pt x="10800" y="21129"/>
                </a:lnTo>
                <a:cubicBezTo>
                  <a:pt x="10800" y="2136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одсказка! Смотрим задание 13.3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большинстве случаев слово, которое надо объяснить в задании 13.3, является ключевым для объяснения смыла фрагмента из задания 13.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щем ключевое слово в задании 13.3 С его помощью формулируем смысл фрагмента тек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Важно!!!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рагмент текста , смысл которого мы объясняем,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НЕ МОЖЕТ БЫТ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мером – иллюстрацие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 Light"/>
              </a:rPr>
              <a:t>Структура сочинения 13.2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38080" y="1166400"/>
            <a:ext cx="10515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Вступление: Тезис = какой смысл имеет фрагмент текста? + Что я об этом думаю (микровывод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1-ый пример-иллюстрация = конкретный случай из текста с пояснен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2-ой пример-иллюстрация = конкретный случай из текста с пояснение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 абзац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Заключение= вывод, который строится по схем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alibri"/>
              </a:rPr>
              <a:t>Поскольку (тезис), значит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 Light"/>
              </a:rPr>
              <a:t>Пишем сочинение – рассуждение 13.2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38080" y="941040"/>
            <a:ext cx="10515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Шаг 1(абзац1)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В какой части текста находится фрагмент?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у принадлежит высказывание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С предложением, смысл которого надо объяснить, мы встречаемся в финальной части текста М.Львовского, когда повествователь описывает состояние неприметной девочки в классе.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– вступительная часть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алее НЕ ПЕРЕПИСЫВАЕМ фрагмент, который надо объяснить, а используем шабло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Смысл данного фрагмента( отрывка, предложения) я понимаю так: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</a:rPr>
              <a:t>неприметная девочка любит Лёшу. 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– тезис  </a:t>
            </a:r>
            <a:r>
              <a:rPr b="0" lang="ru-RU" sz="2600" spc="-1" strike="noStrike" u="sng">
                <a:solidFill>
                  <a:srgbClr val="0070c0"/>
                </a:solidFill>
                <a:uFillTx/>
                <a:latin typeface="Calibri"/>
              </a:rPr>
              <a:t>Именно поэтому она с тревогой ждёт ответа красавицы, боится, что Галя посмеётся над мальчиком.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- микровывод . Далее идёт логическая связка между 1 и 2 абзацами. </a:t>
            </a:r>
            <a:r>
              <a:rPr b="0" lang="ru-RU" sz="2600" spc="-1" strike="noStrike">
                <a:solidFill>
                  <a:srgbClr val="0070c0"/>
                </a:solidFill>
                <a:latin typeface="Calibri"/>
              </a:rPr>
              <a:t>Проиллюстрировать эту мысль мне помогут примеры из прочитанного текст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</a:rPr>
              <a:t>Шаг 2 (абзац 2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38080" y="835200"/>
            <a:ext cx="10515600" cy="53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вводн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о-первых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указ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№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опис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из текста своими сл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м, как пример из текст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оказывает наше объяснение фрагмента из текста (пояс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о-первых, в предложении №8 автор описывает, что неприметная девочка, единственная в классе,  обращает внимание на Лёшу и посматривает на него «украдкой». Обычно так делают любящие люди, которые ещё не признались в своих чувств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Прямая со стрелкой 4"/>
          <p:cNvCxnSpPr/>
          <p:nvPr/>
        </p:nvCxnSpPr>
        <p:spPr>
          <a:xfrm flipH="1">
            <a:off x="2730240" y="1166400"/>
            <a:ext cx="3193200" cy="2159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" name="Прямая со стрелкой 5"/>
          <p:cNvCxnSpPr/>
          <p:nvPr/>
        </p:nvCxnSpPr>
        <p:spPr>
          <a:xfrm>
            <a:off x="5433480" y="1623960"/>
            <a:ext cx="1140840" cy="1805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" name="Прямая со стрелкой 6"/>
          <p:cNvCxnSpPr/>
          <p:nvPr/>
        </p:nvCxnSpPr>
        <p:spPr>
          <a:xfrm flipH="1">
            <a:off x="4107960" y="2233440"/>
            <a:ext cx="869040" cy="15631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2" name="Прямая со стрелкой 7"/>
          <p:cNvCxnSpPr/>
          <p:nvPr/>
        </p:nvCxnSpPr>
        <p:spPr>
          <a:xfrm flipH="1">
            <a:off x="4650840" y="2716200"/>
            <a:ext cx="1929600" cy="2015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 Light"/>
              </a:rPr>
              <a:t>Шаг 3 (абзац 3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782640"/>
            <a:ext cx="10515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вводного слов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Во-вторых,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тем указ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№ предлож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лее описыва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ример из текста своими словам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казываем, как пример из текста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доказывает наше объяснение фрагмента из текста (пояснен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Во-вторых, в предложении №16 описывается, как все в классе после ответа Лёши Гале смотрят на него пренебрежительно: словно он свинопас из сказки Андерсена. А неприметная девочка не смеётся над ним, как многие, а боится за него. Волнение, тревогу, чувство страха девочка испытывает за любимого  чело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Прямая со стрелкой 4"/>
          <p:cNvCxnSpPr/>
          <p:nvPr/>
        </p:nvCxnSpPr>
        <p:spPr>
          <a:xfrm flipH="1">
            <a:off x="3458880" y="1112400"/>
            <a:ext cx="2451600" cy="2213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6" name="Прямая со стрелкой 6"/>
          <p:cNvCxnSpPr/>
          <p:nvPr/>
        </p:nvCxnSpPr>
        <p:spPr>
          <a:xfrm>
            <a:off x="5526000" y="1630440"/>
            <a:ext cx="1472400" cy="17992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7" name="Прямая со стрелкой 8"/>
          <p:cNvCxnSpPr/>
          <p:nvPr/>
        </p:nvCxnSpPr>
        <p:spPr>
          <a:xfrm flipH="1">
            <a:off x="3803400" y="2146320"/>
            <a:ext cx="1165680" cy="1591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8" name="Прямая со стрелкой 10"/>
          <p:cNvCxnSpPr/>
          <p:nvPr/>
        </p:nvCxnSpPr>
        <p:spPr>
          <a:xfrm>
            <a:off x="7461000" y="2676240"/>
            <a:ext cx="92520" cy="2439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3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 Light"/>
              </a:rPr>
              <a:t>Шаг 4 (абзац 4)</a:t>
            </a:r>
            <a:endParaRPr b="0" lang="en-US" sz="2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838080" y="822240"/>
            <a:ext cx="10515600" cy="53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ем с шабло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роанализировав  примеры из текста, отмечу, что они помогли мне лучше понять смысл фрагмента текста и главную мысль авто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 повторять фрагмент, а использовать схем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Поскольку (тезис), значи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оскольку неприметная девочка любит Лешу, а любовь – сильное и благородное чувство, значит она всегда заботится о своём возлюбленном, беспокоится о нём. Хочется, чтобы каждый из нас испытывал любовь, чтобы стать лучш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01T18:37:25Z</dcterms:created>
  <dc:creator>Надежда</dc:creator>
  <dc:description/>
  <dc:language>en-US</dc:language>
  <cp:lastModifiedBy>Гость</cp:lastModifiedBy>
  <dcterms:modified xsi:type="dcterms:W3CDTF">2023-12-02T08:43:14Z</dcterms:modified>
  <cp:revision>18</cp:revision>
  <dc:subject/>
  <dc:title>Алгоритм написания сочинения-рассуждения (13.2), связанного с объяснением смысла фрагмента исходного текста</dc:title>
</cp:coreProperties>
</file>