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4AE-5B65-4361-81D1-6A8CE749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D09-9FE3-4C45-9E23-D6103A91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A559-FA38-4A78-A583-76CDE245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3DF-80F7-4091-AD5D-79DB4476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8CD-70FD-470C-BC47-7BB4A62D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0A67-AEC5-4984-B3FF-E7B6653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2EF-2CDE-4C91-94BA-59185E4A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42F0-619F-4512-8141-BC6C0CD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015-7C34-439C-8B7F-0172EF70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48C-AC0B-4605-B62D-A71AA4EC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927C-9E99-4D66-94D8-D37A366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B4F-CB84-4079-8F4E-32EB9266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3D7F-D2F5-4B2C-9F18-8BC045C419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37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 Light"/>
              </a:rPr>
              <a:t>Алгоритм написания сочинения-рассуждения (13.2) </a:t>
            </a:r>
            <a:br>
              <a:rPr sz="5400"/>
            </a:b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(объяснение смысла фрагмента исходного текста 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042880"/>
            <a:ext cx="9144000" cy="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37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Сочинение готово!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Поздравляю!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4333680"/>
            <a:ext cx="10515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9880" y="364680"/>
            <a:ext cx="105156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Этапы работы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9520" y="1609200"/>
            <a:ext cx="51577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внимательно тек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ем фрагмент текста, который надо объяснить, выделяем ключевые слова и отвечаем на вопрос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кой части текста находится данное предложение(фрагмент)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у принадлежит высказывание герою или повествователю(рассказчику)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данное высказывание связано с основной мыслью текста?(подсказ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ую основную мысль автор хотел передать читателю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уем смысл фрагмента и подбираем номера предложений, которые будут примерами – иллюстрац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72200" y="1365120"/>
            <a:ext cx="5183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ксте предложение, смысл которого надо объяснить находится в финальной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ывание в тексте принадлежит повествовате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хотел донести до читателя мысль, что неприметная девочка любит Лёшу.Именно поэтому она с тревогой ждёт ответа красавицы, боится, что Галя посмеётся над мальчиком. Номера предложений, в которых содержатся примеры-иллюстрации 8,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авая фигурная скобка 6"/>
          <p:cNvSpPr/>
          <p:nvPr/>
        </p:nvSpPr>
        <p:spPr>
          <a:xfrm>
            <a:off x="5537160" y="4456080"/>
            <a:ext cx="527040" cy="2014560"/>
          </a:xfrm>
          <a:custGeom>
            <a:avLst/>
            <a:gdLst>
              <a:gd name="textAreaLeft" fmla="*/ 0 w 527040"/>
              <a:gd name="textAreaRight" fmla="*/ 190440 w 527040"/>
              <a:gd name="textAreaTop" fmla="*/ 13680 h 2014560"/>
              <a:gd name="textAreaBottom" fmla="*/ 200088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сказка! Смотрим задание 13.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ольшинстве случаев слово, которое надо объяснить в задании 13.3, является ключевым для объяснения смыла фрагмента из задания 13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щем ключевое слово в задании 13.3 С его помощью формулируем смысл фрагмента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рагмент текста , смысл которого мы объясняем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МОЖЕТ БЫ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ом – иллюстраци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Структура сочинения 13.2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166400"/>
            <a:ext cx="10515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Вступление: Тезис = какой смысл имеет фрагмент текста? + Что я об этом думаю (микровыво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1-ый пример-иллюстрация = конкретный случай из текста с пояснен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2-ой пример-иллюстрация = конкретный случай из текста с пояснен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Заключение= вывод, который строится по схем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Поскольку (тезис), значит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Пишем сочинение – рассуждение 13.2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941040"/>
            <a:ext cx="10515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Шаг 1(абзац1)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какой части текста находится фрагмент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у принадлежит высказывани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С предложением, смысл которого надо объяснить, мы встречаемся в финальной части текста М.Львовского, когда повествователь описывает состояние неприметной девочки в классе.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– вступительная ча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лее НЕ ПЕРЕПИСЫВАЕМ фрагмент, который надо объяснить, а используем шабло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Смысл данного фрагмента( отрывка, предложения) я понимаю так: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</a:rPr>
              <a:t>неприметная девочка любит Лёшу.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– тезис 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</a:rPr>
              <a:t>Именно поэтому она с тревогой ждёт ответа красавицы, боится, что Галя посмеётся над мальчиком.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- микровывод . Далее идёт логическая связка между 1 и 2 абзацами.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Проиллюстрировать эту мысль мне помогут примеры из прочитанного текс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</a:rPr>
              <a:t>Шаг 2 (абзац 2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835200"/>
            <a:ext cx="10515600" cy="53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вводн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о-первых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указ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№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опис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из текста своими сл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м, как пример из текст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оказывает наше объяснение фрагмента из текста (пояс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о-первых, в предложении №8 автор описывает, что неприметная девочка, единственная в классе,  обращает внимание на Лёшу и посматривает на него «украдкой». Обычно так делают любящие люди, которые ещё не признались в своих чув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4"/>
          <p:cNvCxnSpPr/>
          <p:nvPr/>
        </p:nvCxnSpPr>
        <p:spPr>
          <a:xfrm flipH="1">
            <a:off x="2730240" y="1166400"/>
            <a:ext cx="3193200" cy="2159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Прямая со стрелкой 5"/>
          <p:cNvCxnSpPr/>
          <p:nvPr/>
        </p:nvCxnSpPr>
        <p:spPr>
          <a:xfrm>
            <a:off x="5433480" y="1623960"/>
            <a:ext cx="1140840" cy="1805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Прямая со стрелкой 6"/>
          <p:cNvCxnSpPr/>
          <p:nvPr/>
        </p:nvCxnSpPr>
        <p:spPr>
          <a:xfrm flipH="1">
            <a:off x="4107960" y="2233440"/>
            <a:ext cx="869040" cy="1563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" name="Прямая со стрелкой 7"/>
          <p:cNvCxnSpPr/>
          <p:nvPr/>
        </p:nvCxnSpPr>
        <p:spPr>
          <a:xfrm flipH="1">
            <a:off x="4650840" y="2716200"/>
            <a:ext cx="1929600" cy="201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 Light"/>
              </a:rPr>
              <a:t>Шаг 3 (абзац 3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782640"/>
            <a:ext cx="10515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вводн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о-вторых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указ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№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опис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из текста своими сл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м, как пример из текст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оказывает наше объяснение фрагмента из текста (пояс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о-вторых, в предложении №16 описывается, как все в классе после ответа Лёши Гале смотрят на него пренебрежительно: словно он свинопас из сказки Андерсена. А неприметная девочка не смеётся над ним, как многие, а боится за него. Волнение, тревогу, чувство страха девочка испытывает за любимого 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4"/>
          <p:cNvCxnSpPr/>
          <p:nvPr/>
        </p:nvCxnSpPr>
        <p:spPr>
          <a:xfrm flipH="1">
            <a:off x="3458880" y="1112400"/>
            <a:ext cx="2451600" cy="221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Прямая со стрелкой 6"/>
          <p:cNvCxnSpPr/>
          <p:nvPr/>
        </p:nvCxnSpPr>
        <p:spPr>
          <a:xfrm>
            <a:off x="5526000" y="1630440"/>
            <a:ext cx="1472400" cy="1799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" name="Прямая со стрелкой 8"/>
          <p:cNvCxnSpPr/>
          <p:nvPr/>
        </p:nvCxnSpPr>
        <p:spPr>
          <a:xfrm flipH="1">
            <a:off x="3803400" y="2146320"/>
            <a:ext cx="1165680" cy="1591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Прямая со стрелкой 10"/>
          <p:cNvCxnSpPr/>
          <p:nvPr/>
        </p:nvCxnSpPr>
        <p:spPr>
          <a:xfrm>
            <a:off x="7461000" y="2676240"/>
            <a:ext cx="92520" cy="2439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 Light"/>
              </a:rPr>
              <a:t>Шаг 4 (абзац 4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822240"/>
            <a:ext cx="10515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шабл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анализировав  примеры из текста, отмечу, что они помогли мне лучше понять смысл фрагмента текста и главную мысль ав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овторять фрагмент, а использовать схем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скольку (тезис), значи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скольку неприметная девочка любит Лешу, а любовь – сильное и благородное чувство, значит она всегда заботится о своём возлюбленном, беспокоится о нём. Хочется, чтобы каждый из нас испытывал любовь, чтобы стать луч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01T18:37:25Z</dcterms:created>
  <dc:creator>Надежда</dc:creator>
  <dc:description/>
  <dc:language>en-US</dc:language>
  <cp:lastModifiedBy>Гость</cp:lastModifiedBy>
  <dcterms:modified xsi:type="dcterms:W3CDTF">2023-12-02T08:43:14Z</dcterms:modified>
  <cp:revision>18</cp:revision>
  <dc:subject/>
  <dc:title>Алгоритм написания сочинения-рассуждения (13.2), связанного с объяснением смысла фрагмента исходного текста</dc:title>
</cp:coreProperties>
</file>