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7.png" ContentType="image/png"/>
  <Override PartName="/ppt/media/image14.gif" ContentType="image/gif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1B77-D9A9-4A74-93CC-3008B5B3C8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3A37-004E-48BB-A78D-1231B935D0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16FB-3409-4227-96F0-B3D8FB6A1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8B9-E237-46D8-AE49-8EDCCD4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23BE-A47A-4159-821A-7BE306737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B06-1BBF-4018-B65F-DDFA4F06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B525-7CCD-4A13-9BE0-19BD6220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B8BC-6AD0-4940-BFE1-8825A2DB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AC4CD-EEFA-45A5-B1F7-4D72CD0F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EB3F-9F8D-48EF-90E0-BBB88CD2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127B-F9E4-4342-9F18-0CD600CD2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084E-D4A7-4D81-A2CD-C1F66E13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0A5C-D831-4879-AC0B-8E73FDC0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9C05-E5DA-4B95-A8BE-1474CEB2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46964-AB61-4824-8400-D2F4E277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14AED-C396-4083-B4E4-A02C6D7F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2517-8E15-4269-A26A-B404FDBF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FD216-FC89-4634-A719-788A91A3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F64BD-0350-423E-A6AA-FA1358E02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ADF-4134-443A-BF29-193E094F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62DA-387F-4F13-8499-5D9B7720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930-3AE7-4BF2-91D4-F605714B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501E-D7DC-4442-A1CD-B876C51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927-2099-44F1-A084-132FAB63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D9F5-D252-4431-928B-D60B17EC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8A5-3940-4A88-99E6-73B81E43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B32E-5B08-4AF9-9B05-643A21FBF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3F8A-D9FF-41C0-A715-52646E143D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loballab.ru/mim/mim/intro/all.2476.ru.htm" TargetMode="External"/><Relationship Id="rId3" Type="http://schemas.openxmlformats.org/officeDocument/2006/relationships/hyperlink" Target="http://dreaminginjavascript.wordpress.com/2008/07/15/javascript-numbers-can-bite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587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множение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узначного числа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однозначн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34920" y="4653000"/>
            <a:ext cx="352908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Учитель начальных класс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МАОУ «СШ №8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асильева Людмила Михайл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"/>
          <p:cNvSpPr/>
          <p:nvPr/>
        </p:nvSpPr>
        <p:spPr>
          <a:xfrm>
            <a:off x="3630600" y="836640"/>
            <a:ext cx="29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 3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3988080" y="383868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МК «Школа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альтернативный процесс 13"/>
          <p:cNvSpPr/>
          <p:nvPr/>
        </p:nvSpPr>
        <p:spPr>
          <a:xfrm>
            <a:off x="357120" y="1301760"/>
            <a:ext cx="6878880" cy="545796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857160" y="1785960"/>
            <a:ext cx="59468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школьный буфет привезли 7 ящиков яблок по 20 кг в каждом и столько же ящиков груш по 30 кг. Сколько килограммов фруктов привезли в буф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Блок-схема: альтернативный процесс 13"/>
          <p:cNvSpPr/>
          <p:nvPr/>
        </p:nvSpPr>
        <p:spPr>
          <a:xfrm>
            <a:off x="449280" y="1500120"/>
            <a:ext cx="649908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468360" y="1785960"/>
            <a:ext cx="6335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8"/>
          <p:cNvSpPr/>
          <p:nvPr/>
        </p:nvSpPr>
        <p:spPr>
          <a:xfrm>
            <a:off x="857160" y="1785960"/>
            <a:ext cx="45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  <p:sp>
        <p:nvSpPr>
          <p:cNvPr id="150" name="Правая фигурная скобка 9"/>
          <p:cNvSpPr/>
          <p:nvPr/>
        </p:nvSpPr>
        <p:spPr>
          <a:xfrm>
            <a:off x="5143680" y="1714680"/>
            <a:ext cx="285480" cy="121428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5429160" y="20001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2292480" y="428760"/>
            <a:ext cx="17200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857160" y="1785960"/>
            <a:ext cx="45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блок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2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ш -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7 ящ. по 30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2" descr=""/>
          <p:cNvPicPr/>
          <p:nvPr/>
        </p:nvPicPr>
        <p:blipFill>
          <a:blip r:embed="rId2"/>
          <a:stretch/>
        </p:blipFill>
        <p:spPr>
          <a:xfrm>
            <a:off x="285840" y="139680"/>
            <a:ext cx="1141200" cy="117648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3" descr=""/>
          <p:cNvPicPr/>
          <p:nvPr/>
        </p:nvPicPr>
        <p:blipFill>
          <a:blip r:embed="rId3"/>
          <a:stretch/>
        </p:blipFill>
        <p:spPr>
          <a:xfrm>
            <a:off x="4711680" y="139680"/>
            <a:ext cx="1146240" cy="1165320"/>
          </a:xfrm>
          <a:prstGeom prst="rect">
            <a:avLst/>
          </a:prstGeom>
          <a:ln w="0">
            <a:noFill/>
          </a:ln>
        </p:spPr>
      </p:pic>
      <p:sp>
        <p:nvSpPr>
          <p:cNvPr id="158" name="Правая фигурная скобка 9"/>
          <p:cNvSpPr/>
          <p:nvPr/>
        </p:nvSpPr>
        <p:spPr>
          <a:xfrm>
            <a:off x="5143680" y="1714680"/>
            <a:ext cx="285480" cy="121428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214280"/>
              <a:gd name="textAreaBottom" fmla="*/ 120708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16200" y="10800"/>
                  <a:pt x="21600" y="10800"/>
                </a:cubicBezTo>
                <a:cubicBezTo>
                  <a:pt x="162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5400" y="21600"/>
                  <a:pt x="0" y="21600"/>
                </a:cubicBezTo>
              </a:path>
            </a:pathLst>
          </a:custGeom>
          <a:solidFill>
            <a:srgbClr val="bbe0e3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2"/>
          <p:cNvSpPr/>
          <p:nvPr/>
        </p:nvSpPr>
        <p:spPr>
          <a:xfrm>
            <a:off x="5429160" y="20001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857160" y="3571920"/>
            <a:ext cx="5429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extBox 12" descr=""/>
          <p:cNvPicPr/>
          <p:nvPr/>
        </p:nvPicPr>
        <p:blipFill>
          <a:blip r:embed="rId4"/>
          <a:stretch/>
        </p:blipFill>
        <p:spPr>
          <a:xfrm>
            <a:off x="762120" y="3024360"/>
            <a:ext cx="5645160" cy="19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2553840" y="357120"/>
            <a:ext cx="25916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2"/>
          <p:cNvSpPr/>
          <p:nvPr/>
        </p:nvSpPr>
        <p:spPr>
          <a:xfrm>
            <a:off x="785880" y="1714680"/>
            <a:ext cx="550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роке я работал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5"/>
                </a:solidFill>
                <a:latin typeface="Times New Roman"/>
                <a:ea typeface="Times New Roman"/>
              </a:rPr>
              <a:t>Интересным бы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Трудным было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лыбающееся лицо 13"/>
          <p:cNvSpPr/>
          <p:nvPr/>
        </p:nvSpPr>
        <p:spPr>
          <a:xfrm>
            <a:off x="214200" y="142920"/>
            <a:ext cx="1500480" cy="12859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Улыбающееся лицо 14"/>
          <p:cNvSpPr/>
          <p:nvPr/>
        </p:nvSpPr>
        <p:spPr>
          <a:xfrm>
            <a:off x="4643280" y="4214880"/>
            <a:ext cx="1357560" cy="1271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олилиния 16"/>
          <p:cNvSpPr/>
          <p:nvPr/>
        </p:nvSpPr>
        <p:spPr>
          <a:xfrm>
            <a:off x="714240" y="1000080"/>
            <a:ext cx="486000" cy="150840"/>
          </a:xfrm>
          <a:custGeom>
            <a:avLst/>
            <a:gdLst>
              <a:gd name="textAreaLeft" fmla="*/ 0 w 486000"/>
              <a:gd name="textAreaRight" fmla="*/ 486360 w 48600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485192" h="150845">
                <a:moveTo>
                  <a:pt x="0" y="0"/>
                </a:moveTo>
                <a:lnTo>
                  <a:pt x="485192" y="0"/>
                </a:lnTo>
                <a:cubicBezTo>
                  <a:pt x="449425" y="24882"/>
                  <a:pt x="349898" y="147735"/>
                  <a:pt x="270588" y="149290"/>
                </a:cubicBezTo>
                <a:cubicBezTo>
                  <a:pt x="191278" y="150845"/>
                  <a:pt x="100304" y="80087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олилиния 25"/>
          <p:cNvSpPr/>
          <p:nvPr/>
        </p:nvSpPr>
        <p:spPr>
          <a:xfrm flipV="1">
            <a:off x="5072040" y="5071320"/>
            <a:ext cx="485640" cy="71640"/>
          </a:xfrm>
          <a:custGeom>
            <a:avLst/>
            <a:gdLst>
              <a:gd name="textAreaLeft" fmla="*/ 0 w 485640"/>
              <a:gd name="textAreaRight" fmla="*/ 486000 w 4856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85192" h="150845">
                <a:moveTo>
                  <a:pt x="0" y="0"/>
                </a:moveTo>
                <a:lnTo>
                  <a:pt x="485192" y="0"/>
                </a:lnTo>
                <a:cubicBezTo>
                  <a:pt x="449425" y="24882"/>
                  <a:pt x="349898" y="147735"/>
                  <a:pt x="270588" y="149290"/>
                </a:cubicBezTo>
                <a:cubicBezTo>
                  <a:pt x="191278" y="150845"/>
                  <a:pt x="100304" y="80087"/>
                  <a:pt x="0" y="0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334800" y="623880"/>
            <a:ext cx="66135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2" descr=""/>
          <p:cNvPicPr/>
          <p:nvPr/>
        </p:nvPicPr>
        <p:blipFill>
          <a:blip r:embed="rId3"/>
          <a:stretch/>
        </p:blipFill>
        <p:spPr>
          <a:xfrm>
            <a:off x="4043520" y="3198960"/>
            <a:ext cx="2904840" cy="200952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3" descr=""/>
          <p:cNvPicPr/>
          <p:nvPr/>
        </p:nvPicPr>
        <p:blipFill>
          <a:blip r:embed="rId4"/>
          <a:stretch/>
        </p:blipFill>
        <p:spPr>
          <a:xfrm>
            <a:off x="334800" y="627120"/>
            <a:ext cx="3041640" cy="220824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4" descr=""/>
          <p:cNvPicPr/>
          <p:nvPr/>
        </p:nvPicPr>
        <p:blipFill>
          <a:blip r:embed="rId5"/>
          <a:stretch/>
        </p:blipFill>
        <p:spPr>
          <a:xfrm>
            <a:off x="558720" y="3179880"/>
            <a:ext cx="3025800" cy="204768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5" descr=""/>
          <p:cNvPicPr/>
          <p:nvPr/>
        </p:nvPicPr>
        <p:blipFill>
          <a:blip r:embed="rId6"/>
          <a:stretch/>
        </p:blipFill>
        <p:spPr>
          <a:xfrm>
            <a:off x="4211640" y="79380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4"/>
          <p:cNvSpPr/>
          <p:nvPr/>
        </p:nvSpPr>
        <p:spPr>
          <a:xfrm>
            <a:off x="1153800" y="428760"/>
            <a:ext cx="4403880" cy="70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я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Блок-схема: альтернативный процесс 13"/>
          <p:cNvSpPr/>
          <p:nvPr/>
        </p:nvSpPr>
        <p:spPr>
          <a:xfrm>
            <a:off x="357120" y="1500120"/>
            <a:ext cx="6357960" cy="3363840"/>
          </a:xfrm>
          <a:prstGeom prst="flowChartAlternateProcess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785880" y="171468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. 8, </a:t>
            </a:r>
            <a:r>
              <a:rPr b="1" i="1" lang="ru-RU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№ 1 (3-5 столбик), №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Прямоугольник 5" descr=""/>
          <p:cNvPicPr/>
          <p:nvPr/>
        </p:nvPicPr>
        <p:blipFill>
          <a:blip r:embed="rId2"/>
          <a:stretch/>
        </p:blipFill>
        <p:spPr>
          <a:xfrm>
            <a:off x="-895320" y="1401840"/>
            <a:ext cx="985680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www.globallab.ru/mim/mim/intro/all.2476.ru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dreaminginjavascript.wordpress.com/2008/07/15/javascript-numbers-can-bite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/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dsovet.su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 - шаблон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395280" y="623880"/>
            <a:ext cx="62643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Давайте с вами учиться считать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Делить, умножать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Прибавлять, вычитать.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Запомните все,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Что без точного счёта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Не сдвинется с места</a:t>
            </a:r>
            <a:br>
              <a:rPr sz="3200"/>
            </a:br>
            <a:r>
              <a:rPr b="1" lang="ru-RU" sz="3200" spc="-1" strike="noStrike">
                <a:solidFill>
                  <a:srgbClr val="2105cb"/>
                </a:solidFill>
                <a:latin typeface="Times New Roman"/>
                <a:ea typeface="Times New Roman"/>
              </a:rPr>
              <a:t>Любая рабо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334800" y="623880"/>
            <a:ext cx="6613560" cy="511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2" descr=""/>
          <p:cNvPicPr/>
          <p:nvPr/>
        </p:nvPicPr>
        <p:blipFill>
          <a:blip r:embed="rId3"/>
          <a:stretch/>
        </p:blipFill>
        <p:spPr>
          <a:xfrm>
            <a:off x="4043520" y="3198960"/>
            <a:ext cx="2904840" cy="20095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"/>
          <p:cNvPicPr/>
          <p:nvPr/>
        </p:nvPicPr>
        <p:blipFill>
          <a:blip r:embed="rId4"/>
          <a:stretch/>
        </p:blipFill>
        <p:spPr>
          <a:xfrm>
            <a:off x="334800" y="627120"/>
            <a:ext cx="3041640" cy="2208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4" descr=""/>
          <p:cNvPicPr/>
          <p:nvPr/>
        </p:nvPicPr>
        <p:blipFill>
          <a:blip r:embed="rId5"/>
          <a:stretch/>
        </p:blipFill>
        <p:spPr>
          <a:xfrm>
            <a:off x="558720" y="3179880"/>
            <a:ext cx="3025800" cy="2047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5" descr=""/>
          <p:cNvPicPr/>
          <p:nvPr/>
        </p:nvPicPr>
        <p:blipFill>
          <a:blip r:embed="rId6"/>
          <a:stretch/>
        </p:blipFill>
        <p:spPr>
          <a:xfrm>
            <a:off x="4211640" y="793800"/>
            <a:ext cx="29084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395280" y="1125360"/>
            <a:ext cx="6697800" cy="403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гадай правило и продолж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яд чисел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, 37, 41, 45, 49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 202, 303, 404, 505,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, 76, 65, 54, 43,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1579680" y="40464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ЫЙ 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11040" y="1255680"/>
            <a:ext cx="6769080" cy="424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 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*2+6*1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+10)*3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*1+3*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579680" y="40464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ТНЫЙ  СЧЁ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792000" y="1595520"/>
            <a:ext cx="64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и порядок действий</a:t>
            </a: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Rectangle 4"/>
          <p:cNvGrpSpPr/>
          <p:nvPr/>
        </p:nvGrpSpPr>
        <p:grpSpPr>
          <a:xfrm>
            <a:off x="146160" y="1206360"/>
            <a:ext cx="7022880" cy="4694400"/>
            <a:chOff x="146160" y="1206360"/>
            <a:chExt cx="7022880" cy="4694400"/>
          </a:xfrm>
        </p:grpSpPr>
        <p:pic>
          <p:nvPicPr>
            <p:cNvPr id="105" name="Rectangle 4" descr=""/>
            <p:cNvPicPr/>
            <p:nvPr/>
          </p:nvPicPr>
          <p:blipFill>
            <a:blip r:embed="rId2"/>
            <a:stretch/>
          </p:blipFill>
          <p:spPr>
            <a:xfrm>
              <a:off x="146160" y="1206360"/>
              <a:ext cx="7022880" cy="46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95280" y="1268280"/>
              <a:ext cx="6192720" cy="42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Составить и освоить алгоритм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внетабличного умножения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двузначного числа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33cc"/>
                  </a:solidFill>
                  <a:latin typeface="Times New Roman"/>
                  <a:ea typeface="Times New Roman"/>
                </a:rPr>
                <a:t>на однозначное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"/>
          <p:cNvSpPr/>
          <p:nvPr/>
        </p:nvSpPr>
        <p:spPr>
          <a:xfrm>
            <a:off x="1716840" y="404640"/>
            <a:ext cx="3260880" cy="642600"/>
          </a:xfrm>
          <a:prstGeom prst="rect">
            <a:avLst/>
          </a:prstGeom>
          <a:solidFill>
            <a:srgbClr val="abf3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ЦЕЛЬ 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592200" y="338040"/>
            <a:ext cx="56944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альтернативный процесс 6"/>
          <p:cNvSpPr/>
          <p:nvPr/>
        </p:nvSpPr>
        <p:spPr>
          <a:xfrm>
            <a:off x="568440" y="170028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ужно разложить двузнач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рядные слага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2971800" y="119700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низ 9"/>
          <p:cNvSpPr/>
          <p:nvPr/>
        </p:nvSpPr>
        <p:spPr>
          <a:xfrm>
            <a:off x="2971800" y="299736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Блок-схема: альтернативный процесс 11"/>
          <p:cNvSpPr/>
          <p:nvPr/>
        </p:nvSpPr>
        <p:spPr>
          <a:xfrm>
            <a:off x="568440" y="3465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ужно умножить кажд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ое на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Стрелка вниз 12"/>
          <p:cNvSpPr/>
          <p:nvPr/>
        </p:nvSpPr>
        <p:spPr>
          <a:xfrm>
            <a:off x="2971800" y="4722840"/>
            <a:ext cx="93672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альтернативный процесс 13"/>
          <p:cNvSpPr/>
          <p:nvPr/>
        </p:nvSpPr>
        <p:spPr>
          <a:xfrm>
            <a:off x="568440" y="5229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ти сумму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592200" y="338040"/>
            <a:ext cx="569448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ГОРИТМ  РЕ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альтернативный процесс 6"/>
          <p:cNvSpPr/>
          <p:nvPr/>
        </p:nvSpPr>
        <p:spPr>
          <a:xfrm>
            <a:off x="568440" y="170028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ужно разложить двузначное числ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рядные слагаем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трелка вниз 7"/>
          <p:cNvSpPr/>
          <p:nvPr/>
        </p:nvSpPr>
        <p:spPr>
          <a:xfrm>
            <a:off x="2971800" y="119700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низ 9"/>
          <p:cNvSpPr/>
          <p:nvPr/>
        </p:nvSpPr>
        <p:spPr>
          <a:xfrm>
            <a:off x="2971800" y="2997360"/>
            <a:ext cx="93672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Блок-схема: альтернативный процесс 11"/>
          <p:cNvSpPr/>
          <p:nvPr/>
        </p:nvSpPr>
        <p:spPr>
          <a:xfrm>
            <a:off x="568440" y="3465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ша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нужно умножить кажд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гаемое на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 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 = 20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+ 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трелка вниз 12"/>
          <p:cNvSpPr/>
          <p:nvPr/>
        </p:nvSpPr>
        <p:spPr>
          <a:xfrm>
            <a:off x="2971800" y="4722840"/>
            <a:ext cx="93672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альтернативный процесс 13"/>
          <p:cNvSpPr/>
          <p:nvPr/>
        </p:nvSpPr>
        <p:spPr>
          <a:xfrm>
            <a:off x="568440" y="5229360"/>
            <a:ext cx="5742000" cy="1224000"/>
          </a:xfrm>
          <a:prstGeom prst="flowChartAlternateProcess">
            <a:avLst/>
          </a:prstGeom>
          <a:solidFill>
            <a:srgbClr val="cece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шаг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йти сумму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= (20 + 3)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= 20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 + 3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*</a:t>
            </a: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4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=80 + 12 = 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3254400" y="404640"/>
            <a:ext cx="18576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739800" y="338040"/>
            <a:ext cx="5400360" cy="70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КУЛЬТ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"/>
          <p:cNvGrpSpPr/>
          <p:nvPr/>
        </p:nvGrpSpPr>
        <p:grpSpPr>
          <a:xfrm>
            <a:off x="895320" y="2077920"/>
            <a:ext cx="6286680" cy="3652920"/>
            <a:chOff x="895320" y="2077920"/>
            <a:chExt cx="6286680" cy="3652920"/>
          </a:xfrm>
        </p:grpSpPr>
        <p:pic>
          <p:nvPicPr>
            <p:cNvPr id="127" name="TextBox 2" descr=""/>
            <p:cNvPicPr/>
            <p:nvPr/>
          </p:nvPicPr>
          <p:blipFill>
            <a:blip r:embed="rId2"/>
            <a:stretch/>
          </p:blipFill>
          <p:spPr>
            <a:xfrm>
              <a:off x="895320" y="2077920"/>
              <a:ext cx="6286680" cy="36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947880" y="2128680"/>
              <a:ext cx="586080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Поднимает руки класс – это раз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Повернулась голова – это два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уки вниз, вперед смотри – это три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уки в стороны пошире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Развернули на четыре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С силой их к плечам прижать – это пять,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660033"/>
                  </a:solidFill>
                  <a:latin typeface="Times New Roman"/>
                  <a:ea typeface="Times New Roman"/>
                </a:rPr>
                <a:t>Всем ребятам тихо сесть – это шесть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3" descr=""/>
          <p:cNvPicPr/>
          <p:nvPr/>
        </p:nvPicPr>
        <p:blipFill>
          <a:blip r:embed="rId3"/>
          <a:stretch/>
        </p:blipFill>
        <p:spPr>
          <a:xfrm>
            <a:off x="-71280" y="1238400"/>
            <a:ext cx="1798560" cy="17985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5" descr=""/>
          <p:cNvPicPr/>
          <p:nvPr/>
        </p:nvPicPr>
        <p:blipFill>
          <a:blip r:embed="rId4"/>
          <a:stretch/>
        </p:blipFill>
        <p:spPr>
          <a:xfrm>
            <a:off x="2556000" y="5084640"/>
            <a:ext cx="2943000" cy="1648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"/>
          <p:cNvPicPr/>
          <p:nvPr/>
        </p:nvPicPr>
        <p:blipFill>
          <a:blip r:embed="rId5"/>
          <a:stretch/>
        </p:blipFill>
        <p:spPr>
          <a:xfrm>
            <a:off x="6948360" y="1363680"/>
            <a:ext cx="23814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3T18:23:50Z</dcterms:created>
  <dc:creator>home</dc:creator>
  <dc:description/>
  <dc:language>en-US</dc:language>
  <cp:lastModifiedBy>User</cp:lastModifiedBy>
  <dcterms:modified xsi:type="dcterms:W3CDTF">2024-01-06T17:28:58Z</dcterms:modified>
  <cp:revision>48</cp:revision>
  <dc:subject/>
  <dc:title>Слайд 1</dc:title>
</cp:coreProperties>
</file>