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7.png" ContentType="image/png"/>
  <Override PartName="/ppt/media/image14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8B81-6A23-42EA-A3A5-A064B1222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737C-C0A8-4791-8E29-A4AA457CB3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37A-BE6B-45AF-93D5-B079B089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5C2-812A-4630-88B3-ED6106C7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0EC-0794-4C3E-B25A-8418A504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A83C-593A-490F-A153-D6EE7330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8430-AFFB-4A7A-867C-43167E7B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D6CF-F9E5-4E21-8DD3-9F0E14F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BC12-DDE4-4E02-921C-A7858BBB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D27D-2B07-412B-8992-C1FAEC3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F8C7-977F-41DE-BDDD-19AFED9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013E-99B3-42B4-A6C0-C588F743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81D-5127-469E-9417-A9EC325E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62B-6E65-4422-BCBE-FDA50D31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2496-85F6-47B0-A6E3-3DC1F0B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42FC-5CC2-4D4C-AA8E-3A39013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6DAF-AB83-4847-9AD7-0AF58E1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C918-81B7-40DA-AC8E-360AE041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394E-58E7-42CB-B27C-C2D7082A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223-1289-41EA-A2E9-E3929FB4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A18-CE1B-4105-8311-B249AA9D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EDAC-3020-4E83-97A1-E218F8B6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9AB-42EF-4963-B0EB-0801E793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7F5-CB7F-4A95-90D8-FDE47456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939-750E-4E25-B553-6E59C79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44A-C223-4CCA-9288-9B57927D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339C-6B47-4645-8E0C-A4A1567D2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200-828F-42F8-AD10-4D9DB7FE8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loballab.ru/mim/mim/intro/all.2476.ru.htm" TargetMode="External"/><Relationship Id="rId3" Type="http://schemas.openxmlformats.org/officeDocument/2006/relationships/hyperlink" Target="http://dreaminginjavascript.wordpress.com/2008/07/15/javascript-numbers-can-bit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87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ени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значного числа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одн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34920" y="4653000"/>
            <a:ext cx="352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АОУ «СШ №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асильева Людмила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630600" y="83664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 3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988080" y="38386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13"/>
          <p:cNvSpPr/>
          <p:nvPr/>
        </p:nvSpPr>
        <p:spPr>
          <a:xfrm>
            <a:off x="357120" y="1301760"/>
            <a:ext cx="6878880" cy="545796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857160" y="1785960"/>
            <a:ext cx="5946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ый буфет привезли 7 ящиков яблок по 20 кг в каждом и столько же ящиков груш по 30 кг. Сколько килограммов фруктов привезли в буф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альтернативный процесс 13"/>
          <p:cNvSpPr/>
          <p:nvPr/>
        </p:nvSpPr>
        <p:spPr>
          <a:xfrm>
            <a:off x="449280" y="1500120"/>
            <a:ext cx="649908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68360" y="178596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857160" y="178596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  <p:sp>
        <p:nvSpPr>
          <p:cNvPr id="150" name="Правая фигурная скобка 9"/>
          <p:cNvSpPr/>
          <p:nvPr/>
        </p:nvSpPr>
        <p:spPr>
          <a:xfrm>
            <a:off x="5143680" y="1714680"/>
            <a:ext cx="285480" cy="121428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5429160" y="20001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857160" y="178596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  <p:sp>
        <p:nvSpPr>
          <p:cNvPr id="158" name="Правая фигурная скобка 9"/>
          <p:cNvSpPr/>
          <p:nvPr/>
        </p:nvSpPr>
        <p:spPr>
          <a:xfrm>
            <a:off x="5143680" y="1714680"/>
            <a:ext cx="285480" cy="121428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5429160" y="20001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857160" y="3571920"/>
            <a:ext cx="542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extBox 12" descr=""/>
          <p:cNvPicPr/>
          <p:nvPr/>
        </p:nvPicPr>
        <p:blipFill>
          <a:blip r:embed="rId4"/>
          <a:stretch/>
        </p:blipFill>
        <p:spPr>
          <a:xfrm>
            <a:off x="762120" y="3024360"/>
            <a:ext cx="564516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553840" y="357120"/>
            <a:ext cx="25916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785880" y="1714680"/>
            <a:ext cx="55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роке я работ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5"/>
                </a:solidFill>
                <a:latin typeface="Times New Roman"/>
                <a:ea typeface="Times New Roman"/>
              </a:rPr>
              <a:t>Интересным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Трудным было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лыбающееся лицо 13"/>
          <p:cNvSpPr/>
          <p:nvPr/>
        </p:nvSpPr>
        <p:spPr>
          <a:xfrm>
            <a:off x="214200" y="142920"/>
            <a:ext cx="1500480" cy="1285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лыбающееся лицо 14"/>
          <p:cNvSpPr/>
          <p:nvPr/>
        </p:nvSpPr>
        <p:spPr>
          <a:xfrm>
            <a:off x="4643280" y="4214880"/>
            <a:ext cx="1357560" cy="1271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16"/>
          <p:cNvSpPr/>
          <p:nvPr/>
        </p:nvSpPr>
        <p:spPr>
          <a:xfrm>
            <a:off x="714240" y="1000080"/>
            <a:ext cx="486000" cy="150840"/>
          </a:xfrm>
          <a:custGeom>
            <a:avLst/>
            <a:gdLst>
              <a:gd name="textAreaLeft" fmla="*/ 0 w 486000"/>
              <a:gd name="textAreaRight" fmla="*/ 486360 w 48600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85192" h="150845">
                <a:moveTo>
                  <a:pt x="0" y="0"/>
                </a:moveTo>
                <a:lnTo>
                  <a:pt x="485192" y="0"/>
                </a:lnTo>
                <a:cubicBezTo>
                  <a:pt x="449425" y="24882"/>
                  <a:pt x="349898" y="147735"/>
                  <a:pt x="270588" y="149290"/>
                </a:cubicBezTo>
                <a:cubicBezTo>
                  <a:pt x="191278" y="150845"/>
                  <a:pt x="100304" y="80087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25"/>
          <p:cNvSpPr/>
          <p:nvPr/>
        </p:nvSpPr>
        <p:spPr>
          <a:xfrm flipV="1">
            <a:off x="5072040" y="5071320"/>
            <a:ext cx="485640" cy="71640"/>
          </a:xfrm>
          <a:custGeom>
            <a:avLst/>
            <a:gdLst>
              <a:gd name="textAreaLeft" fmla="*/ 0 w 485640"/>
              <a:gd name="textAreaRight" fmla="*/ 486000 w 4856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85192" h="150845">
                <a:moveTo>
                  <a:pt x="0" y="0"/>
                </a:moveTo>
                <a:lnTo>
                  <a:pt x="485192" y="0"/>
                </a:lnTo>
                <a:cubicBezTo>
                  <a:pt x="449425" y="24882"/>
                  <a:pt x="349898" y="147735"/>
                  <a:pt x="270588" y="149290"/>
                </a:cubicBezTo>
                <a:cubicBezTo>
                  <a:pt x="191278" y="150845"/>
                  <a:pt x="100304" y="80087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4800" y="623880"/>
            <a:ext cx="66135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2" descr=""/>
          <p:cNvPicPr/>
          <p:nvPr/>
        </p:nvPicPr>
        <p:blipFill>
          <a:blip r:embed="rId3"/>
          <a:stretch/>
        </p:blipFill>
        <p:spPr>
          <a:xfrm>
            <a:off x="4043520" y="3198960"/>
            <a:ext cx="2904840" cy="20095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4"/>
          <a:stretch/>
        </p:blipFill>
        <p:spPr>
          <a:xfrm>
            <a:off x="334800" y="627120"/>
            <a:ext cx="3041640" cy="2208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5"/>
          <a:stretch/>
        </p:blipFill>
        <p:spPr>
          <a:xfrm>
            <a:off x="558720" y="3179880"/>
            <a:ext cx="3025800" cy="20476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6"/>
          <a:stretch/>
        </p:blipFill>
        <p:spPr>
          <a:xfrm>
            <a:off x="4211640" y="79380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1153800" y="428760"/>
            <a:ext cx="440388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785880" y="17146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. 8,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№ 1 (3-5 столбик),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5" descr=""/>
          <p:cNvPicPr/>
          <p:nvPr/>
        </p:nvPicPr>
        <p:blipFill>
          <a:blip r:embed="rId2"/>
          <a:stretch/>
        </p:blipFill>
        <p:spPr>
          <a:xfrm>
            <a:off x="-895320" y="1401840"/>
            <a:ext cx="9856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globallab.ru/mim/mim/intro/all.2476.ru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dreaminginjavascript.wordpress.com/2008/07/15/javascript-numbers-can-b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sovet.su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- шаблон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95280" y="623880"/>
            <a:ext cx="62643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Давайте с вами учиться считать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Делить, умножать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Прибавлять, вычитать.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Запомните все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Что без точного счёта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Не сдвинется с места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Любая рабо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34800" y="623880"/>
            <a:ext cx="66135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4043520" y="3198960"/>
            <a:ext cx="2904840" cy="2009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334800" y="627120"/>
            <a:ext cx="304164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5"/>
          <a:stretch/>
        </p:blipFill>
        <p:spPr>
          <a:xfrm>
            <a:off x="558720" y="3179880"/>
            <a:ext cx="3025800" cy="2047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6"/>
          <a:stretch/>
        </p:blipFill>
        <p:spPr>
          <a:xfrm>
            <a:off x="4211640" y="79380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95280" y="1125360"/>
            <a:ext cx="6697800" cy="403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гадай правило и продолж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яд чисел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, 37, 41, 45, 49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 202, 303, 404, 505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, 76, 65, 54, 43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1579680" y="40464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ЫЙ 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11040" y="1255680"/>
            <a:ext cx="6769080" cy="424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*2+6*1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+10)*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*1+3*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579680" y="40464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ЫЙ 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792000" y="159552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и порядок действий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Rectangle 4"/>
          <p:cNvGrpSpPr/>
          <p:nvPr/>
        </p:nvGrpSpPr>
        <p:grpSpPr>
          <a:xfrm>
            <a:off x="146160" y="1206360"/>
            <a:ext cx="7022880" cy="4694400"/>
            <a:chOff x="146160" y="1206360"/>
            <a:chExt cx="7022880" cy="4694400"/>
          </a:xfrm>
        </p:grpSpPr>
        <p:pic>
          <p:nvPicPr>
            <p:cNvPr id="105" name="Rectangle 4" descr=""/>
            <p:cNvPicPr/>
            <p:nvPr/>
          </p:nvPicPr>
          <p:blipFill>
            <a:blip r:embed="rId2"/>
            <a:stretch/>
          </p:blipFill>
          <p:spPr>
            <a:xfrm>
              <a:off x="146160" y="1206360"/>
              <a:ext cx="7022880" cy="46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95280" y="1268280"/>
              <a:ext cx="619272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Составить и освоить алгорит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внетабличного умножени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двузначного числ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на однозначно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"/>
          <p:cNvSpPr/>
          <p:nvPr/>
        </p:nvSpPr>
        <p:spPr>
          <a:xfrm>
            <a:off x="1716840" y="404640"/>
            <a:ext cx="3260880" cy="642600"/>
          </a:xfrm>
          <a:prstGeom prst="rect">
            <a:avLst/>
          </a:prstGeom>
          <a:solidFill>
            <a:srgbClr val="ab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ЦЕЛЬ 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200" y="338040"/>
            <a:ext cx="56944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альтернативный процесс 6"/>
          <p:cNvSpPr/>
          <p:nvPr/>
        </p:nvSpPr>
        <p:spPr>
          <a:xfrm>
            <a:off x="568440" y="170028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ужно разложить двузнач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рядные слага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2971800" y="119700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9"/>
          <p:cNvSpPr/>
          <p:nvPr/>
        </p:nvSpPr>
        <p:spPr>
          <a:xfrm>
            <a:off x="2971800" y="299736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альтернативный процесс 11"/>
          <p:cNvSpPr/>
          <p:nvPr/>
        </p:nvSpPr>
        <p:spPr>
          <a:xfrm>
            <a:off x="568440" y="3465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ужно умножить кажд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ое на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2"/>
          <p:cNvSpPr/>
          <p:nvPr/>
        </p:nvSpPr>
        <p:spPr>
          <a:xfrm>
            <a:off x="2971800" y="4722840"/>
            <a:ext cx="93672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альтернативный процесс 13"/>
          <p:cNvSpPr/>
          <p:nvPr/>
        </p:nvSpPr>
        <p:spPr>
          <a:xfrm>
            <a:off x="568440" y="5229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ти сумму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92200" y="338040"/>
            <a:ext cx="56944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альтернативный процесс 6"/>
          <p:cNvSpPr/>
          <p:nvPr/>
        </p:nvSpPr>
        <p:spPr>
          <a:xfrm>
            <a:off x="568440" y="170028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ужно разложить двузнач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рядные слага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7"/>
          <p:cNvSpPr/>
          <p:nvPr/>
        </p:nvSpPr>
        <p:spPr>
          <a:xfrm>
            <a:off x="2971800" y="119700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9"/>
          <p:cNvSpPr/>
          <p:nvPr/>
        </p:nvSpPr>
        <p:spPr>
          <a:xfrm>
            <a:off x="2971800" y="299736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альтернативный процесс 11"/>
          <p:cNvSpPr/>
          <p:nvPr/>
        </p:nvSpPr>
        <p:spPr>
          <a:xfrm>
            <a:off x="568440" y="3465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ужно умножить кажд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ое на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 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 = 20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+ 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12"/>
          <p:cNvSpPr/>
          <p:nvPr/>
        </p:nvSpPr>
        <p:spPr>
          <a:xfrm>
            <a:off x="2971800" y="4722840"/>
            <a:ext cx="93672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13"/>
          <p:cNvSpPr/>
          <p:nvPr/>
        </p:nvSpPr>
        <p:spPr>
          <a:xfrm>
            <a:off x="568440" y="5229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ти сумму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= 20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+ 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80 + 12 =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39800" y="338040"/>
            <a:ext cx="540036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"/>
          <p:cNvGrpSpPr/>
          <p:nvPr/>
        </p:nvGrpSpPr>
        <p:grpSpPr>
          <a:xfrm>
            <a:off x="895320" y="2077920"/>
            <a:ext cx="6286680" cy="3652920"/>
            <a:chOff x="895320" y="2077920"/>
            <a:chExt cx="6286680" cy="3652920"/>
          </a:xfrm>
        </p:grpSpPr>
        <p:pic>
          <p:nvPicPr>
            <p:cNvPr id="127" name="TextBox 2" descr=""/>
            <p:cNvPicPr/>
            <p:nvPr/>
          </p:nvPicPr>
          <p:blipFill>
            <a:blip r:embed="rId2"/>
            <a:stretch/>
          </p:blipFill>
          <p:spPr>
            <a:xfrm>
              <a:off x="895320" y="2077920"/>
              <a:ext cx="628668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947880" y="2128680"/>
              <a:ext cx="586080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Поднимает руки класс – это раз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Повернулась голова – это дв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уки вниз, вперед смотри – это три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уки в стороны поши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азвернули на четыре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С силой их к плечам прижать – это пя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Всем ребятам тихо сесть – это шес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-71280" y="12384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2556000" y="5084640"/>
            <a:ext cx="2943000" cy="1648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"/>
          <p:cNvPicPr/>
          <p:nvPr/>
        </p:nvPicPr>
        <p:blipFill>
          <a:blip r:embed="rId5"/>
          <a:stretch/>
        </p:blipFill>
        <p:spPr>
          <a:xfrm>
            <a:off x="6948360" y="13636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User</cp:lastModifiedBy>
  <dcterms:modified xsi:type="dcterms:W3CDTF">2024-01-06T17:28:58Z</dcterms:modified>
  <cp:revision>48</cp:revision>
  <dc:subject/>
  <dc:title>Слайд 1</dc:title>
</cp:coreProperties>
</file>