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C38F-C6BD-43E2-AF79-A58E62F3D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0C7-1319-43E6-8CDD-DE79F4B5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6AF-4363-46C4-B9D5-25D662E55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A14-A110-4A50-8AB9-9A073F26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A3476-6B57-4435-BDB0-E691A2CD8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FFB1-571C-4FA8-A666-EDFFCD52E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FB6A-CEEC-41D7-8264-BD88512E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6173-5B5C-4CAE-B3C2-F327121F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B07C-505C-4153-AA1B-522F8747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8E47-CDF3-44A5-B006-18357B6A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82C3-3760-4FAE-BC53-CE4E3F6D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999-A0D8-432F-B99D-16470DC6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9111-7DBB-49F8-B8FD-82BA1564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7E4CA-61BD-43F5-991C-8B5BC199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A69B-0B8C-4CA0-A351-0D387348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3A38-85E1-4AFE-9D93-C0E28EF2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F63E-AFEA-448C-A762-1E033BF2A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C36F-7686-4154-A17C-E53F6FC6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752-92F6-47EF-973D-BC70E1BE0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53B9-7E22-4BE1-A32A-CFEA5B4C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6D88-144C-49A9-9D1C-8DB5E6CAE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962-E0BD-42D1-BC46-7A9C1997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028-986E-4AEA-93EA-AEC88B10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A99-A67E-475F-922A-2736339A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EA018-E743-4635-8BF4-0EC6EEAB18F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9E41-9FAF-4D13-BF96-7A5B0543B9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571240" cy="1152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Муниципальное бюджет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 дополнительно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omic Sans MS"/>
              </a:rPr>
              <a:t>Дом детской культуры (искусств) «Радуга»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32000" y="1773000"/>
            <a:ext cx="7377120" cy="40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Творческий проек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Вс</a:t>
            </a:r>
            <a:r>
              <a:rPr b="1" lang="ru-RU" sz="4800" spc="-1" strike="noStrike">
                <a:solidFill>
                  <a:srgbClr val="ffb800"/>
                </a:solidFill>
                <a:latin typeface="Comic Sans MS"/>
              </a:rPr>
              <a:t>е</a:t>
            </a: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800" spc="-1" strike="noStrike">
                <a:solidFill>
                  <a:srgbClr val="ffb800"/>
                </a:solidFill>
                <a:latin typeface="Comic Sans MS"/>
              </a:rPr>
              <a:t>ц</a:t>
            </a:r>
            <a:r>
              <a:rPr b="1" lang="ru-RU" sz="4800" spc="-1" strike="noStrike">
                <a:solidFill>
                  <a:srgbClr val="ffff00"/>
                </a:solidFill>
                <a:latin typeface="Comic Sans MS"/>
              </a:rPr>
              <a:t>ве</a:t>
            </a:r>
            <a:r>
              <a:rPr b="1" lang="ru-RU" sz="4800" spc="-1" strike="noStrike">
                <a:solidFill>
                  <a:srgbClr val="00b200"/>
                </a:solidFill>
                <a:latin typeface="Comic Sans MS"/>
              </a:rPr>
              <a:t>та</a:t>
            </a:r>
            <a:r>
              <a:rPr b="1" lang="ru-RU" sz="4800" spc="-1" strike="noStrike">
                <a:solidFill>
                  <a:srgbClr val="62c3da"/>
                </a:solidFill>
                <a:latin typeface="Comic Sans MS"/>
              </a:rPr>
              <a:t> ра</a:t>
            </a:r>
            <a:r>
              <a:rPr b="1" lang="ru-RU" sz="4800" spc="-1" strike="noStrike">
                <a:solidFill>
                  <a:srgbClr val="0000ff"/>
                </a:solidFill>
                <a:latin typeface="Comic Sans MS"/>
              </a:rPr>
              <a:t>ду</a:t>
            </a:r>
            <a:r>
              <a:rPr b="1" lang="ru-RU" sz="4800" spc="-1" strike="noStrike">
                <a:solidFill>
                  <a:srgbClr val="990099"/>
                </a:solidFill>
                <a:latin typeface="Comic Sans MS"/>
              </a:rPr>
              <a:t>ги»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176720" y="3573360"/>
            <a:ext cx="49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и: учащиеся объединения «Лоскутная фантазия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дагог: Яшина Валентина Александровна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989520" y="602064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23 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2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5 0.031 0.0413 C 0.031 0.06529 0.017 0.08394 0 0.08394 C -0.017 0.08394 -0.031 0.1026 -0.031 0.12525 C -0.031 0.1479 -0.017 0.16655 0 0.16655 C 0.017 0.16655 0.031 0.1852 0.031 0.20786 C 0.031 0.23051 0.017 0.24916 0 0.24916 C -0.017 0.24916 -0.031 0.26781 -0.031 0.2918 C -0.031 0.31445 -0.017 0.3331 0 0.3331 C 0.017 0.3331 0.031 0.31445 0.031 0.2918 C 0.031 0.26781 0.017 0.24916 0 0.24916 C -0.017 0.24916 -0.031 0.23051 -0.031 0.20786 C -0.031 0.1852 -0.017 0.16655 0 0.16655 C 0.017 0.16655 0.031 0.1479 0.031 0.12525 C 0.031 0.1026 0.017 0.08394 0 0.08394 C -0.017 0.08394 -0.031 0.06529 -0.031 0.0413 C -0.031 0.01865 -0.017 0 0 0 Z">
                                      <p:cBhvr>
                                        <p:cTn id="6" dur="5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597528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З</a:t>
            </a:r>
            <a:r>
              <a:rPr b="1" lang="ru-RU" sz="2400" spc="-1" strike="noStrike">
                <a:solidFill>
                  <a:srgbClr val="ffb800"/>
                </a:solidFill>
                <a:latin typeface="Comic Sans MS"/>
              </a:rPr>
              <a:t>а</a:t>
            </a:r>
            <a:r>
              <a:rPr b="1" lang="ru-RU" sz="2400" spc="-1" strike="noStrike">
                <a:solidFill>
                  <a:srgbClr val="ffcc00"/>
                </a:solidFill>
                <a:latin typeface="Comic Sans MS"/>
              </a:rPr>
              <a:t>к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л</a:t>
            </a:r>
            <a:r>
              <a:rPr b="1" lang="ru-RU" sz="2400" spc="-1" strike="noStrike">
                <a:solidFill>
                  <a:srgbClr val="0099cc"/>
                </a:solidFill>
                <a:latin typeface="Comic Sans MS"/>
              </a:rPr>
              <a:t>ю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ч</a:t>
            </a:r>
            <a:r>
              <a:rPr b="1" lang="ru-RU" sz="2400" spc="-1" strike="noStrike">
                <a:solidFill>
                  <a:srgbClr val="cc0099"/>
                </a:solidFill>
                <a:latin typeface="Comic Sans MS"/>
              </a:rPr>
              <a:t>е</a:t>
            </a:r>
            <a:r>
              <a:rPr b="1" lang="ru-RU" sz="2400" spc="-1" strike="noStrike">
                <a:solidFill>
                  <a:srgbClr val="4d4d4d"/>
                </a:solidFill>
                <a:latin typeface="Comic Sans MS"/>
              </a:rPr>
              <a:t>н</a:t>
            </a:r>
            <a:r>
              <a:rPr b="1" lang="ru-RU" sz="2400" spc="-1" strike="noStrike">
                <a:solidFill>
                  <a:srgbClr val="996633"/>
                </a:solidFill>
                <a:latin typeface="Comic Sans MS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9280" y="692280"/>
            <a:ext cx="8964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дуга творчества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ножество разных «радуг» можно сделать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амим: нарисовать, вырезать, наклеить, сшить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ше учреждение называется «Радуга» . Проводятся  много творческих конкурсов  по теме: «Радуга красок»,  «Радуга творчества» и др.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ы стараемся  все работы делать радужно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4"/>
          <p:cNvSpPr/>
          <p:nvPr/>
        </p:nvSpPr>
        <p:spPr>
          <a:xfrm flipH="1">
            <a:off x="8508240" y="3260880"/>
            <a:ext cx="95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Рисунок 2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1440000" cy="2089080"/>
          </a:xfrm>
          <a:prstGeom prst="rect">
            <a:avLst/>
          </a:prstGeom>
          <a:ln w="0">
            <a:noFill/>
          </a:ln>
        </p:spPr>
      </p:pic>
      <p:sp>
        <p:nvSpPr>
          <p:cNvPr id="188" name="Прямая соединительная линия 8"/>
          <p:cNvSpPr/>
          <p:nvPr/>
        </p:nvSpPr>
        <p:spPr>
          <a:xfrm flipV="1">
            <a:off x="826920" y="3573000"/>
            <a:ext cx="863640" cy="576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Прямая соединительная линия 3"/>
          <p:cNvSpPr/>
          <p:nvPr/>
        </p:nvSpPr>
        <p:spPr>
          <a:xfrm flipV="1">
            <a:off x="684360" y="3429000"/>
            <a:ext cx="863280" cy="5745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Прямая соединительная линия 4"/>
          <p:cNvSpPr/>
          <p:nvPr/>
        </p:nvSpPr>
        <p:spPr>
          <a:xfrm flipV="1">
            <a:off x="755640" y="3499920"/>
            <a:ext cx="863640" cy="57636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Прямая соединительная линия 5"/>
          <p:cNvSpPr/>
          <p:nvPr/>
        </p:nvSpPr>
        <p:spPr>
          <a:xfrm flipV="1">
            <a:off x="826920" y="3644640"/>
            <a:ext cx="863640" cy="577800"/>
          </a:xfrm>
          <a:prstGeom prst="line">
            <a:avLst/>
          </a:prstGeom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Прямая соединительная линия 6"/>
          <p:cNvSpPr/>
          <p:nvPr/>
        </p:nvSpPr>
        <p:spPr>
          <a:xfrm flipV="1">
            <a:off x="900000" y="3715920"/>
            <a:ext cx="863640" cy="57636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Прямая соединительная линия 9"/>
          <p:cNvSpPr/>
          <p:nvPr/>
        </p:nvSpPr>
        <p:spPr>
          <a:xfrm flipV="1">
            <a:off x="1042920" y="3860640"/>
            <a:ext cx="863640" cy="578160"/>
          </a:xfrm>
          <a:prstGeom prst="line">
            <a:avLst/>
          </a:prstGeom>
          <a:ln w="7632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Прямая соединительная линия 7"/>
          <p:cNvSpPr/>
          <p:nvPr/>
        </p:nvSpPr>
        <p:spPr>
          <a:xfrm flipV="1">
            <a:off x="971640" y="3789000"/>
            <a:ext cx="863640" cy="577800"/>
          </a:xfrm>
          <a:prstGeom prst="line">
            <a:avLst/>
          </a:prstGeom>
          <a:ln w="7632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5" name="Рисунок 13" descr="C:\Users\Администратор\AppData\Local\Microsoft\Windows\Temporary Internet Files\Content.Word\IMG_0162.jpg"/>
          <p:cNvPicPr/>
          <p:nvPr/>
        </p:nvPicPr>
        <p:blipFill>
          <a:blip r:embed="rId2"/>
          <a:srcRect l="0" t="1796" r="0" b="15989"/>
          <a:stretch/>
        </p:blipFill>
        <p:spPr>
          <a:xfrm>
            <a:off x="2843280" y="2492280"/>
            <a:ext cx="396072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8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 flipH="1">
            <a:off x="8508240" y="3260880"/>
            <a:ext cx="95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Рисунок 16" descr="C:\Users\Администратор\AppData\Local\Microsoft\Windows\Temporary Internet Files\Content.Word\IMG_2209.jpg"/>
          <p:cNvPicPr/>
          <p:nvPr/>
        </p:nvPicPr>
        <p:blipFill>
          <a:blip r:embed="rId1"/>
          <a:srcRect l="3046" t="3847" r="0" b="13620"/>
          <a:stretch/>
        </p:blipFill>
        <p:spPr>
          <a:xfrm>
            <a:off x="324000" y="189000"/>
            <a:ext cx="3816360" cy="352728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7" descr="C:\Users\Администратор\AppData\Local\Microsoft\Windows\Temporary Internet Files\Content.Word\IMG_2189.jpg"/>
          <p:cNvPicPr/>
          <p:nvPr/>
        </p:nvPicPr>
        <p:blipFill>
          <a:blip r:embed="rId2"/>
          <a:srcRect l="1937" t="3364" r="0" b="14888"/>
          <a:stretch/>
        </p:blipFill>
        <p:spPr>
          <a:xfrm>
            <a:off x="3924360" y="3689280"/>
            <a:ext cx="3244680" cy="3168720"/>
          </a:xfrm>
          <a:prstGeom prst="rect">
            <a:avLst/>
          </a:prstGeom>
          <a:ln w="0">
            <a:noFill/>
          </a:ln>
        </p:spPr>
      </p:pic>
      <p:pic>
        <p:nvPicPr>
          <p:cNvPr id="199" name="Рисунок 19" descr="C:\Users\Администратор\AppData\Local\Microsoft\Windows\Temporary Internet Files\Content.Word\IMG_2110.jpg"/>
          <p:cNvPicPr/>
          <p:nvPr/>
        </p:nvPicPr>
        <p:blipFill>
          <a:blip r:embed="rId3"/>
          <a:srcRect l="4010" t="16884" r="15705" b="13675"/>
          <a:stretch/>
        </p:blipFill>
        <p:spPr>
          <a:xfrm rot="5586000">
            <a:off x="4340520" y="643680"/>
            <a:ext cx="3287520" cy="25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 flipH="1">
            <a:off x="8508240" y="3260880"/>
            <a:ext cx="954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Рисунок 14" descr="C:\Users\Администратор\AppData\Local\Microsoft\Windows\Temporary Internet Files\Content.Word\IMG_2263.jpg"/>
          <p:cNvPicPr/>
          <p:nvPr/>
        </p:nvPicPr>
        <p:blipFill>
          <a:blip r:embed="rId1"/>
          <a:srcRect l="6152" t="2089" r="14460" b="4270"/>
          <a:stretch/>
        </p:blipFill>
        <p:spPr>
          <a:xfrm rot="5718600">
            <a:off x="4399920" y="784080"/>
            <a:ext cx="4362480" cy="3632040"/>
          </a:xfrm>
          <a:prstGeom prst="rect">
            <a:avLst/>
          </a:prstGeom>
          <a:ln w="0">
            <a:noFill/>
          </a:ln>
        </p:spPr>
      </p:pic>
      <p:pic>
        <p:nvPicPr>
          <p:cNvPr id="202" name="Рисунок 15" descr="C:\Users\Администратор\AppData\Local\Microsoft\Windows\Temporary Internet Files\Content.Word\IMG_2197.jpg"/>
          <p:cNvPicPr/>
          <p:nvPr/>
        </p:nvPicPr>
        <p:blipFill>
          <a:blip r:embed="rId2"/>
          <a:stretch/>
        </p:blipFill>
        <p:spPr>
          <a:xfrm>
            <a:off x="900000" y="3357720"/>
            <a:ext cx="3240360" cy="3206520"/>
          </a:xfrm>
          <a:prstGeom prst="rect">
            <a:avLst/>
          </a:prstGeom>
          <a:ln w="0">
            <a:noFill/>
          </a:ln>
        </p:spPr>
      </p:pic>
      <p:pic>
        <p:nvPicPr>
          <p:cNvPr id="203" name="Рисунок 18" descr="C:\Users\Администратор\AppData\Local\Microsoft\Windows\Temporary Internet Files\Content.Word\IMG_2090.jpg"/>
          <p:cNvPicPr/>
          <p:nvPr/>
        </p:nvPicPr>
        <p:blipFill>
          <a:blip r:embed="rId3"/>
          <a:srcRect l="2563" t="2569" r="2996" b="9347"/>
          <a:stretch/>
        </p:blipFill>
        <p:spPr>
          <a:xfrm>
            <a:off x="539640" y="333360"/>
            <a:ext cx="352764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08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пользуемая литерату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якина В.И. Методика организации уроков коллективного творчества.-М.:Владос,200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www.kraskizhizni.com/edu/verse/101-stihi-pro-cve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lookcolor.ru/teoriya-cveta/cveta-radug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www.nebesite.ru/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нциклопедия русского быта XIX века. Ю. А. Федосюк. 1989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28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Segoe Print"/>
              </a:rPr>
              <a:t>Задачи  работы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605800" cy="4681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на занятиях «Лоскутная фантазия» было интересно знакомиться с основными и составными цветами возникла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дея выполнить творческий проект на тему: «Все цвета радуги». При создании проекта пришлось решить следующие задач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зучение цветов и цветовых гармоний по цветовому кругу или спектру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учиться правильно подбирать цветовую гамму при оформлении художественного изделия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вивать эстетический вкус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оспитывать терпеливость, аккуратность, потребность в стремлении принести пользу и радость окружающим людям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0099"/>
                </a:solidFill>
                <a:latin typeface="Comic Sans MS"/>
              </a:rPr>
              <a:t>Благодаря данному проекту учащимся будет интересно, и главное несложно,  запоминать цвета радуги, и каждый больше узнает о том,  какой он наш разноцветный мир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500"/>
                            </p:stCondLst>
                            <p:childTnLst>
                              <p:par>
                                <p:cTn id="6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5b2a"/>
                </a:solidFill>
                <a:latin typeface="Comic Sans MS"/>
              </a:rPr>
              <a:t>Радуга и её цве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5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465440" cy="34434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0"/>
          <p:cNvSpPr/>
          <p:nvPr/>
        </p:nvSpPr>
        <p:spPr>
          <a:xfrm>
            <a:off x="4500720" y="1773360"/>
            <a:ext cx="4032000" cy="38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ждый из нас хотя бы раз видел радугу и может с легкостью назвать цвета радуги по порядку. Запоминать цвета радуги очень легко, надо знать одну простую фразу: Каждый Охотник Желает Знать Где Сидит Фазан. Первая буква каждого слова этой фразы соответствует первой букве в названии цвета. Цвета радуги по порядку звучат так: красный, оранжевый, желтый, зеленый, голубой, синий, фиолетовый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50"/>
                            </p:stCondLst>
                            <p:childTnLst>
                              <p:par>
                                <p:cTn id="8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50"/>
                            </p:stCondLst>
                            <p:childTnLst>
                              <p:par>
                                <p:cTn id="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Основные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9900"/>
                </a:solidFill>
                <a:latin typeface="Comic Sans MS"/>
              </a:rPr>
              <a:t>составны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ве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0872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ные: красный, желтый, синий. Они составляют основу цветового круга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торостепенные цвета — составные: зеленый, фиолетовый, оранжевый. Чтобы их получить нужно попарно смешивать три основные цвета: красный, желтый и синий. При смешении желтого и синего получается зеленый, если смешать желтый и красный — получим оранжевый, смешаем красный и синий — имеем фиолетовый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5" descr=""/>
          <p:cNvPicPr/>
          <p:nvPr/>
        </p:nvPicPr>
        <p:blipFill>
          <a:blip r:embed="rId1"/>
          <a:stretch/>
        </p:blipFill>
        <p:spPr>
          <a:xfrm>
            <a:off x="2627280" y="3357720"/>
            <a:ext cx="3959280" cy="29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Comic Sans MS"/>
              </a:rPr>
              <a:t>Символика цвет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6360" y="1052280"/>
            <a:ext cx="7812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мволика каждого государственного флага несет в себе глубокий смысл. Потому что национальное прошлое народа, его история и культура нашли свое отражение в соответствующих цветах знамени. В настоящее время чаще всего используется следующая трактовка значений цветов флага России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лый означает мир, чистоту, непорочность, совершенство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ний — цвет веры, верности и правды;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расный символизирует постоянство, энергию, силу, отвагу и кровь, пролитую за Отечеств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циональные костюмы всегда соответствуют цветам национальных флагов, и в этом нет ничего удивительно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7" descr=""/>
          <p:cNvPicPr/>
          <p:nvPr/>
        </p:nvPicPr>
        <p:blipFill>
          <a:blip r:embed="rId1"/>
          <a:stretch/>
        </p:blipFill>
        <p:spPr>
          <a:xfrm>
            <a:off x="1908000" y="3933720"/>
            <a:ext cx="3313440" cy="24926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8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952720" cy="272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Влияние цвета на человек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353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«Цвет способен на всё: он может родить свет, успокоение или возбуждение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Он может создать гармонию или вызвать потрясение; от него можно ждать чудес, но он может вызвать и катастрофу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. Вьено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гния Барто в своем стихотворении прямо пишет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мотрю сквозь стекляшку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Зеленого цвета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 сразу зим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Превращается в лет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324000" y="3357720"/>
            <a:ext cx="842472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5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5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5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5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5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50"/>
                            </p:stCondLst>
                            <p:childTnLst>
                              <p:par>
                                <p:cTn id="1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550"/>
                            </p:stCondLst>
                            <p:childTnLst>
                              <p:par>
                                <p:cTn id="2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50"/>
                            </p:stCondLst>
                            <p:childTnLst>
                              <p:par>
                                <p:cTn id="2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76360" y="115920"/>
            <a:ext cx="61200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Какого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b800"/>
                </a:solidFill>
                <a:latin typeface="Comic Sans MS"/>
              </a:rPr>
              <a:t>цвет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наша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жизнь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7848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Цвет – незаменимая составная часть нашей жизни. Как часто жизнь сравнивают с зеброй, где чёрная и белая полоса чередуются друг с другом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Наша жизнь с цветною лентой схожа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 радугой за облачным пределом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олосы меняются, но все же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Их цвета - не только черный с белым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Е.Е.Остапов)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озовый считается цветом девочек, голубой - мальчиков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5148360" y="4005360"/>
            <a:ext cx="3313080" cy="2519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2"/>
          <a:stretch/>
        </p:blipFill>
        <p:spPr>
          <a:xfrm>
            <a:off x="179280" y="3645000"/>
            <a:ext cx="4572000" cy="295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8920" y="115920"/>
            <a:ext cx="741708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Королевский синий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799308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адиционный королевский синий был открыт портными из Сомерсета, сшившими для королевы Великобритании Шарлотты Мекленбург-Стрелицкой платье именно такого цвета. Синий — цвет королевской власти и благородного происхождения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дужная королева –Елизавет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английская королева. За годы своего правления Елизавета II появлялась на людях в бесчисленном количестве разных платьев и костюмов. Ее Величество предпочитает синие и голубые оттенки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187280" y="2708280"/>
            <a:ext cx="2448000" cy="259236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5"/>
          <p:cNvSpPr/>
          <p:nvPr/>
        </p:nvSpPr>
        <p:spPr>
          <a:xfrm>
            <a:off x="1332000" y="5950080"/>
            <a:ext cx="273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Шарлотта Мекленбург-Стрелицкая.19 мая 174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11" descr=""/>
          <p:cNvPicPr/>
          <p:nvPr/>
        </p:nvPicPr>
        <p:blipFill>
          <a:blip r:embed="rId2"/>
          <a:stretch/>
        </p:blipFill>
        <p:spPr>
          <a:xfrm>
            <a:off x="4140360" y="2708280"/>
            <a:ext cx="4248000" cy="2665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6148440" y="3260880"/>
            <a:ext cx="183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4284720" y="5589720"/>
            <a:ext cx="42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олевский стиль: радужные наряды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92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192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3" dur="192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5" dur="192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6048720" cy="72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Диета </a:t>
            </a:r>
            <a:r>
              <a:rPr b="1" lang="ru-RU" sz="2400" spc="-1" strike="noStrike">
                <a:solidFill>
                  <a:srgbClr val="ffb800"/>
                </a:solidFill>
                <a:latin typeface="Comic Sans MS"/>
              </a:rPr>
              <a:t>по </a:t>
            </a: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цветам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00080"/>
                </a:solidFill>
                <a:latin typeface="Comic Sans MS"/>
              </a:rPr>
              <a:t>радуг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101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казывается, цвет продукта влияет на здоровье!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анная диета предлагает целый день есть продукты лишь одного цвет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1413000"/>
          <a:ext cx="9036000" cy="525600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5000"/>
                <a:gridCol w="1308240"/>
                <a:gridCol w="1305000"/>
                <a:gridCol w="1304640"/>
                <a:gridCol w="120024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недель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тор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лен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твер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анжев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ят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олетов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тый д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скресен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зрачн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арной картофель, бананы, ячмень, рис, молоко, сыр белого цвета, спагетти, мякоть кокоса, белое мясо курицы, каштаны, цветная капу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ая фасоль, томаты, вишня, красная смородина, красный сладкий перец, клюква, свекла, красный виногр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стовые овощи, зеленые пряные травы, киви, зеленый чай, ревень, огурцы, морская капуста, брюссельская капуста и брокко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рковь, папайя, лосось, манго, облепиха, тыква, абрикосы, персики, помидоры, апельсины, мандарины, дыня, ху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клажаны, темный виноград, ежевика, голубика, черная смородина, слива, эстраг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нанас, персики, абрикосы, желтый перец, кабачки, желтые яблоки, кукуруза, зрелый сыр, мед, яичный желт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ешается пить только минеральную воду (негазированную). Суточная норма для прозрачного дня – не меньше 3 л жидк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ый цвет охлаждает. Полезен для легких и толстого кишеч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ща красноватых и оранжевых тонов полезна для серд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леный успокаивает, расслабля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анжевый повышает аппетит, защищает от просту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олетовый защищает почки, мочевой пузы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тый – самый жаропонижаю-щий цвет. улучшает настро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5T12:40:26Z</dcterms:created>
  <dc:creator>Admin</dc:creator>
  <dc:description/>
  <dc:language>en-US</dc:language>
  <cp:lastModifiedBy>user</cp:lastModifiedBy>
  <dcterms:modified xsi:type="dcterms:W3CDTF">2024-01-07T11:16:00Z</dcterms:modified>
  <cp:revision>29</cp:revision>
  <dc:subject/>
  <dc:title>Муниципальное бюджетное общеобразовательное учреждение Кайдаковская средняя общеобразовательная школа</dc:title>
</cp:coreProperties>
</file>