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937-1233-4F70-9AAF-B88DFCFB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DB0-FE83-46A7-9162-BBDAC1A4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967-CD52-42CE-B8F6-830851A5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F93F-A524-4529-8F79-41177C83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91F8-358D-40BC-A084-0E42D9AA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E6AB-52A9-4F2C-99CF-9982A681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604F-8859-4CB7-B4EA-D5B2E88E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6B3B-5524-4DB3-8293-D6835EAB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E58B-0E46-43E6-89AC-703096B6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9BAE-868F-444A-A860-D7CFF3ED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B5DF-8598-4BDE-8BA9-7B4A750E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308-3FFD-4EB8-BC73-CA15930B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B0FD-4092-4CED-A806-AC2B190D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DEF6-EE41-4491-925B-CAE94A2C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D760-2AAA-4DF2-BDE3-3DA181C5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0C4C-89F2-438E-BA19-00BB9313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1BA0-546B-4DBB-BEE7-6A813BF8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A80-3A16-441D-B446-B6561546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F9F-A52C-429F-8E56-DDF29588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79F-BE6D-4853-9A6B-218F859E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504-29DE-460D-853B-7287A973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951-DA7C-4E12-A56A-4F938B12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42C-3E64-45D1-8025-74AAEF57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B95-9E6D-4F95-9644-CFD73D25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37E8-01DA-40C8-865E-30E87E7CD4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B184-47D5-4FDD-BB0E-094ACC1624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571240" cy="1152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Муниципальное бюджет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дополнительно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Дом детской культуры (искусств) «Радуга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32000" y="1773000"/>
            <a:ext cx="737712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ворческий проек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Вс</a:t>
            </a:r>
            <a:r>
              <a:rPr b="1" lang="ru-RU" sz="4800" spc="-1" strike="noStrike">
                <a:solidFill>
                  <a:srgbClr val="ffb800"/>
                </a:solidFill>
                <a:latin typeface="Comic Sans MS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b800"/>
                </a:solidFill>
                <a:latin typeface="Comic Sans MS"/>
              </a:rPr>
              <a:t>ц</a:t>
            </a: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ве</a:t>
            </a:r>
            <a:r>
              <a:rPr b="1" lang="ru-RU" sz="4800" spc="-1" strike="noStrike">
                <a:solidFill>
                  <a:srgbClr val="00b200"/>
                </a:solidFill>
                <a:latin typeface="Comic Sans MS"/>
              </a:rPr>
              <a:t>та</a:t>
            </a:r>
            <a:r>
              <a:rPr b="1" lang="ru-RU" sz="4800" spc="-1" strike="noStrike">
                <a:solidFill>
                  <a:srgbClr val="62c3da"/>
                </a:solidFill>
                <a:latin typeface="Comic Sans MS"/>
              </a:rPr>
              <a:t> ра</a:t>
            </a: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ду</a:t>
            </a:r>
            <a:r>
              <a:rPr b="1" lang="ru-RU" sz="4800" spc="-1" strike="noStrike">
                <a:solidFill>
                  <a:srgbClr val="990099"/>
                </a:solidFill>
                <a:latin typeface="Comic Sans MS"/>
              </a:rPr>
              <a:t>ги»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176720" y="3573360"/>
            <a:ext cx="49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и: учащиеся объединения «Лоскутная фантазия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: Яшина Валентина Александровн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89520" y="60206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23 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5 0.031 0.0413 C 0.031 0.06529 0.017 0.08394 0 0.08394 C -0.017 0.08394 -0.031 0.1026 -0.031 0.12525 C -0.031 0.1479 -0.017 0.16655 0 0.16655 C 0.017 0.16655 0.031 0.1852 0.031 0.20786 C 0.031 0.23051 0.017 0.24916 0 0.24916 C -0.017 0.24916 -0.031 0.26781 -0.031 0.2918 C -0.031 0.31445 -0.017 0.3331 0 0.3331 C 0.017 0.3331 0.031 0.31445 0.031 0.2918 C 0.031 0.26781 0.017 0.24916 0 0.24916 C -0.017 0.24916 -0.031 0.23051 -0.031 0.20786 C -0.031 0.1852 -0.017 0.16655 0 0.16655 C 0.017 0.16655 0.031 0.1479 0.031 0.12525 C 0.031 0.1026 0.017 0.08394 0 0.08394 C -0.017 0.08394 -0.031 0.06529 -0.031 0.0413 C -0.031 0.01865 -0.017 0 0 0 Z">
                                      <p:cBhvr>
                                        <p:cTn id="6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597528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</a:t>
            </a:r>
            <a:r>
              <a:rPr b="1" lang="ru-RU" sz="2400" spc="-1" strike="noStrike">
                <a:solidFill>
                  <a:srgbClr val="ffb800"/>
                </a:solidFill>
                <a:latin typeface="Comic Sans MS"/>
              </a:rPr>
              <a:t>а</a:t>
            </a:r>
            <a:r>
              <a:rPr b="1" lang="ru-RU" sz="2400" spc="-1" strike="noStrike">
                <a:solidFill>
                  <a:srgbClr val="ffcc00"/>
                </a:solidFill>
                <a:latin typeface="Comic Sans MS"/>
              </a:rPr>
              <a:t>к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л</a:t>
            </a:r>
            <a:r>
              <a:rPr b="1" lang="ru-RU" sz="2400" spc="-1" strike="noStrike">
                <a:solidFill>
                  <a:srgbClr val="0099cc"/>
                </a:solidFill>
                <a:latin typeface="Comic Sans MS"/>
              </a:rPr>
              <a:t>ю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ч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е</a:t>
            </a: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н</a:t>
            </a:r>
            <a:r>
              <a:rPr b="1" lang="ru-RU" sz="2400" spc="-1" strike="noStrike">
                <a:solidFill>
                  <a:srgbClr val="996633"/>
                </a:solidFill>
                <a:latin typeface="Comic Sans MS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964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дуга творчеств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ножество разных «радуг» можно сдела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им: нарисовать, вырезать, наклеить, сшить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ше учреждение называется «Радуга» . Проводятся  много творческих конкурсов  по теме: «Радуга красок»,  «Радуга творчества» и др.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стараемся  все работы делать радужно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4"/>
          <p:cNvSpPr/>
          <p:nvPr/>
        </p:nvSpPr>
        <p:spPr>
          <a:xfrm flipH="1">
            <a:off x="8508240" y="3260880"/>
            <a:ext cx="95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1440000" cy="208908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ая соединительная линия 8"/>
          <p:cNvSpPr/>
          <p:nvPr/>
        </p:nvSpPr>
        <p:spPr>
          <a:xfrm flipV="1">
            <a:off x="826920" y="3573000"/>
            <a:ext cx="86364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Прямая соединительная линия 3"/>
          <p:cNvSpPr/>
          <p:nvPr/>
        </p:nvSpPr>
        <p:spPr>
          <a:xfrm flipV="1">
            <a:off x="684360" y="3429000"/>
            <a:ext cx="863280" cy="5745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Прямая соединительная линия 4"/>
          <p:cNvSpPr/>
          <p:nvPr/>
        </p:nvSpPr>
        <p:spPr>
          <a:xfrm flipV="1">
            <a:off x="755640" y="3499920"/>
            <a:ext cx="863640" cy="576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Прямая соединительная линия 5"/>
          <p:cNvSpPr/>
          <p:nvPr/>
        </p:nvSpPr>
        <p:spPr>
          <a:xfrm flipV="1">
            <a:off x="826920" y="3644640"/>
            <a:ext cx="863640" cy="577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Прямая соединительная линия 6"/>
          <p:cNvSpPr/>
          <p:nvPr/>
        </p:nvSpPr>
        <p:spPr>
          <a:xfrm flipV="1">
            <a:off x="900000" y="3715920"/>
            <a:ext cx="863640" cy="57636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Прямая соединительная линия 9"/>
          <p:cNvSpPr/>
          <p:nvPr/>
        </p:nvSpPr>
        <p:spPr>
          <a:xfrm flipV="1">
            <a:off x="1042920" y="3860640"/>
            <a:ext cx="863640" cy="578160"/>
          </a:xfrm>
          <a:prstGeom prst="line">
            <a:avLst/>
          </a:prstGeom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Прямая соединительная линия 7"/>
          <p:cNvSpPr/>
          <p:nvPr/>
        </p:nvSpPr>
        <p:spPr>
          <a:xfrm flipV="1">
            <a:off x="971640" y="3789000"/>
            <a:ext cx="863640" cy="57780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Рисунок 13" descr="C:\Users\Администратор\AppData\Local\Microsoft\Windows\Temporary Internet Files\Content.Word\IMG_0162.jpg"/>
          <p:cNvPicPr/>
          <p:nvPr/>
        </p:nvPicPr>
        <p:blipFill>
          <a:blip r:embed="rId2"/>
          <a:srcRect l="0" t="1796" r="0" b="15989"/>
          <a:stretch/>
        </p:blipFill>
        <p:spPr>
          <a:xfrm>
            <a:off x="2843280" y="2492280"/>
            <a:ext cx="396072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 flipH="1">
            <a:off x="8508240" y="3260880"/>
            <a:ext cx="95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Рисунок 16" descr="C:\Users\Администратор\AppData\Local\Microsoft\Windows\Temporary Internet Files\Content.Word\IMG_2209.jpg"/>
          <p:cNvPicPr/>
          <p:nvPr/>
        </p:nvPicPr>
        <p:blipFill>
          <a:blip r:embed="rId1"/>
          <a:srcRect l="3046" t="3847" r="0" b="13620"/>
          <a:stretch/>
        </p:blipFill>
        <p:spPr>
          <a:xfrm>
            <a:off x="324000" y="189000"/>
            <a:ext cx="3816360" cy="352728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7" descr="C:\Users\Администратор\AppData\Local\Microsoft\Windows\Temporary Internet Files\Content.Word\IMG_2189.jpg"/>
          <p:cNvPicPr/>
          <p:nvPr/>
        </p:nvPicPr>
        <p:blipFill>
          <a:blip r:embed="rId2"/>
          <a:srcRect l="1937" t="3364" r="0" b="14888"/>
          <a:stretch/>
        </p:blipFill>
        <p:spPr>
          <a:xfrm>
            <a:off x="3924360" y="3689280"/>
            <a:ext cx="3244680" cy="31687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9" descr="C:\Users\Администратор\AppData\Local\Microsoft\Windows\Temporary Internet Files\Content.Word\IMG_2110.jpg"/>
          <p:cNvPicPr/>
          <p:nvPr/>
        </p:nvPicPr>
        <p:blipFill>
          <a:blip r:embed="rId3"/>
          <a:srcRect l="4010" t="16884" r="15705" b="13675"/>
          <a:stretch/>
        </p:blipFill>
        <p:spPr>
          <a:xfrm rot="5586000">
            <a:off x="4340520" y="643680"/>
            <a:ext cx="3287520" cy="25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 flipH="1">
            <a:off x="8508240" y="3260880"/>
            <a:ext cx="95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Рисунок 14" descr="C:\Users\Администратор\AppData\Local\Microsoft\Windows\Temporary Internet Files\Content.Word\IMG_2263.jpg"/>
          <p:cNvPicPr/>
          <p:nvPr/>
        </p:nvPicPr>
        <p:blipFill>
          <a:blip r:embed="rId1"/>
          <a:srcRect l="6152" t="2089" r="14460" b="4270"/>
          <a:stretch/>
        </p:blipFill>
        <p:spPr>
          <a:xfrm rot="5718600">
            <a:off x="4399920" y="784080"/>
            <a:ext cx="4362480" cy="36320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5" descr="C:\Users\Администратор\AppData\Local\Microsoft\Windows\Temporary Internet Files\Content.Word\IMG_2197.jpg"/>
          <p:cNvPicPr/>
          <p:nvPr/>
        </p:nvPicPr>
        <p:blipFill>
          <a:blip r:embed="rId2"/>
          <a:stretch/>
        </p:blipFill>
        <p:spPr>
          <a:xfrm>
            <a:off x="900000" y="3357720"/>
            <a:ext cx="3240360" cy="32065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8" descr="C:\Users\Администратор\AppData\Local\Microsoft\Windows\Temporary Internet Files\Content.Word\IMG_2090.jpg"/>
          <p:cNvPicPr/>
          <p:nvPr/>
        </p:nvPicPr>
        <p:blipFill>
          <a:blip r:embed="rId3"/>
          <a:srcRect l="2563" t="2569" r="2996" b="9347"/>
          <a:stretch/>
        </p:blipFill>
        <p:spPr>
          <a:xfrm>
            <a:off x="539640" y="333360"/>
            <a:ext cx="352764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пользуемая литерату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якина В.И. Методика организации уроков коллективного творчества.-М.:Владос,200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www.kraskizhizni.com/edu/verse/101-stihi-pro-cve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lookcolor.ru/teoriya-cveta/cveta-radug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www.nebesite.ru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циклопедия русского быта XIX века. Ю. А. Федосюк. 1989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Задачи  работ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605800" cy="4681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на занятиях «Лоскутная фантазия» было интересно знакомиться с основными и составными цветами возникл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дея выполнить творческий проект на тему: «Все цвета радуги». При создании проекта пришлось решить следующие задач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учение цветов и цветовых гармоний по цветовому кругу или спектру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учиться правильно подбирать цветовую гамму при оформлении художественного издел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вивать эстетический вкус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питывать терпеливость, аккуратность, потребность в стремлении принести пользу и радость окружающим людя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Comic Sans MS"/>
              </a:rPr>
              <a:t>Благодаря данному проекту учащимся будет интересно, и главное несложно,  запоминать цвета радуги, и каждый больше узнает о том,  какой он наш разноцветный мир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5b2a"/>
                </a:solidFill>
                <a:latin typeface="Comic Sans MS"/>
              </a:rPr>
              <a:t>Радуга и её цве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465440" cy="34434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4500720" y="1773360"/>
            <a:ext cx="403200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ый из нас хотя бы раз видел радугу и может с легкостью назвать цвета радуги по порядку. Запоминать цвета радуги очень легко, надо знать одну простую фразу: Каждый Охотник Желает Знать Где Сидит Фазан. Первая буква каждого слова этой фразы соответствует первой букве в названии цвета. Цвета радуги по порядку звучат так: красный, оранжевый, желтый, зеленый, голубой, синий, фиолетовы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5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50"/>
                            </p:stCondLst>
                            <p:childTnLst>
                              <p:par>
                                <p:cTn id="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сновные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составны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ве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08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ные: красный, желтый, синий. Они составляют основу цветового круг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торостепенные цвета — составные: зеленый, фиолетовый, оранжевый. Чтобы их получить нужно попарно смешивать три основные цвета: красный, желтый и синий. При смешении желтого и синего получается зеленый, если смешать желтый и красный — получим оранжевый, смешаем красный и синий — имеем фиолетовы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2627280" y="3357720"/>
            <a:ext cx="3959280" cy="29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Символика цве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6360" y="1052280"/>
            <a:ext cx="7812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мволика каждого государственного флага несет в себе глубокий смысл. Потому что национальное прошлое народа, его история и культура нашли свое отражение в соответствующих цветах знамени. В настоящее время чаще всего используется следующая трактовка значений цветов флага России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лый означает мир, чистоту, непорочность, совершенство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ний — цвет веры, верности и правды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асный символизирует постоянство, энергию, силу, отвагу и кровь, пролитую за Отечеств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е костюмы всегда соответствуют цветам национальных флагов, и в этом нет ничего удивительно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1908000" y="3933720"/>
            <a:ext cx="3313440" cy="2492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952720" cy="272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Влияние цвета на челове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«Цвет способен на всё: он может родить свет, успокоение или возбуждени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н может создать гармонию или вызвать потрясение; от него можно ждать чудес, но он может вызвать и катастрофу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. Вьен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гния Барто в своем стихотворении прямо пишет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мотрю сквозь стекляш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еленого цвет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 сразу зи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евращается в лет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842472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5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5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5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5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5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5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5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5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115920"/>
            <a:ext cx="61200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акого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b800"/>
                </a:solidFill>
                <a:latin typeface="Comic Sans MS"/>
              </a:rPr>
              <a:t>цве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наш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жизнь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7848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вет – незаменимая составная часть нашей жизни. Как часто жизнь сравнивают с зеброй, где чёрная и белая полоса чередуются друг с другом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ша жизнь с цветною лентой схожа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 радугой за облачным пределом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олосы меняются, но все ж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х цвета - не только черный с белым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Е.Е.Остапов)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зовый считается цветом девочек, голубой - мальчико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5148360" y="4005360"/>
            <a:ext cx="3313080" cy="2519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4572000" cy="29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7417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Королевский си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7993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адиционный королевский синий был открыт портными из Сомерсета, сшившими для королевы Великобритании Шарлотты Мекленбург-Стрелицкой платье именно такого цвета. Синий — цвет королевской власти и благородного происхожде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дужная королева –Елизавет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английская королева. За годы своего правления Елизавета II появлялась на людях в бесчисленном количестве разных платьев и костюмов. Ее Величество предпочитает синие и голубые оттенк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448000" cy="25923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1332000" y="5950080"/>
            <a:ext cx="27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арлотта Мекленбург-Стрелицкая.19 мая 17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2"/>
          <a:stretch/>
        </p:blipFill>
        <p:spPr>
          <a:xfrm>
            <a:off x="4140360" y="2708280"/>
            <a:ext cx="4248000" cy="2665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6148440" y="32608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4284720" y="5589720"/>
            <a:ext cx="42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олевский стиль: радужные наряд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92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192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192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192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6048720" cy="72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Диета </a:t>
            </a:r>
            <a:r>
              <a:rPr b="1" lang="ru-RU" sz="2400" spc="-1" strike="noStrike">
                <a:solidFill>
                  <a:srgbClr val="ffb800"/>
                </a:solidFill>
                <a:latin typeface="Comic Sans MS"/>
              </a:rPr>
              <a:t>по 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цветам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omic Sans MS"/>
              </a:rPr>
              <a:t>радуг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101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азывается, цвет продукта влияет на здоровье!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нная диета предлагает целый день есть продукты лишь одного цве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1413000"/>
          <a:ext cx="9036000" cy="525600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5000"/>
                <a:gridCol w="1308240"/>
                <a:gridCol w="1305000"/>
                <a:gridCol w="1304640"/>
                <a:gridCol w="120024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еде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лен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анжев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олетов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т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кресен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зрач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арной картофель, бананы, ячмень, рис, молоко, сыр белого цвета, спагетти, мякоть кокоса, белое мясо курицы, каштаны, цветная капу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ая фасоль, томаты, вишня, красная смородина, красный сладкий перец, клюква, свекла, красный вин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стовые овощи, зеленые пряные травы, киви, зеленый чай, ревень, огурцы, морская капуста, брюссельская капуста и брокко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ковь, папайя, лосось, манго, облепиха, тыква, абрикосы, персики, помидоры, апельсины, мандарины, дыня, ху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лажаны, темный виноград, ежевика, голубика, черная смородина, слива, эстраг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нас, персики, абрикосы, желтый перец, кабачки, желтые яблоки, кукуруза, зрелый сыр, мед, яичный жел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ается пить только минеральную воду (негазированную). Суточная норма для прозрачного дня – не меньше 3 л жидк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ый цвет охлаждает. Полезен для легких и толстого кишеч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ща красноватых и оранжевых тонов полезна для серд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леный успокаивает, расслабля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анжевый повышает аппетит, защищает от просту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олетовый защищает почки, мочевой пузы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тый – самый жаропонижаю-щий цвет. улучшает настро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2:40:26Z</dcterms:created>
  <dc:creator>Admin</dc:creator>
  <dc:description/>
  <dc:language>en-US</dc:language>
  <cp:lastModifiedBy>user</cp:lastModifiedBy>
  <dcterms:modified xsi:type="dcterms:W3CDTF">2024-01-07T11:16:00Z</dcterms:modified>
  <cp:revision>29</cp:revision>
  <dc:subject/>
  <dc:title>Муниципальное бюджетное общеобразовательное учреждение Кайдаковская средняя общеобразовательная школа</dc:title>
</cp:coreProperties>
</file>