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34.gif" ContentType="image/gif"/>
  <Override PartName="/ppt/media/image7.jpeg" ContentType="image/jpeg"/>
  <Override PartName="/ppt/media/image5.gif" ContentType="image/gif"/>
  <Override PartName="/ppt/media/click.wav" ContentType="audio/x-wav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4215-60F8-4C98-85E8-9B66DF962F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7BA1-F85F-4B2B-A016-3135F9881B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D7ED-5C81-4E1D-B1C4-F1AB822CD4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6BCA-AD97-4191-A563-2BF4E7B04B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F0F3-21A4-4E9A-9C1C-27C230CDBB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3EA9-84E9-4188-ACD0-BDDED95B72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8B1B-791B-454F-A34A-973D2570AF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69B0-8C43-4D18-AE51-29E71D3221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80FE-47BA-4630-AEED-F5C7050C78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E5BA-8136-4010-9339-03FF847E55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5143-04C2-4888-B3D7-291C26A702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E8AB-8F9F-4FC6-ADAC-E1CB5D15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E838-2126-46C1-8CE2-6EB59CAD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2B7E-FC75-4642-B11D-7B46EAE1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F4A4-C17D-4888-93F0-7F50BBD2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1C02-BA83-4583-B326-D99FCEB5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1399-0F8A-4F85-B13A-4A9C6073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90C6-F918-45AA-BEBB-55D6543D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A25D-1C65-450B-8746-CE2D7D77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5350-44C9-445D-8EE3-E01EB05B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FEA9-F26A-484D-B13C-8DFE6AF8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B74A-934D-4DED-9325-28BDA5B5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2273-6841-4EC1-A30B-E51AE546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E41B-B5BD-4DE8-A84C-B939F356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3E1E-E46C-4E8B-8EFB-41F6E32B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210A-1C04-45B8-AA82-1EAF2B02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62CA-BDDD-4334-A525-88DC0976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AACC-9814-4DF6-B9AA-57A6A493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8CEB-2B9E-4517-95DC-2AB82266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3708-C3C0-466A-B453-9379B923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8EAC5-E04C-4E2B-A089-2B976E78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7F783-99AA-4089-AABE-CBB02D3F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1122-C608-4536-AB57-6DFF931A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5E03-0BCB-4995-B0A6-CF65BE96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E2BA-F941-4593-A3E8-CC921BDB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63C7-FB41-4603-9BE0-EF4C18DFCB0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F2B9-2789-4AA2-8B31-32EAEE52BF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86;&#1077;&#1085;&#1085;&#1072;&#1103;%20&#1093;&#1088;&#1086;&#1085;&#1080;&#1082;&#1072;%201941-1945.mp4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89;&#1074;&#1103;&#1097;&#1077;&#1085;&#1085;&#1072;&#1103;%20&#1074;&#1086;&#1081;&#1085;&#1072;%20&#1082;&#1083;&#1080;&#1087;.mp4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1418.ru/images/700/p5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&#1058;&#1077;&#1084;&#1085;&#1072;&#1103;%20&#1085;&#1086;&#1095;&#1100;%20&#1082;&#1080;&#1085;&#1086;&#1092;&#1080;&#1083;&#1100;&#1084;%20&#1044;&#1074;&#1072;%20&#1073;&#1086;&#1081;&#1094;&#1072;.mp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74;%20&#1079;&#1077;&#1084;&#1083;&#1103;&#1085;&#1082;&#1077;%20&#1082;&#1083;&#1080;&#1087;.mp4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547640" y="1159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Великой  Победе посвящ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00720" y="692280"/>
            <a:ext cx="43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ahoma"/>
              </a:rPr>
              <a:t>1941 - 194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9" descr="a1"/>
          <p:cNvPicPr/>
          <p:nvPr/>
        </p:nvPicPr>
        <p:blipFill>
          <a:blip r:embed="rId2"/>
          <a:stretch/>
        </p:blipFill>
        <p:spPr>
          <a:xfrm>
            <a:off x="1332000" y="1268280"/>
            <a:ext cx="7200720" cy="43880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240" y="5000760"/>
            <a:ext cx="6986520" cy="1357200"/>
          </a:xfrm>
          <a:prstGeom prst="rect">
            <a:avLst/>
          </a:prstGeom>
          <a:solidFill>
            <a:srgbClr val="d5080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« А песни готовы на бо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случайный вальс.mp3" descr=""/>
          <p:cNvPicPr/>
          <p:nvPr/>
        </p:nvPicPr>
        <p:blipFill>
          <a:blip r:embed="rId3"/>
          <a:stretch/>
        </p:blipFill>
        <p:spPr>
          <a:xfrm>
            <a:off x="7643880" y="585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12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Журавл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Содержимое 3" descr="США - Картинка 7937/42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565360" cy="30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7892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4284720" y="580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ые узники Освенци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3708360" y="260280"/>
            <a:ext cx="2611440" cy="2735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6804000" y="549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ники фашизма в Карелии, г.Петрозавод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50920" y="6165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ники Бухенваль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8" descr="0658"/>
          <p:cNvPicPr/>
          <p:nvPr/>
        </p:nvPicPr>
        <p:blipFill>
          <a:blip r:embed="rId4"/>
          <a:stretch/>
        </p:blipFill>
        <p:spPr>
          <a:xfrm>
            <a:off x="179280" y="4221000"/>
            <a:ext cx="3575160" cy="18003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9"/>
          <p:cNvSpPr txBox="1"/>
          <p:nvPr/>
        </p:nvSpPr>
        <p:spPr>
          <a:xfrm rot="20953800">
            <a:off x="3924360" y="3428640"/>
            <a:ext cx="49687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6648000"/>
                </a:gradFill>
                <a:latin typeface="Times New Roman"/>
              </a:rPr>
              <a:t>Ужасы концлагер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6648000"/>
              </a:gradFill>
              <a:latin typeface="Times New Roman"/>
              <a:ea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04292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Лагерь Аушви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11" descr="13"/>
          <p:cNvPicPr/>
          <p:nvPr/>
        </p:nvPicPr>
        <p:blipFill>
          <a:blip r:embed="rId5"/>
          <a:stretch/>
        </p:blipFill>
        <p:spPr>
          <a:xfrm>
            <a:off x="6708600" y="260280"/>
            <a:ext cx="2165400" cy="252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prir644"/>
          <p:cNvPicPr/>
          <p:nvPr/>
        </p:nvPicPr>
        <p:blipFill>
          <a:blip r:embed="rId6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slow" advTm="65000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0182"/>
          <p:cNvPicPr/>
          <p:nvPr/>
        </p:nvPicPr>
        <p:blipFill>
          <a:blip r:embed="rId1"/>
          <a:stretch/>
        </p:blipFill>
        <p:spPr>
          <a:xfrm>
            <a:off x="2627280" y="1697040"/>
            <a:ext cx="6288120" cy="5160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дети в концлагере"/>
          <p:cNvPicPr/>
          <p:nvPr/>
        </p:nvPicPr>
        <p:blipFill>
          <a:blip r:embed="rId2"/>
          <a:stretch/>
        </p:blipFill>
        <p:spPr>
          <a:xfrm>
            <a:off x="0" y="0"/>
            <a:ext cx="4800600" cy="3733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Эвакуация в тыл страны"/>
          <p:cNvPicPr/>
          <p:nvPr/>
        </p:nvPicPr>
        <p:blipFill>
          <a:blip r:embed="rId1"/>
          <a:stretch/>
        </p:blipFill>
        <p:spPr>
          <a:xfrm>
            <a:off x="0" y="1341360"/>
            <a:ext cx="5257800" cy="479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Снова бомбежка"/>
          <p:cNvPicPr/>
          <p:nvPr/>
        </p:nvPicPr>
        <p:blipFill>
          <a:blip r:embed="rId2"/>
          <a:stretch/>
        </p:blipFill>
        <p:spPr>
          <a:xfrm>
            <a:off x="2411280" y="404640"/>
            <a:ext cx="6732720" cy="5177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1406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ffffcc"/>
                </a:solidFill>
                <a:latin typeface="Times New Roman"/>
              </a:rPr>
              <a:t>Освенцим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252360" y="1125360"/>
            <a:ext cx="72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6"/>
          <p:cNvPicPr/>
          <p:nvPr/>
        </p:nvPicPr>
        <p:blipFill>
          <a:blip r:embed="rId2"/>
          <a:stretch/>
        </p:blipFill>
        <p:spPr>
          <a:xfrm>
            <a:off x="1476360" y="1052640"/>
            <a:ext cx="6191280" cy="5229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Синий платочек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Война унесла 27 мл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человеческих жизней;</a:t>
            </a: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Было разрушено 1710 городов ;</a:t>
            </a: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-  </a:t>
            </a: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Уничтожено 70 тысяч сёл и деревен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-  </a:t>
            </a: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Разрушено</a:t>
            </a: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31850 заводов и фабрик, 1135 шахт, 65 тысяч километров железных дорог.</a:t>
            </a: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324000" y="0"/>
            <a:ext cx="8553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Потери СССР в Великой Отечественной Войн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0e7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                                   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1941-1945 г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0e7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8" descr="arh109"/>
          <p:cNvPicPr/>
          <p:nvPr/>
        </p:nvPicPr>
        <p:blipFill>
          <a:blip r:embed="rId1"/>
          <a:stretch/>
        </p:blipFill>
        <p:spPr>
          <a:xfrm>
            <a:off x="8072280" y="4070520"/>
            <a:ext cx="857520" cy="278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C:\Documents and Settings\user\Рабочий стол\Новая папка (8)\Рисунок21.jpg"/>
          <p:cNvPicPr/>
          <p:nvPr/>
        </p:nvPicPr>
        <p:blipFill>
          <a:blip r:embed="rId1"/>
          <a:stretch/>
        </p:blipFill>
        <p:spPr>
          <a:xfrm>
            <a:off x="0" y="642960"/>
            <a:ext cx="5000760" cy="621504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4"/>
          <p:cNvSpPr/>
          <p:nvPr/>
        </p:nvSpPr>
        <p:spPr>
          <a:xfrm>
            <a:off x="5143680" y="0"/>
            <a:ext cx="3786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мни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ерез века, через год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мни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 тех, кто уже не придет никогд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мни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юди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куда сердца стучатся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мни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акой ценой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завоё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ано счасть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жалуйста, помни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е плачь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горле сдержите стон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орькие сто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мяти павших будьте достойны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ечно достой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.Рождествен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Рисунок 6" descr="lenta.JP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i9383-image-big"/>
          <p:cNvPicPr/>
          <p:nvPr/>
        </p:nvPicPr>
        <p:blipFill>
          <a:blip r:embed="rId1"/>
          <a:stretch/>
        </p:blipFill>
        <p:spPr>
          <a:xfrm>
            <a:off x="0" y="0"/>
            <a:ext cx="2806560" cy="407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Картинка 7 из 138"/>
          <p:cNvPicPr/>
          <p:nvPr/>
        </p:nvPicPr>
        <p:blipFill>
          <a:blip r:embed="rId2"/>
          <a:stretch/>
        </p:blipFill>
        <p:spPr>
          <a:xfrm>
            <a:off x="684360" y="2133720"/>
            <a:ext cx="5041800" cy="4039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24 июня 1945 года Парад Победы на Красной площади."/>
          <p:cNvPicPr/>
          <p:nvPr/>
        </p:nvPicPr>
        <p:blipFill>
          <a:blip r:embed="rId3"/>
          <a:stretch/>
        </p:blipFill>
        <p:spPr>
          <a:xfrm>
            <a:off x="5219640" y="2332080"/>
            <a:ext cx="3924360" cy="4525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3094200" y="360"/>
            <a:ext cx="604980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Arial"/>
              </a:rPr>
              <a:t>Одна лишь просьба есть у нас: "Потомки, память сохраните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bf25a"/>
                </a:solidFill>
                <a:latin typeface="Arial"/>
              </a:rPr>
              <a:t>Мы жизни отдали за вас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Arial"/>
              </a:rPr>
              <a:t>А вы - Россию берегите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12" descr="prir644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9-3"/>
          <p:cNvPicPr/>
          <p:nvPr/>
        </p:nvPicPr>
        <p:blipFill>
          <a:blip r:embed="rId1"/>
          <a:stretch/>
        </p:blipFill>
        <p:spPr>
          <a:xfrm>
            <a:off x="0" y="0"/>
            <a:ext cx="9144000" cy="5913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Картинка 1 из 138"/>
          <p:cNvPicPr/>
          <p:nvPr/>
        </p:nvPicPr>
        <p:blipFill>
          <a:blip r:embed="rId2"/>
          <a:stretch/>
        </p:blipFill>
        <p:spPr>
          <a:xfrm>
            <a:off x="0" y="0"/>
            <a:ext cx="8459640" cy="587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547"/>
          <p:cNvPicPr/>
          <p:nvPr/>
        </p:nvPicPr>
        <p:blipFill>
          <a:blip r:embed="rId3"/>
          <a:stretch/>
        </p:blipFill>
        <p:spPr>
          <a:xfrm>
            <a:off x="0" y="0"/>
            <a:ext cx="8675640" cy="5915160"/>
          </a:xfrm>
          <a:prstGeom prst="rect">
            <a:avLst/>
          </a:prstGeom>
          <a:ln w="0">
            <a:noFill/>
          </a:ln>
        </p:spPr>
      </p:pic>
      <p:sp>
        <p:nvSpPr>
          <p:cNvPr id="198" name="WordArt 5"/>
          <p:cNvSpPr txBox="1"/>
          <p:nvPr/>
        </p:nvSpPr>
        <p:spPr>
          <a:xfrm>
            <a:off x="1042920" y="1052640"/>
            <a:ext cx="6408720" cy="37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ероям Родины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лют!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9" name="Picture 9" descr="379"/>
          <p:cNvPicPr/>
          <p:nvPr/>
        </p:nvPicPr>
        <p:blipFill>
          <a:blip r:embed="rId4"/>
          <a:stretch/>
        </p:blipFill>
        <p:spPr>
          <a:xfrm rot="16777800">
            <a:off x="676080" y="5069880"/>
            <a:ext cx="1413000" cy="2209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379"/>
          <p:cNvPicPr/>
          <p:nvPr/>
        </p:nvPicPr>
        <p:blipFill>
          <a:blip r:embed="rId5"/>
          <a:stretch/>
        </p:blipFill>
        <p:spPr>
          <a:xfrm rot="2134200">
            <a:off x="6768720" y="5408640"/>
            <a:ext cx="1916280" cy="1846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379"/>
          <p:cNvPicPr/>
          <p:nvPr/>
        </p:nvPicPr>
        <p:blipFill>
          <a:blip r:embed="rId6"/>
          <a:stretch/>
        </p:blipFill>
        <p:spPr>
          <a:xfrm rot="21333000">
            <a:off x="4211280" y="5437080"/>
            <a:ext cx="1474920" cy="1420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379"/>
          <p:cNvPicPr/>
          <p:nvPr/>
        </p:nvPicPr>
        <p:blipFill>
          <a:blip r:embed="rId7"/>
          <a:stretch/>
        </p:blipFill>
        <p:spPr>
          <a:xfrm rot="20011200">
            <a:off x="3347640" y="5089320"/>
            <a:ext cx="1835280" cy="1768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379"/>
          <p:cNvPicPr/>
          <p:nvPr/>
        </p:nvPicPr>
        <p:blipFill>
          <a:blip r:embed="rId8"/>
          <a:stretch/>
        </p:blipFill>
        <p:spPr>
          <a:xfrm rot="18960000">
            <a:off x="2916000" y="5505120"/>
            <a:ext cx="1403280" cy="1352520"/>
          </a:xfrm>
          <a:prstGeom prst="rect">
            <a:avLst/>
          </a:prstGeom>
          <a:ln w="0">
            <a:noFill/>
          </a:ln>
        </p:spPr>
      </p:pic>
      <p:pic>
        <p:nvPicPr>
          <p:cNvPr id="204" name="день победы минус.mp3" descr=""/>
          <p:cNvPicPr/>
          <p:nvPr/>
        </p:nvPicPr>
        <p:blipFill>
          <a:blip r:embed="rId9"/>
          <a:stretch/>
        </p:blipFill>
        <p:spPr>
          <a:xfrm>
            <a:off x="7429680" y="5143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8910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Хроника военных ле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0" y="6172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 - это Земля, мир - это люди, мир - это дети. Мир - это спокойная и  радостная жизнь. Нет войны, нет горя и слез. Мир нужен всем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5" descr="MPj043064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9451-47F0-4D08-B083-D35F468E283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404640"/>
            <a:ext cx="38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усть небо будет голубы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усть в небе не клубится ды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усть пушки грозные молча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улеметы не строча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тоб жили люди, города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р нужен на земле всегда!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«Вставай страна огромная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т самый длинный день в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его безоблачной погод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м выдал общую бед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всех, на все четыре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а такой вдавила сле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только наземь положил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двадцать лет и тридцать 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ым не верится что живы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К. Симон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SWScan01083"/>
          <p:cNvPicPr/>
          <p:nvPr/>
        </p:nvPicPr>
        <p:blipFill>
          <a:blip r:embed="rId2"/>
          <a:stretch/>
        </p:blipFill>
        <p:spPr>
          <a:xfrm>
            <a:off x="4932360" y="1628640"/>
            <a:ext cx="3995640" cy="424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reproduktor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Картинка 61 из 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0"/>
            <a:ext cx="5003640" cy="666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prir644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одержимое 4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Старший лейтенант Добровольский Н.И. (слева) и капитан А. Г. Мачнев  - летчики-орденоносцы&lt;br&gt; части штурмовой авиации, отличившиеся в боях на орловском направлении на полевом аэродроме у самолетов.    1943 г. Место съемки: Орловская область. Автор съемки:   не установлен  . ГАОО,ед. хр. 9763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3995640" y="1071720"/>
            <a:ext cx="41767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«Тёмная ноч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«В землянке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Picture 8" descr="здесь побывали фашисты фото"/>
          <p:cNvPicPr/>
          <p:nvPr/>
        </p:nvPicPr>
        <p:blipFill>
          <a:blip r:embed="rId2"/>
          <a:stretch/>
        </p:blipFill>
        <p:spPr>
          <a:xfrm>
            <a:off x="428760" y="1500120"/>
            <a:ext cx="6072120" cy="464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В архиве &quot;Совинформбюро&quot; находится огромное количество уникальных фотографий"/>
          <p:cNvPicPr/>
          <p:nvPr/>
        </p:nvPicPr>
        <p:blipFill>
          <a:blip r:embed="rId3"/>
          <a:stretch/>
        </p:blipFill>
        <p:spPr>
          <a:xfrm>
            <a:off x="4500720" y="3571920"/>
            <a:ext cx="4643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На солнечной поляночке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Катюша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Содержимое 3" descr="Война перевернула всё Дзержинская районная газета &quot;Новое вре…"/>
          <p:cNvPicPr/>
          <p:nvPr/>
        </p:nvPicPr>
        <p:blipFill>
          <a:blip r:embed="rId1"/>
          <a:stretch/>
        </p:blipFill>
        <p:spPr>
          <a:xfrm>
            <a:off x="357120" y="1571760"/>
            <a:ext cx="8286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3:42:23Z</dcterms:created>
  <dc:creator>larisa</dc:creator>
  <dc:description/>
  <dc:language>en-US</dc:language>
  <cp:lastModifiedBy>1</cp:lastModifiedBy>
  <dcterms:modified xsi:type="dcterms:W3CDTF">2015-04-23T16:20:49Z</dcterms:modified>
  <cp:revision>45</cp:revision>
  <dc:subject/>
  <dc:title>Слайд 1</dc:title>
</cp:coreProperties>
</file>