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25.gif" ContentType="image/gif"/>
  <Override PartName="/ppt/media/image8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34.gif" ContentType="image/gif"/>
  <Override PartName="/ppt/media/image7.jpeg" ContentType="image/jpeg"/>
  <Override PartName="/ppt/media/image5.gif" ContentType="image/gif"/>
  <Override PartName="/ppt/media/click.wav" ContentType="audio/x-wav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B8AE-0622-420D-BE47-3BA4E70FC5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B34C-EA21-456E-AF95-4DB26BCCBA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B08C-08B0-4A45-AF7A-9A440D2C653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11FE-E6D1-450E-A231-FE4C4980D88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A461-DE0A-4541-8B2A-58BF9E250EC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6B30-9A12-4DF4-8229-EE6FC0473B4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ACC3-E1D1-4CF6-90FE-36B78AECDBF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D4BE-4A8B-4C21-8306-778F9B1F43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974E-14E0-42FA-AC17-A4F1CCFFA50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F563-11E8-4F42-A564-ACB01246B4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3568F-3A0D-4E81-B0DE-35820327D6F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3C2B-27EB-47F1-9FF9-CFCB2F51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F036-4192-4709-83B0-EA0453C9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27391-DDE4-4EEF-B5F4-89B57333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88B50-A1F8-4E7C-B4B8-6D8C12731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804A-7984-4A13-9667-B880497A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E705-1DE1-48C3-B38A-9357D4AE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61C2-60A1-4B2A-893B-98C219EC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A051A-6E15-4967-81BA-9EEE11B0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6890-7763-4CC5-B88A-74FDA267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4622-E787-4E67-8AF5-A690535E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7FCF-44B2-4619-B887-B9443F09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65E91-2ECA-4CB1-B8F1-43905922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9C6E-999E-491A-B3B8-95CDAE16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6F04-CE16-42F4-A706-518D3A18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64EF7-186E-43E2-9BEA-978C413B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698A-AA45-4DF5-9C31-A2AC4B91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8C4E-FFB0-426C-B036-7FD82EEA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724C4-CF28-4D01-9439-31BA1900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00AFF-B155-4F84-B1FF-3D124480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B20D4-5722-4B93-BC87-59478C77E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612F-1DFA-4C27-B5D2-4BEB1AD4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C3A4B-5EDF-4507-91AA-3B82F4AAD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91828-665C-4E55-AC54-29523857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B00D-27C5-4BF5-ADB9-B3F37027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099C-2E68-44A6-9590-ECF1D3D077C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139D-0DBA-49B0-9C1C-D7B84A73D5A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audio" Target="../media/click.wav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gif"/><Relationship Id="rId5" Type="http://schemas.openxmlformats.org/officeDocument/2006/relationships/image" Target="../media/image34.gif"/><Relationship Id="rId6" Type="http://schemas.openxmlformats.org/officeDocument/2006/relationships/image" Target="../media/image34.gif"/><Relationship Id="rId7" Type="http://schemas.openxmlformats.org/officeDocument/2006/relationships/image" Target="../media/image34.gif"/><Relationship Id="rId8" Type="http://schemas.openxmlformats.org/officeDocument/2006/relationships/image" Target="../media/image34.gif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42;&#1086;&#1077;&#1085;&#1085;&#1072;&#1103;%20&#1093;&#1088;&#1086;&#1085;&#1080;&#1082;&#1072;%201941-1945.mp4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89;&#1074;&#1103;&#1097;&#1077;&#1085;&#1085;&#1072;&#1103;%20&#1074;&#1086;&#1081;&#1085;&#1072;%20&#1082;&#1083;&#1080;&#1087;.mp4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1418.ru/images/700/p5.jpg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&#1058;&#1077;&#1084;&#1085;&#1072;&#1103;%20&#1085;&#1086;&#1095;&#1100;%20&#1082;&#1080;&#1085;&#1086;&#1092;&#1080;&#1083;&#1100;&#1084;%20&#1044;&#1074;&#1072;%20&#1073;&#1086;&#1081;&#1094;&#1072;.mp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74;%20&#1079;&#1077;&#1084;&#1083;&#1103;&#1085;&#1082;&#1077;%20&#1082;&#1083;&#1080;&#1087;.mp4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6" descr="рамка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547640" y="115920"/>
            <a:ext cx="58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Великой  Победе посвящает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00720" y="692280"/>
            <a:ext cx="438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Tahoma"/>
              </a:rPr>
              <a:t>1941 - 194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9" descr="a1"/>
          <p:cNvPicPr/>
          <p:nvPr/>
        </p:nvPicPr>
        <p:blipFill>
          <a:blip r:embed="rId2"/>
          <a:stretch/>
        </p:blipFill>
        <p:spPr>
          <a:xfrm>
            <a:off x="1332000" y="1268280"/>
            <a:ext cx="7200720" cy="438804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71240" y="5000760"/>
            <a:ext cx="6986520" cy="1357200"/>
          </a:xfrm>
          <a:prstGeom prst="rect">
            <a:avLst/>
          </a:prstGeom>
          <a:solidFill>
            <a:srgbClr val="d50800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« А песни готовы на бой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случайный вальс.mp3" descr=""/>
          <p:cNvPicPr/>
          <p:nvPr/>
        </p:nvPicPr>
        <p:blipFill>
          <a:blip r:embed="rId3"/>
          <a:stretch/>
        </p:blipFill>
        <p:spPr>
          <a:xfrm>
            <a:off x="7643880" y="5857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412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Журавли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9" name="Содержимое 3" descr="США - Картинка 7937/42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2565360" cy="30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3" descr="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7892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4284720" y="5805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Юные узники Освенци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3708360" y="260280"/>
            <a:ext cx="2611440" cy="273528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6804000" y="54936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ники фашизма в Карелии, г.Петрозаводс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50920" y="616572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зники Бухенвальд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6" name="Picture 8" descr="0658"/>
          <p:cNvPicPr/>
          <p:nvPr/>
        </p:nvPicPr>
        <p:blipFill>
          <a:blip r:embed="rId4"/>
          <a:stretch/>
        </p:blipFill>
        <p:spPr>
          <a:xfrm>
            <a:off x="179280" y="4221000"/>
            <a:ext cx="3575160" cy="1800360"/>
          </a:xfrm>
          <a:prstGeom prst="rect">
            <a:avLst/>
          </a:prstGeom>
          <a:ln w="0">
            <a:noFill/>
          </a:ln>
        </p:spPr>
      </p:pic>
      <p:sp>
        <p:nvSpPr>
          <p:cNvPr id="167" name="WordArt 9"/>
          <p:cNvSpPr txBox="1"/>
          <p:nvPr/>
        </p:nvSpPr>
        <p:spPr>
          <a:xfrm rot="20953800">
            <a:off x="3924360" y="3428640"/>
            <a:ext cx="4968720" cy="10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6648000"/>
                </a:gradFill>
                <a:latin typeface="Times New Roman"/>
              </a:rPr>
              <a:t>Ужасы концлагер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6648000"/>
              </a:gradFill>
              <a:latin typeface="Times New Roman"/>
              <a:ea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1042920" y="3429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Лагерь Аушвиц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11" descr="13"/>
          <p:cNvPicPr/>
          <p:nvPr/>
        </p:nvPicPr>
        <p:blipFill>
          <a:blip r:embed="rId5"/>
          <a:stretch/>
        </p:blipFill>
        <p:spPr>
          <a:xfrm>
            <a:off x="6708600" y="260280"/>
            <a:ext cx="2165400" cy="252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prir644"/>
          <p:cNvPicPr/>
          <p:nvPr/>
        </p:nvPicPr>
        <p:blipFill>
          <a:blip r:embed="rId6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slow" advTm="65000"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0182"/>
          <p:cNvPicPr/>
          <p:nvPr/>
        </p:nvPicPr>
        <p:blipFill>
          <a:blip r:embed="rId1"/>
          <a:stretch/>
        </p:blipFill>
        <p:spPr>
          <a:xfrm>
            <a:off x="2627280" y="1697040"/>
            <a:ext cx="6288120" cy="5160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дети в концлагере"/>
          <p:cNvPicPr/>
          <p:nvPr/>
        </p:nvPicPr>
        <p:blipFill>
          <a:blip r:embed="rId2"/>
          <a:stretch/>
        </p:blipFill>
        <p:spPr>
          <a:xfrm>
            <a:off x="0" y="0"/>
            <a:ext cx="4800600" cy="3733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6" descr="Эвакуация в тыл страны"/>
          <p:cNvPicPr/>
          <p:nvPr/>
        </p:nvPicPr>
        <p:blipFill>
          <a:blip r:embed="rId1"/>
          <a:stretch/>
        </p:blipFill>
        <p:spPr>
          <a:xfrm>
            <a:off x="0" y="1341360"/>
            <a:ext cx="5257800" cy="4797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Снова бомбежка"/>
          <p:cNvPicPr/>
          <p:nvPr/>
        </p:nvPicPr>
        <p:blipFill>
          <a:blip r:embed="rId2"/>
          <a:stretch/>
        </p:blipFill>
        <p:spPr>
          <a:xfrm>
            <a:off x="2411280" y="404640"/>
            <a:ext cx="6732720" cy="5177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1406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ffffcc"/>
                </a:solidFill>
                <a:latin typeface="Times New Roman"/>
              </a:rPr>
              <a:t>Освенцим</a:t>
            </a:r>
            <a:endParaRPr b="0" lang="en-US" sz="7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-252360" y="1125360"/>
            <a:ext cx="720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6"/>
          <p:cNvPicPr/>
          <p:nvPr/>
        </p:nvPicPr>
        <p:blipFill>
          <a:blip r:embed="rId2"/>
          <a:stretch/>
        </p:blipFill>
        <p:spPr>
          <a:xfrm>
            <a:off x="1476360" y="1052640"/>
            <a:ext cx="6191280" cy="5229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Синий платочек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844640"/>
            <a:ext cx="7772400" cy="501336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Война унесла 27 млн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человеческих жизней;</a:t>
            </a: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Было разрушено 1710 городов ;</a:t>
            </a: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-  </a:t>
            </a: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Уничтожено 70 тысяч сёл и деревень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-  </a:t>
            </a: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Разрушено</a:t>
            </a: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31850 заводов и фабрик, 1135 шахт, 65 тысяч километров железных дорог.</a:t>
            </a:r>
            <a:r>
              <a:rPr b="0" lang="ru-RU" sz="3200" spc="-1" strike="noStrike">
                <a:solidFill>
                  <a:srgbClr val="ebf25a"/>
                </a:solidFill>
                <a:latin typeface="Times New Roman"/>
                <a:ea typeface="Times New Roman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324000" y="0"/>
            <a:ext cx="855324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Потери СССР в Великой Отечественной Войн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0e7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                                   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0e7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1941-1945 гг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0e7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5" name="Picture 8" descr="arh109"/>
          <p:cNvPicPr/>
          <p:nvPr/>
        </p:nvPicPr>
        <p:blipFill>
          <a:blip r:embed="rId1"/>
          <a:stretch/>
        </p:blipFill>
        <p:spPr>
          <a:xfrm>
            <a:off x="8072280" y="4070520"/>
            <a:ext cx="857520" cy="27874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5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C:\Documents and Settings\user\Рабочий стол\Новая папка (8)\Рисунок21.jpg"/>
          <p:cNvPicPr/>
          <p:nvPr/>
        </p:nvPicPr>
        <p:blipFill>
          <a:blip r:embed="rId1"/>
          <a:stretch/>
        </p:blipFill>
        <p:spPr>
          <a:xfrm>
            <a:off x="0" y="642960"/>
            <a:ext cx="5000760" cy="621504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оугольник 4"/>
          <p:cNvSpPr/>
          <p:nvPr/>
        </p:nvSpPr>
        <p:spPr>
          <a:xfrm>
            <a:off x="5143680" y="0"/>
            <a:ext cx="3786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мни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Через века, через год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мни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О тех, кто уже не придет никогда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мни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Люди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куда сердца стучатся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мни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Какой ценой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</a:rPr>
              <a:t>завоё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ано счасть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ожалуйста, помни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Не плачьте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 горле сдержите стоны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Горькие сто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Памяти павших будьте достойны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Вечно достой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.Рождествен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Рисунок 6" descr="lenta.JPG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i9383-image-big"/>
          <p:cNvPicPr/>
          <p:nvPr/>
        </p:nvPicPr>
        <p:blipFill>
          <a:blip r:embed="rId1"/>
          <a:stretch/>
        </p:blipFill>
        <p:spPr>
          <a:xfrm>
            <a:off x="0" y="0"/>
            <a:ext cx="2806560" cy="4076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Картинка 7 из 138"/>
          <p:cNvPicPr/>
          <p:nvPr/>
        </p:nvPicPr>
        <p:blipFill>
          <a:blip r:embed="rId2"/>
          <a:stretch/>
        </p:blipFill>
        <p:spPr>
          <a:xfrm>
            <a:off x="684360" y="2133720"/>
            <a:ext cx="5041800" cy="4039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" descr="24 июня 1945 года Парад Победы на Красной площади."/>
          <p:cNvPicPr/>
          <p:nvPr/>
        </p:nvPicPr>
        <p:blipFill>
          <a:blip r:embed="rId3"/>
          <a:stretch/>
        </p:blipFill>
        <p:spPr>
          <a:xfrm>
            <a:off x="5219640" y="2332080"/>
            <a:ext cx="3924360" cy="45259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3094200" y="360"/>
            <a:ext cx="6049800" cy="17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Arial"/>
              </a:rPr>
              <a:t>Одна лишь просьба есть у нас: "Потомки, память сохраните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bf25a"/>
                </a:solidFill>
                <a:latin typeface="Arial"/>
              </a:rPr>
              <a:t>Мы жизни отдали за вас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bf25a"/>
                </a:solidFill>
                <a:latin typeface="Arial"/>
              </a:rPr>
              <a:t>А вы - Россию берегите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12" descr="prir644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9-3"/>
          <p:cNvPicPr/>
          <p:nvPr/>
        </p:nvPicPr>
        <p:blipFill>
          <a:blip r:embed="rId1"/>
          <a:stretch/>
        </p:blipFill>
        <p:spPr>
          <a:xfrm>
            <a:off x="0" y="0"/>
            <a:ext cx="9144000" cy="5913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Картинка 1 из 138"/>
          <p:cNvPicPr/>
          <p:nvPr/>
        </p:nvPicPr>
        <p:blipFill>
          <a:blip r:embed="rId2"/>
          <a:stretch/>
        </p:blipFill>
        <p:spPr>
          <a:xfrm>
            <a:off x="0" y="0"/>
            <a:ext cx="8459640" cy="58723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547"/>
          <p:cNvPicPr/>
          <p:nvPr/>
        </p:nvPicPr>
        <p:blipFill>
          <a:blip r:embed="rId3"/>
          <a:stretch/>
        </p:blipFill>
        <p:spPr>
          <a:xfrm>
            <a:off x="0" y="0"/>
            <a:ext cx="8675640" cy="5915160"/>
          </a:xfrm>
          <a:prstGeom prst="rect">
            <a:avLst/>
          </a:prstGeom>
          <a:ln w="0">
            <a:noFill/>
          </a:ln>
        </p:spPr>
      </p:pic>
      <p:sp>
        <p:nvSpPr>
          <p:cNvPr id="198" name="WordArt 5"/>
          <p:cNvSpPr txBox="1"/>
          <p:nvPr/>
        </p:nvSpPr>
        <p:spPr>
          <a:xfrm>
            <a:off x="1042920" y="1052640"/>
            <a:ext cx="6408720" cy="371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Героям Родины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алют!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9" name="Picture 9" descr="379"/>
          <p:cNvPicPr/>
          <p:nvPr/>
        </p:nvPicPr>
        <p:blipFill>
          <a:blip r:embed="rId4"/>
          <a:stretch/>
        </p:blipFill>
        <p:spPr>
          <a:xfrm rot="16777800">
            <a:off x="676080" y="5069880"/>
            <a:ext cx="1413000" cy="22096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379"/>
          <p:cNvPicPr/>
          <p:nvPr/>
        </p:nvPicPr>
        <p:blipFill>
          <a:blip r:embed="rId5"/>
          <a:stretch/>
        </p:blipFill>
        <p:spPr>
          <a:xfrm rot="2134200">
            <a:off x="6768720" y="5408640"/>
            <a:ext cx="1916280" cy="1846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379"/>
          <p:cNvPicPr/>
          <p:nvPr/>
        </p:nvPicPr>
        <p:blipFill>
          <a:blip r:embed="rId6"/>
          <a:stretch/>
        </p:blipFill>
        <p:spPr>
          <a:xfrm rot="21333000">
            <a:off x="4211280" y="5437080"/>
            <a:ext cx="1474920" cy="1420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379"/>
          <p:cNvPicPr/>
          <p:nvPr/>
        </p:nvPicPr>
        <p:blipFill>
          <a:blip r:embed="rId7"/>
          <a:stretch/>
        </p:blipFill>
        <p:spPr>
          <a:xfrm rot="20011200">
            <a:off x="3347640" y="5089320"/>
            <a:ext cx="1835280" cy="1768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379"/>
          <p:cNvPicPr/>
          <p:nvPr/>
        </p:nvPicPr>
        <p:blipFill>
          <a:blip r:embed="rId8"/>
          <a:stretch/>
        </p:blipFill>
        <p:spPr>
          <a:xfrm rot="18960000">
            <a:off x="2916000" y="5505120"/>
            <a:ext cx="1403280" cy="1352520"/>
          </a:xfrm>
          <a:prstGeom prst="rect">
            <a:avLst/>
          </a:prstGeom>
          <a:ln w="0">
            <a:noFill/>
          </a:ln>
        </p:spPr>
      </p:pic>
      <p:pic>
        <p:nvPicPr>
          <p:cNvPr id="204" name="день победы минус.mp3" descr=""/>
          <p:cNvPicPr/>
          <p:nvPr/>
        </p:nvPicPr>
        <p:blipFill>
          <a:blip r:embed="rId9"/>
          <a:stretch/>
        </p:blipFill>
        <p:spPr>
          <a:xfrm>
            <a:off x="7429680" y="5143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189101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Хроника военных ле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0" y="61722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 - это Земля, мир - это люди, мир - это дети. Мир - это спокойная и  радостная жизнь. Нет войны, нет горя и слез. Мир нужен всем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5" descr="MPj0430642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2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4259-3445-489C-8C26-5EC921E149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24000" y="404640"/>
            <a:ext cx="3887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усть небо будет голубы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усть в небе не клубится дым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усть пушки грозные молча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 пулеметы не строчат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тоб жили люди, города..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Мир нужен на земле всегда!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«Вставай страна огромная…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т самый длинный день в год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его безоблачной погод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м выдал общую беду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 всех, на все четыре год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а такой вдавила след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И столько наземь положила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Что двадцать лет и тридцать 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Живым не верится что живы…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К. Симонов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4" descr="SWScan01083"/>
          <p:cNvPicPr/>
          <p:nvPr/>
        </p:nvPicPr>
        <p:blipFill>
          <a:blip r:embed="rId2"/>
          <a:stretch/>
        </p:blipFill>
        <p:spPr>
          <a:xfrm>
            <a:off x="4932360" y="1628640"/>
            <a:ext cx="3995640" cy="4248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prir644"/>
          <p:cNvPicPr/>
          <p:nvPr/>
        </p:nvPicPr>
        <p:blipFill>
          <a:blip r:embed="rId3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reproduktor"/>
          <p:cNvPicPr/>
          <p:nvPr/>
        </p:nvPicPr>
        <p:blipFill>
          <a:blip r:embed="rId1"/>
          <a:stretch/>
        </p:blipFill>
        <p:spPr>
          <a:xfrm>
            <a:off x="0" y="0"/>
            <a:ext cx="5079960" cy="685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Картинка 61 из 8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0360" y="0"/>
            <a:ext cx="5003640" cy="666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2" descr="prir644"/>
          <p:cNvPicPr/>
          <p:nvPr/>
        </p:nvPicPr>
        <p:blipFill>
          <a:blip r:embed="rId4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Содержимое 4" descr="Рисунок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prir644"/>
          <p:cNvPicPr/>
          <p:nvPr/>
        </p:nvPicPr>
        <p:blipFill>
          <a:blip r:embed="rId2">
            <a:lum contrast="54000"/>
          </a:blip>
          <a:stretch/>
        </p:blipFill>
        <p:spPr>
          <a:xfrm>
            <a:off x="0" y="6216480"/>
            <a:ext cx="9144000" cy="64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Старший лейтенант Добровольский Н.И. (слева) и капитан А. Г. Мачнев  - летчики-орденоносцы&lt;br&gt; части штурмовой авиации, отличившиеся в боях на орловском направлении на полевом аэродроме у самолетов.    1943 г. Место съемки: Орловская область. Автор съемки:   не установлен  . ГАОО,ед. хр. 9763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3995640" y="1071720"/>
            <a:ext cx="41767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bf25a"/>
                </a:solidFill>
                <a:uFillTx/>
                <a:latin typeface="Arial"/>
                <a:hlinkClick r:id="rId2"/>
              </a:rPr>
              <a:t>«Тёмная ноч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fade thruBlk="true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«В землянке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Picture 8" descr="здесь побывали фашисты фото"/>
          <p:cNvPicPr/>
          <p:nvPr/>
        </p:nvPicPr>
        <p:blipFill>
          <a:blip r:embed="rId2"/>
          <a:stretch/>
        </p:blipFill>
        <p:spPr>
          <a:xfrm>
            <a:off x="428760" y="1500120"/>
            <a:ext cx="6072120" cy="4643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В архиве &quot;Совинформбюро&quot; находится огромное количество уникальных фотографий"/>
          <p:cNvPicPr/>
          <p:nvPr/>
        </p:nvPicPr>
        <p:blipFill>
          <a:blip r:embed="rId3"/>
          <a:stretch/>
        </p:blipFill>
        <p:spPr>
          <a:xfrm>
            <a:off x="4500720" y="3571920"/>
            <a:ext cx="4643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На солнечной поляночке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«Катюша»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7" name="Содержимое 3" descr="Война перевернула всё Дзержинская районная газета &quot;Новое вре…"/>
          <p:cNvPicPr/>
          <p:nvPr/>
        </p:nvPicPr>
        <p:blipFill>
          <a:blip r:embed="rId1"/>
          <a:stretch/>
        </p:blipFill>
        <p:spPr>
          <a:xfrm>
            <a:off x="357120" y="1571760"/>
            <a:ext cx="8286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3:42:23Z</dcterms:created>
  <dc:creator>larisa</dc:creator>
  <dc:description/>
  <dc:language>en-US</dc:language>
  <cp:lastModifiedBy>1</cp:lastModifiedBy>
  <dcterms:modified xsi:type="dcterms:W3CDTF">2015-04-23T16:20:49Z</dcterms:modified>
  <cp:revision>45</cp:revision>
  <dc:subject/>
  <dc:title>Слайд 1</dc:title>
</cp:coreProperties>
</file>