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FBA-78D6-4C63-99A7-E4886F9B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915-BA60-45C3-AF02-69C2971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47B-8F81-4AF7-8814-897B8898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DFBF-4DD4-4AF3-9959-0373D2A6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915-C86D-4A0D-B31F-485035A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1D9-6D91-4562-AD90-60244E70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A45-3A39-4977-BC34-15D4121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6C3-E97A-4B5F-B32B-AF606192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285-0972-4A74-8F05-A8F5E769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6A9-F58C-4CD7-BFF2-54054CC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159-85DD-49FA-9894-782A5D3B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F8B-37BC-435B-90DB-67640B9A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4DE6-0438-4796-B1D2-FF5CC66A13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hyperlink" Target="http://eugenebmw.narod.ru/GIF/animation-picture/bells.gif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743040" y="1122480"/>
            <a:ext cx="3921120" cy="44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03280" y="4653000"/>
            <a:ext cx="31100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ткина Елена Вита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Елена\Desktop\на сайт 12.12\Раздел 3. Выявление и развитие способностей обучающихся\3.1. Участие обучающихся во ВОШ\image0.jpeg"/>
          <p:cNvPicPr/>
          <p:nvPr/>
        </p:nvPicPr>
        <p:blipFill>
          <a:blip r:embed="rId1"/>
          <a:stretch/>
        </p:blipFill>
        <p:spPr>
          <a:xfrm>
            <a:off x="2786040" y="214200"/>
            <a:ext cx="3286080" cy="500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Елена\Desktop\аттестация - 2023-2024\интеллектуал марафон 2021г.png"/>
          <p:cNvPicPr/>
          <p:nvPr/>
        </p:nvPicPr>
        <p:blipFill>
          <a:blip r:embed="rId2"/>
          <a:stretch/>
        </p:blipFill>
        <p:spPr>
          <a:xfrm rot="440400">
            <a:off x="5853240" y="1806120"/>
            <a:ext cx="2857320" cy="457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Елена\Desktop\аттестация - 2023-2024\дип. Антивирус викторина.png"/>
          <p:cNvPicPr/>
          <p:nvPr/>
        </p:nvPicPr>
        <p:blipFill>
          <a:blip r:embed="rId3"/>
          <a:stretch/>
        </p:blipFill>
        <p:spPr>
          <a:xfrm rot="21370200">
            <a:off x="282240" y="1803240"/>
            <a:ext cx="2817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городской фестиваль Шахматное  королевство, конкурс сочинений, легенд 2021г.jpg"/>
          <p:cNvPicPr/>
          <p:nvPr/>
        </p:nvPicPr>
        <p:blipFill>
          <a:blip r:embed="rId1"/>
          <a:stretch/>
        </p:blipFill>
        <p:spPr>
          <a:xfrm>
            <a:off x="2946240" y="811080"/>
            <a:ext cx="3178440" cy="5119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безопасный труд глазами детей 2023.jpg"/>
          <p:cNvPicPr/>
          <p:nvPr/>
        </p:nvPicPr>
        <p:blipFill>
          <a:blip r:embed="rId2"/>
          <a:stretch/>
        </p:blipFill>
        <p:spPr>
          <a:xfrm>
            <a:off x="30575160" y="33789960"/>
            <a:ext cx="8524800" cy="9024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безопасный труд глазами детей 2023.jpg"/>
          <p:cNvPicPr/>
          <p:nvPr/>
        </p:nvPicPr>
        <p:blipFill>
          <a:blip r:embed="rId3"/>
          <a:stretch/>
        </p:blipFill>
        <p:spPr>
          <a:xfrm rot="609600">
            <a:off x="6151320" y="1910880"/>
            <a:ext cx="2624040" cy="441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Елена\Desktop\на сайт 12.12\Раздел 3. Выявление и развитие способностей обучающихся\3.3 Участие в исследовательской деятельности\грамота 2021г проект Фруктовая батарейка.jpg"/>
          <p:cNvPicPr/>
          <p:nvPr/>
        </p:nvPicPr>
        <p:blipFill>
          <a:blip r:embed="rId4"/>
          <a:stretch/>
        </p:blipFill>
        <p:spPr>
          <a:xfrm rot="20877600">
            <a:off x="627120" y="1910880"/>
            <a:ext cx="2577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3245040" cy="448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928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ПК\Documents\2021 - 2022   4 класс\ДЕТИ 2021-2022\мир глазами историка\20210921_093513.jpg"/>
          <p:cNvPicPr/>
          <p:nvPr/>
        </p:nvPicPr>
        <p:blipFill>
          <a:blip r:embed="rId1"/>
          <a:stretch/>
        </p:blipFill>
        <p:spPr>
          <a:xfrm>
            <a:off x="2286000" y="28584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ПК\Documents\2021 - 2022   4 класс\ДЕТИ 2021-2022\мир глазами историка\20210921_094544.jpg"/>
          <p:cNvPicPr/>
          <p:nvPr/>
        </p:nvPicPr>
        <p:blipFill>
          <a:blip r:embed="rId2"/>
          <a:stretch/>
        </p:blipFill>
        <p:spPr>
          <a:xfrm>
            <a:off x="4500720" y="3714840"/>
            <a:ext cx="4190760" cy="278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214200" y="3643200"/>
            <a:ext cx="4000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Users\ПК\Documents\2021 - 2022   4 класс\ДЕТИ 2021-2022\8 марта\20220304_113014.jpg"/>
          <p:cNvPicPr/>
          <p:nvPr/>
        </p:nvPicPr>
        <p:blipFill>
          <a:blip r:embed="rId1"/>
          <a:stretch/>
        </p:blipFill>
        <p:spPr>
          <a:xfrm>
            <a:off x="1908000" y="0"/>
            <a:ext cx="5148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2"/>
          <p:cNvSpPr/>
          <p:nvPr/>
        </p:nvSpPr>
        <p:spPr>
          <a:xfrm>
            <a:off x="1116000" y="1197000"/>
            <a:ext cx="705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ой области одаренный ребенок проявит себ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неизвестно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не стоит навязывать ему результаты своих наблюдений или испыт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редоставить условия для широкого проявления его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1763640" y="1125360"/>
            <a:ext cx="16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е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бъект 2"/>
          <p:cNvSpPr/>
          <p:nvPr/>
        </p:nvSpPr>
        <p:spPr>
          <a:xfrm>
            <a:off x="900000" y="1628640"/>
            <a:ext cx="3527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и развив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омерных занят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ой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ого участия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4716360" y="2492280"/>
            <a:ext cx="360072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развития способностей ребе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возмож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187280" y="1484280"/>
            <a:ext cx="309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003640" y="3429000"/>
            <a:ext cx="30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rofessor"/>
          <p:cNvPicPr/>
          <p:nvPr/>
        </p:nvPicPr>
        <p:blipFill>
          <a:blip r:embed="rId3"/>
          <a:stretch/>
        </p:blipFill>
        <p:spPr>
          <a:xfrm>
            <a:off x="2268360" y="3573360"/>
            <a:ext cx="1559160" cy="188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Картинка 1 из 9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1341360"/>
            <a:ext cx="13460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116000" y="1341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новные компоненты работы с 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ъект 2"/>
          <p:cNvSpPr/>
          <p:nvPr/>
        </p:nvSpPr>
        <p:spPr>
          <a:xfrm>
            <a:off x="4788000" y="112536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ие одаренны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творческих и интеллектуальных способностей учащихся на уро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способностей во внеурочной деятельности (олимпиады, конкурсы, исследовательская работа, проектная деятель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условий для всестороннего развития одаренн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1258920" y="1700280"/>
            <a:ext cx="28828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Структур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ъект 2"/>
          <p:cNvSpPr/>
          <p:nvPr/>
        </p:nvSpPr>
        <p:spPr>
          <a:xfrm>
            <a:off x="4788000" y="2708280"/>
            <a:ext cx="34034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у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1332000" y="1484280"/>
            <a:ext cx="289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4788000" y="1700280"/>
            <a:ext cx="338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частично-поиско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ек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1187280" y="1413000"/>
            <a:ext cx="311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ъект 2"/>
          <p:cNvSpPr/>
          <p:nvPr/>
        </p:nvSpPr>
        <p:spPr>
          <a:xfrm>
            <a:off x="4859280" y="1413000"/>
            <a:ext cx="331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но-урочная (работа в парах, в малых группах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фференцированные разноуровневые зад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ворческие зад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ирование по возникше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усс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г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1258920" y="134136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Виды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ъект 2"/>
          <p:cNvSpPr/>
          <p:nvPr/>
        </p:nvSpPr>
        <p:spPr>
          <a:xfrm>
            <a:off x="5076720" y="1268280"/>
            <a:ext cx="295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ие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метные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и с применением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повышенной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творческие задания, занимательные опыты, материалы и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Объект 2"/>
          <p:cNvSpPr/>
          <p:nvPr/>
        </p:nvSpPr>
        <p:spPr>
          <a:xfrm>
            <a:off x="1042920" y="1268280"/>
            <a:ext cx="338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ллектуальные игры и конкурсы, викторины, мара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метные олимпиа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есные игры и забавы, роле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занимательны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тические класс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е проекты различной 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4932360" y="1268280"/>
            <a:ext cx="3311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творчески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шествие по стране знаний1-4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психоло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валификаци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профессиональных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116000" y="1628640"/>
            <a:ext cx="31687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оставим портрет одаренного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бъект 2"/>
          <p:cNvSpPr/>
          <p:nvPr/>
        </p:nvSpPr>
        <p:spPr>
          <a:xfrm>
            <a:off x="4859280" y="1125360"/>
            <a:ext cx="3241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Проявляет любопытство ко многим вещам, постоянно задает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редлагает много идей, решений задач, ответов на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Свободно высказывает свое мнение, настойчиво, энергично отстаивае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клонен к рискованным действ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age533"/>
          <p:cNvPicPr/>
          <p:nvPr/>
        </p:nvPicPr>
        <p:blipFill>
          <a:blip r:embed="rId3"/>
          <a:stretch/>
        </p:blipFill>
        <p:spPr>
          <a:xfrm>
            <a:off x="2916360" y="4292640"/>
            <a:ext cx="122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Объект 2"/>
          <p:cNvSpPr/>
          <p:nvPr/>
        </p:nvSpPr>
        <p:spPr>
          <a:xfrm>
            <a:off x="971640" y="1197000"/>
            <a:ext cx="338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Обладает богатой фантазией, воображением. Часто озабочен преобразованием, улучшением общества,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Обладает хорошо развитым чувством юмора, видит юмор в ситуациях, которые могут не казаться другим смеш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Чувствителен к красоте, внимателен к эстетике ве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ъект 2"/>
          <p:cNvSpPr/>
          <p:nvPr/>
        </p:nvSpPr>
        <p:spPr>
          <a:xfrm>
            <a:off x="4859280" y="1197000"/>
            <a:ext cx="3333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Не конфликтен, не приспособленец, не боится отличиться от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Конструктивно критичен, не принимает авторитарных указаний без критического из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Стремится к самовыражению, творческому использованию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5T16:44:43Z</dcterms:created>
  <dc:creator>ПК</dc:creator>
  <dc:description/>
  <dc:language>en-US</dc:language>
  <cp:lastModifiedBy>Елена</cp:lastModifiedBy>
  <dcterms:modified xsi:type="dcterms:W3CDTF">2024-01-07T08:42:51Z</dcterms:modified>
  <cp:revision>52</cp:revision>
  <dc:subject/>
  <dc:title>Слайд 1</dc:title>
</cp:coreProperties>
</file>