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88FF-1C3D-42AD-BD8A-16D3CEA6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1B8F-F882-4518-B15D-079695C66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D21-1D33-4156-91B9-C5B46EB1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FA16-7FB2-4943-A53A-3329EED04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ED01-2A04-400D-828D-4A713483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98F8-8031-4BAC-A43F-5345421D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D04D-53E2-42C3-A909-95BE6D30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E6DB-B7EF-48E4-9F1B-3A1C9320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2FC-9812-48DC-96BB-E11E4A69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E4C3-767D-4897-A82D-5C896C5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96C-F629-4EE3-B34D-4D3C2CC5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DD3-DF01-42DC-9DE9-2E302C07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C7FB-1379-482B-888E-472FF04C2E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18.png"/><Relationship Id="rId4" Type="http://schemas.openxmlformats.org/officeDocument/2006/relationships/hyperlink" Target="http://eugenebmw.narod.ru/GIF/animation-picture/bells.gif" TargetMode="External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головок 1" descr=""/>
          <p:cNvPicPr/>
          <p:nvPr/>
        </p:nvPicPr>
        <p:blipFill>
          <a:blip r:embed="rId2"/>
          <a:stretch/>
        </p:blipFill>
        <p:spPr>
          <a:xfrm>
            <a:off x="743040" y="1122480"/>
            <a:ext cx="3921120" cy="4400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03280" y="4653000"/>
            <a:ext cx="31100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Calibri"/>
              </a:rPr>
              <a:t>Уткина Елена Виталье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Елена\Desktop\на сайт 12.12\Раздел 3. Выявление и развитие способностей обучающихся\3.1. Участие обучающихся во ВОШ\image0.jpeg"/>
          <p:cNvPicPr/>
          <p:nvPr/>
        </p:nvPicPr>
        <p:blipFill>
          <a:blip r:embed="rId1"/>
          <a:stretch/>
        </p:blipFill>
        <p:spPr>
          <a:xfrm>
            <a:off x="2786040" y="214200"/>
            <a:ext cx="3286080" cy="500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Елена\Desktop\аттестация - 2023-2024\интеллектуал марафон 2021г.png"/>
          <p:cNvPicPr/>
          <p:nvPr/>
        </p:nvPicPr>
        <p:blipFill>
          <a:blip r:embed="rId2"/>
          <a:stretch/>
        </p:blipFill>
        <p:spPr>
          <a:xfrm rot="440400">
            <a:off x="5853240" y="1806120"/>
            <a:ext cx="2857320" cy="4570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Елена\Desktop\аттестация - 2023-2024\дип. Антивирус викторина.png"/>
          <p:cNvPicPr/>
          <p:nvPr/>
        </p:nvPicPr>
        <p:blipFill>
          <a:blip r:embed="rId3"/>
          <a:stretch/>
        </p:blipFill>
        <p:spPr>
          <a:xfrm rot="21370200">
            <a:off x="282240" y="1803240"/>
            <a:ext cx="281772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городской фестиваль Шахматное  королевство, конкурс сочинений, легенд 2021г.jpg"/>
          <p:cNvPicPr/>
          <p:nvPr/>
        </p:nvPicPr>
        <p:blipFill>
          <a:blip r:embed="rId1"/>
          <a:stretch/>
        </p:blipFill>
        <p:spPr>
          <a:xfrm>
            <a:off x="2946240" y="811080"/>
            <a:ext cx="3178440" cy="5119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безопасный труд глазами детей 2023.jpg"/>
          <p:cNvPicPr/>
          <p:nvPr/>
        </p:nvPicPr>
        <p:blipFill>
          <a:blip r:embed="rId2"/>
          <a:stretch/>
        </p:blipFill>
        <p:spPr>
          <a:xfrm>
            <a:off x="30575160" y="33789960"/>
            <a:ext cx="8524800" cy="9024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C:\Users\Елена\Desktop\на сайт 12.12\Раздел 3. Выявление и развитие способностей обучающихся\3.4. Участие во внеурочной деятельности(по профилю)\Муниципальный\безопасный труд глазами детей 2023.jpg"/>
          <p:cNvPicPr/>
          <p:nvPr/>
        </p:nvPicPr>
        <p:blipFill>
          <a:blip r:embed="rId3"/>
          <a:stretch/>
        </p:blipFill>
        <p:spPr>
          <a:xfrm rot="609600">
            <a:off x="6151320" y="1910880"/>
            <a:ext cx="2624040" cy="441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C:\Users\Елена\Desktop\на сайт 12.12\Раздел 3. Выявление и развитие способностей обучающихся\3.3 Участие в исследовательской деятельности\грамота 2021г проект Фруктовая батарейка.jpg"/>
          <p:cNvPicPr/>
          <p:nvPr/>
        </p:nvPicPr>
        <p:blipFill>
          <a:blip r:embed="rId4"/>
          <a:stretch/>
        </p:blipFill>
        <p:spPr>
          <a:xfrm rot="20877600">
            <a:off x="627120" y="1910880"/>
            <a:ext cx="25779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3245040" cy="448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5214960" y="1643040"/>
            <a:ext cx="292896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C:\Users\ПК\Documents\2021 - 2022   4 класс\ДЕТИ 2021-2022\мир глазами историка\20210921_093513.jpg"/>
          <p:cNvPicPr/>
          <p:nvPr/>
        </p:nvPicPr>
        <p:blipFill>
          <a:blip r:embed="rId1"/>
          <a:stretch/>
        </p:blipFill>
        <p:spPr>
          <a:xfrm>
            <a:off x="2286000" y="285840"/>
            <a:ext cx="3995640" cy="2997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C:\Users\ПК\Documents\2021 - 2022   4 класс\ДЕТИ 2021-2022\мир глазами историка\20210921_094544.jpg"/>
          <p:cNvPicPr/>
          <p:nvPr/>
        </p:nvPicPr>
        <p:blipFill>
          <a:blip r:embed="rId2"/>
          <a:stretch/>
        </p:blipFill>
        <p:spPr>
          <a:xfrm>
            <a:off x="4500720" y="3714840"/>
            <a:ext cx="4190760" cy="2786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3"/>
          <a:stretch/>
        </p:blipFill>
        <p:spPr>
          <a:xfrm>
            <a:off x="214200" y="3643200"/>
            <a:ext cx="40006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C:\Users\ПК\Documents\2021 - 2022   4 класс\ДЕТИ 2021-2022\8 марта\20220304_113014.jpg"/>
          <p:cNvPicPr/>
          <p:nvPr/>
        </p:nvPicPr>
        <p:blipFill>
          <a:blip r:embed="rId1"/>
          <a:stretch/>
        </p:blipFill>
        <p:spPr>
          <a:xfrm>
            <a:off x="1908000" y="0"/>
            <a:ext cx="514836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Объект 2"/>
          <p:cNvSpPr/>
          <p:nvPr/>
        </p:nvSpPr>
        <p:spPr>
          <a:xfrm>
            <a:off x="1116000" y="1197000"/>
            <a:ext cx="705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какой области одаренный ребенок проявит себя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то неизвестно!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о не стоит навязывать ему результаты своих наблюдений или испытан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учше предоставить условия для широкого проявления его возможност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Заголовок 1"/>
          <p:cNvSpPr/>
          <p:nvPr/>
        </p:nvSpPr>
        <p:spPr>
          <a:xfrm>
            <a:off x="1763640" y="1125360"/>
            <a:ext cx="1656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Бе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бъект 2"/>
          <p:cNvSpPr/>
          <p:nvPr/>
        </p:nvSpPr>
        <p:spPr>
          <a:xfrm>
            <a:off x="900000" y="1628640"/>
            <a:ext cx="35276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ганизации развивающей сред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ланомерных занят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ндивидуальной работы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тивного участия родителе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4716360" y="2492280"/>
            <a:ext cx="3600720" cy="30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развития способностей ребен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возмож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187280" y="1484280"/>
            <a:ext cx="309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Спасиб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за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5003640" y="3429000"/>
            <a:ext cx="309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Творческих успехов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professor"/>
          <p:cNvPicPr/>
          <p:nvPr/>
        </p:nvPicPr>
        <p:blipFill>
          <a:blip r:embed="rId3"/>
          <a:stretch/>
        </p:blipFill>
        <p:spPr>
          <a:xfrm>
            <a:off x="2268360" y="3573360"/>
            <a:ext cx="1559160" cy="1889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Картинка 1 из 903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32720" y="1341360"/>
            <a:ext cx="1346040" cy="10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1116000" y="1341360"/>
            <a:ext cx="32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Основные компоненты работы с одаренными деть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бъект 2"/>
          <p:cNvSpPr/>
          <p:nvPr/>
        </p:nvSpPr>
        <p:spPr>
          <a:xfrm>
            <a:off x="4788000" y="1125360"/>
            <a:ext cx="3456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ие одаренных дете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творческих и интеллектуальных способностей учащихся на урок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звитие способностей во внеурочной деятельности (олимпиады, конкурсы, исследовательская работа, проектная деятельность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здание условий для всестороннего развития одаренных де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Заголовок 1"/>
          <p:cNvSpPr/>
          <p:nvPr/>
        </p:nvSpPr>
        <p:spPr>
          <a:xfrm>
            <a:off x="1258920" y="1700280"/>
            <a:ext cx="28828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Структура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бъект 2"/>
          <p:cNvSpPr/>
          <p:nvPr/>
        </p:nvSpPr>
        <p:spPr>
          <a:xfrm>
            <a:off x="4788000" y="2708280"/>
            <a:ext cx="3403440" cy="24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уроч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Заголовок 1"/>
          <p:cNvSpPr/>
          <p:nvPr/>
        </p:nvSpPr>
        <p:spPr>
          <a:xfrm>
            <a:off x="1332000" y="1484280"/>
            <a:ext cx="289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Метод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4788000" y="1700280"/>
            <a:ext cx="338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сследовательск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Calibri"/>
              </a:rPr>
              <a:t>частично-поисков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роблемны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ектны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Заголовок 1"/>
          <p:cNvSpPr/>
          <p:nvPr/>
        </p:nvSpPr>
        <p:spPr>
          <a:xfrm>
            <a:off x="1187280" y="1413000"/>
            <a:ext cx="311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бъект 2"/>
          <p:cNvSpPr/>
          <p:nvPr/>
        </p:nvSpPr>
        <p:spPr>
          <a:xfrm>
            <a:off x="4859280" y="1413000"/>
            <a:ext cx="331308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лассно-урочная (работа в парах, в малых группах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фференцированные разноуровневые зада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ворческие задан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нсультирование по возникшей пробле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искусс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г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Заголовок 1"/>
          <p:cNvSpPr/>
          <p:nvPr/>
        </p:nvSpPr>
        <p:spPr>
          <a:xfrm>
            <a:off x="1258920" y="1341360"/>
            <a:ext cx="2971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Виды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бъект 2"/>
          <p:cNvSpPr/>
          <p:nvPr/>
        </p:nvSpPr>
        <p:spPr>
          <a:xfrm>
            <a:off x="5076720" y="1268280"/>
            <a:ext cx="295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явление творческих способ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метные нед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и с применением И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дания повышенной сло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дивидуальные творческие задания, занимательные опыты, материалы и задач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Объект 2"/>
          <p:cNvSpPr/>
          <p:nvPr/>
        </p:nvSpPr>
        <p:spPr>
          <a:xfrm>
            <a:off x="1042920" y="1268280"/>
            <a:ext cx="3384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ллектуальные игры и конкурсы, викторины, мараф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метные олимпиа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весные игры и забавы, роле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занимательны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матические классные ча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ворческие проекты различной 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бъект 2"/>
          <p:cNvSpPr/>
          <p:nvPr/>
        </p:nvSpPr>
        <p:spPr>
          <a:xfrm>
            <a:off x="4932360" y="1268280"/>
            <a:ext cx="33116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творческих зад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род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тешествие по стране знаний1-4 к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с психоло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квалификации учите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астие в профессиональных конкур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Заголовок 1"/>
          <p:cNvSpPr/>
          <p:nvPr/>
        </p:nvSpPr>
        <p:spPr>
          <a:xfrm>
            <a:off x="1116000" y="1628640"/>
            <a:ext cx="316872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оставим портрет одаренного ребен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бъект 2"/>
          <p:cNvSpPr/>
          <p:nvPr/>
        </p:nvSpPr>
        <p:spPr>
          <a:xfrm>
            <a:off x="4859280" y="1125360"/>
            <a:ext cx="32418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Проявляет любопытство ко многим вещам, постоянно задает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редлагает много идей, решений задач, ответов на вопрос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Свободно высказывает свое мнение, настойчиво, энергично отстаивает е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Склонен к рискованным действия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age533"/>
          <p:cNvPicPr/>
          <p:nvPr/>
        </p:nvPicPr>
        <p:blipFill>
          <a:blip r:embed="rId3"/>
          <a:stretch/>
        </p:blipFill>
        <p:spPr>
          <a:xfrm>
            <a:off x="2916360" y="4292640"/>
            <a:ext cx="122400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Объект 2"/>
          <p:cNvSpPr/>
          <p:nvPr/>
        </p:nvSpPr>
        <p:spPr>
          <a:xfrm>
            <a:off x="971640" y="1197000"/>
            <a:ext cx="3384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. Обладает богатой фантазией, воображением. Часто озабочен преобразованием, улучшением общества,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. Обладает хорошо развитым чувством юмора, видит юмор в ситуациях, которые могут не казаться другим смеш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. Чувствителен к красоте, внимателен к эстетике вещ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бъект 2"/>
          <p:cNvSpPr/>
          <p:nvPr/>
        </p:nvSpPr>
        <p:spPr>
          <a:xfrm>
            <a:off x="4859280" y="1197000"/>
            <a:ext cx="33339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. Не конфликтен, не приспособленец, не боится отличиться от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. Конструктивно критичен, не принимает авторитарных указаний без критического изу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Стремится к самовыражению, творческому использованию предме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8-25T16:44:43Z</dcterms:created>
  <dc:creator>ПК</dc:creator>
  <dc:description/>
  <dc:language>en-US</dc:language>
  <cp:lastModifiedBy>Елена</cp:lastModifiedBy>
  <dcterms:modified xsi:type="dcterms:W3CDTF">2024-01-07T08:42:51Z</dcterms:modified>
  <cp:revision>52</cp:revision>
  <dc:subject/>
  <dc:title>Слайд 1</dc:title>
</cp:coreProperties>
</file>