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24E2-9B7E-4FC5-93B9-2B882EAD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464B-E4D7-4474-82DF-D46989B5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9212-25AF-4AAD-A491-645CE774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9A6-29D4-4579-82CD-7153FD01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489-32E4-4AD0-9AD2-CC689EAE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DAC-B2FC-42B2-8F26-352FEA8A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DDA-B281-4DFB-86BF-5A08FB80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1B0-3D2E-40A7-AF87-032496709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A01F-BC03-4797-A264-F21AAD07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E34-621F-4B5F-A7BB-77FA3AE4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D59-344C-4BE7-917A-212C852D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365E-C4EA-487A-9D43-4D9EC6E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60F6-F87C-44D5-B890-396203C358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sultant.ru/document/cons_doc_LAW_140174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учение детей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03640" y="4724280"/>
            <a:ext cx="5721120" cy="9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АОУ «Школа № 5 города Белогорск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хайлусенко Ольга Никола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7.01.20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Arial"/>
              </a:rPr>
              <a:t>Включающее образование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базируется на восьми принципах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енность человека не зависит от его способностей и достиж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человек способен чувствовать и дума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ждый человек имеет право на общение и на то, чтобы быть услыша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люди нуждаются друг в друг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линное образование может осуществляться только в контексте реальных взаимоотношен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е люди нуждаются в поддержке и дружбе ровесник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всех обучающихся достижение прогресса скорее может быть в том, что они могут делать, чем в том, что не могут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нообразие усиливает все стороны жизни человек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и с ОВ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Дети с ограниченными возможностями здоровья (ОВЗ) – дети, состояние здоровья которых препятствует освоению образовательных программ вне специальных условий обучения и воспи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атегории детей с нарушениями развит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слуха (неслышащие, слабослышащ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зрения (незрячие, слабовидящ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ем опорно-двигательного аппара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ЗПР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задержкой психического развития)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интеллектуаль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нарушениями эмоционально-волевой сфе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Дети с комплексными (сложными) нарушениями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уществующие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арьер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918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ети с особыми образовательными потребностями часто признаются необучаемым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ольшинство учителей и директоров массовых школ недостаточно знают о проблемах инвалидности и не готовы к включению детей- инвалидов в процесс обучения в классах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и детей инвалидов не знают, как отстаивать права детей на образование и испытывают страх перед системой образования и социальной поддержк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рхитектурная недоступность школ, учрежден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Что необходим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безбарьерной среды в общеобразовательных учреждения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ку специалистов и методик совместного образования детей-инвалидов в массовой шко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у и апробирование модели инклюзивного образования в нескольких регионах России, включая и сельские шко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усмотреть меры по распространению эффективных моделей инклюзивного образования в массовых школ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еспечить выделение необходимых ресурсов для разработки, апроб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внедрения моделей инклюзивного образов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оздание адаптивной среды, позволяющей обеспечить  полноценное включение и личностную самореализацию в образовательном учрежден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здание в образовательном учреждении общего типа надлежащих материально-технических условий, обеспечивающих возможность для беспрепятственного доступа детей в здание и помещения ОУ и организации их пребывания и обучения в этом учреждении (пандусы, лифты, специально оборудованные учебные места, специализированное , реабилитационное, медицинское оборудование и т.д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учение и коррекция развития детей с ограниченными возможностями здоровья должны осуществляться по образовательным программам, разработанным на баз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х общеобразовательных программ с учетом психофизических особенностей и возможностей таких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комплексное психолого-педагогическое сопровождение ребенка с ограниченными возможностями здоровья на протяжении всего периода его обучения в ОУ общего ти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а специальная  подготовка педагогического коллектива ОУ  общего типа в соответствии со спецификой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чебно-воспитательной и коррекционной работы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целях обеспечения освоения детьми с ограниченными возможностями здоровья  образовательных программ  целесообразно ввести в штатное расписание ОУ общего типа дополнительные ставки педагогических (учителя-дефектологи,  учителя-логопеды, педагоги-психологи, социальные педагоги, воспитатели и др.) и медицинских работ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В обязанности педагога-психолога входит углубленное изучение особенностей интеллектуального развития детей, личностных и поведенческих реакций: оказание методической помощи, воспитателям в разработке коррекционных Программ  индивидуального развития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олерант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7858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Формирование толерантного отношения в обществе к детям –инвалидам и к детям  с ограниченными возможностями здоровья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обеспечения эффективного включения детей с ограниченными возможностями здоровья  в ОУ общего типа важное значение имеет проведение информационно-просветительской, разъяснительной работы по вопросам, связанным с особенностями образовательного процесса для данной категории детей, со всеми участниками образовательного процесса – обучающимися,  их родителями, педагогическими работника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едеральный закон от 29.12.2012 N 273-ФЗ (ред. от 03.07.2016) "Об образовании в Российской Федерации" (с изм. и доп., вступ. в силу с 15.07.2016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татья 5. Право на образование. Государственные гарантии реализации права на образование в Российской Федерац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5. В целях реализации права каждого человека на образование федеральными государственными органами, органами государственной власти субъектов Российской Федерации и органами местного самоупра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создаются необходимые условия для получения без дискриминации качественного образования лицами с ограниченными возможностями здоровья, для коррекции нарушений развития и социальной адаптации, оказания ранней коррекционной помощи на основе специальных педагогических подходов и наиболее подходящих для этих лиц языков, методов и способов общения и условия, в максимальной степени способствующие получению образования определенного уровня и определенной направленности, а также социальному развитию этих лиц, в том числе посредством организации инклюзивного образования лиц с ограниченными возможностями здоровь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словия организации успешного обучения и воспитания детей с ограниченными возможностями здоровь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ля сохранения и укрепления кадрового потенциала ОУ, осуществляющих образование  детей с ограниченными возможностями здоровья,  необходима разработка мер материального стимулирования деятельности работников этих учреждений (определение размеров и условий оплаты труда, установление дополнительных мер социальной поддержки и социальной помощи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чень важно поня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64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создании инклюзивных школ, школ нового типа , дети привыкают к тому, что мир – разнообразен, что люди в нем – разные, что каждый человек имеет право на жизнь, воспитание, обучение, развит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340000" y="2637000"/>
            <a:ext cx="440208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тья 79. Организация получения образования обучающимися с ограниченными возможностями здоро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4. Образование обучающихся с ограниченными возможностями здоровья может быть организовано как совместно с другими обучающимися, так и в отдельных классах, группах или в отдельных организациях, осуществляющих образовательную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клюзивное образование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клюзивное образование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фр. 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inclusif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включающий в себя, лат. 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include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заключаю, включаю) – процесс развития общего образования, который подразумевает доступность образования для всех, в плане приспособления к различным нуждам всех детей, что обеспечивает доступ к образованию для детей с особыми потребностя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тистические данны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ей с инвалидностью около 11 м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 инвалидностью до 18 лет 620 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ей со специальными образовательными нуждами от 7 до 18 лет около 1,6 мл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учатся дети- инвалиды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1"/>
          <a:stretch/>
        </p:blipFill>
        <p:spPr>
          <a:xfrm>
            <a:off x="826920" y="1954080"/>
            <a:ext cx="2665440" cy="16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2"/>
          <a:stretch/>
        </p:blipFill>
        <p:spPr>
          <a:xfrm>
            <a:off x="3851280" y="2205000"/>
            <a:ext cx="720720" cy="2303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"/>
          <p:cNvPicPr/>
          <p:nvPr/>
        </p:nvPicPr>
        <p:blipFill>
          <a:blip r:embed="rId3"/>
          <a:stretch/>
        </p:blipFill>
        <p:spPr>
          <a:xfrm>
            <a:off x="5578560" y="1773360"/>
            <a:ext cx="1817640" cy="2417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9"/>
          <p:cNvSpPr/>
          <p:nvPr/>
        </p:nvSpPr>
        <p:spPr>
          <a:xfrm>
            <a:off x="395280" y="4039560"/>
            <a:ext cx="23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ссовые  школ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67240" y="515772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уча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6227640" y="466056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пециализированные шко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а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755640" y="5132520"/>
            <a:ext cx="2063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15228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чные класс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39640" y="4760280"/>
            <a:ext cx="233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учение на дому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684000" y="5516640"/>
            <a:ext cx="209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15228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ы  корре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бразование для всех»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даментальный принцип «образование для всех»  состоит в том, что каждый человек должен иметь возможность уч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ополагающий принцип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люзивного образова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се люди должны иметь возможность учиться вместе, независимо от каких-либо трудностей, имеющихся на этом пути, или различий в способности к обучению, которые они могут имет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тами инклюзивного образования являются люди с ограниченными возможностями здоровья, и инвалиды – лишь одни из н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КЛЮЗИВНОЕ (включающее)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образование, при котором все дети, несмотря на свои физические, интеллектуальные и иные особенности, включены в общую систему образования и обучаются в общеобразовательных школах вместе со своими сверстни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означает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аскрытие каждого ученик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 помощью образовательной программы, которая достаточно сложна, но соответствует его способност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нклюз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читывает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потребност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также как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альные условия и поддержку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необходимые ученику и учителям для достижения успех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ри аспекта развития инклюз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.Создание инклюзивной куль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ение школьного сооб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ятие инклюзивных цен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.Разработка инклюзивн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школы для все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я поддержки разнообраз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.Развитие инклюзив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авление процессом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билизация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4T09:36:07Z</dcterms:created>
  <dc:creator>Admin</dc:creator>
  <dc:description/>
  <dc:language>en-US</dc:language>
  <cp:lastModifiedBy>Olga</cp:lastModifiedBy>
  <dcterms:modified xsi:type="dcterms:W3CDTF">2024-01-07T08:38:46Z</dcterms:modified>
  <cp:revision>7</cp:revision>
  <dc:subject/>
  <dc:title>Слайд 1</dc:title>
</cp:coreProperties>
</file>