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4B5-2BBD-48D0-B7F6-33D55B9F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E1C-F112-4FCE-A5D5-5F47FCA9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02C-BCFB-4938-8C37-54AB4529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ECE-0A89-40F2-99C6-D3F6ABF0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A32-9AFE-486C-AA21-5780AF9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9059-5C2B-4D85-BCB8-CFC7D549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ED0-AF8A-4E34-965C-55463ED8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05B-6205-4F12-A27C-2FEC4626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733-570D-4329-AF43-1D5700EA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5B5-9C36-46FA-B0F5-5D60107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40C-900B-4E2B-B81E-EA755E5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95C-89A5-4F09-9E43-074EB7DE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0F05-9A21-4646-B630-05F3AC405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40174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учение детей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4724280"/>
            <a:ext cx="57211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Школа № 5 города Белогорс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хайлусенко Ольга Никола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7.01.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ключающее образовани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азируется на восьми принципах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ность человека не зависит от его способностей и достиж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человек способен чувствовать и дум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человек имеет право на общение и на то, чтобы быть услыша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люди нуждаются друг в друг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линное образование может осуществляться только в контексте реальных взаимоотнош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люди нуждаются в поддержке и дружбе ровесн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всех обучающихся достижение прогресса скорее может быть в том, что они могут делать, чем в том, что не могу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нообразие усиливает все стороны жизн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ети с ограниченными возможностями здоровья (ОВЗ) – дети, состояние здоровья которых препятствует освоению образовательных программ вне специальных условий обучения и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тегории детей с нарушениями разви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слуха (неслышащие, слабослышащ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зрения (незрячие, слабовидящ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ЗПР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)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интеллектуаль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эмоционально-волев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комплексными (сложными)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ющ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рь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с особыми образовательными потребностями часто признаются необучаемы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ьшинство учителей и директоров массовых школ недостаточно знают о проблемах инвалидности и не готовы к включению детей- инвалидов в процесс обучения в класс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и детей инвалидов не знают, как отстаивать права детей на образование и испытывают страх перед системой образования и социальной поддерж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ная недоступность школ, учрежд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безбарьерной среды в общеобразовательных учрежден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у специалистов и методик совместного образования детей-инвалидов в массовой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у и апробирование модели инклюзивного образования в нескольких регионах России, включая и сельские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отреть меры по распространению эффективных моделей инклюзивного образования в массовых шко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выделение необходимых ресурсов для разработки, апроб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недрения моделей инклюзив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оздание адаптивной среды, позволяющей обеспечить  полноценное включение и личностную самореализацию в образовательном учрежд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в образовательном учреждении общего типа надлежащих материально-технических условий, обеспечивающих возможность для беспрепятственного доступа детей в здание и помещения ОУ и организации их пребывания и обучения в этом учреждении (пандусы, лифты, специально оборудованные учебные места, специализированное , реабилитационное, медицинское оборудование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и коррекция развития детей с ограниченными возможностями здоровья должны осуществляться по образовательным программам, разработанным на баз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х общеобразовательных программ с учетом психофизических особенностей и возможностей таких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комплексное психолого-педагогическое сопровождение ребенка с ограниченными возможностями здоровья на протяжении всего периода его обучения в ОУ общего ти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а специальная  подготовка педагогического коллектива ОУ  общего типа в соответствии со спецификой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о-воспитательной и коррекционной работы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целях обеспечения освоения детьми с ограниченными возможностями здоровья  образовательных программ  целесообразно ввести в штатное расписание ОУ общего типа дополнительные ставки педагогических (учителя-дефектологи,  учителя-логопеды, педагоги-психологи, социальные педагоги, воспитатели и др.) и медицинских работ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обязанности педагога-психолога входит углубленное изучение особенностей интеллектуального развития детей, личностных и поведенческих реакций: оказание методической помощи, воспитателям в разработке коррекционных Программ  индивидуальн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в обществе к детям –инвалидам и к детям  с ограниченными возможностями здоровь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беспечения эффективного включения детей с ограниченными возможностями здоровья  в ОУ общего типа важное значение имеет проведение информационно-просветительской, разъяснительной работы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деральный закон от 29.12.2012 N 273-ФЗ (ред. от 03.07.2016) "Об образовании в Российской Федерации" (с изм. и доп., вступ. в силу с 15.07.2016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5. Право на образование. Государственные гарантии реализации права на образование в Российской Федер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5. В целях реализации права каждого человека на образование федеральными государственными органами, органами государственной власти субъектов Российской Федерации и органами местного само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, оказания ранней коррекционной помощи на основе специальных педагогических подходов и наиболее подходящих для этих лиц языков, методов и способов общения и условия, в максимальной степени способствующие получению образования определенного уровня и определенной направленности, а также социальному развитию этих лиц, в том числе посредством организации инклюзивного образования лиц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сохранения и укрепления кадрового потенциала ОУ, осуществляющих образование  детей с ограниченными возможностями здоровья,  необходима разработка мер материального стимулирования деятельности работников этих учреждений (определение размеров и условий оплаты труда, установление дополнительных мер социальной поддержки и социальной помощ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чень важно поня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здании инклюзивных школ, школ нового типа , дети привыкают к тому, что мир – разнообразен, что люди в нем – разные, что каждый человек имеет право на жизнь, воспитание, обучение,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40000" y="2637000"/>
            <a:ext cx="4402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79. Организация получения образования обучающимися с ограниченными возможностям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4. 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клюзивное образование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клюзивное образование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фр.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inclusi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включающий в себя, лат.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заключаю, включаю) – процесс развития общего образования, который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ческие да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ей с инвалидностью около 11 м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 инвалидностью до 18 лет 620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о специальными образовательными нуждами от 7 до 18 лет около 1,6 м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учатся дети- инвалиды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826920" y="1954080"/>
            <a:ext cx="2665440" cy="16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851280" y="2205000"/>
            <a:ext cx="72072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5578560" y="1773360"/>
            <a:ext cx="1817640" cy="2417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395280" y="4039560"/>
            <a:ext cx="23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овые 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67240" y="5157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ча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227640" y="46605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изированные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55640" y="5132520"/>
            <a:ext cx="206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39640" y="476028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 дом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4000" y="5516640"/>
            <a:ext cx="20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  кор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бразование для всех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даментальный принцип «образование для всех»  состоит в том, что каждый человек должен иметь возможность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агающий принци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люзивного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люди должны иметь возможность учиться вместе, независимо от каких-либо трудностей, имеющихся на этом пути, или различий в способности к обучению, которые они могут имет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тами инклюзивного образования являются люди с ограниченными возможностями здоровья, и инвалиды – лишь одни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КЛЮЗИВНОЕ (включающее)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образование, при котором все дети, несмотря на свои физические, интеллектуальные и иные особенности, включены в общую систему образования и обучаются в общеобразовательных школах вместе со своими сверстни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знача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скрытие каждого ученик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помощью образовательной программы, которая достаточно сложна, но соответствует его способност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читывае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отреб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акже как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альные условия и поддержк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необходимые ученику и учителям для достижения успех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и аспекта развития инклюз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Создание инклюзив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школьного со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инклюзив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Разработка инклюзив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школы для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поддержки разно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Развитие инклюзив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процессом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изация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9:36:07Z</dcterms:created>
  <dc:creator>Admin</dc:creator>
  <dc:description/>
  <dc:language>en-US</dc:language>
  <cp:lastModifiedBy>Olga</cp:lastModifiedBy>
  <dcterms:modified xsi:type="dcterms:W3CDTF">2024-01-07T08:38:46Z</dcterms:modified>
  <cp:revision>7</cp:revision>
  <dc:subject/>
  <dc:title>Слайд 1</dc:title>
</cp:coreProperties>
</file>