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gif" ContentType="image/gif"/>
  <Override PartName="/ppt/media/image27.wmf" ContentType="image/x-wmf"/>
  <Override PartName="/ppt/media/image3.png" ContentType="image/png"/>
  <Override PartName="/ppt/media/image26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6.jpeg" ContentType="image/jpeg"/>
  <Override PartName="/ppt/media/image13.png" ContentType="image/png"/>
  <Override PartName="/ppt/media/image5.png" ContentType="image/png"/>
  <Override PartName="/ppt/media/image8.jpeg" ContentType="image/jpeg"/>
  <Override PartName="/ppt/media/image9.png" ContentType="image/png"/>
  <Override PartName="/ppt/media/image31.gif" ContentType="image/gif"/>
  <Override PartName="/ppt/media/image12.png" ContentType="image/png"/>
  <Override PartName="/ppt/media/image7.jpeg" ContentType="image/jpeg"/>
  <Override PartName="/ppt/media/image11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29.gif" ContentType="image/gif"/>
  <Override PartName="/ppt/media/image15.jpeg" ContentType="image/jpeg"/>
  <Override PartName="/ppt/media/image16.jpeg" ContentType="image/jpeg"/>
  <Override PartName="/ppt/media/image18.wmf" ContentType="image/x-wmf"/>
  <Override PartName="/ppt/media/image19.wmf" ContentType="image/x-wmf"/>
  <Override PartName="/ppt/media/image21.png" ContentType="image/png"/>
  <Override PartName="/ppt/media/image22.png" ContentType="image/png"/>
  <Override PartName="/ppt/media/image30.gif" ContentType="image/gif"/>
  <Override PartName="/ppt/media/image23.png" ContentType="image/png"/>
  <Override PartName="/ppt/media/image20.wmf" ContentType="image/x-wmf"/>
  <Override PartName="/ppt/media/image17.png" ContentType="image/png"/>
  <Override PartName="/ppt/media/image2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D220-E566-46A1-90F7-BC24DDE7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2590-F3B5-4E56-9394-FB8B3EF0C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31DB-87F8-4103-AFD2-D4FD7A74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AD8B-4B6C-4C79-8172-24AF53EDA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29C-F5F5-47A8-A4BF-10C92A61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CFC4-D5E6-4B60-B4F0-AB151C66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D916-CC05-41A5-9AE2-92C8DED2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C907-9738-4BCA-A323-867F0639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DB8-41E2-4395-9607-FD56B6A9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D8FB-3F55-499F-AD4A-8749BDCC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5A19-7F86-4609-BD25-51168AD8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04CE-5404-49D9-A4B6-67380C10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04E0-3C6B-4160-A3EE-42A0589018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28.gif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6.jpeg"/><Relationship Id="rId6" Type="http://schemas.openxmlformats.org/officeDocument/2006/relationships/image" Target="../media/image16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07960" y="425520"/>
            <a:ext cx="7899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333399"/>
                  </a:solidFill>
                  <a:miter/>
                </a:ln>
                <a:blipFill rotWithShape="0">
                  <a:blip r:embed="rId2">
                    <a:alphaModFix amt="50000"/>
                  </a:blip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атематика  1 класс</a:t>
            </a:r>
            <a:endParaRPr b="0" lang="en-US" sz="1800" spc="1" strike="noStrike">
              <a:ln w="25560">
                <a:solidFill>
                  <a:srgbClr val="333399"/>
                </a:solidFill>
                <a:miter/>
              </a:ln>
              <a:blipFill rotWithShape="0">
                <a:blip r:embed="rId3">
                  <a:alphaModFix amt="50000"/>
                </a:blip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79640" y="2097000"/>
            <a:ext cx="593100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f5e76"/>
                    </a:gs>
                    <a:gs pos="100000">
                      <a:srgbClr val="66ccff"/>
                    </a:gs>
                  </a:gsLst>
                  <a:lin ang="10800000"/>
                </a:gradFill>
                <a:latin typeface="Arial"/>
              </a:rPr>
              <a:t>Наз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f5e76"/>
                  </a:gs>
                  <a:gs pos="100000">
                    <a:srgbClr val="66cc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879640" y="3321000"/>
            <a:ext cx="378468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f5e76"/>
                    </a:gs>
                    <a:gs pos="100000">
                      <a:srgbClr val="66ccff"/>
                    </a:gs>
                  </a:gsLst>
                  <a:lin ang="10800000"/>
                </a:gradFill>
                <a:latin typeface="Arial"/>
              </a:rPr>
              <a:t>чисе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f5e76"/>
                  </a:gs>
                  <a:gs pos="100000">
                    <a:srgbClr val="66cc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68360" y="4257720"/>
            <a:ext cx="71643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f5e76"/>
                    </a:gs>
                    <a:gs pos="100000">
                      <a:srgbClr val="66ccff"/>
                    </a:gs>
                  </a:gsLst>
                  <a:lin ang="10800000"/>
                </a:gradFill>
                <a:latin typeface="Arial"/>
              </a:rPr>
              <a:t>при вычитан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f5e76"/>
                  </a:gs>
                  <a:gs pos="100000">
                    <a:srgbClr val="66ccff"/>
                  </a:gs>
                </a:gsLst>
                <a:lin ang="10800000"/>
              </a:gradFill>
              <a:latin typeface="Arial"/>
              <a:ea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3280" y="5445000"/>
            <a:ext cx="40071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Arial"/>
              </a:rPr>
              <a:t>Учитель: Чертыковцева 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Arial"/>
              </a:rPr>
              <a:t>                      </a:t>
            </a: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latin typeface="Arial"/>
              </a:rPr>
              <a:t>Юлия Михайловна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blipFill rotWithShape="0">
                <a:blip r:embed="rId8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Arial"/>
              </a:rPr>
              <a:t>                  </a:t>
            </a: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Arial"/>
              </a:rPr>
              <a:t>МОУ СОШ № 40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12"/>
                  <a:srcRect/>
                  <a:stretch/>
                </a:blipFill>
                <a:latin typeface="Arial"/>
              </a:rPr>
              <a:t>        </a:t>
            </a:r>
            <a:r>
              <a:rPr b="0" lang="en-US" sz="1800" spc="1" strike="noStrike">
                <a:ln w="19080">
                  <a:solidFill>
                    <a:srgbClr val="000080"/>
                  </a:solidFill>
                  <a:miter/>
                </a:ln>
                <a:blipFill rotWithShape="0">
                  <a:blip r:embed="rId13"/>
                  <a:srcRect/>
                  <a:stretch/>
                </a:blipFill>
                <a:latin typeface="Arial"/>
              </a:rPr>
              <a:t>г. Магнитогорск</a:t>
            </a:r>
            <a:endParaRPr b="0" lang="en-US" sz="1800" spc="1" strike="noStrike">
              <a:ln w="19080">
                <a:solidFill>
                  <a:srgbClr val="000080"/>
                </a:solidFill>
                <a:miter/>
              </a:ln>
              <a:blipFill rotWithShape="0">
                <a:blip r:embed="rId14"/>
                <a:srcRect/>
                <a:stretch/>
              </a:blip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4604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Установить взаимосвязь между примерами 1-го и 2-го столбиков. Как получить примеры на вычитание, пользуясь примерами на сложение?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96000" y="1441440"/>
            <a:ext cx="2085840" cy="46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 + 5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5 + 2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4 + 3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 + 4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 + 6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6 + 1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896360" y="1484280"/>
            <a:ext cx="2072160" cy="46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2 =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5 =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4 =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3 =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1 =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6 =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34000" y="159228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105280" y="159228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7080" y="159228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34000" y="234936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97080" y="234936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25800" y="234936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934000" y="308124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34000" y="386064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52720" y="459432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934000" y="537372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76560" y="386064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05280" y="310500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05280" y="386064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7080" y="310500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7080" y="459432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125800" y="533700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461628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7080" y="5349960"/>
            <a:ext cx="448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604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Вывод: Если из суммы вычтем одно из слагаемых, то получим другое слагаемое.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380360" y="4545000"/>
            <a:ext cx="1562040" cy="2070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380360" y="4562640"/>
            <a:ext cx="1562040" cy="2070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380360" y="4545000"/>
            <a:ext cx="15620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0.0037 L 0.21372 0.00903 E">
                                      <p:cBhvr>
                                        <p:cTn id="26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48148E-006 L 0.48333 0.00903 E">
                                      <p:cBhvr>
                                        <p:cTn id="273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6.2963E-006 L 0.4842 0.00509 E">
                                      <p:cBhvr>
                                        <p:cTn id="277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96296E-006 L 0.21268 0.00532 E">
                                      <p:cBhvr>
                                        <p:cTn id="283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44444E-006 L 0.21267 0.01042 E">
                                      <p:cBhvr>
                                        <p:cTn id="285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6.2963E-006 L 0.21649 0.00508 E">
                                      <p:cBhvr>
                                        <p:cTn id="287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21649 0.00533 E">
                                      <p:cBhvr>
                                        <p:cTn id="289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81481E-006 L 0.21649 0.00533 E">
                                      <p:cBhvr>
                                        <p:cTn id="291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48038 0.00532 E">
                                      <p:cBhvr>
                                        <p:cTn id="297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7037E-006 L 0.48421 0.00532 E">
                                      <p:cBhvr>
                                        <p:cTn id="299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7037E-007 L 0.48819 0.00532 E">
                                      <p:cBhvr>
                                        <p:cTn id="301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11022E-016 L 0.47934 0.00694 E">
                                      <p:cBhvr>
                                        <p:cTn id="303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81481E-006 L 0.47535 0.00717 E">
                                      <p:cBhvr>
                                        <p:cTn id="305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000"/>
                            </p:stCondLst>
                            <p:childTnLst>
                              <p:par>
                                <p:cTn id="3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-7.03704E-006 L 0.48438 0.00532 E">
                                      <p:cBhvr>
                                        <p:cTn id="311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27778E-006 3.7037E-007 L 0.48037 0.00532 E">
                                      <p:cBhvr>
                                        <p:cTn id="313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7.77778E-006 L 0.4842 0.00509 E">
                                      <p:cBhvr>
                                        <p:cTn id="315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L 0.47535 0.0037 E">
                                      <p:cBhvr>
                                        <p:cTn id="317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33333E-006 L 0.48316 0.00903 E">
                                      <p:cBhvr>
                                        <p:cTn id="319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049800" y="3105000"/>
            <a:ext cx="2927520" cy="34322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 – согнуться – разогнутьс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а – нагнуться, подтянуть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и – в ладоши три хлоп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ловою три кив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четыре – руки шир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ять, шесть – тихо с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мь, восемь – лень отброс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76480" y="284040"/>
            <a:ext cx="6181560" cy="10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изкультминут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4000"/>
                            </p:stCondLst>
                            <p:childTnLst>
                              <p:par>
                                <p:cTn id="35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7000"/>
                            </p:stCondLst>
                            <p:childTnLst>
                              <p:par>
                                <p:cTn id="3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1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1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6520" y="4889520"/>
            <a:ext cx="78994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гараже стояло 8 машин. Три машины выехало. Сколько машин осталось в гараж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6692760" y="3514680"/>
            <a:ext cx="1219320" cy="590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6815160" y="3068640"/>
            <a:ext cx="1228680" cy="6192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880320" y="3807000"/>
            <a:ext cx="1228680" cy="6188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5"/>
          <a:stretch/>
        </p:blipFill>
        <p:spPr>
          <a:xfrm>
            <a:off x="6410160" y="3603600"/>
            <a:ext cx="1229040" cy="6192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6"/>
          <a:stretch/>
        </p:blipFill>
        <p:spPr>
          <a:xfrm>
            <a:off x="6321600" y="3362400"/>
            <a:ext cx="1228680" cy="619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7"/>
          <a:stretch/>
        </p:blipFill>
        <p:spPr>
          <a:xfrm>
            <a:off x="6630840" y="3567240"/>
            <a:ext cx="1219320" cy="5904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8"/>
          <a:stretch/>
        </p:blipFill>
        <p:spPr>
          <a:xfrm>
            <a:off x="6948360" y="3389400"/>
            <a:ext cx="1219320" cy="5904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9"/>
          <a:stretch/>
        </p:blipFill>
        <p:spPr>
          <a:xfrm>
            <a:off x="6440400" y="3173400"/>
            <a:ext cx="1219320" cy="5904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10"/>
          <a:stretch/>
        </p:blipFill>
        <p:spPr>
          <a:xfrm>
            <a:off x="5815080" y="2733840"/>
            <a:ext cx="2414520" cy="1884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845400" y="3479760"/>
            <a:ext cx="71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7560" y="1170000"/>
            <a:ext cx="347976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ло – 8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ехало – 3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сталось - ? 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08560" y="1333440"/>
            <a:ext cx="3543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– 3 = 5 (м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: 5 маш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0.05926 L -0.55139 0.05926 E">
                                      <p:cBhvr>
                                        <p:cTn id="370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4259 L -0.40139 0.04259 E">
                                      <p:cBhvr>
                                        <p:cTn id="373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44444E-006 L -0.73056 4.44444E-006 E">
                                      <p:cBhvr>
                                        <p:cTn id="376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2260440" y="247680"/>
            <a:ext cx="4724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ти закономерность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566720" y="1022400"/>
            <a:ext cx="6162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должить каждый столбик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50880" y="2762280"/>
            <a:ext cx="2368440" cy="21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 + 4 - 2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 + 3 - 3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 + 2 - 4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6880" y="2749680"/>
            <a:ext cx="2686320" cy="20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 + 2 - 1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7 + 3 - 2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 + 4 - 3 =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11560" y="2811600"/>
            <a:ext cx="333360" cy="49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198960" y="3598920"/>
            <a:ext cx="35856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198960" y="4361040"/>
            <a:ext cx="307800" cy="53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808760" y="276084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821720" y="3535200"/>
            <a:ext cx="2570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7796160" y="4335480"/>
            <a:ext cx="257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38280" y="5288040"/>
            <a:ext cx="28764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6 + 1 - 5 =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032440" y="5262480"/>
            <a:ext cx="2977920" cy="5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5 + 5 - 4 =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188136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8920" y="1881360"/>
            <a:ext cx="244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вар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84360" y="2133720"/>
            <a:ext cx="6840360" cy="31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3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 rot="1577400">
            <a:off x="179280" y="0"/>
            <a:ext cx="3097440" cy="2376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592360" y="4076640"/>
            <a:ext cx="2843280" cy="24494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 rot="20669400">
            <a:off x="3166560" y="549360"/>
            <a:ext cx="2484720" cy="22762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4572000" y="4184640"/>
            <a:ext cx="256392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6"/>
          <a:stretch/>
        </p:blipFill>
        <p:spPr>
          <a:xfrm>
            <a:off x="5219640" y="-208080"/>
            <a:ext cx="291636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95280" y="4365720"/>
            <a:ext cx="543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Яблоки в саду посп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ы отведать их усп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ять румяных налив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ять с кислинкой. Сколько и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96000" y="3141720"/>
            <a:ext cx="295128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5 + 5 = 10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88880" y="1150920"/>
            <a:ext cx="4692600" cy="302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2846520" y="158760"/>
            <a:ext cx="3819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тный сче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9280" y="3573000"/>
            <a:ext cx="612144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пенёчка шесть грибоч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 под елкой тр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колько будет всех грибоч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у-ка, говор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50880" y="1197000"/>
            <a:ext cx="6619680" cy="2426760"/>
            <a:chOff x="1550880" y="1197000"/>
            <a:chExt cx="6619680" cy="2426760"/>
          </a:xfrm>
        </p:grpSpPr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1550880" y="1198080"/>
              <a:ext cx="3634920" cy="242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4536000" y="1197000"/>
              <a:ext cx="3634560" cy="242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3952080" y="2519280"/>
              <a:ext cx="1655640" cy="11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1550880" y="1197000"/>
              <a:ext cx="1395000" cy="9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6"/>
            <a:stretch/>
          </p:blipFill>
          <p:spPr>
            <a:xfrm>
              <a:off x="6580800" y="1983240"/>
              <a:ext cx="1461240" cy="97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 txBox="1"/>
          <p:nvPr/>
        </p:nvSpPr>
        <p:spPr>
          <a:xfrm>
            <a:off x="5867280" y="5589720"/>
            <a:ext cx="2951280" cy="96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6 + 3 = 9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46520" y="158760"/>
            <a:ext cx="3819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тный сче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4076280"/>
            <a:ext cx="6562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кустике перед забо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Шесть ярко-красных помидо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том четыре оторвалос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сколько на кусте осталос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1368360" cy="1258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692360" y="1773360"/>
            <a:ext cx="1368360" cy="1258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3059280" y="1773360"/>
            <a:ext cx="1368360" cy="1258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356000" y="1773360"/>
            <a:ext cx="1368360" cy="125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5724360" y="1773360"/>
            <a:ext cx="1368720" cy="1258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093080" y="1773360"/>
            <a:ext cx="1368360" cy="1258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5003640" y="1916280"/>
            <a:ext cx="2951280" cy="96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6 - 4 = 2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46520" y="158760"/>
            <a:ext cx="38192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тный счет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71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03240" y="311040"/>
            <a:ext cx="6728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йти лишний пример: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6840" y="1441440"/>
            <a:ext cx="49150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5 + 5 = 10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47880" y="3105000"/>
            <a:ext cx="4898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 + 3 = 9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55800" y="4807080"/>
            <a:ext cx="4946400" cy="11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 - 4 = 2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7120" y="324000"/>
            <a:ext cx="8201160" cy="58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читай примеры, используя термины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52280" y="4489560"/>
            <a:ext cx="6654600" cy="597960"/>
            <a:chOff x="152280" y="4489560"/>
            <a:chExt cx="6654600" cy="597960"/>
          </a:xfrm>
        </p:grpSpPr>
        <p:sp>
          <p:nvSpPr>
            <p:cNvPr id="75" name=""/>
            <p:cNvSpPr txBox="1"/>
            <p:nvPr/>
          </p:nvSpPr>
          <p:spPr>
            <a:xfrm>
              <a:off x="152280" y="4489560"/>
              <a:ext cx="2149560" cy="58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лагаемое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5501880" y="4502160"/>
              <a:ext cx="1305000" cy="583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умма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2790000" y="4503960"/>
              <a:ext cx="2149920" cy="58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лагаемое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6213600" y="1162080"/>
            <a:ext cx="2152440" cy="1638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6186600" y="2816280"/>
            <a:ext cx="2181240" cy="1657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0"/>
          <a:stretch/>
        </p:blipFill>
        <p:spPr>
          <a:xfrm>
            <a:off x="6183360" y="4522680"/>
            <a:ext cx="216216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4902120"/>
            <a:ext cx="3454560" cy="609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Brush Script MT"/>
              </a:rPr>
              <a:t>Вычитаем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47640" y="4673520"/>
            <a:ext cx="3521160" cy="1219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Brush Script MT"/>
              </a:rPr>
              <a:t>Уменьшаемо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73120" y="3917880"/>
            <a:ext cx="3632040" cy="20113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653080" y="4818240"/>
            <a:ext cx="2336760" cy="131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Brush Script MT"/>
              </a:rPr>
              <a:t>Раз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032440" y="3881520"/>
            <a:ext cx="3619440" cy="20113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должить каждый ряд чисел. Открыть сундуки и найти названия компонентов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и вычитан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119560" y="5965920"/>
            <a:ext cx="352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, 5, 3, 6, 4, 7, 5 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47840" y="5979960"/>
            <a:ext cx="3857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, 3, 2, 4, 3, 5, 4, 6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346880" y="1735200"/>
            <a:ext cx="1249560" cy="1038240"/>
            <a:chOff x="7346880" y="1735200"/>
            <a:chExt cx="1249560" cy="1038240"/>
          </a:xfrm>
        </p:grpSpPr>
        <p:pic>
          <p:nvPicPr>
            <p:cNvPr id="90" name="" descr=""/>
            <p:cNvPicPr/>
            <p:nvPr/>
          </p:nvPicPr>
          <p:blipFill>
            <a:blip r:embed="rId4">
              <a:lum contrast="6000"/>
            </a:blip>
            <a:stretch/>
          </p:blipFill>
          <p:spPr>
            <a:xfrm>
              <a:off x="7791480" y="1735200"/>
              <a:ext cx="80496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 txBox="1"/>
            <p:nvPr/>
          </p:nvSpPr>
          <p:spPr>
            <a:xfrm>
              <a:off x="7346880" y="2003400"/>
              <a:ext cx="720720" cy="4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4, 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905200" y="1647720"/>
            <a:ext cx="1235160" cy="1038240"/>
            <a:chOff x="2905200" y="1647720"/>
            <a:chExt cx="1235160" cy="1038240"/>
          </a:xfrm>
        </p:grpSpPr>
        <p:pic>
          <p:nvPicPr>
            <p:cNvPr id="93" name="" descr=""/>
            <p:cNvPicPr/>
            <p:nvPr/>
          </p:nvPicPr>
          <p:blipFill>
            <a:blip r:embed="rId5">
              <a:lum contrast="6000"/>
            </a:blip>
            <a:stretch/>
          </p:blipFill>
          <p:spPr>
            <a:xfrm>
              <a:off x="3335400" y="1647720"/>
              <a:ext cx="80496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 txBox="1"/>
            <p:nvPr/>
          </p:nvSpPr>
          <p:spPr>
            <a:xfrm>
              <a:off x="2905200" y="1979640"/>
              <a:ext cx="720720" cy="48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8, 9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024520" y="1636560"/>
            <a:ext cx="1251000" cy="1038240"/>
            <a:chOff x="5024520" y="1636560"/>
            <a:chExt cx="1251000" cy="1038240"/>
          </a:xfrm>
        </p:grpSpPr>
        <p:pic>
          <p:nvPicPr>
            <p:cNvPr id="96" name="" descr=""/>
            <p:cNvPicPr/>
            <p:nvPr/>
          </p:nvPicPr>
          <p:blipFill>
            <a:blip r:embed="rId6">
              <a:lum contrast="6000"/>
            </a:blip>
            <a:stretch/>
          </p:blipFill>
          <p:spPr>
            <a:xfrm>
              <a:off x="5470560" y="1636560"/>
              <a:ext cx="80496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 txBox="1"/>
            <p:nvPr/>
          </p:nvSpPr>
          <p:spPr>
            <a:xfrm>
              <a:off x="5024520" y="1965240"/>
              <a:ext cx="720720" cy="48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8, 6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766800" y="1619280"/>
            <a:ext cx="1287360" cy="1038240"/>
            <a:chOff x="766800" y="1619280"/>
            <a:chExt cx="1287360" cy="1038240"/>
          </a:xfrm>
        </p:grpSpPr>
        <p:pic>
          <p:nvPicPr>
            <p:cNvPr id="99" name="" descr=""/>
            <p:cNvPicPr/>
            <p:nvPr/>
          </p:nvPicPr>
          <p:blipFill>
            <a:blip r:embed="rId7">
              <a:lum contrast="6000"/>
            </a:blip>
            <a:stretch/>
          </p:blipFill>
          <p:spPr>
            <a:xfrm>
              <a:off x="1249200" y="1619280"/>
              <a:ext cx="804960" cy="10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 txBox="1"/>
            <p:nvPr/>
          </p:nvSpPr>
          <p:spPr>
            <a:xfrm>
              <a:off x="766800" y="1879560"/>
              <a:ext cx="720720" cy="48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5, 7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28 0.00301 L 0.11944 0.41226 E">
                                      <p:cBhvr>
                                        <p:cTn id="102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7037E-006 L 0.08611 0.38703 E">
                                      <p:cBhvr>
                                        <p:cTn id="106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22222E-006 L -0.30277 -0.41666 E">
                                      <p:cBhvr>
                                        <p:cTn id="10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37E-006 L 0.15278 -0.48333 E">
                                      <p:cBhvr>
                                        <p:cTn id="111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07407E-006 L -1.11111E-006 -0.21458 C -1.11111E-006 -0.31157 0.05712 -0.42893 0.10417 -0.42893 L 0.20833 -0.42893 E">
                                      <p:cBhvr>
                                        <p:cTn id="11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44444E-006 L -0.0073 -0.28773 E">
                                      <p:cBhvr>
                                        <p:cTn id="11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3.33333E-006 L 0.00017 -0.26922 E">
                                      <p:cBhvr>
                                        <p:cTn id="120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2960640"/>
            <a:ext cx="8209080" cy="17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6 - 4 = 2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227640" y="5373720"/>
            <a:ext cx="244800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меньшаемое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192720" y="4724280"/>
            <a:ext cx="2448000" cy="4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ычитаемое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264360" y="5985000"/>
            <a:ext cx="244800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ность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92360" y="5823000"/>
            <a:ext cx="244800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ность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2485080" y="2581920"/>
            <a:ext cx="790560" cy="5256360"/>
          </a:xfrm>
          <a:custGeom>
            <a:avLst/>
            <a:gdLst>
              <a:gd name="textAreaLeft" fmla="*/ 505080 w 790560"/>
              <a:gd name="textAreaRight" fmla="*/ 790920 w 790560"/>
              <a:gd name="textAreaTop" fmla="*/ 136800 h 5256360"/>
              <a:gd name="textAreaBottom" fmla="*/ 5119560 h 525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0440" y="158760"/>
            <a:ext cx="5767560" cy="31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учение нового материал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657360"/>
            <a:ext cx="914400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к вы думаете, что здесь называется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вычитаемы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что - 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уменьшаемы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а что -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разность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81481E-006 L -0.62604 -0.46875 E">
                                      <p:cBhvr>
                                        <p:cTn id="12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5 -0.02245 L -0.31892 -0.36343 E">
                                      <p:cBhvr>
                                        <p:cTn id="129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4.44444E-006 L 0.02361 -0.52639 E">
                                      <p:cBhvr>
                                        <p:cTn id="13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7320" y="222120"/>
            <a:ext cx="87757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По какому признаку все фигуры разбиты на группы?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Выбери к каждому рисунку соответствующие выраже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24000" y="1339920"/>
            <a:ext cx="2679480" cy="2423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203640" y="1413000"/>
            <a:ext cx="2663640" cy="2409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156360" y="1484280"/>
            <a:ext cx="2627280" cy="2376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124000" y="5157720"/>
            <a:ext cx="1081080" cy="536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+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5157720"/>
            <a:ext cx="1081080" cy="536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3440" y="5157720"/>
            <a:ext cx="1081080" cy="536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97440" y="5157720"/>
            <a:ext cx="1081080" cy="536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93080" y="5157720"/>
            <a:ext cx="1081080" cy="5367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+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5950080"/>
            <a:ext cx="1081080" cy="536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-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5950080"/>
            <a:ext cx="1081080" cy="536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48000" y="5950080"/>
            <a:ext cx="1081080" cy="536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5950080"/>
            <a:ext cx="1081080" cy="536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-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7440" y="5950080"/>
            <a:ext cx="1081080" cy="536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-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5950080"/>
            <a:ext cx="1081080" cy="536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-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5160960"/>
            <a:ext cx="1081080" cy="5364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90720" y="9399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913200" y="96696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73840" y="96840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я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0.00926 L -0.00799 -0.19537 E">
                                      <p:cBhvr>
                                        <p:cTn id="14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7037E-006 C -0.07622 -0.09421 -0.15191 -0.18819 -0.24237 -0.20601 C -0.33299 -0.22291 -0.49358 -0.12291 -0.54358 -0.10625 E">
                                      <p:cBhvr>
                                        <p:cTn id="151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0764 C -0.09236 -0.00277 -0.18472 0.00255 -0.2302 -0.01736 C -0.27569 -0.03703 -0.27465 -0.08194 -0.27361 -0.12615 E">
                                      <p:cBhvr>
                                        <p:cTn id="15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60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2 -0.02871 L 0.31267 -0.00463 E">
                                      <p:cBhvr>
                                        <p:cTn id="157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8000"/>
                            </p:stCondLst>
                            <p:childTnLst>
                              <p:par>
                                <p:cTn id="1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-0.00532 L -0.40955 -0.0287 E">
                                      <p:cBhvr>
                                        <p:cTn id="160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4.34652E-006 L 0.04723 -0.17835 E">
                                      <p:cBhvr>
                                        <p:cTn id="163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47 0.00162 L -0.36423 -0.08611 E">
                                      <p:cBhvr>
                                        <p:cTn id="166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2 -0.00069 L -0.22431 -0.10578 E">
                                      <p:cBhvr>
                                        <p:cTn id="169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1499E-006 L 0.51979 -0.18876 E">
                                      <p:cBhvr>
                                        <p:cTn id="172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7037E-006 L 0.25035 -0.09514 E">
                                      <p:cBhvr>
                                        <p:cTn id="17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1111 L 0.51806 -0.11389 E">
                                      <p:cBhvr>
                                        <p:cTn id="178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1.11111E-006 L -0.02465 -0.01968 E">
                                      <p:cBhvr>
                                        <p:cTn id="181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бить полученные примеры на 2 груп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0360" y="3392640"/>
            <a:ext cx="2085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 + 5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35840" y="5553000"/>
            <a:ext cx="2072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3 =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01440" y="3441600"/>
            <a:ext cx="2085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 + 6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85440" y="3441600"/>
            <a:ext cx="2085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4 + 3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0000" y="4869000"/>
            <a:ext cx="2072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2 =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51480" y="4844880"/>
            <a:ext cx="1965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- 6 =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15480" y="5602320"/>
            <a:ext cx="2072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1 =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0360" y="4162320"/>
            <a:ext cx="2085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 + 4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6360" y="4844880"/>
            <a:ext cx="2072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4 =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0360" y="4149720"/>
            <a:ext cx="2085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5 + 2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19480" y="5565600"/>
            <a:ext cx="2072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5 =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36360" y="4125960"/>
            <a:ext cx="20858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6 + 1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11280" y="1521000"/>
            <a:ext cx="1908000" cy="1725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490920" y="1593720"/>
            <a:ext cx="1898640" cy="1717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443640" y="1665360"/>
            <a:ext cx="1871640" cy="1693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46040" y="270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Прочитать примеры второй группы, пользуясь новыми термин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96000" y="1441440"/>
            <a:ext cx="2085840" cy="46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2 + 5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5 + 2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4 + 3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3 + 4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1 + 6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6 + 1 =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96360" y="1484280"/>
            <a:ext cx="2072160" cy="46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2 =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5 =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4 =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3 =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6 =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7 – 1 =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96360" y="1484280"/>
            <a:ext cx="2072160" cy="46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2 =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5 =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4 =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3 =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6 =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7 – 1 =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7402680" y="4545000"/>
            <a:ext cx="15620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6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0:32:59Z</dcterms:created>
  <dc:creator>User</dc:creator>
  <dc:description/>
  <dc:language>en-US</dc:language>
  <cp:lastModifiedBy>Юля</cp:lastModifiedBy>
  <dcterms:modified xsi:type="dcterms:W3CDTF">2009-11-30T15:49:49Z</dcterms:modified>
  <cp:revision>45</cp:revision>
  <dc:subject/>
  <dc:title>Задача</dc:title>
</cp:coreProperties>
</file>