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9.gif" ContentType="image/gif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6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3884760" y="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371600" y="956880"/>
            <a:ext cx="4106880" cy="34434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78480" cy="35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638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643B3F-1689-4E3F-8233-0577AC9B6E8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11"/>
          <p:cNvSpPr/>
          <p:nvPr/>
        </p:nvSpPr>
        <p:spPr>
          <a:xfrm>
            <a:off x="3884760" y="8685360"/>
            <a:ext cx="296388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B5F2D1-A2FA-4FAC-8D44-53C781F523F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1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64C607-F3F3-4BA1-87B4-BCB69A5309C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33640" y="96372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1"/>
          <p:cNvSpPr/>
          <p:nvPr/>
        </p:nvSpPr>
        <p:spPr>
          <a:xfrm>
            <a:off x="3884760" y="8685360"/>
            <a:ext cx="296388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242686-3CB9-4F36-8B68-9E7F998B63D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1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4CD53F-63AF-4499-B44B-5C6D9063276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33640" y="96372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11"/>
          <p:cNvSpPr/>
          <p:nvPr/>
        </p:nvSpPr>
        <p:spPr>
          <a:xfrm>
            <a:off x="3884760" y="8685360"/>
            <a:ext cx="296388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C31D62-CF3E-4249-8599-7A253D8F046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1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0B2048-FC12-4569-99A6-4C9B4507408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33640" y="96372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30400" y="957240"/>
            <a:ext cx="4589280" cy="34434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78480" cy="35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884760" y="8685360"/>
            <a:ext cx="296388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FF9793-6629-4C6B-AA8D-1FBDF976585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E19E3-8671-4711-80B1-3A3FC7D676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71400" y="-324000"/>
            <a:ext cx="7221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28800" y="1071360"/>
            <a:ext cx="7207200" cy="26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28800" y="3940200"/>
            <a:ext cx="7207200" cy="26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21E51-6ED0-4017-A643-3C944AF2D9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71400" y="-324000"/>
            <a:ext cx="7221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28800" y="1071360"/>
            <a:ext cx="3516840" cy="26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2040" y="1071360"/>
            <a:ext cx="3516840" cy="26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28800" y="3940200"/>
            <a:ext cx="3516840" cy="26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2040" y="3940200"/>
            <a:ext cx="3516840" cy="26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7FD5F-5FB1-4378-96D3-EA288D95A8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71400" y="-324000"/>
            <a:ext cx="7221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28800" y="1071360"/>
            <a:ext cx="2320560" cy="26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5640" y="1071360"/>
            <a:ext cx="2320560" cy="26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02840" y="1071360"/>
            <a:ext cx="2320560" cy="26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28800" y="3940200"/>
            <a:ext cx="2320560" cy="26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5640" y="3940200"/>
            <a:ext cx="2320560" cy="26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02840" y="3940200"/>
            <a:ext cx="2320560" cy="26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72772-538E-4CD3-827B-BF5C3DBB6D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76F7F-8FA5-47D0-8018-405C2CEA599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71400" y="-324000"/>
            <a:ext cx="7221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28800" y="1071360"/>
            <a:ext cx="7207200" cy="54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CE5F3-7F60-4E6F-BA23-6B7F66ED731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71400" y="-324000"/>
            <a:ext cx="7221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28800" y="1071360"/>
            <a:ext cx="7207200" cy="54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34E4D-BB1A-4433-AA27-AFC57C6322B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71400" y="-324000"/>
            <a:ext cx="7221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28800" y="1071360"/>
            <a:ext cx="3516840" cy="54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22040" y="1071360"/>
            <a:ext cx="3516840" cy="54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C00F4-F257-44A0-8D14-CF51FCCEDFD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71400" y="-324000"/>
            <a:ext cx="7221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A9C52-B1C8-400D-8063-F771DD44B4F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71400" y="-324000"/>
            <a:ext cx="72212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EF6E3-28DE-44C4-9273-61C0597F04C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71400" y="-324000"/>
            <a:ext cx="7221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28800" y="1071360"/>
            <a:ext cx="3516840" cy="26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2040" y="1071360"/>
            <a:ext cx="3516840" cy="54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28800" y="3940200"/>
            <a:ext cx="3516840" cy="26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D8581-D161-4ACF-A2E4-BF9319D4CD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71400" y="-324000"/>
            <a:ext cx="7221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28800" y="1071360"/>
            <a:ext cx="7207200" cy="54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F0FDC-B972-40FF-82E4-F152FC31CC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71400" y="-324000"/>
            <a:ext cx="7221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28800" y="1071360"/>
            <a:ext cx="3516840" cy="54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2040" y="1071360"/>
            <a:ext cx="3516840" cy="26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22040" y="3940200"/>
            <a:ext cx="3516840" cy="26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74333-BDF2-42DC-B10B-98E89339BAE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71400" y="-324000"/>
            <a:ext cx="7221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28800" y="1071360"/>
            <a:ext cx="3516840" cy="26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2040" y="1071360"/>
            <a:ext cx="3516840" cy="26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28800" y="3940200"/>
            <a:ext cx="7207200" cy="26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5E264-BDCF-420F-9CF6-236C559D582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71400" y="-324000"/>
            <a:ext cx="7221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28800" y="1071360"/>
            <a:ext cx="7207200" cy="26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28800" y="3940200"/>
            <a:ext cx="7207200" cy="26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1545E-DCDB-472A-9AA1-503A1FAB83B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71400" y="-324000"/>
            <a:ext cx="7221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28800" y="1071360"/>
            <a:ext cx="3516840" cy="26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22040" y="1071360"/>
            <a:ext cx="3516840" cy="26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28800" y="3940200"/>
            <a:ext cx="3516840" cy="26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22040" y="3940200"/>
            <a:ext cx="3516840" cy="26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ACAEA-1568-40C9-9B72-607C8A217FD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71400" y="-324000"/>
            <a:ext cx="7221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28800" y="1071360"/>
            <a:ext cx="2320560" cy="26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65640" y="1071360"/>
            <a:ext cx="2320560" cy="26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02840" y="1071360"/>
            <a:ext cx="2320560" cy="26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28800" y="3940200"/>
            <a:ext cx="2320560" cy="26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65640" y="3940200"/>
            <a:ext cx="2320560" cy="26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02840" y="3940200"/>
            <a:ext cx="2320560" cy="26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CF581-5CDF-463D-B673-0484C6BCF9A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7BB0-FDDD-4F47-A041-3A7BA7D06B9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71400" y="-324000"/>
            <a:ext cx="7221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28800" y="1071360"/>
            <a:ext cx="7207200" cy="54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C9CA-1AC1-4D83-BA69-759AFB96B83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71400" y="-324000"/>
            <a:ext cx="7221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28800" y="1071360"/>
            <a:ext cx="7207200" cy="54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A3D8-C01A-4659-941B-85F302C668C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71400" y="-324000"/>
            <a:ext cx="7221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28800" y="1071360"/>
            <a:ext cx="3516840" cy="54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22040" y="1071360"/>
            <a:ext cx="3516840" cy="54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5A7B-2E1E-4CC8-813F-27D4B519A23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71400" y="-324000"/>
            <a:ext cx="7221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D2F6-D7B3-49F3-8B4B-05F51CE563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71400" y="-324000"/>
            <a:ext cx="7221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28800" y="1071360"/>
            <a:ext cx="7207200" cy="54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367F1-4411-4842-9C21-A13099FD732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571400" y="-324000"/>
            <a:ext cx="72212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2F50-AF6D-433E-A3EC-42468522DBB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71400" y="-324000"/>
            <a:ext cx="7221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28800" y="1071360"/>
            <a:ext cx="3516840" cy="26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2040" y="1071360"/>
            <a:ext cx="3516840" cy="54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928800" y="3940200"/>
            <a:ext cx="3516840" cy="26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1D5E-55DB-4B8C-9A64-59397431123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71400" y="-324000"/>
            <a:ext cx="7221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28800" y="1071360"/>
            <a:ext cx="3516840" cy="54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22040" y="1071360"/>
            <a:ext cx="3516840" cy="26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22040" y="3940200"/>
            <a:ext cx="3516840" cy="26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0635-7C58-47BE-ABBF-FC399C1D332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71400" y="-324000"/>
            <a:ext cx="7221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28800" y="1071360"/>
            <a:ext cx="3516840" cy="26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22040" y="1071360"/>
            <a:ext cx="3516840" cy="26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928800" y="3940200"/>
            <a:ext cx="7207200" cy="26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2E25-7CC7-4B2F-AB1E-7BF3B7E1AC4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71400" y="-324000"/>
            <a:ext cx="7221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28800" y="1071360"/>
            <a:ext cx="7207200" cy="26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928800" y="3940200"/>
            <a:ext cx="7207200" cy="26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2BE5-D082-4DE1-BCBB-A1F8F92BEEF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71400" y="-324000"/>
            <a:ext cx="7221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28800" y="1071360"/>
            <a:ext cx="3516840" cy="26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22040" y="1071360"/>
            <a:ext cx="3516840" cy="26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28800" y="3940200"/>
            <a:ext cx="3516840" cy="26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22040" y="3940200"/>
            <a:ext cx="3516840" cy="26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A07F-42CC-4C32-B953-6BD7020E7E2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71400" y="-324000"/>
            <a:ext cx="7221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28800" y="1071360"/>
            <a:ext cx="2320560" cy="26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65640" y="1071360"/>
            <a:ext cx="2320560" cy="26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802840" y="1071360"/>
            <a:ext cx="2320560" cy="26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928800" y="3940200"/>
            <a:ext cx="2320560" cy="26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65640" y="3940200"/>
            <a:ext cx="2320560" cy="26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802840" y="3940200"/>
            <a:ext cx="2320560" cy="26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6EF6-32E4-412C-8CFD-EADA7316F6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71400" y="-324000"/>
            <a:ext cx="7221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28800" y="1071360"/>
            <a:ext cx="3516840" cy="54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2040" y="1071360"/>
            <a:ext cx="3516840" cy="54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F7149-A75A-4D21-999E-6722EC9EE1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71400" y="-324000"/>
            <a:ext cx="7221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3EA45-E791-4FAC-BC96-45038E5187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71400" y="-324000"/>
            <a:ext cx="72212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F92FD-BBAD-48F5-9214-D8E2655583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71400" y="-324000"/>
            <a:ext cx="7221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28800" y="1071360"/>
            <a:ext cx="3516840" cy="26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2040" y="1071360"/>
            <a:ext cx="3516840" cy="54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28800" y="3940200"/>
            <a:ext cx="3516840" cy="26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F29F8-67F6-4278-9C72-52A890F0E1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71400" y="-324000"/>
            <a:ext cx="7221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28800" y="1071360"/>
            <a:ext cx="3516840" cy="54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2040" y="1071360"/>
            <a:ext cx="3516840" cy="26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2040" y="3940200"/>
            <a:ext cx="3516840" cy="26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69D40-3F3B-4301-8C59-3BB8124DF1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71400" y="-324000"/>
            <a:ext cx="7221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28800" y="1071360"/>
            <a:ext cx="3516840" cy="26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2040" y="1071360"/>
            <a:ext cx="3516840" cy="26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28800" y="3940200"/>
            <a:ext cx="7207200" cy="26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C69F2-5399-406D-9559-676F57CC3D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71400" y="-324000"/>
            <a:ext cx="7221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28800" y="1071360"/>
            <a:ext cx="7207200" cy="54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353280"/>
            <a:ext cx="213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353280"/>
            <a:ext cx="212580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41ABA4-2207-4BEB-A052-72C54F62A874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71400" y="-324000"/>
            <a:ext cx="7221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28800" y="1071360"/>
            <a:ext cx="7207200" cy="54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258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F83E52F-DAAE-4E11-9C6E-A0FC9C5446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71400" y="-324000"/>
            <a:ext cx="7221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28800" y="1071360"/>
            <a:ext cx="7207200" cy="54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258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298A4D5-7F46-4E55-BBF2-FE473A17EF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1"/>
          <p:cNvGrpSpPr/>
          <p:nvPr/>
        </p:nvGrpSpPr>
        <p:grpSpPr>
          <a:xfrm>
            <a:off x="590400" y="1255680"/>
            <a:ext cx="3881520" cy="1558800"/>
            <a:chOff x="590400" y="1255680"/>
            <a:chExt cx="3881520" cy="1558800"/>
          </a:xfrm>
        </p:grpSpPr>
        <p:pic>
          <p:nvPicPr>
            <p:cNvPr id="136" name="Picture 2" descr=""/>
            <p:cNvPicPr/>
            <p:nvPr/>
          </p:nvPicPr>
          <p:blipFill>
            <a:blip r:embed="rId2"/>
            <a:stretch/>
          </p:blipFill>
          <p:spPr>
            <a:xfrm>
              <a:off x="590400" y="1255680"/>
              <a:ext cx="388152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3"/>
            <p:cNvSpPr/>
            <p:nvPr/>
          </p:nvSpPr>
          <p:spPr>
            <a:xfrm>
              <a:off x="590400" y="1255680"/>
              <a:ext cx="3881520" cy="155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8" name="Text Box 4"/>
          <p:cNvSpPr/>
          <p:nvPr/>
        </p:nvSpPr>
        <p:spPr>
          <a:xfrm>
            <a:off x="714240" y="1071720"/>
            <a:ext cx="3881520" cy="4941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cap="sq" w="9360">
            <a:solidFill>
              <a:srgbClr val="ffc000"/>
            </a:solidFill>
            <a:miter/>
          </a:ln>
          <a:effectLst>
            <a:outerShdw dist="74769" dir="938534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Здравствуйте, ребята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Начинаем наш урок. Пусть он всем пойдет вам впрок. Будем слушать, отвечать. Работать с текстом и писат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Ребята, я вам желаю сегодня на уроке удачи, успеха, победы в труд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А что пожелаете вы друг другу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71400" y="-324000"/>
            <a:ext cx="7221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191966"/>
                </a:solidFill>
                <a:latin typeface="Times New Roman"/>
                <a:ea typeface="Times New Roman"/>
              </a:rPr>
              <a:t>Вопрос 1</a:t>
            </a: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928800" y="1071360"/>
            <a:ext cx="7207200" cy="54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191966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191966"/>
                </a:solidFill>
                <a:latin typeface="Times New Roman"/>
                <a:ea typeface="Times New Roman"/>
              </a:rPr>
              <a:t>Почему в Новосибирске зима холоднее, чем в Москве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5" name="Picture 2" descr="C:\Users\Мария\Downloads\img15.jpg"/>
          <p:cNvPicPr/>
          <p:nvPr/>
        </p:nvPicPr>
        <p:blipFill>
          <a:blip r:embed="rId1"/>
          <a:srcRect l="2972" t="19018" r="4846" b="3013"/>
          <a:stretch/>
        </p:blipFill>
        <p:spPr>
          <a:xfrm>
            <a:off x="1214280" y="2357280"/>
            <a:ext cx="664380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71400" y="-214560"/>
            <a:ext cx="671508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Вопрос 2 </a:t>
            </a: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000080" y="928800"/>
            <a:ext cx="7135920" cy="56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Почему на побережье Атлантического океана в Южной Африке находится пустыня Намиб, в Южной Америке на западном побережье – пустыня Атакама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8" name="Picture 4" descr="C:\Users\Мария\Downloads\istockphoto-1140785524-170667a.jpg"/>
          <p:cNvPicPr/>
          <p:nvPr/>
        </p:nvPicPr>
        <p:blipFill>
          <a:blip r:embed="rId1"/>
          <a:stretch/>
        </p:blipFill>
        <p:spPr>
          <a:xfrm>
            <a:off x="1928880" y="3571920"/>
            <a:ext cx="53578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86920" y="-360"/>
            <a:ext cx="7000920" cy="24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400"/>
            </a:br>
            <a:r>
              <a:rPr b="1" lang="ru-RU" sz="44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Вопрос  3</a:t>
            </a:r>
            <a:br>
              <a:rPr sz="2400"/>
            </a:br>
            <a:r>
              <a:rPr b="1" lang="ru-RU" sz="28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Два российских города Пермь и Нижний Тагил находятся практически  на одной широте, а  количество осадков разное. В чем причина?</a:t>
            </a:r>
            <a:br>
              <a:rPr sz="2800"/>
            </a:br>
            <a:endParaRPr b="1" lang="en-US" sz="2800" spc="-1" strike="noStrike">
              <a:solidFill>
                <a:srgbClr val="f8f8f8"/>
              </a:solidFill>
              <a:latin typeface="Calibri"/>
            </a:endParaRPr>
          </a:p>
        </p:txBody>
      </p:sp>
      <p:pic>
        <p:nvPicPr>
          <p:cNvPr id="190" name="Picture 2" descr="C:\Users\Мария\Downloads\img15.jpg"/>
          <p:cNvPicPr/>
          <p:nvPr/>
        </p:nvPicPr>
        <p:blipFill>
          <a:blip r:embed="rId1"/>
          <a:srcRect l="2972" t="19018" r="4846" b="3013"/>
          <a:stretch/>
        </p:blipFill>
        <p:spPr>
          <a:xfrm>
            <a:off x="1214280" y="2428920"/>
            <a:ext cx="664380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71400" y="-324000"/>
            <a:ext cx="7221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191966"/>
                </a:solidFill>
                <a:latin typeface="Calibri"/>
              </a:rPr>
              <a:t>Вопрос 4</a:t>
            </a: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971640" y="1023840"/>
            <a:ext cx="35272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Два города Ла-Пас и Бразилиа находятся практически  на одной широте, а  количество осадков и температура разное. В чем причина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608000" y="1071360"/>
            <a:ext cx="3527640" cy="54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4" name="Picture 2" descr="C:\Users\Мария\Downloads\img16.jpg"/>
          <p:cNvPicPr/>
          <p:nvPr/>
        </p:nvPicPr>
        <p:blipFill>
          <a:blip r:embed="rId1"/>
          <a:srcRect l="3126" t="0" r="42969" b="0"/>
          <a:stretch/>
        </p:blipFill>
        <p:spPr>
          <a:xfrm>
            <a:off x="4714920" y="1125360"/>
            <a:ext cx="357192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71400" y="-324000"/>
            <a:ext cx="7221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191966"/>
                </a:solidFill>
                <a:latin typeface="Calibri"/>
              </a:rPr>
              <a:t>Вопрос 5</a:t>
            </a: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928800" y="1071360"/>
            <a:ext cx="7207200" cy="54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191966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191966"/>
                </a:solidFill>
                <a:latin typeface="Times New Roman"/>
                <a:ea typeface="Times New Roman"/>
              </a:rPr>
              <a:t>Почему в Астрахани и Архангельске разные температуры  в январе и июле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7" name="Рисунок 7" descr="C:\Users\Мария\Downloads\hello_html_11bfd8d5.jpg"/>
          <p:cNvPicPr/>
          <p:nvPr/>
        </p:nvPicPr>
        <p:blipFill>
          <a:blip r:embed="rId1"/>
          <a:srcRect l="6087" t="11338" r="4124" b="21077"/>
          <a:stretch/>
        </p:blipFill>
        <p:spPr>
          <a:xfrm>
            <a:off x="1285920" y="2143080"/>
            <a:ext cx="6786360" cy="4429080"/>
          </a:xfrm>
          <a:prstGeom prst="rect">
            <a:avLst/>
          </a:prstGeom>
          <a:ln w="0">
            <a:noFill/>
          </a:ln>
        </p:spPr>
      </p:pic>
      <p:sp>
        <p:nvSpPr>
          <p:cNvPr id="198" name="TextBox 8"/>
          <p:cNvSpPr/>
          <p:nvPr/>
        </p:nvSpPr>
        <p:spPr>
          <a:xfrm>
            <a:off x="2935440" y="3429000"/>
            <a:ext cx="15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рхангельс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Box 9"/>
          <p:cNvSpPr/>
          <p:nvPr/>
        </p:nvSpPr>
        <p:spPr>
          <a:xfrm>
            <a:off x="1643040" y="4572000"/>
            <a:ext cx="16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страха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Блок-схема: узел 10"/>
          <p:cNvSpPr/>
          <p:nvPr/>
        </p:nvSpPr>
        <p:spPr>
          <a:xfrm>
            <a:off x="2786040" y="3357720"/>
            <a:ext cx="285840" cy="2142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Блок-схема: узел 11"/>
          <p:cNvSpPr/>
          <p:nvPr/>
        </p:nvSpPr>
        <p:spPr>
          <a:xfrm>
            <a:off x="1785960" y="5000760"/>
            <a:ext cx="285840" cy="2142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71400" y="-324000"/>
            <a:ext cx="7221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84360" y="1071360"/>
            <a:ext cx="7704000" cy="54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191966"/>
                </a:solidFill>
                <a:latin typeface="Calibri"/>
              </a:rPr>
              <a:t>А. Урок полезен, все понятно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191966"/>
                </a:solidFill>
                <a:latin typeface="Calibri"/>
              </a:rPr>
              <a:t>В. Лишь кое-что чуть-чуть не ясно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191966"/>
                </a:solidFill>
                <a:latin typeface="Calibri"/>
              </a:rPr>
              <a:t>С. Ещё придётся потруди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191966"/>
                </a:solidFill>
                <a:latin typeface="Calibri"/>
              </a:rPr>
              <a:t>D</a:t>
            </a:r>
            <a:r>
              <a:rPr b="0" lang="ru-RU" sz="4000" spc="-1" strike="noStrike">
                <a:solidFill>
                  <a:srgbClr val="191966"/>
                </a:solidFill>
                <a:latin typeface="Calibri"/>
              </a:rPr>
              <a:t>. Да, трудно всё-таки учи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1" descr=""/>
          <p:cNvPicPr/>
          <p:nvPr/>
        </p:nvPicPr>
        <p:blipFill>
          <a:blip r:embed="rId2"/>
          <a:stretch/>
        </p:blipFill>
        <p:spPr>
          <a:xfrm>
            <a:off x="2428920" y="2786040"/>
            <a:ext cx="3816360" cy="388944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2"/>
          <p:cNvSpPr/>
          <p:nvPr/>
        </p:nvSpPr>
        <p:spPr>
          <a:xfrm>
            <a:off x="1224000" y="1052640"/>
            <a:ext cx="6916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16165d"/>
                </a:solidFill>
                <a:latin typeface="Times New Roman"/>
              </a:rPr>
              <a:t>Молодцы ребята! Спасибо за урок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900000" y="888840"/>
            <a:ext cx="741708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19280" y="-360"/>
            <a:ext cx="65260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Интересные факты </a:t>
            </a: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928800" y="907920"/>
            <a:ext cx="7315200" cy="56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Почти 2500 лет назад в греческих городах-государствах на всеобщее обозрение выставляли парапегамы, в которых описывались климатические условия прошлых лет.     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Во 2 веке до н.э. в Афинах была построена башня Ветров,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сохранившаяся до сих пор. На каждой из её       8 граней есть барельеф, описывающий тип климатических условий, связанных с ветром того направления, куда обращена грань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Еще в эпоху Великих географических открытий узнали, что на одних и тех же широтах климат может быть разным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2" name="Picture 3" descr="C:\Users\Мария\Downloads\istoriya_zarozhdeniya_klimatologii_big.jpg"/>
          <p:cNvPicPr/>
          <p:nvPr/>
        </p:nvPicPr>
        <p:blipFill>
          <a:blip r:embed="rId1"/>
          <a:stretch/>
        </p:blipFill>
        <p:spPr>
          <a:xfrm>
            <a:off x="1332000" y="4917960"/>
            <a:ext cx="2448000" cy="16322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"/>
          <p:cNvPicPr/>
          <p:nvPr/>
        </p:nvPicPr>
        <p:blipFill>
          <a:blip r:embed="rId2"/>
          <a:stretch/>
        </p:blipFill>
        <p:spPr>
          <a:xfrm>
            <a:off x="4572000" y="4888080"/>
            <a:ext cx="2736720" cy="16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1"/>
          <p:cNvGrpSpPr/>
          <p:nvPr/>
        </p:nvGrpSpPr>
        <p:grpSpPr>
          <a:xfrm>
            <a:off x="590400" y="1255680"/>
            <a:ext cx="3881520" cy="1558800"/>
            <a:chOff x="590400" y="1255680"/>
            <a:chExt cx="3881520" cy="1558800"/>
          </a:xfrm>
        </p:grpSpPr>
        <p:pic>
          <p:nvPicPr>
            <p:cNvPr id="145" name="Picture 2" descr=""/>
            <p:cNvPicPr/>
            <p:nvPr/>
          </p:nvPicPr>
          <p:blipFill>
            <a:blip r:embed="rId1"/>
            <a:stretch/>
          </p:blipFill>
          <p:spPr>
            <a:xfrm>
              <a:off x="590400" y="1255680"/>
              <a:ext cx="388152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Text Box 3"/>
            <p:cNvSpPr/>
            <p:nvPr/>
          </p:nvSpPr>
          <p:spPr>
            <a:xfrm>
              <a:off x="590400" y="1255680"/>
              <a:ext cx="3881520" cy="155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Text Box 4"/>
          <p:cNvSpPr/>
          <p:nvPr/>
        </p:nvSpPr>
        <p:spPr>
          <a:xfrm>
            <a:off x="582480" y="1008000"/>
            <a:ext cx="3881520" cy="49420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cap="sq" w="9360">
            <a:solidFill>
              <a:srgbClr val="ffc000"/>
            </a:solidFill>
            <a:miter/>
          </a:ln>
          <a:effectLst>
            <a:outerShdw dist="74769" dir="938534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300dc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16165d"/>
                </a:solidFill>
                <a:latin typeface="Times New Roman"/>
              </a:rPr>
              <a:t>«Причины, влияющие на климат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71760" y="40680"/>
            <a:ext cx="7115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85880" y="785520"/>
            <a:ext cx="3711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16165d"/>
                </a:solidFill>
                <a:uFillTx/>
                <a:latin typeface="Times New Roman"/>
                <a:ea typeface="Times New Roman"/>
              </a:rPr>
              <a:t>Полуостров Калифорния</a:t>
            </a:r>
            <a:r>
              <a:rPr b="1" lang="ru-RU" sz="24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45080" y="785520"/>
            <a:ext cx="37130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 u="sng">
                <a:solidFill>
                  <a:srgbClr val="16165d"/>
                </a:solidFill>
                <a:uFillTx/>
                <a:latin typeface="Times New Roman"/>
                <a:ea typeface="Times New Roman"/>
              </a:rPr>
              <a:t>Полуостров Флорида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1" name="Picture 2" descr="C:\Users\Мария\Downloads\960.jpg"/>
          <p:cNvPicPr/>
          <p:nvPr/>
        </p:nvPicPr>
        <p:blipFill>
          <a:blip r:embed="rId1"/>
          <a:stretch/>
        </p:blipFill>
        <p:spPr>
          <a:xfrm>
            <a:off x="785880" y="1428840"/>
            <a:ext cx="3711600" cy="2466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C:\Users\Мария\Downloads\07cd92fd8f.jpg"/>
          <p:cNvPicPr/>
          <p:nvPr/>
        </p:nvPicPr>
        <p:blipFill>
          <a:blip r:embed="rId2"/>
          <a:stretch/>
        </p:blipFill>
        <p:spPr>
          <a:xfrm>
            <a:off x="785880" y="4071960"/>
            <a:ext cx="3743280" cy="2340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C:\Users\Мария\Downloads\Coast_USA_Miami_Florida_Palms_Shrubs_527450_3840x2400.jpg"/>
          <p:cNvPicPr/>
          <p:nvPr/>
        </p:nvPicPr>
        <p:blipFill>
          <a:blip r:embed="rId3"/>
          <a:stretch/>
        </p:blipFill>
        <p:spPr>
          <a:xfrm>
            <a:off x="4572000" y="1428840"/>
            <a:ext cx="3713040" cy="23209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C:\Users\Мария\Downloads\USA_Parks_Coast_Bahia_Honda_State_Park_Florida_527988_1280x853.jpg"/>
          <p:cNvPicPr/>
          <p:nvPr/>
        </p:nvPicPr>
        <p:blipFill>
          <a:blip r:embed="rId4"/>
          <a:stretch/>
        </p:blipFill>
        <p:spPr>
          <a:xfrm>
            <a:off x="4643280" y="4071960"/>
            <a:ext cx="3451320" cy="23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71400" y="-285840"/>
            <a:ext cx="7000920" cy="12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Черапунджи</a:t>
            </a: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pic>
        <p:nvPicPr>
          <p:cNvPr id="156" name="Picture 2" descr="C:\Users\user\Desktop\1402235030_12.jpg"/>
          <p:cNvPicPr/>
          <p:nvPr/>
        </p:nvPicPr>
        <p:blipFill>
          <a:blip r:embed="rId1"/>
          <a:stretch/>
        </p:blipFill>
        <p:spPr>
          <a:xfrm>
            <a:off x="928800" y="1000080"/>
            <a:ext cx="3682800" cy="24624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C:\Users\user\Desktop\02.jpg.CROP.article920-large.jpg"/>
          <p:cNvPicPr/>
          <p:nvPr/>
        </p:nvPicPr>
        <p:blipFill>
          <a:blip r:embed="rId2"/>
          <a:stretch/>
        </p:blipFill>
        <p:spPr>
          <a:xfrm>
            <a:off x="4714920" y="1000080"/>
            <a:ext cx="3467160" cy="2428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C:\Users\user\Desktop\178898_4bab4c2c59bcd0cc0cdd703f59e2fbfb_800.jpg"/>
          <p:cNvPicPr/>
          <p:nvPr/>
        </p:nvPicPr>
        <p:blipFill>
          <a:blip r:embed="rId3"/>
          <a:stretch/>
        </p:blipFill>
        <p:spPr>
          <a:xfrm>
            <a:off x="928800" y="3714840"/>
            <a:ext cx="3643200" cy="2647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C:\Users\user\Desktop\original.jpg"/>
          <p:cNvPicPr/>
          <p:nvPr/>
        </p:nvPicPr>
        <p:blipFill>
          <a:blip r:embed="rId4"/>
          <a:stretch/>
        </p:blipFill>
        <p:spPr>
          <a:xfrm>
            <a:off x="4714920" y="3714840"/>
            <a:ext cx="3591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71400" y="-324000"/>
            <a:ext cx="7221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Заполните схему</a:t>
            </a: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116000" y="980640"/>
            <a:ext cx="72072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Причины, влияющие на климат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62" name="Прямая со стрелкой 6"/>
          <p:cNvCxnSpPr/>
          <p:nvPr/>
        </p:nvCxnSpPr>
        <p:spPr>
          <a:xfrm flipH="1">
            <a:off x="1546920" y="1571760"/>
            <a:ext cx="810360" cy="11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3" name="Прямая со стрелкой 8"/>
          <p:cNvCxnSpPr/>
          <p:nvPr/>
        </p:nvCxnSpPr>
        <p:spPr>
          <a:xfrm>
            <a:off x="3058920" y="1571760"/>
            <a:ext cx="1080" cy="11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4" name="Прямая со стрелкой 10"/>
          <p:cNvCxnSpPr/>
          <p:nvPr/>
        </p:nvCxnSpPr>
        <p:spPr>
          <a:xfrm>
            <a:off x="4284360" y="1535040"/>
            <a:ext cx="1080" cy="131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5" name="Прямая со стрелкой 12"/>
          <p:cNvCxnSpPr/>
          <p:nvPr/>
        </p:nvCxnSpPr>
        <p:spPr>
          <a:xfrm>
            <a:off x="5436720" y="1555920"/>
            <a:ext cx="1080" cy="128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6" name="Прямая со стрелкой 14"/>
          <p:cNvCxnSpPr/>
          <p:nvPr/>
        </p:nvCxnSpPr>
        <p:spPr>
          <a:xfrm>
            <a:off x="6587640" y="1487520"/>
            <a:ext cx="505800" cy="127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71400" y="-324000"/>
            <a:ext cx="7221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Заполните схему</a:t>
            </a: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116000" y="980640"/>
            <a:ext cx="72072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Причины, влияющие на климат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69" name="Прямая со стрелкой 6"/>
          <p:cNvCxnSpPr/>
          <p:nvPr/>
        </p:nvCxnSpPr>
        <p:spPr>
          <a:xfrm flipH="1">
            <a:off x="1546920" y="1571760"/>
            <a:ext cx="810360" cy="11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0" name="Прямая со стрелкой 8"/>
          <p:cNvCxnSpPr/>
          <p:nvPr/>
        </p:nvCxnSpPr>
        <p:spPr>
          <a:xfrm>
            <a:off x="3058920" y="1571760"/>
            <a:ext cx="1080" cy="11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1" name="Прямая со стрелкой 10"/>
          <p:cNvCxnSpPr/>
          <p:nvPr/>
        </p:nvCxnSpPr>
        <p:spPr>
          <a:xfrm>
            <a:off x="4284360" y="1535040"/>
            <a:ext cx="1080" cy="131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2" name="Прямая со стрелкой 12"/>
          <p:cNvCxnSpPr/>
          <p:nvPr/>
        </p:nvCxnSpPr>
        <p:spPr>
          <a:xfrm>
            <a:off x="5436720" y="1555920"/>
            <a:ext cx="1080" cy="128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3" name="Прямая со стрелкой 14"/>
          <p:cNvCxnSpPr/>
          <p:nvPr/>
        </p:nvCxnSpPr>
        <p:spPr>
          <a:xfrm>
            <a:off x="6587640" y="1487520"/>
            <a:ext cx="505800" cy="127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74" name="TextBox 6"/>
          <p:cNvSpPr/>
          <p:nvPr/>
        </p:nvSpPr>
        <p:spPr>
          <a:xfrm>
            <a:off x="2124000" y="3376440"/>
            <a:ext cx="15112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Зависимос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климата от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близости море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и океанов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и направления ветр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Box 8"/>
          <p:cNvSpPr/>
          <p:nvPr/>
        </p:nvSpPr>
        <p:spPr>
          <a:xfrm>
            <a:off x="900000" y="3024360"/>
            <a:ext cx="1295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Зависимость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климата от географической широт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Box 9"/>
          <p:cNvSpPr/>
          <p:nvPr/>
        </p:nvSpPr>
        <p:spPr>
          <a:xfrm>
            <a:off x="3635280" y="3024360"/>
            <a:ext cx="1513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Зависимость климата от океанических течен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Box 11"/>
          <p:cNvSpPr/>
          <p:nvPr/>
        </p:nvSpPr>
        <p:spPr>
          <a:xfrm>
            <a:off x="5076720" y="3024360"/>
            <a:ext cx="129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Зависимость климата от рельеф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Box 12"/>
          <p:cNvSpPr/>
          <p:nvPr/>
        </p:nvSpPr>
        <p:spPr>
          <a:xfrm>
            <a:off x="6588000" y="3024360"/>
            <a:ext cx="1368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Зависимость климата от высоты рельефа над уровнем мор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71400" y="-324000"/>
            <a:ext cx="7221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Домашнее задание</a:t>
            </a: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928800" y="1000080"/>
            <a:ext cx="720720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1)  Параграф 31, заполнить таблицу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071720" y="1785960"/>
          <a:ext cx="7072200" cy="2786040"/>
        </p:xfrm>
        <a:graphic>
          <a:graphicData uri="http://schemas.openxmlformats.org/drawingml/2006/table">
            <a:tbl>
              <a:tblPr/>
              <a:tblGrid>
                <a:gridCol w="1627200"/>
                <a:gridCol w="1625400"/>
                <a:gridCol w="2050920"/>
                <a:gridCol w="1768680"/>
              </a:tblGrid>
              <a:tr h="775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6165d"/>
                          </a:solidFill>
                          <a:latin typeface="Calibri"/>
                        </a:rPr>
                        <a:t>Сравниваемые черт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6165d"/>
                          </a:solidFill>
                          <a:latin typeface="Calibri"/>
                        </a:rPr>
                        <a:t>Морской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6165d"/>
                          </a:solidFill>
                          <a:latin typeface="Calibri"/>
                        </a:rPr>
                        <a:t>клима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6165d"/>
                          </a:solidFill>
                          <a:latin typeface="Calibri"/>
                        </a:rPr>
                        <a:t>Континентальный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6165d"/>
                          </a:solidFill>
                          <a:latin typeface="Calibri"/>
                        </a:rPr>
                        <a:t>клима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6165d"/>
                          </a:solidFill>
                          <a:latin typeface="Calibri"/>
                        </a:rPr>
                        <a:t>Муссонный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6165d"/>
                          </a:solidFill>
                          <a:latin typeface="Calibri"/>
                        </a:rPr>
                        <a:t>клима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5d"/>
                          </a:solidFill>
                          <a:latin typeface="Calibri"/>
                        </a:rPr>
                        <a:t>Лет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5d"/>
                          </a:solidFill>
                          <a:latin typeface="Calibri"/>
                        </a:rPr>
                        <a:t>Зи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5d"/>
                          </a:solidFill>
                          <a:latin typeface="Calibri"/>
                        </a:rPr>
                        <a:t>Амплитуда температур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5d"/>
                          </a:solidFill>
                          <a:latin typeface="Calibri"/>
                        </a:rPr>
                        <a:t>Количество осадк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182" name="TextBox 8"/>
          <p:cNvSpPr/>
          <p:nvPr/>
        </p:nvSpPr>
        <p:spPr>
          <a:xfrm>
            <a:off x="857160" y="4786200"/>
            <a:ext cx="7170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2) </a:t>
            </a:r>
            <a:r>
              <a:rPr b="0" lang="ru-RU" sz="28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Составить кроссенс по теме «Атмосфера»  </a:t>
            </a:r>
            <a:r>
              <a:rPr b="1" lang="ru-RU" sz="28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(по желанию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1T01:51:55Z</dcterms:created>
  <dc:creator>Comp</dc:creator>
  <dc:description/>
  <dc:language>en-US</dc:language>
  <cp:lastModifiedBy>HomePC</cp:lastModifiedBy>
  <dcterms:modified xsi:type="dcterms:W3CDTF">2024-01-06T19:18:34Z</dcterms:modified>
  <cp:revision>10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e3d0000000000010243100207f6000400038000</vt:lpwstr>
  </property>
</Properties>
</file>