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9.gif" ContentType="image/gif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6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3884760" y="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371600" y="956880"/>
            <a:ext cx="4106880" cy="34434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78480" cy="35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6388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53BFF0-CD87-4067-8227-F268B3A842A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11"/>
          <p:cNvSpPr/>
          <p:nvPr/>
        </p:nvSpPr>
        <p:spPr>
          <a:xfrm>
            <a:off x="3884760" y="8685360"/>
            <a:ext cx="296388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EFE779-6634-43BA-917E-637EC2F6FA7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1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56E9D9-E15E-407D-AAFC-1BE8A26B4C9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33640" y="96372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1"/>
          <p:cNvSpPr/>
          <p:nvPr/>
        </p:nvSpPr>
        <p:spPr>
          <a:xfrm>
            <a:off x="3884760" y="8685360"/>
            <a:ext cx="296388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D4B631-370A-4027-B0B1-0D422D0B74B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1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119435-F116-4817-B6A8-260C231C38A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33640" y="96372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11"/>
          <p:cNvSpPr/>
          <p:nvPr/>
        </p:nvSpPr>
        <p:spPr>
          <a:xfrm>
            <a:off x="3884760" y="8685360"/>
            <a:ext cx="296388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C63E08-998F-4ACE-9E99-43A18563C74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1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5D56AD-F08B-4B14-BB38-6B572250A19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33640" y="96372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30400" y="957240"/>
            <a:ext cx="4589280" cy="34434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78480" cy="35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884760" y="8685360"/>
            <a:ext cx="296388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884C3F-D63E-41D8-982E-C560B8C9737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8D5CA-ADAB-4303-9A03-D4D379BF6D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71400" y="-324000"/>
            <a:ext cx="7221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28800" y="1071360"/>
            <a:ext cx="7207200" cy="26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28800" y="3940200"/>
            <a:ext cx="7207200" cy="26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87CCF-640B-4131-80E9-454C67E178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71400" y="-324000"/>
            <a:ext cx="7221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28800" y="1071360"/>
            <a:ext cx="3516840" cy="26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2040" y="1071360"/>
            <a:ext cx="3516840" cy="26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28800" y="3940200"/>
            <a:ext cx="3516840" cy="26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2040" y="3940200"/>
            <a:ext cx="3516840" cy="26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D0C0F-51BD-41D0-B31A-D191C1F83E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71400" y="-324000"/>
            <a:ext cx="7221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28800" y="1071360"/>
            <a:ext cx="2320560" cy="26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5640" y="1071360"/>
            <a:ext cx="2320560" cy="26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02840" y="1071360"/>
            <a:ext cx="2320560" cy="26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28800" y="3940200"/>
            <a:ext cx="2320560" cy="26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5640" y="3940200"/>
            <a:ext cx="2320560" cy="26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02840" y="3940200"/>
            <a:ext cx="2320560" cy="26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0ACCC-EB6C-41E6-9EB4-D4D4DF23CB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80DA7-681A-4029-A8AD-16C62ECA277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71400" y="-324000"/>
            <a:ext cx="7221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28800" y="1071360"/>
            <a:ext cx="7207200" cy="54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DCC4D-96F6-4745-99B8-825CA87F3DA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71400" y="-324000"/>
            <a:ext cx="7221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28800" y="1071360"/>
            <a:ext cx="7207200" cy="54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C16F6-0FC5-40E6-9BCD-CD46B53F457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71400" y="-324000"/>
            <a:ext cx="7221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28800" y="1071360"/>
            <a:ext cx="3516840" cy="54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22040" y="1071360"/>
            <a:ext cx="3516840" cy="54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4598A-C4BE-4EE1-86E4-28F8174067E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71400" y="-324000"/>
            <a:ext cx="7221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D0081-2CAB-4C39-8A60-A3B3250E8E3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71400" y="-324000"/>
            <a:ext cx="72212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6135D-9A4D-41D8-AAED-1E621175DDA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71400" y="-324000"/>
            <a:ext cx="7221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28800" y="1071360"/>
            <a:ext cx="3516840" cy="26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2040" y="1071360"/>
            <a:ext cx="3516840" cy="54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28800" y="3940200"/>
            <a:ext cx="3516840" cy="26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F963E-B485-4464-9A9F-160972F199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71400" y="-324000"/>
            <a:ext cx="7221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28800" y="1071360"/>
            <a:ext cx="7207200" cy="54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277B3-0672-4FC4-BD40-CC22DF688C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71400" y="-324000"/>
            <a:ext cx="7221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28800" y="1071360"/>
            <a:ext cx="3516840" cy="54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2040" y="1071360"/>
            <a:ext cx="3516840" cy="26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22040" y="3940200"/>
            <a:ext cx="3516840" cy="26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1A5D1-D1F7-4784-A4E9-33D667C0291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71400" y="-324000"/>
            <a:ext cx="7221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28800" y="1071360"/>
            <a:ext cx="3516840" cy="26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2040" y="1071360"/>
            <a:ext cx="3516840" cy="26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28800" y="3940200"/>
            <a:ext cx="7207200" cy="26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6BE7B-258B-4108-9BF7-1C3EC8DDF4A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71400" y="-324000"/>
            <a:ext cx="7221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28800" y="1071360"/>
            <a:ext cx="7207200" cy="26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28800" y="3940200"/>
            <a:ext cx="7207200" cy="26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796CE-42F9-4606-9409-D22EBB0212D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71400" y="-324000"/>
            <a:ext cx="7221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28800" y="1071360"/>
            <a:ext cx="3516840" cy="26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22040" y="1071360"/>
            <a:ext cx="3516840" cy="26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28800" y="3940200"/>
            <a:ext cx="3516840" cy="26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22040" y="3940200"/>
            <a:ext cx="3516840" cy="26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2D72E-2EC1-4B7E-AFD2-ADA4F44C2E2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71400" y="-324000"/>
            <a:ext cx="7221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28800" y="1071360"/>
            <a:ext cx="2320560" cy="26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65640" y="1071360"/>
            <a:ext cx="2320560" cy="26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02840" y="1071360"/>
            <a:ext cx="2320560" cy="26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28800" y="3940200"/>
            <a:ext cx="2320560" cy="26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65640" y="3940200"/>
            <a:ext cx="2320560" cy="26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02840" y="3940200"/>
            <a:ext cx="2320560" cy="26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2D004-1C0B-4142-9E11-946E409731A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8E71-1868-4804-ADA9-7C73B1A0304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71400" y="-324000"/>
            <a:ext cx="7221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28800" y="1071360"/>
            <a:ext cx="7207200" cy="54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B768-03A9-4487-BBA8-2B049C141C0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71400" y="-324000"/>
            <a:ext cx="7221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28800" y="1071360"/>
            <a:ext cx="7207200" cy="54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981E-7EC3-4D5C-8196-63F8E36E30F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71400" y="-324000"/>
            <a:ext cx="7221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28800" y="1071360"/>
            <a:ext cx="3516840" cy="54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22040" y="1071360"/>
            <a:ext cx="3516840" cy="54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7B3D-CCFD-4CFB-B356-A6BF441732C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71400" y="-324000"/>
            <a:ext cx="7221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EB1E-63AC-4CEA-80A7-DD0DD3CA1B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71400" y="-324000"/>
            <a:ext cx="7221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28800" y="1071360"/>
            <a:ext cx="7207200" cy="54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478ED-BBFF-4C33-B1F8-99DD3123333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571400" y="-324000"/>
            <a:ext cx="72212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8E63-FCFE-449E-ADD2-6D7C8CD4808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71400" y="-324000"/>
            <a:ext cx="7221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28800" y="1071360"/>
            <a:ext cx="3516840" cy="26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2040" y="1071360"/>
            <a:ext cx="3516840" cy="54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928800" y="3940200"/>
            <a:ext cx="3516840" cy="26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404F-D3C7-44A2-8AA7-223DB61F625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71400" y="-324000"/>
            <a:ext cx="7221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28800" y="1071360"/>
            <a:ext cx="3516840" cy="54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22040" y="1071360"/>
            <a:ext cx="3516840" cy="26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22040" y="3940200"/>
            <a:ext cx="3516840" cy="26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060B-ACA4-4839-BB38-BC63F8EB848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71400" y="-324000"/>
            <a:ext cx="7221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28800" y="1071360"/>
            <a:ext cx="3516840" cy="26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22040" y="1071360"/>
            <a:ext cx="3516840" cy="26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928800" y="3940200"/>
            <a:ext cx="7207200" cy="26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9AC0-0760-412D-A6B7-D896DE1ADA8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71400" y="-324000"/>
            <a:ext cx="7221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28800" y="1071360"/>
            <a:ext cx="7207200" cy="26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928800" y="3940200"/>
            <a:ext cx="7207200" cy="26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1158-9FC1-4490-ABC4-E651F5908B3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71400" y="-324000"/>
            <a:ext cx="7221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28800" y="1071360"/>
            <a:ext cx="3516840" cy="26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22040" y="1071360"/>
            <a:ext cx="3516840" cy="26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28800" y="3940200"/>
            <a:ext cx="3516840" cy="26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22040" y="3940200"/>
            <a:ext cx="3516840" cy="26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0CF2-866A-4CE6-81C8-77A21DBFDC4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71400" y="-324000"/>
            <a:ext cx="7221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28800" y="1071360"/>
            <a:ext cx="2320560" cy="26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65640" y="1071360"/>
            <a:ext cx="2320560" cy="26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802840" y="1071360"/>
            <a:ext cx="2320560" cy="26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928800" y="3940200"/>
            <a:ext cx="2320560" cy="26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65640" y="3940200"/>
            <a:ext cx="2320560" cy="26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802840" y="3940200"/>
            <a:ext cx="2320560" cy="26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6132-1B32-4129-97FD-35D64D3918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71400" y="-324000"/>
            <a:ext cx="7221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28800" y="1071360"/>
            <a:ext cx="3516840" cy="54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2040" y="1071360"/>
            <a:ext cx="3516840" cy="54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11A5C-C6B7-4A63-A0C4-DC54D31EEE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71400" y="-324000"/>
            <a:ext cx="7221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505A8-1905-4367-87AA-92E5F42888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71400" y="-324000"/>
            <a:ext cx="72212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62B32-8CD0-4571-B9E2-834414BD9D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71400" y="-324000"/>
            <a:ext cx="7221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28800" y="1071360"/>
            <a:ext cx="3516840" cy="26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2040" y="1071360"/>
            <a:ext cx="3516840" cy="54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28800" y="3940200"/>
            <a:ext cx="3516840" cy="26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A3DF9-AD30-43E6-8604-00A2527293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71400" y="-324000"/>
            <a:ext cx="7221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28800" y="1071360"/>
            <a:ext cx="3516840" cy="54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2040" y="1071360"/>
            <a:ext cx="3516840" cy="26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2040" y="3940200"/>
            <a:ext cx="3516840" cy="26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BFC39-59FF-4DFE-B63E-BBAE9CC40B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71400" y="-324000"/>
            <a:ext cx="7221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28800" y="1071360"/>
            <a:ext cx="3516840" cy="26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2040" y="1071360"/>
            <a:ext cx="3516840" cy="26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28800" y="3940200"/>
            <a:ext cx="7207200" cy="26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AEBE2-A3B1-4B5F-B4B9-8B83B24CE1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71400" y="-324000"/>
            <a:ext cx="7221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28800" y="1071360"/>
            <a:ext cx="7207200" cy="54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353280"/>
            <a:ext cx="213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353280"/>
            <a:ext cx="212580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557344-FD0B-4DA1-9957-F5C0AB5D8AE3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71400" y="-324000"/>
            <a:ext cx="7221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28800" y="1071360"/>
            <a:ext cx="7207200" cy="54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258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38739F3-335B-4126-B8F7-8352DF31B0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71400" y="-324000"/>
            <a:ext cx="7221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28800" y="1071360"/>
            <a:ext cx="7207200" cy="54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258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1720FDC-F7ED-4FF3-B9CD-8CB2CB4792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1"/>
          <p:cNvGrpSpPr/>
          <p:nvPr/>
        </p:nvGrpSpPr>
        <p:grpSpPr>
          <a:xfrm>
            <a:off x="590400" y="1255680"/>
            <a:ext cx="3881520" cy="1558800"/>
            <a:chOff x="590400" y="1255680"/>
            <a:chExt cx="3881520" cy="1558800"/>
          </a:xfrm>
        </p:grpSpPr>
        <p:pic>
          <p:nvPicPr>
            <p:cNvPr id="136" name="Picture 2" descr=""/>
            <p:cNvPicPr/>
            <p:nvPr/>
          </p:nvPicPr>
          <p:blipFill>
            <a:blip r:embed="rId2"/>
            <a:stretch/>
          </p:blipFill>
          <p:spPr>
            <a:xfrm>
              <a:off x="590400" y="1255680"/>
              <a:ext cx="388152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3"/>
            <p:cNvSpPr/>
            <p:nvPr/>
          </p:nvSpPr>
          <p:spPr>
            <a:xfrm>
              <a:off x="590400" y="1255680"/>
              <a:ext cx="3881520" cy="155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8" name="Text Box 4"/>
          <p:cNvSpPr/>
          <p:nvPr/>
        </p:nvSpPr>
        <p:spPr>
          <a:xfrm>
            <a:off x="714240" y="1071720"/>
            <a:ext cx="3881520" cy="4941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cap="sq" w="9360">
            <a:solidFill>
              <a:srgbClr val="ffc000"/>
            </a:solidFill>
            <a:miter/>
          </a:ln>
          <a:effectLst>
            <a:outerShdw dist="74769" dir="938534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Здравствуйте, ребята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Начинаем наш урок. Пусть он всем пойдет вам впрок. Будем слушать, отвечать. Работать с текстом и писат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Ребята, я вам желаю сегодня на уроке удачи, успеха, победы в труд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А что пожелаете вы друг другу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71400" y="-324000"/>
            <a:ext cx="7221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191966"/>
                </a:solidFill>
                <a:latin typeface="Times New Roman"/>
                <a:ea typeface="Times New Roman"/>
              </a:rPr>
              <a:t>Вопрос 1</a:t>
            </a: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928800" y="1071360"/>
            <a:ext cx="7207200" cy="54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191966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191966"/>
                </a:solidFill>
                <a:latin typeface="Times New Roman"/>
                <a:ea typeface="Times New Roman"/>
              </a:rPr>
              <a:t>Почему в Новосибирске зима холоднее, чем в Москве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5" name="Picture 2" descr="C:\Users\Мария\Downloads\img15.jpg"/>
          <p:cNvPicPr/>
          <p:nvPr/>
        </p:nvPicPr>
        <p:blipFill>
          <a:blip r:embed="rId1"/>
          <a:srcRect l="2972" t="19018" r="4846" b="3013"/>
          <a:stretch/>
        </p:blipFill>
        <p:spPr>
          <a:xfrm>
            <a:off x="1214280" y="2357280"/>
            <a:ext cx="664380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71400" y="-214560"/>
            <a:ext cx="671508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Вопрос 2 </a:t>
            </a: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000080" y="928800"/>
            <a:ext cx="7135920" cy="56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Почему на побережье Атлантического океана в Южной Африке находится пустыня Намиб, в Южной Америке на западном побережье – пустыня Атакама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8" name="Picture 4" descr="C:\Users\Мария\Downloads\istockphoto-1140785524-170667a.jpg"/>
          <p:cNvPicPr/>
          <p:nvPr/>
        </p:nvPicPr>
        <p:blipFill>
          <a:blip r:embed="rId1"/>
          <a:stretch/>
        </p:blipFill>
        <p:spPr>
          <a:xfrm>
            <a:off x="1928880" y="3571920"/>
            <a:ext cx="53578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86920" y="-360"/>
            <a:ext cx="7000920" cy="24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2400"/>
            </a:br>
            <a:r>
              <a:rPr b="1" lang="ru-RU" sz="44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Вопрос  3</a:t>
            </a:r>
            <a:br>
              <a:rPr sz="2400"/>
            </a:br>
            <a:r>
              <a:rPr b="1" lang="ru-RU" sz="28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Два российских города Пермь и Нижний Тагил находятся практически  на одной широте, а  количество осадков разное. В чем причина?</a:t>
            </a:r>
            <a:br>
              <a:rPr sz="2800"/>
            </a:br>
            <a:endParaRPr b="1" lang="en-US" sz="2800" spc="-1" strike="noStrike">
              <a:solidFill>
                <a:srgbClr val="f8f8f8"/>
              </a:solidFill>
              <a:latin typeface="Calibri"/>
            </a:endParaRPr>
          </a:p>
        </p:txBody>
      </p:sp>
      <p:pic>
        <p:nvPicPr>
          <p:cNvPr id="190" name="Picture 2" descr="C:\Users\Мария\Downloads\img15.jpg"/>
          <p:cNvPicPr/>
          <p:nvPr/>
        </p:nvPicPr>
        <p:blipFill>
          <a:blip r:embed="rId1"/>
          <a:srcRect l="2972" t="19018" r="4846" b="3013"/>
          <a:stretch/>
        </p:blipFill>
        <p:spPr>
          <a:xfrm>
            <a:off x="1214280" y="2428920"/>
            <a:ext cx="664380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71400" y="-324000"/>
            <a:ext cx="7221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191966"/>
                </a:solidFill>
                <a:latin typeface="Calibri"/>
              </a:rPr>
              <a:t>Вопрос 4</a:t>
            </a: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971640" y="1023840"/>
            <a:ext cx="35272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Два города Ла-Пас и Бразилиа находятся практически  на одной широте, а  количество осадков и температура разное. В чем причина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608000" y="1071360"/>
            <a:ext cx="3527640" cy="54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4" name="Picture 2" descr="C:\Users\Мария\Downloads\img16.jpg"/>
          <p:cNvPicPr/>
          <p:nvPr/>
        </p:nvPicPr>
        <p:blipFill>
          <a:blip r:embed="rId1"/>
          <a:srcRect l="3126" t="0" r="42969" b="0"/>
          <a:stretch/>
        </p:blipFill>
        <p:spPr>
          <a:xfrm>
            <a:off x="4714920" y="1125360"/>
            <a:ext cx="357192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71400" y="-324000"/>
            <a:ext cx="7221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191966"/>
                </a:solidFill>
                <a:latin typeface="Calibri"/>
              </a:rPr>
              <a:t>Вопрос 5</a:t>
            </a: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928800" y="1071360"/>
            <a:ext cx="7207200" cy="54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191966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191966"/>
                </a:solidFill>
                <a:latin typeface="Times New Roman"/>
                <a:ea typeface="Times New Roman"/>
              </a:rPr>
              <a:t>Почему в Астрахани и Архангельске разные температуры  в январе и июле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7" name="Рисунок 7" descr="C:\Users\Мария\Downloads\hello_html_11bfd8d5.jpg"/>
          <p:cNvPicPr/>
          <p:nvPr/>
        </p:nvPicPr>
        <p:blipFill>
          <a:blip r:embed="rId1"/>
          <a:srcRect l="6087" t="11338" r="4124" b="21077"/>
          <a:stretch/>
        </p:blipFill>
        <p:spPr>
          <a:xfrm>
            <a:off x="1285920" y="2143080"/>
            <a:ext cx="6786360" cy="4429080"/>
          </a:xfrm>
          <a:prstGeom prst="rect">
            <a:avLst/>
          </a:prstGeom>
          <a:ln w="0">
            <a:noFill/>
          </a:ln>
        </p:spPr>
      </p:pic>
      <p:sp>
        <p:nvSpPr>
          <p:cNvPr id="198" name="TextBox 8"/>
          <p:cNvSpPr/>
          <p:nvPr/>
        </p:nvSpPr>
        <p:spPr>
          <a:xfrm>
            <a:off x="2935440" y="3429000"/>
            <a:ext cx="15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рхангельс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Box 9"/>
          <p:cNvSpPr/>
          <p:nvPr/>
        </p:nvSpPr>
        <p:spPr>
          <a:xfrm>
            <a:off x="1643040" y="4572000"/>
            <a:ext cx="16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страха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Блок-схема: узел 10"/>
          <p:cNvSpPr/>
          <p:nvPr/>
        </p:nvSpPr>
        <p:spPr>
          <a:xfrm>
            <a:off x="2786040" y="3357720"/>
            <a:ext cx="285840" cy="2142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Блок-схема: узел 11"/>
          <p:cNvSpPr/>
          <p:nvPr/>
        </p:nvSpPr>
        <p:spPr>
          <a:xfrm>
            <a:off x="1785960" y="5000760"/>
            <a:ext cx="285840" cy="2142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571400" y="-324000"/>
            <a:ext cx="7221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84360" y="1071360"/>
            <a:ext cx="7704000" cy="54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191966"/>
                </a:solidFill>
                <a:latin typeface="Calibri"/>
              </a:rPr>
              <a:t>А. Урок полезен, все понятно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191966"/>
                </a:solidFill>
                <a:latin typeface="Calibri"/>
              </a:rPr>
              <a:t>В. Лишь кое-что чуть-чуть не ясно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191966"/>
                </a:solidFill>
                <a:latin typeface="Calibri"/>
              </a:rPr>
              <a:t>С. Ещё придётся потруди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191966"/>
                </a:solidFill>
                <a:latin typeface="Calibri"/>
              </a:rPr>
              <a:t>D</a:t>
            </a:r>
            <a:r>
              <a:rPr b="0" lang="ru-RU" sz="4000" spc="-1" strike="noStrike">
                <a:solidFill>
                  <a:srgbClr val="191966"/>
                </a:solidFill>
                <a:latin typeface="Calibri"/>
              </a:rPr>
              <a:t>. Да, трудно всё-таки учиться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1" descr=""/>
          <p:cNvPicPr/>
          <p:nvPr/>
        </p:nvPicPr>
        <p:blipFill>
          <a:blip r:embed="rId2"/>
          <a:stretch/>
        </p:blipFill>
        <p:spPr>
          <a:xfrm>
            <a:off x="2428920" y="2786040"/>
            <a:ext cx="3816360" cy="388944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2"/>
          <p:cNvSpPr/>
          <p:nvPr/>
        </p:nvSpPr>
        <p:spPr>
          <a:xfrm>
            <a:off x="1224000" y="1052640"/>
            <a:ext cx="6916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16165d"/>
                </a:solidFill>
                <a:latin typeface="Times New Roman"/>
              </a:rPr>
              <a:t>Молодцы ребята! Спасибо за урок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900000" y="888840"/>
            <a:ext cx="741708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19280" y="-360"/>
            <a:ext cx="652608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Интересные факты </a:t>
            </a: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928800" y="907920"/>
            <a:ext cx="7315200" cy="565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Почти 2500 лет назад в греческих городах-государствах на всеобщее обозрение выставляли парапегамы, в которых описывались климатические условия прошлых лет.     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Во 2 веке до н.э. в Афинах была построена башня Ветров,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сохранившаяся до сих пор. На каждой из её       8 граней есть барельеф, описывающий тип климатических условий, связанных с ветром того направления, куда обращена грань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Еще в эпоху Великих географических открытий узнали, что на одних и тех же широтах климат может быть разным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2" name="Picture 3" descr="C:\Users\Мария\Downloads\istoriya_zarozhdeniya_klimatologii_big.jpg"/>
          <p:cNvPicPr/>
          <p:nvPr/>
        </p:nvPicPr>
        <p:blipFill>
          <a:blip r:embed="rId1"/>
          <a:stretch/>
        </p:blipFill>
        <p:spPr>
          <a:xfrm>
            <a:off x="1332000" y="4917960"/>
            <a:ext cx="2448000" cy="16322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"/>
          <p:cNvPicPr/>
          <p:nvPr/>
        </p:nvPicPr>
        <p:blipFill>
          <a:blip r:embed="rId2"/>
          <a:stretch/>
        </p:blipFill>
        <p:spPr>
          <a:xfrm>
            <a:off x="4572000" y="4888080"/>
            <a:ext cx="2736720" cy="16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1"/>
          <p:cNvGrpSpPr/>
          <p:nvPr/>
        </p:nvGrpSpPr>
        <p:grpSpPr>
          <a:xfrm>
            <a:off x="590400" y="1255680"/>
            <a:ext cx="3881520" cy="1558800"/>
            <a:chOff x="590400" y="1255680"/>
            <a:chExt cx="3881520" cy="1558800"/>
          </a:xfrm>
        </p:grpSpPr>
        <p:pic>
          <p:nvPicPr>
            <p:cNvPr id="145" name="Picture 2" descr=""/>
            <p:cNvPicPr/>
            <p:nvPr/>
          </p:nvPicPr>
          <p:blipFill>
            <a:blip r:embed="rId1"/>
            <a:stretch/>
          </p:blipFill>
          <p:spPr>
            <a:xfrm>
              <a:off x="590400" y="1255680"/>
              <a:ext cx="3881520" cy="15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Text Box 3"/>
            <p:cNvSpPr/>
            <p:nvPr/>
          </p:nvSpPr>
          <p:spPr>
            <a:xfrm>
              <a:off x="590400" y="1255680"/>
              <a:ext cx="3881520" cy="155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Text Box 4"/>
          <p:cNvSpPr/>
          <p:nvPr/>
        </p:nvSpPr>
        <p:spPr>
          <a:xfrm>
            <a:off x="582480" y="1008000"/>
            <a:ext cx="3881520" cy="49420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cap="sq" w="9360">
            <a:solidFill>
              <a:srgbClr val="ffc000"/>
            </a:solidFill>
            <a:miter/>
          </a:ln>
          <a:effectLst>
            <a:outerShdw dist="74769" dir="938534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300dc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16165d"/>
                </a:solidFill>
                <a:latin typeface="Times New Roman"/>
              </a:rPr>
              <a:t>«Причины, влияющие на климат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71760" y="40680"/>
            <a:ext cx="7115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85880" y="785520"/>
            <a:ext cx="3711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16165d"/>
                </a:solidFill>
                <a:uFillTx/>
                <a:latin typeface="Times New Roman"/>
                <a:ea typeface="Times New Roman"/>
              </a:rPr>
              <a:t>Полуостров Калифорния</a:t>
            </a:r>
            <a:r>
              <a:rPr b="1" lang="ru-RU" sz="24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45080" y="785520"/>
            <a:ext cx="371304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 u="sng">
                <a:solidFill>
                  <a:srgbClr val="16165d"/>
                </a:solidFill>
                <a:uFillTx/>
                <a:latin typeface="Times New Roman"/>
                <a:ea typeface="Times New Roman"/>
              </a:rPr>
              <a:t>Полуостров Флорида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1" name="Picture 2" descr="C:\Users\Мария\Downloads\960.jpg"/>
          <p:cNvPicPr/>
          <p:nvPr/>
        </p:nvPicPr>
        <p:blipFill>
          <a:blip r:embed="rId1"/>
          <a:stretch/>
        </p:blipFill>
        <p:spPr>
          <a:xfrm>
            <a:off x="785880" y="1428840"/>
            <a:ext cx="3711600" cy="24667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C:\Users\Мария\Downloads\07cd92fd8f.jpg"/>
          <p:cNvPicPr/>
          <p:nvPr/>
        </p:nvPicPr>
        <p:blipFill>
          <a:blip r:embed="rId2"/>
          <a:stretch/>
        </p:blipFill>
        <p:spPr>
          <a:xfrm>
            <a:off x="785880" y="4071960"/>
            <a:ext cx="3743280" cy="2340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C:\Users\Мария\Downloads\Coast_USA_Miami_Florida_Palms_Shrubs_527450_3840x2400.jpg"/>
          <p:cNvPicPr/>
          <p:nvPr/>
        </p:nvPicPr>
        <p:blipFill>
          <a:blip r:embed="rId3"/>
          <a:stretch/>
        </p:blipFill>
        <p:spPr>
          <a:xfrm>
            <a:off x="4572000" y="1428840"/>
            <a:ext cx="3713040" cy="23209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C:\Users\Мария\Downloads\USA_Parks_Coast_Bahia_Honda_State_Park_Florida_527988_1280x853.jpg"/>
          <p:cNvPicPr/>
          <p:nvPr/>
        </p:nvPicPr>
        <p:blipFill>
          <a:blip r:embed="rId4"/>
          <a:stretch/>
        </p:blipFill>
        <p:spPr>
          <a:xfrm>
            <a:off x="4643280" y="4071960"/>
            <a:ext cx="3451320" cy="23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71400" y="-285840"/>
            <a:ext cx="7000920" cy="12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Черапунджи</a:t>
            </a: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pic>
        <p:nvPicPr>
          <p:cNvPr id="156" name="Picture 2" descr="C:\Users\user\Desktop\1402235030_12.jpg"/>
          <p:cNvPicPr/>
          <p:nvPr/>
        </p:nvPicPr>
        <p:blipFill>
          <a:blip r:embed="rId1"/>
          <a:stretch/>
        </p:blipFill>
        <p:spPr>
          <a:xfrm>
            <a:off x="928800" y="1000080"/>
            <a:ext cx="3682800" cy="24624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C:\Users\user\Desktop\02.jpg.CROP.article920-large.jpg"/>
          <p:cNvPicPr/>
          <p:nvPr/>
        </p:nvPicPr>
        <p:blipFill>
          <a:blip r:embed="rId2"/>
          <a:stretch/>
        </p:blipFill>
        <p:spPr>
          <a:xfrm>
            <a:off x="4714920" y="1000080"/>
            <a:ext cx="3467160" cy="2428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C:\Users\user\Desktop\178898_4bab4c2c59bcd0cc0cdd703f59e2fbfb_800.jpg"/>
          <p:cNvPicPr/>
          <p:nvPr/>
        </p:nvPicPr>
        <p:blipFill>
          <a:blip r:embed="rId3"/>
          <a:stretch/>
        </p:blipFill>
        <p:spPr>
          <a:xfrm>
            <a:off x="928800" y="3714840"/>
            <a:ext cx="3643200" cy="2647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C:\Users\user\Desktop\original.jpg"/>
          <p:cNvPicPr/>
          <p:nvPr/>
        </p:nvPicPr>
        <p:blipFill>
          <a:blip r:embed="rId4"/>
          <a:stretch/>
        </p:blipFill>
        <p:spPr>
          <a:xfrm>
            <a:off x="4714920" y="3714840"/>
            <a:ext cx="3591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71400" y="-324000"/>
            <a:ext cx="7221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Заполните схему</a:t>
            </a: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116000" y="980640"/>
            <a:ext cx="72072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Причины, влияющие на климат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62" name="Прямая со стрелкой 6"/>
          <p:cNvCxnSpPr/>
          <p:nvPr/>
        </p:nvCxnSpPr>
        <p:spPr>
          <a:xfrm flipH="1">
            <a:off x="1546920" y="1571760"/>
            <a:ext cx="810360" cy="11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3" name="Прямая со стрелкой 8"/>
          <p:cNvCxnSpPr/>
          <p:nvPr/>
        </p:nvCxnSpPr>
        <p:spPr>
          <a:xfrm>
            <a:off x="3058920" y="1571760"/>
            <a:ext cx="1080" cy="11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4" name="Прямая со стрелкой 10"/>
          <p:cNvCxnSpPr/>
          <p:nvPr/>
        </p:nvCxnSpPr>
        <p:spPr>
          <a:xfrm>
            <a:off x="4284360" y="1535040"/>
            <a:ext cx="1080" cy="131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5" name="Прямая со стрелкой 12"/>
          <p:cNvCxnSpPr/>
          <p:nvPr/>
        </p:nvCxnSpPr>
        <p:spPr>
          <a:xfrm>
            <a:off x="5436720" y="1555920"/>
            <a:ext cx="1080" cy="128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6" name="Прямая со стрелкой 14"/>
          <p:cNvCxnSpPr/>
          <p:nvPr/>
        </p:nvCxnSpPr>
        <p:spPr>
          <a:xfrm>
            <a:off x="6587640" y="1487520"/>
            <a:ext cx="505800" cy="127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71400" y="-324000"/>
            <a:ext cx="7221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Заполните схему</a:t>
            </a: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116000" y="980640"/>
            <a:ext cx="72072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Причины, влияющие на климат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69" name="Прямая со стрелкой 6"/>
          <p:cNvCxnSpPr/>
          <p:nvPr/>
        </p:nvCxnSpPr>
        <p:spPr>
          <a:xfrm flipH="1">
            <a:off x="1546920" y="1571760"/>
            <a:ext cx="810360" cy="11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0" name="Прямая со стрелкой 8"/>
          <p:cNvCxnSpPr/>
          <p:nvPr/>
        </p:nvCxnSpPr>
        <p:spPr>
          <a:xfrm>
            <a:off x="3058920" y="1571760"/>
            <a:ext cx="1080" cy="11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1" name="Прямая со стрелкой 10"/>
          <p:cNvCxnSpPr/>
          <p:nvPr/>
        </p:nvCxnSpPr>
        <p:spPr>
          <a:xfrm>
            <a:off x="4284360" y="1535040"/>
            <a:ext cx="1080" cy="131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2" name="Прямая со стрелкой 12"/>
          <p:cNvCxnSpPr/>
          <p:nvPr/>
        </p:nvCxnSpPr>
        <p:spPr>
          <a:xfrm>
            <a:off x="5436720" y="1555920"/>
            <a:ext cx="1080" cy="1289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3" name="Прямая со стрелкой 14"/>
          <p:cNvCxnSpPr/>
          <p:nvPr/>
        </p:nvCxnSpPr>
        <p:spPr>
          <a:xfrm>
            <a:off x="6587640" y="1487520"/>
            <a:ext cx="505800" cy="127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74" name="TextBox 6"/>
          <p:cNvSpPr/>
          <p:nvPr/>
        </p:nvSpPr>
        <p:spPr>
          <a:xfrm>
            <a:off x="2124000" y="3376440"/>
            <a:ext cx="15112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Зависимос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климата от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близости море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и океанов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и направления ветр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Box 8"/>
          <p:cNvSpPr/>
          <p:nvPr/>
        </p:nvSpPr>
        <p:spPr>
          <a:xfrm>
            <a:off x="900000" y="3024360"/>
            <a:ext cx="1295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Зависимость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климата от географической широт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Box 9"/>
          <p:cNvSpPr/>
          <p:nvPr/>
        </p:nvSpPr>
        <p:spPr>
          <a:xfrm>
            <a:off x="3635280" y="3024360"/>
            <a:ext cx="1513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Зависимость климата от океанических течен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Box 11"/>
          <p:cNvSpPr/>
          <p:nvPr/>
        </p:nvSpPr>
        <p:spPr>
          <a:xfrm>
            <a:off x="5076720" y="3024360"/>
            <a:ext cx="129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Зависимость климата от рельеф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Box 12"/>
          <p:cNvSpPr/>
          <p:nvPr/>
        </p:nvSpPr>
        <p:spPr>
          <a:xfrm>
            <a:off x="6588000" y="3024360"/>
            <a:ext cx="1368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Зависимость климата от высоты рельефа над уровнем мор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71400" y="-324000"/>
            <a:ext cx="7221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Домашнее задание</a:t>
            </a:r>
            <a:endParaRPr b="1" lang="en-US" sz="4400" spc="-1" strike="noStrike">
              <a:solidFill>
                <a:srgbClr val="f8f8f8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928800" y="1000080"/>
            <a:ext cx="7207200" cy="35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1)  Параграф 31, заполнить таблицу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071720" y="1785960"/>
          <a:ext cx="7072200" cy="2786040"/>
        </p:xfrm>
        <a:graphic>
          <a:graphicData uri="http://schemas.openxmlformats.org/drawingml/2006/table">
            <a:tbl>
              <a:tblPr/>
              <a:tblGrid>
                <a:gridCol w="1627200"/>
                <a:gridCol w="1625400"/>
                <a:gridCol w="2050920"/>
                <a:gridCol w="1768680"/>
              </a:tblGrid>
              <a:tr h="775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16165d"/>
                          </a:solidFill>
                          <a:latin typeface="Calibri"/>
                        </a:rPr>
                        <a:t>Сравниваемые черт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6165d"/>
                          </a:solidFill>
                          <a:latin typeface="Calibri"/>
                        </a:rPr>
                        <a:t>Морской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6165d"/>
                          </a:solidFill>
                          <a:latin typeface="Calibri"/>
                        </a:rPr>
                        <a:t>клима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6165d"/>
                          </a:solidFill>
                          <a:latin typeface="Calibri"/>
                        </a:rPr>
                        <a:t>Континентальный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6165d"/>
                          </a:solidFill>
                          <a:latin typeface="Calibri"/>
                        </a:rPr>
                        <a:t>клима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6165d"/>
                          </a:solidFill>
                          <a:latin typeface="Calibri"/>
                        </a:rPr>
                        <a:t>Муссонный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6165d"/>
                          </a:solidFill>
                          <a:latin typeface="Calibri"/>
                        </a:rPr>
                        <a:t>клима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5d"/>
                          </a:solidFill>
                          <a:latin typeface="Calibri"/>
                        </a:rPr>
                        <a:t>Лет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5d"/>
                          </a:solidFill>
                          <a:latin typeface="Calibri"/>
                        </a:rPr>
                        <a:t>Зи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5d"/>
                          </a:solidFill>
                          <a:latin typeface="Calibri"/>
                        </a:rPr>
                        <a:t>Амплитуда температур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16165d"/>
                          </a:solidFill>
                          <a:latin typeface="Calibri"/>
                        </a:rPr>
                        <a:t>Количество осадк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182" name="TextBox 8"/>
          <p:cNvSpPr/>
          <p:nvPr/>
        </p:nvSpPr>
        <p:spPr>
          <a:xfrm>
            <a:off x="857160" y="4786200"/>
            <a:ext cx="7170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2) </a:t>
            </a:r>
            <a:r>
              <a:rPr b="0" lang="ru-RU" sz="28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Составить кроссенс по теме «Атмосфера»  </a:t>
            </a:r>
            <a:r>
              <a:rPr b="1" lang="ru-RU" sz="2800" spc="-1" strike="noStrike">
                <a:solidFill>
                  <a:srgbClr val="16165d"/>
                </a:solidFill>
                <a:latin typeface="Times New Roman"/>
                <a:ea typeface="Times New Roman"/>
              </a:rPr>
              <a:t>(по желанию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1T01:51:55Z</dcterms:created>
  <dc:creator>Comp</dc:creator>
  <dc:description/>
  <dc:language>en-US</dc:language>
  <cp:lastModifiedBy>HomePC</cp:lastModifiedBy>
  <dcterms:modified xsi:type="dcterms:W3CDTF">2024-01-06T19:18:34Z</dcterms:modified>
  <cp:revision>10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e3d0000000000010243100207f6000400038000</vt:lpwstr>
  </property>
</Properties>
</file>