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132-7BED-4CFE-8937-145A9A9A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C95B-E240-4408-B204-EBFDBE99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ECF-6477-426A-A13F-B5B3D3777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A72-6280-4976-B724-6730D4FB9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6C3FD-4F52-4D9C-AF81-1300B492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9188-F292-4BEA-85CE-CBF0B9EE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4D934-3DF1-4C0F-89C2-143556DB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BAC9-84C3-4BCF-8650-611576CF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E4B5-1CE9-40F5-BE38-4D985383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4B6-CC5C-4A87-AC43-E010F131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ABCE-26B9-406C-8A28-BA44E726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A7F8-8FAD-4589-B2CC-29B6A7BA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A886-E58A-4B4C-B592-4F41A618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A7F9-E8B5-416F-A0EA-17267DE4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1214-8EC8-496D-BE67-DE22D453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C9632-5927-4C31-9196-A84E8E3D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D7C8-F384-4C3F-81A7-7BC593FF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1DE7-ED04-4BD5-9329-E015E9B1A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B033-6FC1-4F46-B99E-6F7465F0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9FEF-9D1C-4B6A-8CC1-926C2B30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A744-2170-4F08-828B-96A1DFEB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136-E45A-488F-A9BD-AD9897CB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2F91-A527-4BD1-86EC-A23DBB91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DB0-D521-45F9-A879-F7CE878C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79F6-564B-4BAF-8921-38ACE69B2E70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2D8C-B1CF-4B7B-A5FF-E502C292201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ок географии для 6 класса.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038480" y="4038480"/>
            <a:ext cx="4648320" cy="20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читель географии МКОУ «Джаванкентская СОШ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м.М.Х.Рамазанова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Устье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пределите по карте, в какие моря впадают реки Обь и Енисей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При впадении в моря эти реки образую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губу или эстуарий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5" descr="эстуарий Ла-Плата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449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РЕЧНАЯ СИСТЕМ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2" name="Picture 4" descr="реки 003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Проверим себ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усло реки-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чная долина-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Исток-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Устье-4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чная система-5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Бассейн реки-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Водораздел-7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Дельта-8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Занимательная географи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тгадай реку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Я- сибирская река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Широка и глубок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Букву «е» на «у» смени-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Стану спутником Земли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7" name="Picture 8" descr="река Лена"/>
          <p:cNvPicPr/>
          <p:nvPr/>
        </p:nvPicPr>
        <p:blipFill>
          <a:blip r:embed="rId1"/>
          <a:stretch/>
        </p:blipFill>
        <p:spPr>
          <a:xfrm>
            <a:off x="4753080" y="1600200"/>
            <a:ext cx="3827520" cy="2185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" descr="дельта Лены"/>
          <p:cNvPicPr/>
          <p:nvPr/>
        </p:nvPicPr>
        <p:blipFill>
          <a:blip r:embed="rId2"/>
          <a:stretch/>
        </p:blipFill>
        <p:spPr>
          <a:xfrm>
            <a:off x="4724280" y="3886200"/>
            <a:ext cx="3886200" cy="266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Реки Сибир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Ты меня, наверно, знае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Я сказки Пушкина геро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Но если «л» на «н»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меняешь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Сибирской стану я рекой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Picture 8" descr="Ионеси большая вода Енисей"/>
          <p:cNvPicPr/>
          <p:nvPr/>
        </p:nvPicPr>
        <p:blipFill>
          <a:blip r:embed="rId1"/>
          <a:stretch/>
        </p:blipFill>
        <p:spPr>
          <a:xfrm>
            <a:off x="457200" y="1447920"/>
            <a:ext cx="3886200" cy="2286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Енисей- самая многоводная"/>
          <p:cNvPicPr/>
          <p:nvPr/>
        </p:nvPicPr>
        <p:blipFill>
          <a:blip r:embed="rId2"/>
          <a:stretch/>
        </p:blipFill>
        <p:spPr>
          <a:xfrm>
            <a:off x="457200" y="3733920"/>
            <a:ext cx="3886200" cy="2590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80808"/>
                </a:solidFill>
                <a:latin typeface="Arial"/>
              </a:rPr>
              <a:t>Подписать названия рек на контурной карте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Об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Енисе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Лен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Аму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До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         </a:t>
            </a:r>
            <a:r>
              <a:rPr b="0" lang="ru-RU" sz="2800" spc="-1" strike="noStrike">
                <a:solidFill>
                  <a:srgbClr val="080808"/>
                </a:solidFill>
                <a:latin typeface="Verdana"/>
              </a:rPr>
              <a:t>Днеп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5" descr="19332"/>
          <p:cNvPicPr/>
          <p:nvPr/>
        </p:nvPicPr>
        <p:blipFill>
          <a:blip r:embed="rId1"/>
          <a:stretch/>
        </p:blipFill>
        <p:spPr>
          <a:xfrm>
            <a:off x="457200" y="1752480"/>
            <a:ext cx="426708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Прочитать 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  <a:ea typeface="Arial"/>
              </a:rPr>
              <a:t>§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30 (пункты 1,2)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Выучить все определения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На к/к обозначить бассейн реки Волга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притоки Волги: реки Ока, Ка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Для тех, кто за урок получил «5»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  <a:ea typeface="Arial"/>
              </a:rPr>
              <a:t>Приготовить стихотворение о реках, дополнительное сообщение о водопадах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Отгадай загад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« Не конь, а бежи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            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Не лес, а шумит.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« Течёт, течёт – не вытече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Бежит, бежит – не выбежит»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80808"/>
                </a:solidFill>
                <a:latin typeface="Arial"/>
              </a:rPr>
              <a:t>Р е к и.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4000" spc="-1" strike="noStrike">
                <a:solidFill>
                  <a:srgbClr val="080808"/>
                </a:solidFill>
                <a:latin typeface="Verdana"/>
              </a:rPr>
              <a:t>Цели урока: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СФОРМИРОВАТЬ  ПРЕДСТАВЛЕНИЕ -О РЕКЕ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</a:t>
            </a:r>
            <a:r>
              <a:rPr b="0" lang="en-US" sz="32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КИ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 РЕЧНОЙ СИСТЕМ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ЧАСТЯХ РЕЧНОЙ ДОЛИНЫ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-ПОЗНАКОМИТЬ С КРУПНЕЙШИ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    </a:t>
            </a:r>
            <a:r>
              <a:rPr b="0" lang="ru-RU" sz="3200" spc="-1" strike="noStrike">
                <a:solidFill>
                  <a:srgbClr val="080808"/>
                </a:solidFill>
                <a:latin typeface="Verdana"/>
              </a:rPr>
              <a:t>РЕКАМИ РОССИ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ЧТО ТАКОЕ РЕКА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8" descr="0f506ac6743ccfd9bee179d9c35fd4a4"/>
          <p:cNvPicPr/>
          <p:nvPr/>
        </p:nvPicPr>
        <p:blipFill>
          <a:blip r:embed="rId1"/>
          <a:stretch/>
        </p:blipFill>
        <p:spPr>
          <a:xfrm>
            <a:off x="533520" y="1219320"/>
            <a:ext cx="4038480" cy="2566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73"/>
          <p:cNvPicPr/>
          <p:nvPr/>
        </p:nvPicPr>
        <p:blipFill>
          <a:blip r:embed="rId2"/>
          <a:stretch/>
        </p:blipFill>
        <p:spPr>
          <a:xfrm>
            <a:off x="5051520" y="1219320"/>
            <a:ext cx="3787560" cy="2566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0_116b3_45e30cef_XL"/>
          <p:cNvPicPr/>
          <p:nvPr/>
        </p:nvPicPr>
        <p:blipFill>
          <a:blip r:embed="rId3"/>
          <a:stretch/>
        </p:blipFill>
        <p:spPr>
          <a:xfrm>
            <a:off x="533520" y="3938760"/>
            <a:ext cx="4038480" cy="2538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4" descr="истк Лены"/>
          <p:cNvPicPr/>
          <p:nvPr/>
        </p:nvPicPr>
        <p:blipFill>
          <a:blip r:embed="rId4"/>
          <a:stretch/>
        </p:blipFill>
        <p:spPr>
          <a:xfrm>
            <a:off x="4952880" y="4038480"/>
            <a:ext cx="396252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ОПРЕДЕЛИТЕ, КАКАЯ РЕКА БЕРЕТ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НАЧАЛО В ТОЧКЕ С КООРДИНАТАМИ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</a:rPr>
              <a:t>57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º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С.Ш.33</a:t>
            </a: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Arial"/>
              </a:rPr>
              <a:t>º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.Д.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ВОТ ОТСЮДА,ИМЕННО     ОТСЮД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ИЗ ГЛУБИН ЛЕСНОГО РОДНИК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ВЫБЕГАЕТ ГОЛУБОЕ ЧУДО-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0808"/>
                </a:solidFill>
                <a:latin typeface="Verdana"/>
              </a:rPr>
              <a:t>РУССКАЯ ВЕЛИКАЯ РЕК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16" descr="Volga"/>
          <p:cNvPicPr/>
          <p:nvPr/>
        </p:nvPicPr>
        <p:blipFill>
          <a:blip r:embed="rId1"/>
          <a:stretch/>
        </p:blipFill>
        <p:spPr>
          <a:xfrm>
            <a:off x="4419720" y="1801800"/>
            <a:ext cx="4724280" cy="41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ИСТОК-НАЧАЛО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71" name="Organization Chart 141"/>
          <p:cNvGrpSpPr/>
          <p:nvPr/>
        </p:nvGrpSpPr>
        <p:grpSpPr>
          <a:xfrm>
            <a:off x="457200" y="1614600"/>
            <a:ext cx="8228880" cy="4498920"/>
            <a:chOff x="457200" y="1614600"/>
            <a:chExt cx="8228880" cy="4498920"/>
          </a:xfrm>
        </p:grpSpPr>
        <p:cxnSp>
          <p:nvCxnSpPr>
            <p:cNvPr id="172" name="_s1028"/>
            <p:cNvCxnSpPr>
              <a:stCxn id="173" idx="0"/>
              <a:endCxn id="174" idx="2"/>
            </p:cNvCxnSpPr>
            <p:nvPr/>
          </p:nvCxnSpPr>
          <p:spPr>
            <a:xfrm flipV="1" rot="16200000">
              <a:off x="5561280" y="2423160"/>
              <a:ext cx="900360" cy="2880720"/>
            </a:xfrm>
            <a:prstGeom prst="bentConnector3">
              <a:avLst>
                <a:gd name="adj1" fmla="val 12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5" name="_s1029"/>
            <p:cNvCxnSpPr>
              <a:stCxn id="176" idx="0"/>
              <a:endCxn id="174" idx="2"/>
            </p:cNvCxnSpPr>
            <p:nvPr/>
          </p:nvCxnSpPr>
          <p:spPr>
            <a:xfrm flipV="1">
              <a:off x="4571280" y="3413520"/>
              <a:ext cx="3240" cy="900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77" name="_s1030"/>
            <p:cNvCxnSpPr>
              <a:stCxn id="178" idx="0"/>
              <a:endCxn id="174" idx="2"/>
            </p:cNvCxnSpPr>
            <p:nvPr/>
          </p:nvCxnSpPr>
          <p:spPr>
            <a:xfrm flipH="1" flipV="1" rot="5400000">
              <a:off x="2681280" y="2423520"/>
              <a:ext cx="900360" cy="2880720"/>
            </a:xfrm>
            <a:prstGeom prst="bentConnector3">
              <a:avLst>
                <a:gd name="adj1" fmla="val 1272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74" name="_s1031"/>
            <p:cNvSpPr/>
            <p:nvPr/>
          </p:nvSpPr>
          <p:spPr>
            <a:xfrm>
              <a:off x="3337200" y="161460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ИСТОК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8" name="_s1032"/>
            <p:cNvSpPr/>
            <p:nvPr/>
          </p:nvSpPr>
          <p:spPr>
            <a:xfrm>
              <a:off x="45720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ОЗЕРО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АНГАРА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6" name="_s1033"/>
            <p:cNvSpPr/>
            <p:nvPr/>
          </p:nvSpPr>
          <p:spPr>
            <a:xfrm>
              <a:off x="333720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ЛЕДНИКИ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В ГОРАХ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 ТЕРЕК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3" name="_s1034"/>
            <p:cNvSpPr/>
            <p:nvPr/>
          </p:nvSpPr>
          <p:spPr>
            <a:xfrm>
              <a:off x="6217560" y="4313880"/>
              <a:ext cx="2468520" cy="1799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ПРИ СЛИЯНИИ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 </a:t>
              </a: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ДВУХ РЕК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80808"/>
                  </a:solidFill>
                  <a:latin typeface="Verdana"/>
                </a:rPr>
                <a:t>(ОБЬ)</a:t>
              </a:r>
              <a:endParaRPr b="0" lang="en-US" sz="21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«… — семь тысяч р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Она со всех концов собрала —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Больших и малых — до одной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Что от Валдая до Урал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Избороздили шар земной»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А. Твардовски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(поэма «За далью даль»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волга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СОБИРАЯ ВОДУ ПРИТОКОВ </a:t>
            </a:r>
            <a:br>
              <a:rPr sz="3200"/>
            </a:b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РЕКА СТАНОВИТСЯ ШИРЕ </a:t>
            </a:r>
            <a:br>
              <a:rPr sz="3200"/>
            </a:br>
            <a:r>
              <a:rPr b="0" lang="ru-RU" sz="3200" spc="-1" strike="noStrike">
                <a:solidFill>
                  <a:srgbClr val="080808"/>
                </a:solidFill>
                <a:latin typeface="Arial"/>
              </a:rPr>
              <a:t>И ПОЛНОВОДНЕЕ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3" name="Picture 7" descr="2 мост саратов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00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Волговерховье мости через Волгу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80808"/>
                </a:solidFill>
                <a:latin typeface="Arial"/>
              </a:rPr>
              <a:t>УСТЬЕ РЕК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ак называется место впадения реки в другую реку,  озеро или море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Определите по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Куда впадают реки: Волга, Лена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80808"/>
                </a:solidFill>
                <a:latin typeface="Verdana"/>
              </a:rPr>
              <a:t>При впадении в моря эти реки образуют дельт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Volga-River-Delta-_001"/>
          <p:cNvPicPr/>
          <p:nvPr/>
        </p:nvPicPr>
        <p:blipFill>
          <a:blip r:embed="rId1"/>
          <a:stretch/>
        </p:blipFill>
        <p:spPr>
          <a:xfrm>
            <a:off x="0" y="1143000"/>
            <a:ext cx="472428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umsishka</cp:lastModifiedBy>
  <dcterms:modified xsi:type="dcterms:W3CDTF">2024-01-06T19:36:5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