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088-FC8B-44B5-B114-9E4A017E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C66-DD68-4FEE-A4D0-30DC9593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9589-6B43-49A0-A220-39589159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72C-D5F2-4F3C-BAF3-1D2F6C61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4372-C6DA-432F-91B3-BBF36DA2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A52F-B969-4EFE-BF7F-843CB2D2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3C71-4D29-4531-B34A-3080A372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5EF-D7D1-4D33-AD7B-81F772AA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CAA1-91B6-437F-B541-655ABA60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F1A1-DF53-4925-8A08-4EDCEB07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246-3F7A-4FD9-8D06-B2C0A665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A66-4FCA-4F4E-B650-E70F37D8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88E8-AFC6-4AD1-A57E-F5A672E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D61-7698-4457-81BF-F74BE357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2E8-9789-44FA-A987-8D0D0B8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E77-2FE4-493D-8A10-033EB904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A8DB-AD07-4CA0-86FB-787E3C84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770-1E32-4B8A-AC3D-3FF681BF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F29-802D-43DC-8364-DBD7A0A9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003-753B-4CD8-ACFE-6C078A0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FE1-A0CF-4CA4-8A8C-D6BAA50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B12-392C-4B0E-A325-A510C6C0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2B4-7D0E-4C2C-AD0D-A7502604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2B7-A7CD-443F-A6B6-B6E1D68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A93-0BC0-4384-9C2B-66A32E2086B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6A15-6959-42DC-99F8-8AF156562A4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ок географии для 6 класса.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38480" y="4038480"/>
            <a:ext cx="46483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географии МКОУ «Джаванкентская СО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.М.Х.Рамазанов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Устье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пределите по карте, в какие моря впадают реки Обь и Енис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При впадении в моря эти реки образую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губу или эстуар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эстуарий Ла-Плата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РЕЧНАЯ СИСТЕ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4" descr="реки 003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Проверим себ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усло реки-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чная долина-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Исток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Устье-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чная система-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Бассейн реки-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Водораздел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Дельта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Занимательная географ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тгадай реку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Я- сибирская рек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Широка и глубо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Букву «е» на «у» смени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Стану спутником Зем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8" descr="река Лена"/>
          <p:cNvPicPr/>
          <p:nvPr/>
        </p:nvPicPr>
        <p:blipFill>
          <a:blip r:embed="rId1"/>
          <a:stretch/>
        </p:blipFill>
        <p:spPr>
          <a:xfrm>
            <a:off x="4753080" y="1600200"/>
            <a:ext cx="382752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дельта Лены"/>
          <p:cNvPicPr/>
          <p:nvPr/>
        </p:nvPicPr>
        <p:blipFill>
          <a:blip r:embed="rId2"/>
          <a:stretch/>
        </p:blipFill>
        <p:spPr>
          <a:xfrm>
            <a:off x="4724280" y="388620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Реки Сибир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Ты меня, наверно, знае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Я сказки Пушкина гер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Но если «л» на «н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меняе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ибирской стану я рек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8" descr="Ионеси большая вода Енисей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Енисей- самая многоводная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Подписать названия рек на контурной карт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б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Енис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Ле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Аму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До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Днеп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19332"/>
          <p:cNvPicPr/>
          <p:nvPr/>
        </p:nvPicPr>
        <p:blipFill>
          <a:blip r:embed="rId1"/>
          <a:stretch/>
        </p:blipFill>
        <p:spPr>
          <a:xfrm>
            <a:off x="457200" y="17524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Прочитать 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  <a:ea typeface="Arial"/>
              </a:rPr>
              <a:t>§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30 (пункты 1,2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Выучить все опреде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На к/к обозначить бассейн реки Волг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притоки Волги: реки Ока, Ка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Для тех, кто за урок получил «5»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Приготовить стихотворение о реках, дополнительное сообщение о водопад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« Не конь, а бежи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            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Не лес, а шумит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« Течёт, течёт – не вытеч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Бежит, бежит – не выбежит»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0808"/>
                </a:solidFill>
                <a:latin typeface="Arial"/>
              </a:rPr>
              <a:t>Р е к 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80808"/>
                </a:solidFill>
                <a:latin typeface="Verdana"/>
              </a:rPr>
              <a:t>Цели урока: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СФОРМИРОВАТЬ  ПРЕДСТАВЛЕНИЕ -О РЕК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 РЕЧНОЙ СИСТЕМ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 РЕЧНОЙ ДОЛИН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ПОЗНАКОМИТЬ С КРУПНЕЙШ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КАМИ РОСС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8" descr="0f506ac6743ccfd9bee179d9c35fd4a4"/>
          <p:cNvPicPr/>
          <p:nvPr/>
        </p:nvPicPr>
        <p:blipFill>
          <a:blip r:embed="rId1"/>
          <a:stretch/>
        </p:blipFill>
        <p:spPr>
          <a:xfrm>
            <a:off x="533520" y="1219320"/>
            <a:ext cx="4038480" cy="2566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73"/>
          <p:cNvPicPr/>
          <p:nvPr/>
        </p:nvPicPr>
        <p:blipFill>
          <a:blip r:embed="rId2"/>
          <a:stretch/>
        </p:blipFill>
        <p:spPr>
          <a:xfrm>
            <a:off x="5051520" y="1219320"/>
            <a:ext cx="3787560" cy="2566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0_116b3_45e30cef_XL"/>
          <p:cNvPicPr/>
          <p:nvPr/>
        </p:nvPicPr>
        <p:blipFill>
          <a:blip r:embed="rId3"/>
          <a:stretch/>
        </p:blipFill>
        <p:spPr>
          <a:xfrm>
            <a:off x="533520" y="3938760"/>
            <a:ext cx="403848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истк Лены"/>
          <p:cNvPicPr/>
          <p:nvPr/>
        </p:nvPicPr>
        <p:blipFill>
          <a:blip r:embed="rId4"/>
          <a:stretch/>
        </p:blipFill>
        <p:spPr>
          <a:xfrm>
            <a:off x="4952880" y="403848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ОПРЕДЕЛИТЕ, КАКАЯ РЕКА БЕРЕТ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НАЧАЛО В ТОЧКЕ С КООРДИНАТАМИ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57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º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С.Ш.33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º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.Д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ВОТ ОТСЮДА,ИМЕННО     ОТСЮ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ИЗ ГЛУБИН ЛЕСНОГО РОДНИ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ВЫБЕГАЕТ ГОЛУБОЕ ЧУД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РУССКАЯ ВЕЛИКАЯ РЕ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16" descr="Volga"/>
          <p:cNvPicPr/>
          <p:nvPr/>
        </p:nvPicPr>
        <p:blipFill>
          <a:blip r:embed="rId1"/>
          <a:stretch/>
        </p:blipFill>
        <p:spPr>
          <a:xfrm>
            <a:off x="4419720" y="1801800"/>
            <a:ext cx="4724280" cy="41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ИСТОК-НАЧАЛО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1" name="Organization Chart 141"/>
          <p:cNvGrpSpPr/>
          <p:nvPr/>
        </p:nvGrpSpPr>
        <p:grpSpPr>
          <a:xfrm>
            <a:off x="457200" y="1614600"/>
            <a:ext cx="8228880" cy="4498920"/>
            <a:chOff x="457200" y="1614600"/>
            <a:chExt cx="8228880" cy="4498920"/>
          </a:xfrm>
        </p:grpSpPr>
        <p:cxnSp>
          <p:nvCxnSpPr>
            <p:cNvPr id="172" name="_s1028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561280" y="2423160"/>
              <a:ext cx="900360" cy="2880720"/>
            </a:xfrm>
            <a:prstGeom prst="bentConnector3">
              <a:avLst>
                <a:gd name="adj1" fmla="val 12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1029"/>
            <p:cNvCxnSpPr>
              <a:stCxn id="176" idx="0"/>
              <a:endCxn id="174" idx="2"/>
            </p:cNvCxnSpPr>
            <p:nvPr/>
          </p:nvCxnSpPr>
          <p:spPr>
            <a:xfrm flipV="1">
              <a:off x="4571280" y="3413520"/>
              <a:ext cx="3240" cy="90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103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2681280" y="2423520"/>
              <a:ext cx="900360" cy="2880720"/>
            </a:xfrm>
            <a:prstGeom prst="bentConnector3">
              <a:avLst>
                <a:gd name="adj1" fmla="val 12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1031"/>
            <p:cNvSpPr/>
            <p:nvPr/>
          </p:nvSpPr>
          <p:spPr>
            <a:xfrm>
              <a:off x="3337200" y="161460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ИСТОК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45720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ОЗЕРО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АНГАРА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333720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ЛЕДНИКИ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В ГОРАХ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 ТЕРЕК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_s1034"/>
            <p:cNvSpPr/>
            <p:nvPr/>
          </p:nvSpPr>
          <p:spPr>
            <a:xfrm>
              <a:off x="621756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ПРИ СЛИЯНИИ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ДВУХ РЕК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ОБЬ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«… — семь тысяч р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Она со всех концов собрала —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Больших и малых — до одно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Что от Валдая до Ура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Избороздили шар земной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. Твардов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(поэма «За далью даль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волга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СОБИРАЯ ВОДУ ПРИТОКОВ </a:t>
            </a:r>
            <a:br>
              <a:rPr sz="3200"/>
            </a:b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РЕКА СТАНОВИТСЯ ШИРЕ </a:t>
            </a:r>
            <a:br>
              <a:rPr sz="3200"/>
            </a:b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И ПОЛНОВОДНЕ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7" descr="2 мост саратов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Волговерховье мости через Волгу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УСТЬЕ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к называется место впадения реки в другую реку,  озеро или мор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Определите по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уда впадают реки: Волга, Лен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ри впадении в моря эти реки образуют дель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Volga-River-Delta-_001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msishka</cp:lastModifiedBy>
  <dcterms:modified xsi:type="dcterms:W3CDTF">2024-01-06T19:36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