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8928-26C5-422E-A181-F6402B5F4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45A8-1DE0-428F-9C14-F18D99AB0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A22F-9A75-4A91-84F5-1754B281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AE4-1CC7-4501-A2E1-E7E47B06F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6DBB-3F8A-4BA5-AB26-0E0DE1E0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41FA-91BA-42B2-BCFC-7A4EEA84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E523-353D-43B2-AF36-E236A8B6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F8D7-9E6D-4598-B8E6-E07E68D6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2FC2-803E-40DA-8C11-11F344ED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DE2DB-9437-4AA6-AC88-D12D6F59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C4A8-0999-415D-83ED-2D0663A1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A6E5-035D-4442-8AD2-583E344C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D2A8-012E-44FB-B4DD-4A38AADE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EE9B-CED0-4EE4-8876-CB440338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66F8-34AA-461F-BEBA-314EF989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9260-CF69-4DDD-8EC9-EFC120CE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E8E7-3C5C-4A0B-8C8B-CE732A82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D1E3-F366-4623-91E2-12039664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6B7-E182-4FEB-89CF-B636398B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7ED2-8747-41D8-84EE-F2D66986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1C5-DDF3-40DE-9ED0-69EB8800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D11-9A53-439C-9FA4-3CB0173F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A390-43E6-451A-9D7E-1E6C8A01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2C9D-E16C-47DC-8080-21C10E1A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CE66A-0C83-45C1-BCF7-3CAEDFCF0A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4787-1C3E-472E-85B2-4119970F5B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tinkercad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336666"/>
                </a:solidFill>
                <a:latin typeface="Arial Black"/>
              </a:rPr>
              <a:t>Знакомство с </a:t>
            </a: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Tinkercad</a:t>
            </a:r>
            <a:endParaRPr b="0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i-id=503608167-54-72&amp;n=21"/>
          <p:cNvPicPr/>
          <p:nvPr/>
        </p:nvPicPr>
        <p:blipFill>
          <a:blip r:embed="rId1"/>
          <a:stretch/>
        </p:blipFill>
        <p:spPr>
          <a:xfrm>
            <a:off x="3419640" y="3495600"/>
            <a:ext cx="210168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ращение и размеры фигуры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708360" y="1915920"/>
            <a:ext cx="51847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зогнутая двунаправленная стрелка позволяет повернуть объект в указанной ею плоскостью. Стрелка «вверх» поднимает объект на выбранную вами высоту. Белые точки на углах объекта изменяют его размер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вращение"/>
          <p:cNvPicPr/>
          <p:nvPr/>
        </p:nvPicPr>
        <p:blipFill>
          <a:blip r:embed="rId1"/>
          <a:stretch/>
        </p:blipFill>
        <p:spPr>
          <a:xfrm>
            <a:off x="250920" y="2349360"/>
            <a:ext cx="367344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696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Панель инструментов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03280" y="1699920"/>
            <a:ext cx="5724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Favorites 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десь находятся ваши любимые фигуры, которые отмечаются звездочкой в углу фигуры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mport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гружайте 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 3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дели с ПК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hape Generators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дели, созданные другими людьми, которыми вы можете пользоватьс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elpers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ш помощники в создании модели: линейка и рабочее п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eometric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ные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ометрические фиг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Holes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зрачные цилиндр и к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tters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квы английского алфав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Number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иф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ymbols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личные симв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tras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полнительные симв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рабочии модеил"/>
          <p:cNvPicPr/>
          <p:nvPr/>
        </p:nvPicPr>
        <p:blipFill>
          <a:blip r:embed="rId1"/>
          <a:stretch/>
        </p:blipFill>
        <p:spPr>
          <a:xfrm>
            <a:off x="826920" y="1844640"/>
            <a:ext cx="244188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еняем цвет фигур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439236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жимая на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olor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у нас появляется палитра цветов. Мы можем выбрать любой цвет из предложенных или же создать свой собственный, нажав на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usmom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цвкет"/>
          <p:cNvPicPr/>
          <p:nvPr/>
        </p:nvPicPr>
        <p:blipFill>
          <a:blip r:embed="rId1"/>
          <a:stretch/>
        </p:blipFill>
        <p:spPr>
          <a:xfrm>
            <a:off x="4500720" y="2060640"/>
            <a:ext cx="4278240" cy="36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еняем цвет фигур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905120"/>
            <a:ext cx="41385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 работе с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ustom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ередвигаем кружок на квадратном поле, добиваясь определенной светлости в цвете, а для выбора цвета передвигаем стрелки в полосе цветов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цвет"/>
          <p:cNvPicPr/>
          <p:nvPr/>
        </p:nvPicPr>
        <p:blipFill>
          <a:blip r:embed="rId1"/>
          <a:stretch/>
        </p:blipFill>
        <p:spPr>
          <a:xfrm>
            <a:off x="4643280" y="1989000"/>
            <a:ext cx="420696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еняем цвет у объединенных фигур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1280" y="1905120"/>
            <a:ext cx="39225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 объединении нескольких фигур в одну, они обретают единый цвет. Если же это не нужно, то в палитре цветов нажимаем 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ulticolor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 наши фигуры стали того цвета, что и были до объединени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цвет мульти"/>
          <p:cNvPicPr/>
          <p:nvPr/>
        </p:nvPicPr>
        <p:blipFill>
          <a:blip r:embed="rId1"/>
          <a:stretch/>
        </p:blipFill>
        <p:spPr>
          <a:xfrm>
            <a:off x="4572000" y="1989000"/>
            <a:ext cx="4278240" cy="37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353440" cy="56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есплатный </a:t>
            </a:r>
            <a:r>
              <a:rPr b="0" i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online-редактора Tinkercad</a:t>
            </a:r>
            <a:r>
              <a:rPr b="0" i="1" lang="ru-RU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ользоваться 3D-редактором элементарно. Интерфейс программы интуитивно понятен и дает возможность новичку, не владеющему особыми знаниями в моделировании, освоить редактор и создавать прекрасные модели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i-id=503608167-54-72&amp;n=21"/>
          <p:cNvPicPr/>
          <p:nvPr/>
        </p:nvPicPr>
        <p:blipFill>
          <a:blip r:embed="rId1"/>
          <a:stretch/>
        </p:blipFill>
        <p:spPr>
          <a:xfrm>
            <a:off x="468360" y="333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ход в систему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60560" y="2491920"/>
            <a:ext cx="3771720" cy="26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аходим на сайт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 u="sng">
                <a:solidFill>
                  <a:srgbClr val="99cc00"/>
                </a:solidFill>
                <a:uFillTx/>
                <a:latin typeface="Arial"/>
                <a:hlinkClick r:id="rId1"/>
              </a:rPr>
              <a:t>www.tinkercad.c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ыбираем «Присоединиться к классу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2"/>
          <a:srcRect l="38681" t="21925" r="37539" b="15440"/>
          <a:stretch/>
        </p:blipFill>
        <p:spPr>
          <a:xfrm>
            <a:off x="1258920" y="1996920"/>
            <a:ext cx="266544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Вход в систему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612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Указываем код класса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Нажимаем ПЕРЕЙТИ В КЛАС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Рисунок 2" descr=""/>
          <p:cNvPicPr/>
          <p:nvPr/>
        </p:nvPicPr>
        <p:blipFill>
          <a:blip r:embed="rId1"/>
          <a:srcRect l="33110" t="25456" r="31990" b="28409"/>
          <a:stretch/>
        </p:blipFill>
        <p:spPr>
          <a:xfrm>
            <a:off x="735120" y="2276640"/>
            <a:ext cx="3744720" cy="27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Уроки на сайте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Tinkercad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0728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Познакомимся с панелью управл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Features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особенности сайт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Learn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уроки по интерфейсу сайт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allery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галерея с созданными работами других пользователе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log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– блог с новостями по сайт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айдем в раздел «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Уроки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панель"/>
          <p:cNvPicPr/>
          <p:nvPr/>
        </p:nvPicPr>
        <p:blipFill>
          <a:blip r:embed="rId1"/>
          <a:stretch/>
        </p:blipFill>
        <p:spPr>
          <a:xfrm>
            <a:off x="971640" y="2276640"/>
            <a:ext cx="377172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696440" cy="765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Основные урок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03" name="Picture 6" descr="уроки"/>
          <p:cNvPicPr/>
          <p:nvPr/>
        </p:nvPicPr>
        <p:blipFill>
          <a:blip r:embed="rId1"/>
          <a:stretch/>
        </p:blipFill>
        <p:spPr>
          <a:xfrm>
            <a:off x="684360" y="765000"/>
            <a:ext cx="7775280" cy="4132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4868640"/>
            <a:ext cx="76960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десь вы можете пройти основные уроки по использованию сайта. Для удобства, можно использовать встроенный переводчик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Свой проект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1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 входе на свой аккаунт, у нас появляется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анная рабочая область →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Для создания своей 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-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одели, нажимаем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new desig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созадние"/>
          <p:cNvPicPr/>
          <p:nvPr/>
        </p:nvPicPr>
        <p:blipFill>
          <a:blip r:embed="rId1"/>
          <a:stretch/>
        </p:blipFill>
        <p:spPr>
          <a:xfrm>
            <a:off x="4714920" y="1938240"/>
            <a:ext cx="37148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Управление объектами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3D-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одел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905120"/>
            <a:ext cx="849636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- с помощью стрелок мы можем вращаться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округ рабочего поля. Кнопка «Дом» позволяет вернуть наше поле в стандартный вид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- позволяет приблизиться к выбранной фигуре на поле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- эти кнопки позволяют нам приблизиться и отдалиться от объект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дом"/>
          <p:cNvPicPr/>
          <p:nvPr/>
        </p:nvPicPr>
        <p:blipFill>
          <a:blip r:embed="rId1"/>
          <a:stretch/>
        </p:blipFill>
        <p:spPr>
          <a:xfrm>
            <a:off x="179280" y="1844640"/>
            <a:ext cx="785880" cy="792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приблизить"/>
          <p:cNvPicPr/>
          <p:nvPr/>
        </p:nvPicPr>
        <p:blipFill>
          <a:blip r:embed="rId2"/>
          <a:stretch/>
        </p:blipFill>
        <p:spPr>
          <a:xfrm>
            <a:off x="324000" y="4149720"/>
            <a:ext cx="54900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1" descr="+-"/>
          <p:cNvPicPr/>
          <p:nvPr/>
        </p:nvPicPr>
        <p:blipFill>
          <a:blip r:embed="rId3"/>
          <a:stretch/>
        </p:blipFill>
        <p:spPr>
          <a:xfrm>
            <a:off x="395280" y="5157720"/>
            <a:ext cx="50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533160"/>
            <a:ext cx="8497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Управление объектами 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3D-</a:t>
            </a:r>
            <a:r>
              <a:rPr b="0" lang="ru-RU" sz="3300" spc="-1" strike="noStrike">
                <a:solidFill>
                  <a:srgbClr val="336666"/>
                </a:solidFill>
                <a:latin typeface="Arial Black"/>
              </a:rPr>
              <a:t>модели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964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Undo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отменяет совершенное нами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ейств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над объектом. 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Redo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озвращает действие, если его отменил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Group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бъединяет несколько объектов   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в единое. 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Ungroup</a:t>
            </a: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азъединяет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Align</a:t>
            </a:r>
            <a:r>
              <a:rPr b="1" i="1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зволяет передвигать один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бъект относительно другого, 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Mirror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ереворачивать, как в зеркал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вернуть"/>
          <p:cNvPicPr/>
          <p:nvPr/>
        </p:nvPicPr>
        <p:blipFill>
          <a:blip r:embed="rId1"/>
          <a:stretch/>
        </p:blipFill>
        <p:spPr>
          <a:xfrm>
            <a:off x="179280" y="1773360"/>
            <a:ext cx="1582920" cy="806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группировка"/>
          <p:cNvPicPr/>
          <p:nvPr/>
        </p:nvPicPr>
        <p:blipFill>
          <a:blip r:embed="rId2"/>
          <a:stretch/>
        </p:blipFill>
        <p:spPr>
          <a:xfrm>
            <a:off x="179280" y="3500280"/>
            <a:ext cx="1513080" cy="770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аллигн"/>
          <p:cNvPicPr/>
          <p:nvPr/>
        </p:nvPicPr>
        <p:blipFill>
          <a:blip r:embed="rId3"/>
          <a:stretch/>
        </p:blipFill>
        <p:spPr>
          <a:xfrm>
            <a:off x="468360" y="4508640"/>
            <a:ext cx="1197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4T08:02:07Z</dcterms:created>
  <dc:creator>User10</dc:creator>
  <dc:description/>
  <dc:language>en-US</dc:language>
  <cp:lastModifiedBy>Точка роста учитель</cp:lastModifiedBy>
  <dcterms:modified xsi:type="dcterms:W3CDTF">2023-12-13T19:58:43Z</dcterms:modified>
  <cp:revision>10</cp:revision>
  <dc:subject/>
  <dc:title>Интерфейс  Tinkercad</dc:title>
</cp:coreProperties>
</file>