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01C-3AD0-488D-ADA9-3FA85148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A76-B7CC-47FC-B554-797627A9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7D6F-7298-47B6-91C9-26C9AEE1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926-DC72-4075-8E42-4308CD32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623D-C9AC-4AB8-A871-D05097A2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B5C9-0625-441F-AB81-D275B72D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C2AE-BF4F-41A7-A254-1B326C23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92D9-BA47-4A7C-B20B-13C161A9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B62F-5F40-4DED-83FA-AF05F024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B639-8E43-4405-916A-7B5B30AD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BE1D-C880-4B9F-972C-4E5FC5DA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CE5-D8B5-4890-9A9B-C02B7EAF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FDD4-60A9-40C5-8230-E9F40231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E7AD-245B-4E54-B99C-1CA75D08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E2CB-EE16-4006-8544-13E74180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120A-9FD7-4B76-96AD-7B980C93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3C3E-08D5-4416-9C92-AA9080DE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A55-10B8-4C2E-9404-34381160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C02-7303-45CA-A8E2-D0D878E9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A4F6-87B9-469C-8679-15F1148A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ADA-B97E-479C-90D0-7CA3DF9E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2DF-ADFC-4391-9CCD-7F148EEC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BE8-D74B-446C-9C7F-48B67375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61D-A6B5-40E2-B8E9-05CB5EDA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8126-DF13-410F-80B4-71C13FA721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71B6-3208-4B83-B5BF-5A05594ED8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inkercad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Знакомство с 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Tinkercad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-id=503608167-54-72&amp;n=21"/>
          <p:cNvPicPr/>
          <p:nvPr/>
        </p:nvPicPr>
        <p:blipFill>
          <a:blip r:embed="rId1"/>
          <a:stretch/>
        </p:blipFill>
        <p:spPr>
          <a:xfrm>
            <a:off x="3419640" y="3495600"/>
            <a:ext cx="210168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ращение и размеры фигур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08360" y="1915920"/>
            <a:ext cx="518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зогнутая двунаправленная стрелка позволяет повернуть объект в указанной ею плоскостью. Стрелка «вверх» поднимает объект на выбранную вами высоту. Белые точки на углах объекта изменяют его размер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вращение"/>
          <p:cNvPicPr/>
          <p:nvPr/>
        </p:nvPicPr>
        <p:blipFill>
          <a:blip r:embed="rId1"/>
          <a:stretch/>
        </p:blipFill>
        <p:spPr>
          <a:xfrm>
            <a:off x="250920" y="2349360"/>
            <a:ext cx="36734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анель инструментов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03280" y="1699920"/>
            <a:ext cx="5724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avorites 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десь находятся ваши любимые фигуры, которые отмечаются звездочкой в углу фигуры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гружайте 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 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дели с П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hape Generators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дели, созданные другими людьми, которыми вы можете пользоватьс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elpers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ш помощники в создании модели: линейка и рабочее п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ны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метрические фиг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oles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зрачные цилиндр и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tters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квы английского алфав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ф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ymbols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ные симв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tras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ые симв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рабочии модеил"/>
          <p:cNvPicPr/>
          <p:nvPr/>
        </p:nvPicPr>
        <p:blipFill>
          <a:blip r:embed="rId1"/>
          <a:stretch/>
        </p:blipFill>
        <p:spPr>
          <a:xfrm>
            <a:off x="826920" y="1844640"/>
            <a:ext cx="24418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еняем цвет фигур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439236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жимая на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у нас появляется палитра цветов. Мы можем выбрать любой цвет из предложенных или же создать свой собственный, нажав на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usmom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цвкет"/>
          <p:cNvPicPr/>
          <p:nvPr/>
        </p:nvPicPr>
        <p:blipFill>
          <a:blip r:embed="rId1"/>
          <a:stretch/>
        </p:blipFill>
        <p:spPr>
          <a:xfrm>
            <a:off x="4500720" y="2060640"/>
            <a:ext cx="427824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еняем цвет фигур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905120"/>
            <a:ext cx="41385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 работе 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ustom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ередвигаем кружок на квадратном поле, добиваясь определенной светлости в цвете, а для выбора цвета передвигаем стрелки в полосе цвет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цвет"/>
          <p:cNvPicPr/>
          <p:nvPr/>
        </p:nvPicPr>
        <p:blipFill>
          <a:blip r:embed="rId1"/>
          <a:stretch/>
        </p:blipFill>
        <p:spPr>
          <a:xfrm>
            <a:off x="4643280" y="1989000"/>
            <a:ext cx="420696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еняем цвет у объединенных фигур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905120"/>
            <a:ext cx="39225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 объединении нескольких фигур в одну, они обретают единый цвет. Если же это не нужно, то в палитре цветов нажимаем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ulticolor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 наши фигуры стали того цвета, что и были до объединен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цвет мульти"/>
          <p:cNvPicPr/>
          <p:nvPr/>
        </p:nvPicPr>
        <p:blipFill>
          <a:blip r:embed="rId1"/>
          <a:stretch/>
        </p:blipFill>
        <p:spPr>
          <a:xfrm>
            <a:off x="4572000" y="1989000"/>
            <a:ext cx="427824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353440" cy="56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есплатный </a:t>
            </a:r>
            <a:r>
              <a:rPr b="0" i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online-редактора Tinkercad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льзоваться 3D-редактором элементарно. Интерфейс программы интуитивно понятен и дает возможность новичку, не владеющему особыми знаниями в моделировании, освоить редактор и создавать прекрасные модел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i-id=503608167-54-72&amp;n=21"/>
          <p:cNvPicPr/>
          <p:nvPr/>
        </p:nvPicPr>
        <p:blipFill>
          <a:blip r:embed="rId1"/>
          <a:stretch/>
        </p:blipFill>
        <p:spPr>
          <a:xfrm>
            <a:off x="468360" y="333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ход в систему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60560" y="2491920"/>
            <a:ext cx="377172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аходим на сайт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www.tinkercad.c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ыбираем «Присоединиться к классу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2"/>
          <a:srcRect l="38681" t="21925" r="37539" b="15440"/>
          <a:stretch/>
        </p:blipFill>
        <p:spPr>
          <a:xfrm>
            <a:off x="1258920" y="1996920"/>
            <a:ext cx="266544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ход в систему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казываем код класс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жимаем ПЕРЕЙТИ В КЛАС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"/>
          <p:cNvPicPr/>
          <p:nvPr/>
        </p:nvPicPr>
        <p:blipFill>
          <a:blip r:embed="rId1"/>
          <a:srcRect l="33110" t="25456" r="31990" b="28409"/>
          <a:stretch/>
        </p:blipFill>
        <p:spPr>
          <a:xfrm>
            <a:off x="735120" y="2276640"/>
            <a:ext cx="374472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Уроки на сайте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Tinkercad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0728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Познакомимся с панелью управл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eatures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особенности сайт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earn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уроки по интерфейсу сайт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allery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галерея с созданными работами других пользователе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log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блог с новостями по сайт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айдем в раздел «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Уроки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панель"/>
          <p:cNvPicPr/>
          <p:nvPr/>
        </p:nvPicPr>
        <p:blipFill>
          <a:blip r:embed="rId1"/>
          <a:stretch/>
        </p:blipFill>
        <p:spPr>
          <a:xfrm>
            <a:off x="971640" y="2276640"/>
            <a:ext cx="37717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6964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Основные урок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3" name="Picture 6" descr="уроки"/>
          <p:cNvPicPr/>
          <p:nvPr/>
        </p:nvPicPr>
        <p:blipFill>
          <a:blip r:embed="rId1"/>
          <a:stretch/>
        </p:blipFill>
        <p:spPr>
          <a:xfrm>
            <a:off x="684360" y="765000"/>
            <a:ext cx="7775280" cy="4132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4868640"/>
            <a:ext cx="7696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десь вы можете пройти основные уроки по использованию сайта. Для удобства, можно использовать встроенный переводчик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вой проект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 входе на свой аккаунт, у нас появляется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анная рабочая область 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создания своей 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одели, нажимаем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new desig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созадние"/>
          <p:cNvPicPr/>
          <p:nvPr/>
        </p:nvPicPr>
        <p:blipFill>
          <a:blip r:embed="rId1"/>
          <a:stretch/>
        </p:blipFill>
        <p:spPr>
          <a:xfrm>
            <a:off x="4714920" y="1938240"/>
            <a:ext cx="37148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Управление объектами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3D-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одел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4963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- с помощью стрелок мы можем вращаться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округ рабочего поля. Кнопка «Дом» позволяет вернуть наше поле в стандартный вид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- позволяет приблизиться к выбранной фигуре на поле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- эти кнопки позволяют нам приблизиться и отдалиться от объект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дом"/>
          <p:cNvPicPr/>
          <p:nvPr/>
        </p:nvPicPr>
        <p:blipFill>
          <a:blip r:embed="rId1"/>
          <a:stretch/>
        </p:blipFill>
        <p:spPr>
          <a:xfrm>
            <a:off x="179280" y="1844640"/>
            <a:ext cx="785880" cy="79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приблизить"/>
          <p:cNvPicPr/>
          <p:nvPr/>
        </p:nvPicPr>
        <p:blipFill>
          <a:blip r:embed="rId2"/>
          <a:stretch/>
        </p:blipFill>
        <p:spPr>
          <a:xfrm>
            <a:off x="324000" y="414972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+-"/>
          <p:cNvPicPr/>
          <p:nvPr/>
        </p:nvPicPr>
        <p:blipFill>
          <a:blip r:embed="rId3"/>
          <a:stretch/>
        </p:blipFill>
        <p:spPr>
          <a:xfrm>
            <a:off x="395280" y="5157720"/>
            <a:ext cx="50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Управление объектами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3D-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одел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Undo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отменяет совершенное нам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д объектом. 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Redo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озвращает действие, если его отменил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Group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бъединяет несколько объектов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 единое. 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Ungroup</a:t>
            </a: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зъединяет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зволяет передвигать один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бъект относительно другого, 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Mirror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ереворачивать, как в зеркал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ернуть"/>
          <p:cNvPicPr/>
          <p:nvPr/>
        </p:nvPicPr>
        <p:blipFill>
          <a:blip r:embed="rId1"/>
          <a:stretch/>
        </p:blipFill>
        <p:spPr>
          <a:xfrm>
            <a:off x="179280" y="1773360"/>
            <a:ext cx="1582920" cy="806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группировка"/>
          <p:cNvPicPr/>
          <p:nvPr/>
        </p:nvPicPr>
        <p:blipFill>
          <a:blip r:embed="rId2"/>
          <a:stretch/>
        </p:blipFill>
        <p:spPr>
          <a:xfrm>
            <a:off x="179280" y="3500280"/>
            <a:ext cx="1513080" cy="770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аллигн"/>
          <p:cNvPicPr/>
          <p:nvPr/>
        </p:nvPicPr>
        <p:blipFill>
          <a:blip r:embed="rId3"/>
          <a:stretch/>
        </p:blipFill>
        <p:spPr>
          <a:xfrm>
            <a:off x="468360" y="4508640"/>
            <a:ext cx="1197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8:02:07Z</dcterms:created>
  <dc:creator>User10</dc:creator>
  <dc:description/>
  <dc:language>en-US</dc:language>
  <cp:lastModifiedBy>Точка роста учитель</cp:lastModifiedBy>
  <dcterms:modified xsi:type="dcterms:W3CDTF">2023-12-13T19:58:43Z</dcterms:modified>
  <cp:revision>10</cp:revision>
  <dc:subject/>
  <dc:title>Интерфейс  Tinkercad</dc:title>
</cp:coreProperties>
</file>