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395-A61A-43CD-8CD2-95A80F3A4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9778-499A-48F3-8BB7-AF5143A9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3F30-2443-425B-B783-D4462665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3777-C9B0-48C2-8F88-0D4DC23F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821A-3FEA-4BC5-9831-0ECE1FBA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AD8-3F49-4858-81E6-850AE456B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EC5-4873-48E2-AA25-6BFC5B7D4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D15-95DD-409A-9F5E-648AB2AB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D50B-734C-4F02-947B-48FF16750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D843-7240-4EF6-9A38-A4B036BE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23EA-9C3A-4AFB-89F3-7F92A1E4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E765-3C03-424B-8340-8DC1B4EB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214E-3279-4584-B049-A6BDADFA21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8153280" cy="18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0" y="609480"/>
            <a:ext cx="9144000" cy="86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ормирование навыков таблицы умн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 старших школьников с ограниченными возможностями здоровья, на группе  продлённого дн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редством дидактических игр.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Трохова Еле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АО «Няндомская СКОШ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023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80880" y="533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дбери каждому замочку ключ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: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епление навыков таблицы умн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96960" y="1935000"/>
            <a:ext cx="3138480" cy="221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5029200" y="1990800"/>
            <a:ext cx="2819520" cy="2157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2362320" y="4495680"/>
            <a:ext cx="3174840" cy="20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Домино»</a:t>
            </a:r>
            <a:br>
              <a:rPr sz="2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е знаний таблицы умно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4267080" cy="3429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5334120" y="1752480"/>
            <a:ext cx="32763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1760" y="-76680"/>
            <a:ext cx="7924680" cy="26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Числовой кроссворд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ть действия и заполнить пустые клетк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4724280" y="2590920"/>
            <a:ext cx="3429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чки с таблицей умножения и 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2"/>
          <a:stretch/>
        </p:blipFill>
        <p:spPr>
          <a:xfrm>
            <a:off x="771480" y="1330200"/>
            <a:ext cx="2362320" cy="1762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3"/>
          <a:stretch/>
        </p:blipFill>
        <p:spPr>
          <a:xfrm>
            <a:off x="3657600" y="2209680"/>
            <a:ext cx="2286000" cy="174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4"/>
          <a:stretch/>
        </p:blipFill>
        <p:spPr>
          <a:xfrm>
            <a:off x="771480" y="3780000"/>
            <a:ext cx="2819520" cy="1657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5"/>
          <a:stretch/>
        </p:blipFill>
        <p:spPr>
          <a:xfrm>
            <a:off x="6095880" y="3718080"/>
            <a:ext cx="2895840" cy="1719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6"/>
          <a:stretch/>
        </p:blipFill>
        <p:spPr>
          <a:xfrm>
            <a:off x="6400800" y="1392120"/>
            <a:ext cx="24382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Смешная таблица»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Если в каждое легкое вмещается два литра воздуха, то... (в два легких вместится четыре литра: 2х2=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на две руки надеть по пять пальчиковых кукол, то... (в спектакле будет десять персонажей: 5х2==1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одна почка за сутки перерабатывает один литр жидкости, то две почки за неделю... (переработают четырнадцать литров: 7х2=1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ли в каждую ноздрю попадет по восемь пылинок, то... (нужно чихнуть шестнадцать раз, чтобы все они вылетели: 8х2=16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Если вымыть девять чашек с блюдцами, то... (будут помыты восемнадцать предметов: 9х2=18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Если подпрыгнуть на каждой ноге десять раз, всего... (будет двадцать прыжков: 10х2=2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Если два уха не слушают учителя, то... (ученик ничего не поймет: 2х0=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ослый зачитывает первую половину задачи, а остальную ребенок угадывает, что получится в результа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76276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оставьте 4 равенства на умножение и деление, используя только те числа, которые даны.         5,2,10 3,6,18 27,9,3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ого числа не хватает в тройке? Вставь пропущенное числ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, 7,56 9, □ ,54 4, □ ,20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писать все числа до 40, которые делятся на 4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удет ли верным равенство, если мы подставим числа 18, 21, 15, 27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□:3&lt;6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аписать все возможные примеры на умножение со следующими ответами:      36, 48, 54 и т.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Записать по порядку все числа от 1 до 50, пропуская те из них, которые делятся на 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Записать ответы, которые получаются при умножении каждого из следующих чисел на 8: 6, 9, 8, 3, 7, 5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На доске записаны числа: 42, 21, 35, 24, 18, 32. Выбери и назови число, соответствующее значению выражени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6= 3×8= 9×2= 6×3=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 Маша выписывала произведения из таблицы умножения, оканчивающиеся на четную цифру. Правильно ли она сделала?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×4 3×6 3×9 6×5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ровень сформированности навыков таблицы умножения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021-2022 уч.год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2022-2023уч.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 класс-2 чел.-10%       7 класс- 15%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 класс-5 чел.-30%       8 класс- 3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класс-5 чел.-20%       9 класс-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начение дидактических иг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гр на ГПД позволяет более творчески подходить к оценке знаний учащихся, привлекать к работе всех учащихся группы, способствует формированию интереса к предмету, активизирует мыслительную деятельность учеников, развивает смекалку и наблюдательность. Дети приходят к пониманию, что прочные и осмысленные знания можно получить только самим. Они испытывают радость, успех, удовлетворение в познавательном процессе, у них повышается мотивация и самооценка, чего очень не хватает детям с ОВЗ. Ведь если помочь ребенку хоть один раз достичь положительного результата, то можно мотивировать его на будущую деятельность. Основываясь на положительных эмоциях, ребенок и в следующий раз с удовольствием возьмется з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работа помогает избежать утомления  школьника, создает предпосылки для непроизвольного запоминания таблицы умножения, развивает умственные и творческие способности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БЛИОГРАФ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.Бережнова Л.Р. Секреты творчества в табличном умножении: Методическое пособие.- М.:АРК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оронкова В.В. Воспитание и обучение детей во вспомогательно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е М.,-1994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готский Л. С. Проблема умственной отсталости. - В кн.: Избранные психологические исследования. М., 1956, с. 453-4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Замский Х.С. Умственно отсталые дети. – НПО, Образование, 199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собенности умственного развития учащихся вспомогательной школы /Под ред. Ж И. Шиф. М, 1965, с. 217-299, гл. 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2.https://znanio.ru/medianar/144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 навыки таблицы умножения у воспитанников с ОВЗ, посредством дидактических игр и упражн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ние ум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полнение умножение и деление двухзначных чи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Развив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тие прочных вычислительных навыков, творческого мышления, математической смекал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мение наблюдать, рассуждать, анализировать, сравнивать, обобща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Воспитате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интереса к предмет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ность к преодолению труд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ание настойчивости  для достижения конечных результа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заимопомощь, товарищ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28600" y="609480"/>
            <a:ext cx="86104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прочного усвоения  школьниками табличного умножения и деления велика для формирования прочных вычислительных навыков для дальнейшего обучения в старшей школе и практической необходимости в жизни людей. Без быстрого и правильного воспроизведения табличных результатов невозможно дальнейшее эффективное обучение. Эти знания и навыки - основа для выполнения умножения многозначных чи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я важность данного учебного материала в формировании общеучебных умений обучающихся с ОВЗ, обеспечении их психофизического развития и коррекцию имеющихся нарушений, в своей педагогической деятельности в течение 4 лет активно применяю дидактические игры для закрепления навыка табличного умножения и дел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Игра «Найди правильный ответ»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: развитие способности принимать и сохранять учебную цель и задачу, планировать её реализацию, контролировать и оценивать свои действия, вносить соответствующие коррективы в их выполн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ащение игры: примеры, доска, м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75960" y="1066320"/>
            <a:ext cx="8839080" cy="56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31640" y="3809880"/>
            <a:ext cx="2203560" cy="1650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3276720" y="3170160"/>
            <a:ext cx="2036520" cy="1528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5884920" y="3657600"/>
            <a:ext cx="2146320" cy="1614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3276720" y="5057640"/>
            <a:ext cx="2227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33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В цветке допиши ответы» </a:t>
            </a:r>
            <a:br>
              <a:rPr sz="2400"/>
            </a:b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иг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формирование у учащихся познавательного интереса, потребности узнавать новое, учиться логически мыслить, сопоставлять, классифицировать, обобщать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ащение игры: листы с цветами, на которых записаны примеры из таблицы умнож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1447920"/>
            <a:ext cx="8229600" cy="210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533600" y="3100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бъект 2"/>
          <p:cNvSpPr/>
          <p:nvPr/>
        </p:nvSpPr>
        <p:spPr>
          <a:xfrm>
            <a:off x="371520" y="3200400"/>
            <a:ext cx="8229600" cy="35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8" descr=""/>
          <p:cNvPicPr/>
          <p:nvPr/>
        </p:nvPicPr>
        <p:blipFill>
          <a:blip r:embed="rId1"/>
          <a:stretch/>
        </p:blipFill>
        <p:spPr>
          <a:xfrm>
            <a:off x="838080" y="3657600"/>
            <a:ext cx="3146400" cy="2490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9" descr=""/>
          <p:cNvPicPr/>
          <p:nvPr/>
        </p:nvPicPr>
        <p:blipFill>
          <a:blip r:embed="rId2"/>
          <a:stretch/>
        </p:blipFill>
        <p:spPr>
          <a:xfrm>
            <a:off x="5181480" y="3657600"/>
            <a:ext cx="27511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5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Цель игры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активизация учащихся, достижение включенности каждого ребенка в работу на ГПД; овладение способами выполнения заданий творческого и поискового характе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ащение игры: простые карандаши – по одному для каждого игрока, листок бумаги с примерами и числ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1"/>
          <p:cNvSpPr/>
          <p:nvPr/>
        </p:nvSpPr>
        <p:spPr>
          <a:xfrm>
            <a:off x="352440" y="152280"/>
            <a:ext cx="85345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гра «Найди буквы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13080" cy="28954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2"/>
          <a:stretch/>
        </p:blipFill>
        <p:spPr>
          <a:xfrm>
            <a:off x="3505320" y="3200400"/>
            <a:ext cx="251460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6362640" y="2895480"/>
            <a:ext cx="2362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«Зигзаги» </a:t>
            </a:r>
            <a:br>
              <a:rPr sz="2400"/>
            </a:b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формирование навыков табличного умножения и дел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сание игры: Выполнить математические действия, чтобы в конце зигзага совпал отв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80880" y="-763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3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609480" y="2971800"/>
            <a:ext cx="4038840" cy="2590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2"/>
          <a:stretch/>
        </p:blipFill>
        <p:spPr>
          <a:xfrm>
            <a:off x="4876920" y="2971800"/>
            <a:ext cx="32702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8160" y="-360"/>
            <a:ext cx="9144000" cy="56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арисуй картинку с помощью таблицы умножен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ь: формирование навыков табличного умно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игры: Найти значение произведения на 3, или 4, ,5 и т. д. и закрасить карандашом. В конце всей работы отобразиться рисун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Заголовок 1"/>
          <p:cNvSpPr/>
          <p:nvPr/>
        </p:nvSpPr>
        <p:spPr>
          <a:xfrm>
            <a:off x="152280" y="0"/>
            <a:ext cx="876312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бъект 2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"/>
          <p:cNvPicPr/>
          <p:nvPr/>
        </p:nvPicPr>
        <p:blipFill>
          <a:blip r:embed="rId1"/>
          <a:stretch/>
        </p:blipFill>
        <p:spPr>
          <a:xfrm>
            <a:off x="800280" y="1828800"/>
            <a:ext cx="148572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2"/>
          <a:stretch/>
        </p:blipFill>
        <p:spPr>
          <a:xfrm>
            <a:off x="2819520" y="1874880"/>
            <a:ext cx="1508040" cy="2011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3"/>
          <a:stretch/>
        </p:blipFill>
        <p:spPr>
          <a:xfrm>
            <a:off x="5114880" y="1838160"/>
            <a:ext cx="1589040" cy="2117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4"/>
          <a:stretch/>
        </p:blipFill>
        <p:spPr>
          <a:xfrm>
            <a:off x="7238880" y="1859040"/>
            <a:ext cx="1559160" cy="2073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5"/>
          <a:stretch/>
        </p:blipFill>
        <p:spPr>
          <a:xfrm>
            <a:off x="1071720" y="4267080"/>
            <a:ext cx="1685880" cy="2248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6"/>
          <a:stretch/>
        </p:blipFill>
        <p:spPr>
          <a:xfrm>
            <a:off x="6172200" y="4154400"/>
            <a:ext cx="1684440" cy="2246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7"/>
          <a:stretch/>
        </p:blipFill>
        <p:spPr>
          <a:xfrm>
            <a:off x="3505320" y="4191120"/>
            <a:ext cx="1600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219320"/>
            <a:ext cx="3581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бъект 2"/>
          <p:cNvSpPr/>
          <p:nvPr/>
        </p:nvSpPr>
        <p:spPr>
          <a:xfrm>
            <a:off x="304920" y="304920"/>
            <a:ext cx="861048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495360" y="152280"/>
            <a:ext cx="8534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Пифаг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 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умений строить логические рассуждения и делать вывод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ащение: Листы бумаги с цветными кружками для быстрого заучивания от 1до 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495360" y="3276720"/>
            <a:ext cx="3467160" cy="2133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2712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-</dc:creator>
  <dc:description/>
  <dc:language>en-US</dc:language>
  <cp:lastModifiedBy>Windows User</cp:lastModifiedBy>
  <dcterms:modified xsi:type="dcterms:W3CDTF">2024-01-06T21:39:27Z</dcterms:modified>
  <cp:revision>1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