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33D-3273-4466-9618-47721523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6B5-D7C0-4327-8649-E73CE939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BC6-5249-4F5B-81C3-E4AD97AC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BAE-893F-4DDC-BFC9-0C6AA7B3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6DD-2053-4382-B65F-4ED76AB6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53B-B7EF-44FA-93A6-6441267D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507-88B2-4650-8ED3-30F0A269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163-768C-4C02-9C91-91F7F037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76B-99B2-42E6-A092-49492540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CCB-7CF8-4517-958E-47255C9E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96C-DB38-4A38-A6BF-E41AE52F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126-998D-4AEA-9536-BF79444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B469-B5A5-4D53-B454-EBCDCC268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15328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0" y="609480"/>
            <a:ext cx="9144000" cy="86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навыков таблицы умн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тарших школьников с ограниченными возможностями здоровья, на группе  продлённого д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редством дидактических игр.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Трохова Еле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АО «Няндомская СКОШ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2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533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дбери каждому замочку клю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ение навыков таблицы умн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96960" y="1935000"/>
            <a:ext cx="3138480" cy="221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5029200" y="1990800"/>
            <a:ext cx="2819520" cy="2157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31748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Домино»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знаний таблицы умно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76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-76680"/>
            <a:ext cx="79246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Числовой кроссворд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действия и заполнить пустые клет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таблицей умножения и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771480" y="1330200"/>
            <a:ext cx="2362320" cy="1762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4"/>
          <a:stretch/>
        </p:blipFill>
        <p:spPr>
          <a:xfrm>
            <a:off x="771480" y="3780000"/>
            <a:ext cx="2819520" cy="165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5"/>
          <a:stretch/>
        </p:blipFill>
        <p:spPr>
          <a:xfrm>
            <a:off x="6095880" y="3718080"/>
            <a:ext cx="2895840" cy="171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6"/>
          <a:stretch/>
        </p:blipFill>
        <p:spPr>
          <a:xfrm>
            <a:off x="6400800" y="1392120"/>
            <a:ext cx="2438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Смешная таблица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ли в каждое легкое вмещается два литра воздуха, то... (в два легких вместится четыре литра: 2х2=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на две руки надеть по пять пальчиковых кукол, то... (в спектакле будет десять персонажей: 5х2==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одна почка за сутки перерабатывает один литр жидкости, то две почки за неделю... (переработают четырнадцать литров: 7х2=1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ли в каждую ноздрю попадет по восемь пылинок, то... (нужно чихнуть шестнадцать раз, чтобы все они вылетели: 8х2=1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Если вымыть девять чашек с блюдцами, то... (будут помыты восемнадцать предметов: 9х2=1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Если подпрыгнуть на каждой ноге десять раз, всего... (будет двадцать прыжков: 10х2=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Если два уха не слушают учителя, то... (ученик ничего не поймет: 2х0=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зачитывает первую половину задачи, а остальную ребенок угадывает, что получится в результа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6276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ставьте 4 равенства на умножение и деление, используя только те числа, которые даны.         5,2,10 3,6,18 27,9,3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го числа не хватает в тройке? Вставь пропущенное числ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, 7,56 9, □ ,54 4, □ ,20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исать все числа до 40, которые делятся на 4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удет ли верным равенство, если мы подставим числа 18, 21, 15, 27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:3&lt;6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писать все возможные примеры на умножение со следующими ответами:      36, 48, 54 и т.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аписать по порядку все числа от 1 до 50, пропуская те из них, которые делятся на 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аписать ответы, которые получаются при умножении каждого из следующих чисел на 8: 6, 9, 8, 3, 7, 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 доске записаны числа: 42, 21, 35, 24, 18, 32. Выбери и назови число, соответствующее значению выраж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6= 3×8= 9×2= 6×3=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Маша выписывала произведения из таблицы умножения, оканчивающиеся на четную цифру. Правильно ли она сделала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×4 3×6 3×9 6×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ень сформированности навыков таблицы умнож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021-2022 уч.год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022-2023уч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-2 чел.-10%       7 класс- 15%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класс-5 чел.-30%       8 класс-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-5 чел.-20%       9 класс-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ение дидактически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гр на ГПД позволяет более творчески подходить к оценке знаний учащихся, привлекать к работе всех учащихся группы, способствует формированию интереса к предмету, активизирует мыслительную деятельность учеников, развивает смекалку и наблюдательность. Дети приходят к пониманию, что прочные и осмысленные знания можно получить только самим. Они испытывают радость, успех, удовлетворение в познавательном процессе, у них повышается мотивация и самооценка, чего очень не хватает детям с ОВЗ. Ведь если помочь ребенку хоть один раз достичь положительного результата, то можно мотивировать его на будущую деятельность. Основываясь на положительных эмоциях, ребенок и в следующий раз с удовольствием возьметс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работа помогает избежать утомления  школьника, создает предпосылки для непроизвольного запоминания таблицы умножения, развивает умственные и творческие способност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БЛИОГРАФ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Бережнова Л.Р. Секреты творчества в табличном умножении: Методическое пособие.- М.:АРК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ронкова В.В. Воспитание и обучение детей во вспомогательно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е М.,-199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готский Л. С. Проблема умственной отсталости. - В кн.: Избранные психологические исследования. М., 1956, с. 453-4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мский Х.С. Умственно отсталые дети. – НПО, Образование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собенности умственного развития учащихся вспомогательной школы /Под ред. Ж И. Шиф. М, 1965, с. 217-299, гл.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.https://znanio.ru/medianar/14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 навыки таблицы умножения у воспитанников с ОВЗ, посредством дидактических игр и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ние ум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ение умножение и деление двухзнач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азви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рочных вычислительных навыков, творческого мышления, математической смекал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наблюдать, рассуждать, анализировать, сравнивать, обобщ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оспит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интереса к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к преодолению труд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настойчивости  для достижения конечных результа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заимопомощь, товари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6094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прочного усвоения  школьниками табличного умножения и деления велика для формирования прочных вычислительных навыков для дальнейшего обучения в старшей школе и практической необходимости в жизни людей. Без быстрого и правильного воспроизведения табличных результатов невозможно дальнейшее эффективное обучение. Эти знания и навыки - основа для выполнения умножения многознач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я важность данного учебного материала в формировании общеучебных умений обучающихся с ОВЗ, обеспечении их психофизического развития и коррекцию имеющихся нарушений, в своей педагогической деятельности в течение 4 лет активно применяю дидактические игры для закрепления навыка табличного умножения и де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гра «Найди правильный ответ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: развитие способности принимать и сохранять учебную цель и задачу, планировать её реализацию, контролировать и оценивать свои действия, вносить соответствующие коррективы в их выполн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ащение игры: примеры, доска, м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960" y="1066320"/>
            <a:ext cx="883908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31640" y="3809880"/>
            <a:ext cx="2203560" cy="165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3276720" y="3170160"/>
            <a:ext cx="2036520" cy="152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5884920" y="3657600"/>
            <a:ext cx="2146320" cy="16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3276720" y="5057640"/>
            <a:ext cx="2227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33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В цветке допиши ответы» </a:t>
            </a: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ние у учащихся познавательного интереса, потребности узнавать новое, учиться логически мыслить, сопоставлять, классифицировать, обобщать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ащение игры: листы с цветами, на которых записаны примеры из таблицы умн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447920"/>
            <a:ext cx="822960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533600" y="3100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ъект 2"/>
          <p:cNvSpPr/>
          <p:nvPr/>
        </p:nvSpPr>
        <p:spPr>
          <a:xfrm>
            <a:off x="371520" y="3200400"/>
            <a:ext cx="822960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8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146400" cy="249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9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2751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 игр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ктивизация учащихся, достижение включенности каждого ребенка в работу на ГПД; овладение способами выполнения заданий творческого и поисков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ащение игры: простые карандаши – по одному для каждого игрока, листок бумаги с примерами и чис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352440" y="1522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гра «Найди букв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1308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3505320" y="320040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6362640" y="2895480"/>
            <a:ext cx="2362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«Зигзаги»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формирование навыков табличного умножения и дел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игры: Выполнить математические действия, чтобы в конце зигзага совпал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80880" y="-763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403884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4876920" y="2971800"/>
            <a:ext cx="3270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8160" y="-360"/>
            <a:ext cx="91440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арисуй картинку с помощью таблицы умноже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формирование навыков табличного умн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игры: Найти значение произведения на 3, или 4, ,5 и т. д. и закрасить карандашом. В конце всей работы отобразиться рису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52280" y="0"/>
            <a:ext cx="87631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бъект 2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800280" y="1828800"/>
            <a:ext cx="148572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819520" y="1874880"/>
            <a:ext cx="1508040" cy="201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3"/>
          <a:stretch/>
        </p:blipFill>
        <p:spPr>
          <a:xfrm>
            <a:off x="5114880" y="1838160"/>
            <a:ext cx="1589040" cy="2117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4"/>
          <a:stretch/>
        </p:blipFill>
        <p:spPr>
          <a:xfrm>
            <a:off x="7238880" y="1859040"/>
            <a:ext cx="1559160" cy="2073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5"/>
          <a:stretch/>
        </p:blipFill>
        <p:spPr>
          <a:xfrm>
            <a:off x="1071720" y="4267080"/>
            <a:ext cx="1685880" cy="224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6"/>
          <a:stretch/>
        </p:blipFill>
        <p:spPr>
          <a:xfrm>
            <a:off x="6172200" y="4154400"/>
            <a:ext cx="1684440" cy="224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7"/>
          <a:stretch/>
        </p:blipFill>
        <p:spPr>
          <a:xfrm>
            <a:off x="3505320" y="4191120"/>
            <a:ext cx="160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21932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бъект 2"/>
          <p:cNvSpPr/>
          <p:nvPr/>
        </p:nvSpPr>
        <p:spPr>
          <a:xfrm>
            <a:off x="304920" y="304920"/>
            <a:ext cx="86104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495360" y="152280"/>
            <a:ext cx="8534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мений строить логические рассуждения и делать выв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ащение: Листы бумаги с цветными кружками для быстрого заучивания от 1до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495360" y="3276720"/>
            <a:ext cx="3467160" cy="2133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2712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-</dc:creator>
  <dc:description/>
  <dc:language>en-US</dc:language>
  <cp:lastModifiedBy>Windows User</cp:lastModifiedBy>
  <dcterms:modified xsi:type="dcterms:W3CDTF">2024-01-06T21:39:27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