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0C840-CBA6-4D37-A253-C9D63EC8AB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4D913-D2D9-4755-A7E5-2C119716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BAE0-7B54-49A4-BE76-BF384835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0EB31-D4CA-4939-AF7C-1F309E7307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19D493-48A0-4A15-9607-F7D74DF1B3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5DF8D-EB1A-4456-AAF4-3924DC16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98CBB-7116-4FCE-9DF3-7BC553B4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9716A-72E3-4CC3-B19E-8C0506D3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CC5BF-5BBB-402E-8A89-46BB64B7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41633-D8B2-497E-9252-A00E7F82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5222B-F5DF-45C8-AFDF-EE8DA417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7CF54-C38D-42FC-8BCB-D41E6C13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63D3C-3104-49A8-8A7C-FF83F28F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F039D-9364-4031-906C-B61F196E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4C0CB-834B-418D-BAD6-D1770848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45C69-952B-4437-8377-4357B100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2C6E0-506C-4941-A8D9-9082980865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0716D-8684-42EC-B0C8-927D3095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84324-AC82-41EA-8DD8-9C6BC3FE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E8BEA-542A-4A6C-8C5B-DF0EFEB1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8D2C5-0C85-430F-B194-BF36F6E0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C041B-35A4-4739-AD6F-1617F8E2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584D5-55BE-4C31-AC88-A9218BFF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18900-BF8F-4AC8-91DC-06280868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AB28AA-E087-4DA7-A9EC-F197E358DCA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CB590E-7F34-4970-8A21-7AE60B7A7B9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2268360" y="4365720"/>
            <a:ext cx="44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-181080" y="1628640"/>
            <a:ext cx="8891640" cy="17528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Georgia"/>
              </a:rPr>
              <a:t>Воспитательны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Georgia"/>
              </a:rPr>
              <a:t>потенциа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Georgia"/>
              </a:rPr>
              <a:t>уро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Georgia"/>
              </a:rPr>
              <a:t>в начальной школ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187280" y="333360"/>
            <a:ext cx="66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1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3367080" cy="251964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367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28480" y="3857400"/>
            <a:ext cx="749772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Воспитательные задачи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культуры умственного труда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интереса к знаниям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чувства ответственности за результаты своего труда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культуры общения, толерантности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нравственного отношения к … 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гражданственности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нравственных чувств и представлений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чувства долга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самодисциплины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настойчивости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трудолюбия, упорства в достижении цели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коллективизма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эстетических взглядов и вкусов;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оспитание творческой активности.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Овал 2"/>
          <p:cNvSpPr/>
          <p:nvPr/>
        </p:nvSpPr>
        <p:spPr>
          <a:xfrm>
            <a:off x="1357200" y="128592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 19"/>
          <p:cNvSpPr/>
          <p:nvPr/>
        </p:nvSpPr>
        <p:spPr>
          <a:xfrm>
            <a:off x="1357200" y="1714680"/>
            <a:ext cx="142920" cy="14256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 20"/>
          <p:cNvSpPr/>
          <p:nvPr/>
        </p:nvSpPr>
        <p:spPr>
          <a:xfrm>
            <a:off x="1357200" y="207180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Овал 21"/>
          <p:cNvSpPr/>
          <p:nvPr/>
        </p:nvSpPr>
        <p:spPr>
          <a:xfrm>
            <a:off x="1357200" y="271476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Овал 22"/>
          <p:cNvSpPr/>
          <p:nvPr/>
        </p:nvSpPr>
        <p:spPr>
          <a:xfrm>
            <a:off x="1357200" y="307188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Овал 23"/>
          <p:cNvSpPr/>
          <p:nvPr/>
        </p:nvSpPr>
        <p:spPr>
          <a:xfrm>
            <a:off x="1357200" y="3357720"/>
            <a:ext cx="142920" cy="14256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Овал 24"/>
          <p:cNvSpPr/>
          <p:nvPr/>
        </p:nvSpPr>
        <p:spPr>
          <a:xfrm>
            <a:off x="1357200" y="371484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Овал 26"/>
          <p:cNvSpPr/>
          <p:nvPr/>
        </p:nvSpPr>
        <p:spPr>
          <a:xfrm>
            <a:off x="1357200" y="407196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Овал 27"/>
          <p:cNvSpPr/>
          <p:nvPr/>
        </p:nvSpPr>
        <p:spPr>
          <a:xfrm>
            <a:off x="1357200" y="442908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Овал 28"/>
          <p:cNvSpPr/>
          <p:nvPr/>
        </p:nvSpPr>
        <p:spPr>
          <a:xfrm>
            <a:off x="1357200" y="471492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Овал 29"/>
          <p:cNvSpPr/>
          <p:nvPr/>
        </p:nvSpPr>
        <p:spPr>
          <a:xfrm>
            <a:off x="1357200" y="507204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Овал 30"/>
          <p:cNvSpPr/>
          <p:nvPr/>
        </p:nvSpPr>
        <p:spPr>
          <a:xfrm>
            <a:off x="1357200" y="571500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Овал 31"/>
          <p:cNvSpPr/>
          <p:nvPr/>
        </p:nvSpPr>
        <p:spPr>
          <a:xfrm>
            <a:off x="1357200" y="535788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Овал 32"/>
          <p:cNvSpPr/>
          <p:nvPr/>
        </p:nvSpPr>
        <p:spPr>
          <a:xfrm>
            <a:off x="1357200" y="6072120"/>
            <a:ext cx="142920" cy="142920"/>
          </a:xfrm>
          <a:prstGeom prst="ellipse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68360" y="98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оспитательный потенциал любого урока включает в себ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888840" y="2421000"/>
            <a:ext cx="8229600" cy="33415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рганизационно-эстетическую сре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держ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иль образовательного об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ультуру управления образовательной деятель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дактическую структу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етодические при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Схема 2" descr=""/>
          <p:cNvPicPr/>
          <p:nvPr/>
        </p:nvPicPr>
        <p:blipFill>
          <a:blip r:embed="rId1"/>
          <a:stretch/>
        </p:blipFill>
        <p:spPr>
          <a:xfrm>
            <a:off x="542880" y="182520"/>
            <a:ext cx="8352000" cy="59263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Image0116.BMP"/>
          <p:cNvPicPr/>
          <p:nvPr/>
        </p:nvPicPr>
        <p:blipFill>
          <a:blip r:embed="rId2"/>
          <a:srcRect l="7282" t="9373" r="14180" b="7292"/>
          <a:stretch/>
        </p:blipFill>
        <p:spPr>
          <a:xfrm>
            <a:off x="1835280" y="1557360"/>
            <a:ext cx="2214360" cy="328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Diagram9" descr=""/>
          <p:cNvPicPr/>
          <p:nvPr/>
        </p:nvPicPr>
        <p:blipFill>
          <a:blip r:embed="rId1"/>
          <a:stretch/>
        </p:blipFill>
        <p:spPr>
          <a:xfrm>
            <a:off x="1322280" y="463680"/>
            <a:ext cx="7516800" cy="495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2268360" y="4365720"/>
            <a:ext cx="446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2"/>
          <p:cNvSpPr/>
          <p:nvPr/>
        </p:nvSpPr>
        <p:spPr>
          <a:xfrm>
            <a:off x="2408400" y="2349360"/>
            <a:ext cx="4392360" cy="35942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i="1" lang="ru-RU" sz="4800" spc="-1" strike="noStrike">
                <a:solidFill>
                  <a:srgbClr val="4f81bd"/>
                </a:solidFill>
                <a:latin typeface="Georgia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187280" y="333360"/>
            <a:ext cx="6697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https://cf.ppt-online.org/files1/slide/x/xPsUICa9njTE15Jyb2Zd7hgVA04XplKkmNOvuzQRSF/slide-1.jpg"/>
          <p:cNvPicPr/>
          <p:nvPr/>
        </p:nvPicPr>
        <p:blipFill>
          <a:blip r:embed="rId1"/>
          <a:stretch/>
        </p:blipFill>
        <p:spPr>
          <a:xfrm>
            <a:off x="1258920" y="0"/>
            <a:ext cx="5761080" cy="431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Calibri"/>
              </a:rPr>
              <a:t>Условия реализация         воспитательного потенциал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8920" y="1484280"/>
            <a:ext cx="8496360" cy="17524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я воспитательных задач в ходе каждого урока в единстве с задачами обучения и развития личности школьни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направленного отбора содержания учебного материала, представляющего ученикам образцы подлинной нравствен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овременных образовательных технолог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амостоятельной творческой исследов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611280" y="476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179280" y="3068640"/>
            <a:ext cx="8748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684360" y="101916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оспитательный потенциал урока математ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33480" y="2876400"/>
            <a:ext cx="8183520" cy="25336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— 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оки математики должны воспитывать у учащихся логическую культуру мышления, строгость и стройность в умозаключен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— 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держание математических задач дает возможность значительно расширить кругозор учащихся, поднять их общий культурный уров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11280" y="476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79280" y="3068640"/>
            <a:ext cx="8748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797040" y="135396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оспитательный потенциал уроков литературного чт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908000" y="3284640"/>
            <a:ext cx="6181920" cy="160488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делы «Поэтическая тетрадь», устное народное творчество, сбор пословиц и поговорок о добре и зле, о дружбе , вежливости, мини-сочи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sun9-52.userapi.com/s/v1/if2/v3-MBFytRYZsEmSrz-4XyyYdx4CeFyZQP-GpwLmrQyIr_dbtXDa5A0fsqTChirKiKZeIcMm916ZFtHI_lK_aYQX6.jpg?size=1350x1600&amp;quality=95&amp;type=album"/>
          <p:cNvPicPr/>
          <p:nvPr/>
        </p:nvPicPr>
        <p:blipFill>
          <a:blip r:embed="rId1"/>
          <a:stretch/>
        </p:blipFill>
        <p:spPr>
          <a:xfrm>
            <a:off x="4572000" y="260280"/>
            <a:ext cx="3038400" cy="36003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"/>
          <p:cNvPicPr/>
          <p:nvPr/>
        </p:nvPicPr>
        <p:blipFill>
          <a:blip r:embed="rId2"/>
          <a:stretch/>
        </p:blipFill>
        <p:spPr>
          <a:xfrm>
            <a:off x="1692360" y="1341360"/>
            <a:ext cx="26953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11280" y="476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79280" y="3068640"/>
            <a:ext cx="8748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635040" y="137628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оспитательный потенциал уроков русского язы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50560" y="3068640"/>
            <a:ext cx="6697800" cy="2016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ловицы, поговорки, высказывания известных писателей, отрывки из стихотворений, загадки, поговорки, пословицы, фразеологизмы,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роки развития речи, метод проектов, дидактические иг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8099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611280" y="47628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79280" y="3068640"/>
            <a:ext cx="87487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928800" y="357120"/>
            <a:ext cx="785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Воспитательный потенциал уроков окружающего ми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28760" y="1643040"/>
            <a:ext cx="8254800" cy="44798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способствует преодолению отрыва обучения от жизн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расширению кругозор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воспитанию нравственных качест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развитию патриотических чувст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приобщает школьников к национальной культуре родного народ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- выступает фундаментом для взаимодействия с культурой других народов, мировой культур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уфия</dc:creator>
  <dc:description/>
  <dc:language>en-US</dc:language>
  <cp:lastModifiedBy>Учитель</cp:lastModifiedBy>
  <dcterms:modified xsi:type="dcterms:W3CDTF">2023-10-29T17:44:11Z</dcterms:modified>
  <cp:revision>49</cp:revision>
  <dc:subject/>
  <dc:title>Педагогический совет</dc:title>
</cp:coreProperties>
</file>