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59F7-9054-461C-A4ED-E471A2395D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E98C-771A-42F5-BBBE-D229B35C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2C7F-6619-42C8-BCF7-02D33CC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420B-A7D2-4D91-8280-E56A13581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4677C-9C55-4D82-BD8C-16041BCA7E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CD8D3-AC12-474B-82D1-52CCD51D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0998B-9140-4873-BB7D-45DEFC4C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B0019-6909-4E42-99C8-D504E92D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20624-F538-48E5-A496-DF7A37B9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EABC1-5076-405D-8A97-7178C81E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4B090-F8D6-4F2E-AB91-B057E39A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46F0-F397-4612-80A3-D8311A56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32525-F9B8-4EAA-A8CE-B3EBDCFA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AFBE0-D34F-4E27-99B3-EC90EF95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4F05D-C60E-4A07-A66D-4C41128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01AB2-976D-4427-BFC7-8252DA9D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46163-EB21-4263-BA55-5B8F57A65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9A41-D6CF-45F9-B7B9-A2CC68B0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16D9-9154-482B-90D8-6568D3FD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9A1B-A212-43FC-B025-FB51053D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7125-41F6-4233-BD92-2C156338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A3C2-7C18-4985-8E59-2DA6577A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A133-E467-43D6-9548-36893FED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AD94-2A42-4110-AF48-BADBCEDD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DF4533-8B87-4604-A633-6E35891AAE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FA4967-B8DF-4970-B417-F42D02B6A3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2268360" y="4365720"/>
            <a:ext cx="44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-181080" y="1628640"/>
            <a:ext cx="8891640" cy="1752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Воспитатель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потенциа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ур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в начальной школ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187280" y="333360"/>
            <a:ext cx="66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367080" cy="2519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367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8480" y="3857400"/>
            <a:ext cx="749772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оспитательные задачи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культуры умственного труд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интереса к знаниям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чувства ответственности за результаты своего труд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культуры общения, толерантност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нравственного отношения к … 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гражданственност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 и представлений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чувства долг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самодисциплины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настойчивост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трудолюбия, упорства в достижении цел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коллективизм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эстетических взглядов и вкусов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творческой активности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2"/>
          <p:cNvSpPr/>
          <p:nvPr/>
        </p:nvSpPr>
        <p:spPr>
          <a:xfrm>
            <a:off x="1357200" y="128592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19"/>
          <p:cNvSpPr/>
          <p:nvPr/>
        </p:nvSpPr>
        <p:spPr>
          <a:xfrm>
            <a:off x="1357200" y="171468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20"/>
          <p:cNvSpPr/>
          <p:nvPr/>
        </p:nvSpPr>
        <p:spPr>
          <a:xfrm>
            <a:off x="1357200" y="207180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21"/>
          <p:cNvSpPr/>
          <p:nvPr/>
        </p:nvSpPr>
        <p:spPr>
          <a:xfrm>
            <a:off x="1357200" y="27147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Овал 22"/>
          <p:cNvSpPr/>
          <p:nvPr/>
        </p:nvSpPr>
        <p:spPr>
          <a:xfrm>
            <a:off x="1357200" y="3071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Овал 23"/>
          <p:cNvSpPr/>
          <p:nvPr/>
        </p:nvSpPr>
        <p:spPr>
          <a:xfrm>
            <a:off x="1357200" y="335772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Овал 24"/>
          <p:cNvSpPr/>
          <p:nvPr/>
        </p:nvSpPr>
        <p:spPr>
          <a:xfrm>
            <a:off x="1357200" y="37148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Овал 26"/>
          <p:cNvSpPr/>
          <p:nvPr/>
        </p:nvSpPr>
        <p:spPr>
          <a:xfrm>
            <a:off x="1357200" y="40719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27"/>
          <p:cNvSpPr/>
          <p:nvPr/>
        </p:nvSpPr>
        <p:spPr>
          <a:xfrm>
            <a:off x="1357200" y="44290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Овал 28"/>
          <p:cNvSpPr/>
          <p:nvPr/>
        </p:nvSpPr>
        <p:spPr>
          <a:xfrm>
            <a:off x="1357200" y="471492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Овал 29"/>
          <p:cNvSpPr/>
          <p:nvPr/>
        </p:nvSpPr>
        <p:spPr>
          <a:xfrm>
            <a:off x="1357200" y="50720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Овал 30"/>
          <p:cNvSpPr/>
          <p:nvPr/>
        </p:nvSpPr>
        <p:spPr>
          <a:xfrm>
            <a:off x="1357200" y="571500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Овал 31"/>
          <p:cNvSpPr/>
          <p:nvPr/>
        </p:nvSpPr>
        <p:spPr>
          <a:xfrm>
            <a:off x="1357200" y="5357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32"/>
          <p:cNvSpPr/>
          <p:nvPr/>
        </p:nvSpPr>
        <p:spPr>
          <a:xfrm>
            <a:off x="1357200" y="607212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любого урока включает в себ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888840" y="2421000"/>
            <a:ext cx="8229600" cy="3341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рганизационно-эстетическую сре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держ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иль образовательного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льтуру управления образовательной де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дактическую структу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ические при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хема 2" descr=""/>
          <p:cNvPicPr/>
          <p:nvPr/>
        </p:nvPicPr>
        <p:blipFill>
          <a:blip r:embed="rId1"/>
          <a:stretch/>
        </p:blipFill>
        <p:spPr>
          <a:xfrm>
            <a:off x="542880" y="182520"/>
            <a:ext cx="8352000" cy="5926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Image0116.BMP"/>
          <p:cNvPicPr/>
          <p:nvPr/>
        </p:nvPicPr>
        <p:blipFill>
          <a:blip r:embed="rId2"/>
          <a:srcRect l="7282" t="9373" r="14180" b="7292"/>
          <a:stretch/>
        </p:blipFill>
        <p:spPr>
          <a:xfrm>
            <a:off x="1835280" y="1557360"/>
            <a:ext cx="2214360" cy="328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iagram9" descr=""/>
          <p:cNvPicPr/>
          <p:nvPr/>
        </p:nvPicPr>
        <p:blipFill>
          <a:blip r:embed="rId1"/>
          <a:stretch/>
        </p:blipFill>
        <p:spPr>
          <a:xfrm>
            <a:off x="1322280" y="463680"/>
            <a:ext cx="7516800" cy="49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268360" y="4365720"/>
            <a:ext cx="44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408400" y="2349360"/>
            <a:ext cx="4392360" cy="3594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4800" spc="-1" strike="noStrike">
                <a:solidFill>
                  <a:srgbClr val="4f81bd"/>
                </a:solidFill>
                <a:latin typeface="Georgi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333360"/>
            <a:ext cx="66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s://cf.ppt-online.org/files1/slide/x/xPsUICa9njTE15Jyb2Zd7hgVA04XplKkmNOvuzQRSF/slide-1.jpg"/>
          <p:cNvPicPr/>
          <p:nvPr/>
        </p:nvPicPr>
        <p:blipFill>
          <a:blip r:embed="rId1"/>
          <a:stretch/>
        </p:blipFill>
        <p:spPr>
          <a:xfrm>
            <a:off x="1258920" y="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Условия реализация         воспитательного потенциал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8920" y="1484280"/>
            <a:ext cx="84963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воспитательных задач в ходе каждого урока в единстве с задачами обучения и развития личности школь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го отбора содержания учебного материала, представляющего ученикам образцы подлинной нравств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временных образователь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амостоятельной творческой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684360" y="101916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а матема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33480" y="2876400"/>
            <a:ext cx="8183520" cy="2533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— 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и математики должны воспитывать у учащихся логическую культуру мышления, строгость и стройность в умозаключен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— 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держание математических задач дает возможность значительно расширить кругозор учащихся, поднять их общий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97040" y="135396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ов литературного ч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8000" y="3284640"/>
            <a:ext cx="6181920" cy="1604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делы «Поэтическая тетрадь», устное народное творчество, сбор пословиц и поговорок о добре и зле, о дружбе , вежливости, мини-сочи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sun9-52.userapi.com/s/v1/if2/v3-MBFytRYZsEmSrz-4XyyYdx4CeFyZQP-GpwLmrQyIr_dbtXDa5A0fsqTChirKiKZeIcMm916ZFtHI_lK_aYQX6.jpg?size=1350x1600&amp;quality=95&amp;type=album"/>
          <p:cNvPicPr/>
          <p:nvPr/>
        </p:nvPicPr>
        <p:blipFill>
          <a:blip r:embed="rId1"/>
          <a:stretch/>
        </p:blipFill>
        <p:spPr>
          <a:xfrm>
            <a:off x="4572000" y="260280"/>
            <a:ext cx="3038400" cy="3600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2695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635040" y="137628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ов русского яз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50560" y="3068640"/>
            <a:ext cx="6697800" cy="2016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ловицы, поговорки, высказывания известных писателей, отрывки из стихотворений, загадки, поговорки, пословицы, фразеологизмы,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и развития речи, метод проектов, дидактические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8099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92880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ов окружающего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643040"/>
            <a:ext cx="8254800" cy="4479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способствует преодолению отрыва обучения от жизн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расширению кругозор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воспитанию нравственных качест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развитию патриотических чувст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приобщает школьников к национальной культуре родного на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выступает фундаментом для взаимодействия с культурой других народов, мировой культу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уфия</dc:creator>
  <dc:description/>
  <dc:language>en-US</dc:language>
  <cp:lastModifiedBy>Учитель</cp:lastModifiedBy>
  <dcterms:modified xsi:type="dcterms:W3CDTF">2023-10-29T17:44:11Z</dcterms:modified>
  <cp:revision>49</cp:revision>
  <dc:subject/>
  <dc:title>Педагогический совет</dc:title>
</cp:coreProperties>
</file>