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E8A2-B55B-4976-9E7A-17D14BC67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F9CF-CE7E-4645-8933-15DED526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DA24-D518-491D-9C59-8B2D8EF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F751-A11B-4390-AF31-00AEB66383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D54A-1C0C-4767-92AC-8D9C47F30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BA282-1853-40E3-A5CD-0149D26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1861C-52E7-4D9B-9B02-6137AF97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37E71-D7BB-4CF0-B577-06CB58B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20D17-3867-49F8-B011-E747E544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051D5-1992-463B-9D1C-FFC194CB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49AE9-4656-4D4F-9D10-EC9C3E59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2A01-BC77-4C6E-9097-E9BF3767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98664-5569-45BF-A6B2-07D2EF0F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810A8-8549-46B9-A66A-4604ADC6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415B0-1AD7-4BC0-8A31-C3AFC358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3B9A5-1116-423A-985E-7F2820D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208B0-8F2D-49DD-8703-F7002ED404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6056-D85E-4579-B279-A081BD80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7099-7B18-4A1E-9419-4981E6BB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83A1-08E6-49D9-A451-FAC41DE6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075C-4D01-41A7-85B5-95BE6748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F383-6223-441D-A1AB-CE92D32B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C6C0-D1B0-4F1F-98BD-804E11FB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9317-338E-4E66-BA3C-4DCC1605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358014-8C47-49D2-A775-69ACB11D4A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9024F3-AE37-47B1-8DAB-1C1EA85D9B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2268360" y="4365720"/>
            <a:ext cx="44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-181080" y="1628640"/>
            <a:ext cx="8891640" cy="1752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Воспитатель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потенциа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ур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в начальной школ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187280" y="333360"/>
            <a:ext cx="66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367080" cy="2519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367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8480" y="3857400"/>
            <a:ext cx="749772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оспитательные задачи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культуры умственного труд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интереса к знаниям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чувства ответственности за результаты своего труд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культуры общения, толерантност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нравственного отношения к … 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гражданственност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 и представлений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чувства долг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самодисциплины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настойчивост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трудолюбия, упорства в достижении цел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коллективизм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эстетических взглядов и вкусов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творческой активности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2"/>
          <p:cNvSpPr/>
          <p:nvPr/>
        </p:nvSpPr>
        <p:spPr>
          <a:xfrm>
            <a:off x="1357200" y="128592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19"/>
          <p:cNvSpPr/>
          <p:nvPr/>
        </p:nvSpPr>
        <p:spPr>
          <a:xfrm>
            <a:off x="1357200" y="171468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20"/>
          <p:cNvSpPr/>
          <p:nvPr/>
        </p:nvSpPr>
        <p:spPr>
          <a:xfrm>
            <a:off x="1357200" y="207180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21"/>
          <p:cNvSpPr/>
          <p:nvPr/>
        </p:nvSpPr>
        <p:spPr>
          <a:xfrm>
            <a:off x="1357200" y="27147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Овал 22"/>
          <p:cNvSpPr/>
          <p:nvPr/>
        </p:nvSpPr>
        <p:spPr>
          <a:xfrm>
            <a:off x="1357200" y="3071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Овал 23"/>
          <p:cNvSpPr/>
          <p:nvPr/>
        </p:nvSpPr>
        <p:spPr>
          <a:xfrm>
            <a:off x="1357200" y="335772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Овал 24"/>
          <p:cNvSpPr/>
          <p:nvPr/>
        </p:nvSpPr>
        <p:spPr>
          <a:xfrm>
            <a:off x="1357200" y="37148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Овал 26"/>
          <p:cNvSpPr/>
          <p:nvPr/>
        </p:nvSpPr>
        <p:spPr>
          <a:xfrm>
            <a:off x="1357200" y="40719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27"/>
          <p:cNvSpPr/>
          <p:nvPr/>
        </p:nvSpPr>
        <p:spPr>
          <a:xfrm>
            <a:off x="1357200" y="44290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Овал 28"/>
          <p:cNvSpPr/>
          <p:nvPr/>
        </p:nvSpPr>
        <p:spPr>
          <a:xfrm>
            <a:off x="1357200" y="471492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Овал 29"/>
          <p:cNvSpPr/>
          <p:nvPr/>
        </p:nvSpPr>
        <p:spPr>
          <a:xfrm>
            <a:off x="1357200" y="50720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Овал 30"/>
          <p:cNvSpPr/>
          <p:nvPr/>
        </p:nvSpPr>
        <p:spPr>
          <a:xfrm>
            <a:off x="1357200" y="571500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Овал 31"/>
          <p:cNvSpPr/>
          <p:nvPr/>
        </p:nvSpPr>
        <p:spPr>
          <a:xfrm>
            <a:off x="1357200" y="5357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32"/>
          <p:cNvSpPr/>
          <p:nvPr/>
        </p:nvSpPr>
        <p:spPr>
          <a:xfrm>
            <a:off x="1357200" y="607212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любого урока включает в себ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888840" y="2421000"/>
            <a:ext cx="8229600" cy="3341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рганизационно-эстетическую сре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держ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иль образовательного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льтуру управления образовательной де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дактическую структу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ические при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хема 2" descr=""/>
          <p:cNvPicPr/>
          <p:nvPr/>
        </p:nvPicPr>
        <p:blipFill>
          <a:blip r:embed="rId1"/>
          <a:stretch/>
        </p:blipFill>
        <p:spPr>
          <a:xfrm>
            <a:off x="542880" y="182520"/>
            <a:ext cx="8352000" cy="5926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Image0116.BMP"/>
          <p:cNvPicPr/>
          <p:nvPr/>
        </p:nvPicPr>
        <p:blipFill>
          <a:blip r:embed="rId2"/>
          <a:srcRect l="7282" t="9373" r="14180" b="7292"/>
          <a:stretch/>
        </p:blipFill>
        <p:spPr>
          <a:xfrm>
            <a:off x="1835280" y="1557360"/>
            <a:ext cx="2214360" cy="328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iagram9" descr=""/>
          <p:cNvPicPr/>
          <p:nvPr/>
        </p:nvPicPr>
        <p:blipFill>
          <a:blip r:embed="rId1"/>
          <a:stretch/>
        </p:blipFill>
        <p:spPr>
          <a:xfrm>
            <a:off x="1322280" y="463680"/>
            <a:ext cx="7516800" cy="49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268360" y="4365720"/>
            <a:ext cx="44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408400" y="2349360"/>
            <a:ext cx="4392360" cy="3594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4800" spc="-1" strike="noStrike">
                <a:solidFill>
                  <a:srgbClr val="4f81bd"/>
                </a:solidFill>
                <a:latin typeface="Georgi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333360"/>
            <a:ext cx="66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s://cf.ppt-online.org/files1/slide/x/xPsUICa9njTE15Jyb2Zd7hgVA04XplKkmNOvuzQRSF/slide-1.jpg"/>
          <p:cNvPicPr/>
          <p:nvPr/>
        </p:nvPicPr>
        <p:blipFill>
          <a:blip r:embed="rId1"/>
          <a:stretch/>
        </p:blipFill>
        <p:spPr>
          <a:xfrm>
            <a:off x="1258920" y="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Условия реализация         воспитательного потенциал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8920" y="1484280"/>
            <a:ext cx="84963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воспитательных задач в ходе каждого урока в единстве с задачами обучения и развития личности школь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го отбора содержания учебного материала, представляющего ученикам образцы подлинной нравств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временных образователь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амостоятельной творческой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684360" y="101916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а матема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33480" y="2876400"/>
            <a:ext cx="8183520" cy="2533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— 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и математики должны воспитывать у учащихся логическую культуру мышления, строгость и стройность в умозаключен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— 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держание математических задач дает возможность значительно расширить кругозор учащихся, поднять их общий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97040" y="135396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ов литературного ч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8000" y="3284640"/>
            <a:ext cx="6181920" cy="1604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делы «Поэтическая тетрадь», устное народное творчество, сбор пословиц и поговорок о добре и зле, о дружбе , вежливости, мини-сочи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sun9-52.userapi.com/s/v1/if2/v3-MBFytRYZsEmSrz-4XyyYdx4CeFyZQP-GpwLmrQyIr_dbtXDa5A0fsqTChirKiKZeIcMm916ZFtHI_lK_aYQX6.jpg?size=1350x1600&amp;quality=95&amp;type=album"/>
          <p:cNvPicPr/>
          <p:nvPr/>
        </p:nvPicPr>
        <p:blipFill>
          <a:blip r:embed="rId1"/>
          <a:stretch/>
        </p:blipFill>
        <p:spPr>
          <a:xfrm>
            <a:off x="4572000" y="260280"/>
            <a:ext cx="3038400" cy="3600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2695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635040" y="137628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ов русского яз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50560" y="3068640"/>
            <a:ext cx="6697800" cy="2016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ловицы, поговорки, высказывания известных писателей, отрывки из стихотворений, загадки, поговорки, пословицы, фразеологизмы,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и развития речи, метод проектов, дидактические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8099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92880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ов окружающего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643040"/>
            <a:ext cx="8254800" cy="4479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способствует преодолению отрыва обучения от жизн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расширению кругозор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воспитанию нравственных качест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развитию патриотических чувст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приобщает школьников к национальной культуре родного на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выступает фундаментом для взаимодействия с культурой других народов, мировой культу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уфия</dc:creator>
  <dc:description/>
  <dc:language>en-US</dc:language>
  <cp:lastModifiedBy>Учитель</cp:lastModifiedBy>
  <dcterms:modified xsi:type="dcterms:W3CDTF">2023-10-29T17:44:11Z</dcterms:modified>
  <cp:revision>49</cp:revision>
  <dc:subject/>
  <dc:title>Педагогический совет</dc:title>
</cp:coreProperties>
</file>