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wmf" ContentType="image/x-wmf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D32-8CB7-4964-9CBA-FD8AE9DB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555-A920-4691-8E75-4DBDAC9E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34F-36F0-4CDF-9AC6-C300B598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6BE-1127-4C91-B4BB-8B5DC5F5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00A-43A4-42B2-9101-E0F50ADF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1A3-9D4E-4C83-A099-97F81D3C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A47-AF59-410A-8A77-B2FA279E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84C-AF3B-4204-87AE-05DADA84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470-972D-4FCD-90C9-A2A4D35D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EC5-81CE-4BBF-961B-F3B7461C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E25-15C6-4DA2-8CA6-680E2163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F5B-5B3E-44A1-8159-08AED3D9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8D7E-44C0-48C7-A576-C3D13D1F5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224000" y="1700280"/>
            <a:ext cx="6661080" cy="33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или речи</a:t>
            </a:r>
            <a:endParaRPr b="1" i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771280" y="4155840"/>
            <a:ext cx="584388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Унылая пора! Очей очаровань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Приятна мне твоя прощальная кра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Люблю я пышное природы увяда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В багрец и золото одетые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9" descr="осень"/>
          <p:cNvPicPr/>
          <p:nvPr/>
        </p:nvPicPr>
        <p:blipFill>
          <a:blip r:embed="rId1"/>
          <a:stretch/>
        </p:blipFill>
        <p:spPr>
          <a:xfrm>
            <a:off x="1187280" y="620640"/>
            <a:ext cx="6697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5183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тафо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40464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Выразительные средства язык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5616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возь волнистые    тум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бирается лу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печальные поля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ьет печально свет 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луна"/>
          <p:cNvPicPr/>
          <p:nvPr/>
        </p:nvPicPr>
        <p:blipFill>
          <a:blip r:embed="rId1"/>
          <a:stretch/>
        </p:blipFill>
        <p:spPr>
          <a:xfrm>
            <a:off x="5003640" y="3860640"/>
            <a:ext cx="3810240" cy="2781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0" y="549360"/>
            <a:ext cx="849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Эпитеты – образные определения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468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ес, точно терем распис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ловый, золотой, багря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елой, пестрою сте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оит над солнечной поля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лес"/>
          <p:cNvPicPr/>
          <p:nvPr/>
        </p:nvPicPr>
        <p:blipFill>
          <a:blip r:embed="rId1"/>
          <a:stretch/>
        </p:blipFill>
        <p:spPr>
          <a:xfrm>
            <a:off x="5248440" y="1297080"/>
            <a:ext cx="3578040" cy="5438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0" y="0"/>
            <a:ext cx="8353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равнение – сопоставление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дного предмета с другим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5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23e1a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пруду лебедем красным плавает тихий   закат.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пруд"/>
          <p:cNvPicPr/>
          <p:nvPr/>
        </p:nvPicPr>
        <p:blipFill>
          <a:blip r:embed="rId1"/>
          <a:stretch/>
        </p:blipFill>
        <p:spPr>
          <a:xfrm>
            <a:off x="1476360" y="3618000"/>
            <a:ext cx="5618160" cy="3240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5"/>
          <p:cNvSpPr/>
          <p:nvPr/>
        </p:nvSpPr>
        <p:spPr>
          <a:xfrm>
            <a:off x="324000" y="189000"/>
            <a:ext cx="8496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Метафора – скрытое сравнение, сопоставление двух предметов, имеющих общую черту.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6516720" y="285264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.Есенин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6868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лицетворение – наделение неживых предметов </a:t>
            </a:r>
            <a:r>
              <a:rPr b="0" i="1" lang="ru-RU" sz="4000" spc="-1" strike="noStrike">
                <a:solidFill>
                  <a:srgbClr val="983300"/>
                </a:solidFill>
                <a:latin typeface="Arial"/>
              </a:rPr>
              <a:t>разнообразными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 чувствами, мыслями, поступками, реч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черемуха"/>
          <p:cNvPicPr/>
          <p:nvPr/>
        </p:nvPicPr>
        <p:blipFill>
          <a:blip r:embed="rId1"/>
          <a:stretch/>
        </p:blipFill>
        <p:spPr>
          <a:xfrm>
            <a:off x="5148360" y="3141720"/>
            <a:ext cx="3611520" cy="3313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468360" y="4076640"/>
            <a:ext cx="446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пит черемуха в белой накидке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979640" y="5373720"/>
            <a:ext cx="251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.Есенин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2472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пределит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выразительны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редства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языка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трывк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из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тихотворения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А.С.Пушкина</a:t>
            </a: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b3215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«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Зимне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утро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2708280"/>
            <a:ext cx="687708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чор, ты помнишь,</a:t>
            </a:r>
            <a:r>
              <a:rPr b="0" lang="ru-RU" sz="2800" spc="-1" strike="noStrike">
                <a:solidFill>
                  <a:srgbClr val="9c34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ьюга злилас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утном небе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гла носила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уна, как бледное пятн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возь туч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рачны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е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ч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иде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4360" y="2781360"/>
            <a:ext cx="2808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олицетв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олицетв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3300"/>
                </a:solidFill>
                <a:latin typeface="Arial"/>
              </a:rPr>
              <a:t>Официально-делово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-точная передача делов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сте пропусков напишите полное официальное название наше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ше государство –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оссийская Федер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ите пред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олицей …является горо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082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3300"/>
                </a:solidFill>
                <a:latin typeface="Arial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31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ku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т. обще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j0301252"/>
          <p:cNvPicPr/>
          <p:nvPr/>
        </p:nvPicPr>
        <p:blipFill>
          <a:blip r:embed="rId1"/>
          <a:stretch/>
        </p:blipFill>
        <p:spPr>
          <a:xfrm>
            <a:off x="5364000" y="0"/>
            <a:ext cx="378000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Из истории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р.)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алочка для пис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палочка"/>
          <p:cNvPicPr/>
          <p:nvPr/>
        </p:nvPicPr>
        <p:blipFill>
          <a:blip r:embed="rId1">
            <a:lum contrast="18000"/>
          </a:blip>
          <a:stretch/>
        </p:blipFill>
        <p:spPr>
          <a:xfrm rot="1720200">
            <a:off x="4788000" y="1844280"/>
            <a:ext cx="293364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11280" y="549360"/>
          <a:ext cx="8281800" cy="5759280"/>
        </p:xfrm>
        <a:graphic>
          <a:graphicData uri="http://schemas.openxmlformats.org/drawingml/2006/table">
            <a:tbl>
              <a:tblPr/>
              <a:tblGrid>
                <a:gridCol w="2601720"/>
                <a:gridCol w="5680080"/>
              </a:tblGrid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Назначение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стиля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ействие на читателя и слушателя, формирование правильного отношения к общественным явлениям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Сфера употребления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азетах, журнальных статьях, в передачах радио и телевидения, в выступлениях на собраниях, митингах.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Языковые                                     приметы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., побудит., воскл. предложения; обращения, повторы, риторические вопросы; слова в переносном значении.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3300"/>
                </a:solidFill>
                <a:latin typeface="Arial"/>
              </a:rPr>
              <a:t>Определите признаки публицистического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любви к родному краю, к родной культуре, к родному селу или городу, к родной речи – задача первостепенной важности, и нет необходимости это доказывать. Но как воспитать эту любов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0090386"/>
          <p:cNvPicPr/>
          <p:nvPr/>
        </p:nvPicPr>
        <p:blipFill>
          <a:blip r:embed="rId1"/>
          <a:stretch/>
        </p:blipFill>
        <p:spPr>
          <a:xfrm>
            <a:off x="4572000" y="2637000"/>
            <a:ext cx="428292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3300"/>
                </a:solidFill>
                <a:latin typeface="Arial"/>
              </a:rPr>
              <a:t>Жанры публицистического сти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5128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ор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зы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ценз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в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j0195384"/>
          <p:cNvPicPr/>
          <p:nvPr/>
        </p:nvPicPr>
        <p:blipFill>
          <a:blip r:embed="rId1"/>
          <a:stretch/>
        </p:blipFill>
        <p:spPr>
          <a:xfrm>
            <a:off x="1577880" y="1773360"/>
            <a:ext cx="29448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33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шите сочинение в жанре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е, с кем вы будете вести бес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етьте тему беседы, продумайт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основное содержание 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запись, определите основную мысль интервью, озаглавь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дактируйте написанное, перепи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68263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b3215"/>
                </a:solidFill>
                <a:latin typeface="Arial"/>
              </a:rPr>
              <a:t>Желаю</a:t>
            </a:r>
            <a:r>
              <a:rPr b="1" i="1" lang="ru-RU" sz="32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9b3215"/>
                </a:solidFill>
                <a:latin typeface="Arial"/>
              </a:rPr>
              <a:t>творческих</a:t>
            </a:r>
            <a:r>
              <a:rPr b="1" i="1" lang="ru-RU" sz="32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9b3215"/>
                </a:solidFill>
                <a:latin typeface="Arial"/>
              </a:rPr>
              <a:t>успех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ero"/>
          <p:cNvPicPr/>
          <p:nvPr/>
        </p:nvPicPr>
        <p:blipFill>
          <a:blip r:embed="rId1"/>
          <a:stretch/>
        </p:blipFill>
        <p:spPr>
          <a:xfrm>
            <a:off x="2484360" y="2467080"/>
            <a:ext cx="360036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презентации – учитель русского языка и литературы МБОУ Захаровская СОШ г. Агабалян М.А. 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речи: теория и практика обучения, М.,ЛИНКА-ПРЕСС, 199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А.С.Пушкина, С.А.Есенина, И.А.Бу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30088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тиль – функциональная разновидность            литературного языка, особенности    построения речи, словоупотреб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Прочитайте тексты, </a:t>
            </a:r>
            <a:br>
              <a:rPr sz="4000"/>
            </a:b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пределите стиль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44956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тер – перемещение воздуха над поверхностью земли. Возникает вследствие неравномерного распределения атмосферного д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атмосфера"/>
          <p:cNvPicPr/>
          <p:nvPr/>
        </p:nvPicPr>
        <p:blipFill>
          <a:blip r:embed="rId1"/>
          <a:stretch/>
        </p:blipFill>
        <p:spPr>
          <a:xfrm>
            <a:off x="4643280" y="765000"/>
            <a:ext cx="4038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ама, мама! Ты посмотри, какой сильный ветер, деревья так и гнутся к земле.                                                    -Пойдем , Машенька, скорее д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4911Veter"/>
          <p:cNvPicPr/>
          <p:nvPr/>
        </p:nvPicPr>
        <p:blipFill>
          <a:blip r:embed="rId1"/>
          <a:stretch/>
        </p:blipFill>
        <p:spPr>
          <a:xfrm>
            <a:off x="1332000" y="2997360"/>
            <a:ext cx="63370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42472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руг в стоячем воздухе что-то прорвалось, сильно рванул ветер и с шумом, со свистим закружился по степи. Тотчас же трава и прошлогодний бурьян подняли рокот, по дороге спиралью закружилась пыль, побежала по степи и, увлекая за собой солому, стрекоз и перья, черным вертящимся столбом поднялась к небу и затуманила сол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П.Чех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ntgm"/>
          <p:cNvPicPr/>
          <p:nvPr/>
        </p:nvPicPr>
        <p:blipFill>
          <a:blip r:embed="rId1"/>
          <a:stretch/>
        </p:blipFill>
        <p:spPr>
          <a:xfrm>
            <a:off x="1595520" y="4005360"/>
            <a:ext cx="5952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науч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разговор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художествен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Многие русские слова сами по себе излучают поэзию, подобно тому, как драгоценные камни излучают таинственный блес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                                           </a:t>
            </a: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К.Пау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5:16:22Z</dcterms:created>
  <dc:creator>Лопатина Наталья Владимировна</dc:creator>
  <dc:description>Рекомендовано использовать на уроках развития речи в 5-6 классах</dc:description>
  <dc:language>en-US</dc:language>
  <cp:lastModifiedBy>Mark Borisov</cp:lastModifiedBy>
  <dcterms:modified xsi:type="dcterms:W3CDTF">2024-01-06T15:22:29Z</dcterms:modified>
  <cp:revision>57</cp:revision>
  <dc:subject>русский язык</dc:subject>
  <dc:title>стили речи</dc:title>
</cp:coreProperties>
</file>