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9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0AD1F-A8C0-47F4-AFE2-5CFB71B1E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72277-0372-4B53-B279-810CCDBB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D49B-58F3-412A-8BB0-BDE0BA3A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FBBFB-3531-4B11-965C-33198BC13F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C74F3-00A9-4D7C-BD60-C19875206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C50AC2-C149-46CC-A881-E574FD3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64747-8561-4823-A87C-B71490E3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5106E-B1CD-44A2-9F81-AB54381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5EDB3-17E4-4CD5-ADBD-A08C9406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AD959-D600-4F78-A445-88211D51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4212F-7101-4FD3-B831-3ACBF99D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D9E6-3451-4FDD-9BB2-B0CCEC18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774F9-5BA0-4B64-9BBE-03D257D1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0D36B-A9A6-42F1-9CEE-C1E886C9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F3FEA-333F-4599-9DC3-9F2971F9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6C0EC-9D35-4237-B639-D9D8EE1A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2240B-11B3-45DA-88BC-081C9F3215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B912-E00E-47EA-962B-94FCCC31E9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14F9-B16D-4BAD-A4A8-C3CDB43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D463-FA74-4A76-B864-F4C293B6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0298-8413-41E9-80A3-2D8C7F20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35F4-1294-45B3-812B-290D0902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A3BA-D4DB-4445-8F6C-BB49CBF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5330-A79D-43B2-8710-6281CEA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A164-B497-46EA-AD22-D4BB6274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C957-5FDB-49B9-9D53-6ABB9A89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3B0A-698E-408B-9CF4-FEF8F43C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6D6D-0814-4AE9-A579-38A7D503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2E71-29B9-4F0B-90DD-0102A63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CCDD-EFBA-4E90-BA72-382B777BC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5E19F-E351-432F-A649-2233F945C6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8EC54-FFE0-49E7-B2A3-82F993F1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37CA6-C0B2-45D7-AF8A-1AF69FBA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E39F-4637-41AA-9DBE-459838AD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A7192A-C8A9-439F-8BCA-E4DA4710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2A9F4-9150-46BF-AE6D-A70DC57B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26D6A-D764-4638-93D3-170D0F16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765B8-29C5-49F3-9725-2350A504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99D405-1561-45F7-9614-566172CB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676767-A465-4A83-B52A-FB39B36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7D69E-57DD-4868-8B73-69796808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FBF29-6D1D-40B3-8794-33AC4B1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B2EE0-A198-4223-903C-25DE2CF3D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3B329-5275-421E-957A-57D9B0E19B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EB42-1951-477F-B6F9-C514E71B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AA5826-A449-4923-8695-C7CD751D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BB5F6-68E4-408A-A4C6-77F79EF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473503-E4AC-4864-B063-8868E8E7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2A288-6584-49F7-96DC-49335480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1DD448-81A1-4161-87FB-63F039C8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989C0-19BD-49A3-9BB2-7DB1E216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CB42BA-2577-45E0-8714-7D07AF012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24ED14-EA40-4502-A39C-06A8D404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0152F-2523-4085-91D0-9ECECB5A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85F7B-2A11-4404-AF10-316FD74F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5157-904F-490D-B794-F3EBBD89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414780-B906-43E5-9F62-B2B2BD0266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F429-981D-4838-AF05-56882B967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7C50A-AF4E-4F73-86F5-57807F32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11A8-F5BA-4BD0-AD6E-A232C021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03AC8-0D2C-477A-839F-0A227055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CE687-FBC2-40D2-B1CB-3495BE19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F84E3-22F3-4C8E-AC0D-29E20421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7F68D-C67B-4908-8540-6EA898D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17607-8AEC-4443-B8E6-EDEAC743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014F-7A79-4BD8-A376-AE590158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0C1A8-1B84-483D-8F53-FB5EB2D1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2632-7E36-4DD7-B428-B3263E242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62071-0338-4274-A247-A1488FF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B398-466F-4655-AECB-425624016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7C965-FF21-4487-8437-685F3853B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AA2BC6-6187-441D-8114-E5494A4D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40902-C602-4DB9-BDD3-57C0A8F6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A76D4-7709-4D75-BA5D-4EC4DC27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B60882-7839-4ED4-8B7F-43B0D2692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274680"/>
            <a:ext cx="7496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6388F-4BD0-478F-934F-1C16B923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CFD89-7DAF-4B31-A535-EA060E3D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7F8C1-DF06-42D8-B588-F7C6FA13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BD3AD5-C49B-4A85-B44F-8F732D7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BA0F38-FDF4-4265-AE39-E85A7EB7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CCCCB-0571-4850-9B49-2335334A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800" y="395388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9B6076-F3EC-4239-B1B3-FA9E45C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900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3760" y="144792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900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3760" y="3953880"/>
            <a:ext cx="241344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37848-E4D0-4DA2-B8DA-AD6174316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800" y="1447920"/>
            <a:ext cx="365796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3880"/>
            <a:ext cx="7496280" cy="22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48C9-1CF1-4386-BE85-FA9C9C67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41C19-4680-463A-B806-9B3C4517F36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6760" cy="1166760"/>
            <a:chOff x="165240" y="1036800"/>
            <a:chExt cx="1166760" cy="116676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6760" cy="11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1000" y="1213920"/>
              <a:ext cx="792000" cy="7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28600" cy="222480"/>
            <a:chOff x="914400" y="1407960"/>
            <a:chExt cx="228600" cy="22248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61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F9BCB9-4BFE-47D1-9389-4A233008DED9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28600" cy="222480"/>
            <a:chOff x="2163600" y="2809800"/>
            <a:chExt cx="228600" cy="22248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860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43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0B4B8D-6297-4335-A527-E1FAB4253CE1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8F64692-D43A-49A9-A30B-9BEE9C663557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D13427-151C-4710-9891-7329B11B1D8A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E5920E-01B9-42A3-96BC-F67BB74FE679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0600" cy="4799160"/>
            <a:chOff x="646200" y="969840"/>
            <a:chExt cx="4800600" cy="47991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0600" cy="479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68760" cy="45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99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274680"/>
            <a:ext cx="74962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920"/>
            <a:ext cx="749628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5040"/>
            <a:ext cx="213048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5040"/>
            <a:ext cx="45396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F23AFF-290F-4B98-BBAD-55E9064087BE}" type="slidenum">
              <a:rPr b="0" lang="ru-RU" sz="1200" spc="-1" strike="noStrike">
                <a:solidFill>
                  <a:srgbClr val="95bcc2"/>
                </a:solidFill>
                <a:latin typeface="Corbe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20720" y="274320"/>
            <a:ext cx="82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                                            «Шиловская средняя общеобразовательнаяШкола № 2»</a:t>
            </a:r>
            <a:endParaRPr b="0" lang="en-US" sz="14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677232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6b8d"/>
                </a:solidFill>
                <a:latin typeface="Corbel"/>
              </a:rPr>
              <a:t>                  </a:t>
            </a:r>
            <a:r>
              <a:rPr b="0" lang="ru-RU" sz="4400" spc="-1" strike="noStrike">
                <a:solidFill>
                  <a:srgbClr val="006b8d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«Газированные напитки– </a:t>
            </a:r>
            <a:br>
              <a:rPr sz="3600"/>
            </a:br>
            <a:r>
              <a:rPr b="0" lang="ru-RU" sz="3600" spc="-1" strike="noStrike">
                <a:solidFill>
                  <a:srgbClr val="006b8d"/>
                </a:solidFill>
                <a:latin typeface="Corbel"/>
              </a:rPr>
              <a:t>                      вред или польза?»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"/>
          <p:cNvSpPr/>
          <p:nvPr/>
        </p:nvSpPr>
        <p:spPr>
          <a:xfrm>
            <a:off x="5400720" y="5111640"/>
            <a:ext cx="364644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Выполнила:</a:t>
            </a: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ученица 3 «А» клас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3e56"/>
                </a:solidFill>
                <a:latin typeface="Arial"/>
              </a:rPr>
              <a:t>Барановская Пол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3e56"/>
                </a:solidFill>
                <a:latin typeface="Corbel"/>
                <a:ea typeface="Microsoft YaHei"/>
              </a:rPr>
              <a:t>Дорохина Ольга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16000" y="3240000"/>
            <a:ext cx="3816360" cy="34750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Углекислый газ</a:t>
            </a:r>
            <a:br>
              <a:rPr sz="39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34960" y="1447920"/>
            <a:ext cx="3713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Сам по себе углекислый газ не вреден, но он вызывает отрыжку, вздутие живота, газы. Это касается людей, имеющих заболевания ЖКТ (желудочно – кишечного тракт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rcRect l="9739" t="0" r="13732" b="0"/>
          <a:stretch/>
        </p:blipFill>
        <p:spPr>
          <a:xfrm>
            <a:off x="5003640" y="2205000"/>
            <a:ext cx="3961080" cy="3449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Сахар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932360" y="1447920"/>
            <a:ext cx="4002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Негативно влияет на функционирование поджелудочной железы и эндокринной системы человека, может вызвать ожирение у детей и взрослых, сахарный диабет и атеросклероз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1258920" y="1628640"/>
            <a:ext cx="3889440" cy="361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4753080" cy="43052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34960" y="1447920"/>
            <a:ext cx="3497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Дают нагрузку на печень, приводят к различным аллергическим реакциям – от насморка и сыпи до бронхиальной астмы, разрушают эмаль зубов, что приводит к кариес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феин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1413000"/>
            <a:ext cx="385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пособствует истощению нервной системы, сопровождающейся головными болями, усталостью, повышает нагрузку на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3834000" cy="403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Консерванты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3280" y="1268280"/>
            <a:ext cx="676908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Основными консервантами являются лимонная или ортофосфорная кислота, а также бензоат натрия (Е21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3995640" y="3429000"/>
            <a:ext cx="4832280" cy="321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1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мелом)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01480" y="2638440"/>
            <a:ext cx="4034160" cy="276228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3"/>
          <a:srcRect l="5963" t="0" r="13499" b="0"/>
          <a:stretch/>
        </p:blipFill>
        <p:spPr>
          <a:xfrm rot="60000">
            <a:off x="4991040" y="2649240"/>
            <a:ext cx="3888000" cy="2716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03280" y="1368360"/>
            <a:ext cx="8558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ли газированную воду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писала ёмкости и разлили воду : «Пепси-Кола», «Фанта», «Бурати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ли по кусочку 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6000" y="5400720"/>
            <a:ext cx="8940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собенно бурно протекала реакция в пробах:«Пепси-Кола», «Фанта», «Буратино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азированная вода всех видов содержит ионы водорода, что способствует выделению углекислого г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565200" y="79200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2 </a:t>
            </a:r>
            <a:br>
              <a:rPr sz="3600"/>
            </a:br>
            <a:r>
              <a:rPr b="1" lang="ru-RU" sz="36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о ржавчиной)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Мы взяли бутылочку «Пепси-Колы». Налили её в ёмкость .Взяли монету и опустили  её в стакан с газированной водой «Пепси-Кола».Оставили монету в воде на су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863640" y="2735280"/>
            <a:ext cx="3173400" cy="2484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327640" y="2808360"/>
            <a:ext cx="3384720" cy="25192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54160" y="5754600"/>
            <a:ext cx="87469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rbel"/>
                <a:ea typeface="Microsoft YaHei"/>
              </a:rPr>
              <a:t>НАБЛЮДЕНИЯ:</a:t>
            </a:r>
            <a:r>
              <a:rPr b="0" lang="ru-RU" sz="1600" spc="-1" strike="noStrike">
                <a:solidFill>
                  <a:srgbClr val="006b8d"/>
                </a:solidFill>
                <a:latin typeface="Corbel"/>
                <a:ea typeface="Microsoft YaHe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  <a:ea typeface="Microsoft YaHei"/>
              </a:rPr>
              <a:t>Прошли сутки: Мы вынули  монету из  «Пепси-Колы», хорошо вытерли салфеткой. На салфетке осталась ржавч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986120" y="735120"/>
            <a:ext cx="514332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24000" y="801720"/>
            <a:ext cx="749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3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накипью)</a:t>
            </a:r>
            <a:br>
              <a:rPr sz="3900"/>
            </a:br>
            <a:r>
              <a:rPr b="0" lang="ru-RU" sz="2200" spc="-1" strike="noStrike">
                <a:solidFill>
                  <a:srgbClr val="000000"/>
                </a:solidFill>
                <a:latin typeface="Corbel"/>
                <a:ea typeface="Microsoft YaHei"/>
              </a:rPr>
              <a:t>В чайнике была накипь. Я налила «Фанту» в чайник с  накипью и  прокипятили 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rcRect l="0" t="0" r="0" b="14180"/>
          <a:stretch/>
        </p:blipFill>
        <p:spPr>
          <a:xfrm>
            <a:off x="1224000" y="2311560"/>
            <a:ext cx="2565360" cy="34477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rcRect l="0" t="0" r="0" b="12052"/>
          <a:stretch/>
        </p:blipFill>
        <p:spPr>
          <a:xfrm>
            <a:off x="5975280" y="2475000"/>
            <a:ext cx="2232000" cy="3213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28680" y="6186600"/>
            <a:ext cx="6546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накипь почти  исчезла, чайник стал  чи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dur="indefinite" fill="hold">
                      <p:stCondLst>
                        <p:cond delay="indefinite"/>
                      </p:stCondLst>
                      <p:childTnLst>
                        <p:par>
                          <p:cTn id="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4 </a:t>
            </a:r>
            <a:br>
              <a:rPr sz="3900"/>
            </a:b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с яичной скорлупой)</a:t>
            </a:r>
            <a:br>
              <a:rPr sz="3900"/>
            </a:b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лила газированную воду: «Пепси-Кола»  в чистую подготовленную тару. Положила в неё  кусочки яичной скорлупы. Через сутки скорлупа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Arial"/>
              </a:rPr>
              <a:t>приняла тёмно-коричневую окраску и стала вязкой и мяг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20960" y="2664000"/>
            <a:ext cx="38401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1871640" y="3240000"/>
            <a:ext cx="2382840" cy="16290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5651640" y="3168720"/>
            <a:ext cx="2340000" cy="1755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33440" y="5170320"/>
            <a:ext cx="8566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 Unicode MS"/>
              </a:rPr>
              <a:t>ВЫВОД: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«Пепси-кола» содержит красители, которые окрашивают яичную скорлупу и хорошо растворяют неорганические вещества в яичной  скорл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Цель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03280" y="170028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, какая газированная вода полезна, а какая представляет реальную угрозу для здоровь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4813200" y="3743280"/>
            <a:ext cx="4186440" cy="30956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720720" y="249120"/>
            <a:ext cx="770400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5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личие газ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только что открытую бутылку с газированной водой я надела воздушный шарик и стала слегка трясти бутылку. Шарик мгновенно надул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2519280" y="2592360"/>
            <a:ext cx="4295880" cy="26668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1200" y="5277960"/>
            <a:ext cx="74977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газированной воде есть газ. При употреблении газировки может заболеть живот, появится вздутие и отрыжк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6360" y="5277960"/>
            <a:ext cx="82072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Corbe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в моем случае оказалась химия, т. к. газировка цвет не изменила.Реакция газированных напитков с содой протекала очень бурно, с выделением углекислого газа.</a:t>
            </a:r>
            <a:endParaRPr b="0" lang="en-US" sz="18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89" name=""/>
          <p:cNvSpPr/>
          <p:nvPr/>
        </p:nvSpPr>
        <p:spPr>
          <a:xfrm>
            <a:off x="287280" y="360360"/>
            <a:ext cx="8640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Опыт №6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006b8d"/>
                </a:solidFill>
                <a:latin typeface="Corbel"/>
                <a:ea typeface="Microsoft YaHei"/>
              </a:rPr>
              <a:t>(проба на натуральность газированных напитков)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  <a:ea typeface="Microsoft YaHei"/>
              </a:rPr>
              <a:t>Я налила в стакан газированную воду «Кока-Кола» и добавита в него столовую ложку с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697040" y="2930400"/>
            <a:ext cx="5791320" cy="20383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006b8d"/>
                </a:solidFill>
                <a:latin typeface="Corbel"/>
                <a:ea typeface="Microsoft YaHei"/>
              </a:rPr>
              <a:t>Выводы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Сладкие газированные напитки не утоляют жажду, хотя мы покупаем их именно для этого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Химический состав напитков оказывает губительное действие на здоровье: разрушаются зубы, становятся хрупкими кости,  может возникнуть ожирение, аллергия, заболевания желудка, кофеиновая зависимость по типу наркотической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  <a:ea typeface="Microsoft YaHei"/>
              </a:rPr>
              <a:t>Для утоления жажды лучше использовать морсы, минеральную воду, очищенную питьевую воду.         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4400" y="1035000"/>
            <a:ext cx="9142200" cy="6856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Задач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изучить литературу по теоретическим вопросам темы исслед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оказать отрицательное влияние газированных напитков на организм человека через исследование их кислотных свой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провести опыты с различными марками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6b8d"/>
                </a:solidFill>
                <a:latin typeface="Corbel"/>
                <a:ea typeface="Microsoft YaHei"/>
              </a:rPr>
              <a:t>Гипотеза проект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03280" y="1844640"/>
            <a:ext cx="7497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rbel"/>
                <a:ea typeface="Microsoft YaHei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Не всю газированную воду, которую мы покупаем в магазинах,  можно п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5543640" y="3168720"/>
            <a:ext cx="2868480" cy="34765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3568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  <a:ea typeface="Microsoft YaHei"/>
              </a:rPr>
              <a:t>Газированную воду в 1767 г. изобрел английский химик Джозеф Пристли. Он проводил различные эксперименты с газом, который выделяется при брожении в чанах пивоваренного за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5292720" y="1484280"/>
            <a:ext cx="3382920" cy="4614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67280" y="1657440"/>
            <a:ext cx="4176720" cy="5200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4360" y="1655640"/>
            <a:ext cx="48229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Джозеф Пристли разработал аппарат, который при помощи насоса давал возможность насыщать воду углекислыми пузырьками. Этот аппарат был назван «сатуратор» от лат. saturo — насыщ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История газиров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64000" y="1700280"/>
            <a:ext cx="3495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В 1783 г. промышленное производство начал Якоб Швепп, который и создал торговую марку Schwep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4105080" cy="449892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urier New"/>
                <a:ea typeface="Courier New"/>
              </a:rPr>
              <a:t>Самые популярные марки газированной 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936720" y="1666800"/>
            <a:ext cx="2454120" cy="26528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616720" y="1798560"/>
            <a:ext cx="316692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863640" y="4535640"/>
            <a:ext cx="3095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39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10253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выми марками газировки,выпущенной в Америке, ст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Кока-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Фа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0066"/>
                </a:solidFill>
                <a:latin typeface="Arial"/>
              </a:rPr>
              <a:t>Спр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048360" y="4483080"/>
            <a:ext cx="259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России первыми ста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айк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Бурати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0066"/>
                </a:solidFill>
                <a:latin typeface="Arial"/>
              </a:rPr>
              <a:t>Тарх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476360" y="549360"/>
            <a:ext cx="749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6b8d"/>
                </a:solidFill>
                <a:latin typeface="Corbel"/>
                <a:ea typeface="Microsoft YaHei"/>
              </a:rPr>
              <a:t>Состав газированной в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835280" y="2133720"/>
            <a:ext cx="666576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Углекислый г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Сах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расители и ароматиз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фе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2826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Консерв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809640"/>
                <a:tab algn="l" pos="1258920"/>
                <a:tab algn="l" pos="1708200"/>
                <a:tab algn="l" pos="2157480"/>
                <a:tab algn="l" pos="2606760"/>
                <a:tab algn="l" pos="3056040"/>
                <a:tab algn="l" pos="3505320"/>
                <a:tab algn="l" pos="3954600"/>
                <a:tab algn="l" pos="4403880"/>
                <a:tab algn="l" pos="4853160"/>
                <a:tab algn="l" pos="5302080"/>
                <a:tab algn="l" pos="5751360"/>
                <a:tab algn="l" pos="6200640"/>
                <a:tab algn="l" pos="6649920"/>
                <a:tab algn="l" pos="7099200"/>
                <a:tab algn="l" pos="7548480"/>
                <a:tab algn="l" pos="7997760"/>
                <a:tab algn="l" pos="8447040"/>
                <a:tab algn="l" pos="8896320"/>
                <a:tab algn="l" pos="93456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9T16:19:36Z</dcterms:created>
  <dc:creator>XTreme.ws</dc:creator>
  <dc:description/>
  <dc:language>en-US</dc:language>
  <cp:lastModifiedBy>XTreme.ws</cp:lastModifiedBy>
  <dcterms:modified xsi:type="dcterms:W3CDTF">2017-03-15T19:33:46Z</dcterms:modified>
  <cp:revision>14</cp:revision>
  <dc:subject/>
  <dc:title>Газированная вода –  вред или польза</dc:title>
</cp:coreProperties>
</file>