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74DB-E3FC-4740-9780-76F068A4AF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253A-8A3B-4FC5-8312-71EAFDA2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67D0-AA62-4390-A086-D3E59731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856C-6660-4DC4-BEA5-16098B2FE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89A4B-CC5D-4D76-9DA9-BD425F3B4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B950-929D-4601-937D-484D5C38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C7FF7-276B-485D-B0FD-30A21918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5B872-D2CC-4F23-A87C-E86225CA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0BF2C-353D-46B4-8FE2-95CECC65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0F939-56CC-469E-BB75-C0DC5248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8ECC2-10F4-43AD-BABA-B94822A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F8A8-0DE4-4C17-886E-AC2C3F8C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CE43D-870B-4912-8A02-CBA83FA5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FE13B-A439-4FB9-ACE9-26DAE7B3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B584E-246F-4414-85D0-E09056AF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8508E-5F09-42E4-BB9D-7254CF41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8C3EB-7DBA-4E4D-AD36-7C8EF3319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966F-9B8F-41F3-9910-46ECA467A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4693-8D84-47A7-91A5-58C5E5F6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EE5A-9CBF-4C65-80D6-BF447A5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CD06-9322-4CD7-BABA-0221AF29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BA2B-9AFC-413F-BA57-4A50ABE6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E7E3-201D-477C-A369-713BA91E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BDC2-4A8C-443F-B4CB-BB68ACF4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7FFF-A301-48CF-B66A-5DBE2FD8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3CCE-2401-4EA0-84F0-8CAD3CA0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0C8-6FB1-4063-9A97-93DD3762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7EE-9162-4249-8AB8-CBEAC097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0BD1-428C-458C-9A71-6D4B2F97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351D-0118-4A33-A5C7-61900360B5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7E516-D1C7-458B-9169-BFD313F1E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552C5-68FE-4B3A-961E-60BAA710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04147-94FF-41F1-8EC7-89CF8845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8EB1-12F6-4117-A63A-8EC8236B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0E995-1944-4CF1-B7C5-1A43F0E3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7D84C-9553-4C55-8C76-536F0121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DF94C-7ED0-4A87-8179-5370E9FD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9A194-378D-4660-9F6C-92F84A2D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42940-9B02-45B1-BDD3-A8ADBDBD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709FA-14AA-49CD-8B65-15FABD10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68137-2DAE-480C-B934-6A85263C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3A3A5-2C06-480D-A746-D3B307F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82E22-AC7B-435F-89CE-C9E23E76C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E5239-FEE8-47D0-A977-D9705114B0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671E-5B25-4E7D-BC1D-620EE637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21920-73C3-4EFE-827F-789790F4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B53D3-96D9-4A1F-AA23-C601906D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13DD0-01D2-4BCE-9796-1A42E5C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14A57-B0E3-4D7A-9425-6556C3AF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ACB9B9-1015-49DC-90AE-3A3417C2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13243-6C49-440F-9C7A-DB5188D1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419BE-D5B9-48CB-A35C-CD9372C6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242EF-116B-4EB6-A84C-6E50648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68DB50-6113-49E2-92F3-016F9343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21F2F-EFF4-4EE0-B877-251F0E78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6600-0F84-4E4B-9E52-CC5785EF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D8F5C-2F22-401B-B4A2-7B76744DC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0358-9A6D-4A95-BF95-B55D41130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D5A62-A20D-4A27-9D7B-BFD4BCE5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EEB7-D53D-4AED-886C-EEB383DA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6239-6179-4F56-9D03-F68DB541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468D-DB81-4F9D-97C0-D486736A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47555-6E10-40D9-AEF4-ECC00B13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1822C-7B8F-46D2-B0D4-B645D530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E352D-4B12-4C51-92B2-04006976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9606D-FB68-4C1C-919B-6D4A3A96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EBE2-91EA-4B5C-BBFA-46BC58A6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6C29-37D6-4DE2-99EC-2C5B7F06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D13F1-92F1-42A9-8265-D4783CE0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66963-3468-430F-81B6-C7689B30D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D16B5-AB28-4C0A-8703-6BC4C55FF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A3979-5E94-4692-B6D3-D23ADCE6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41889-0A9E-49A3-AFD1-5409DBEE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C8CE5-90A7-4395-B4B8-185F8D80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39CC1-CB02-4432-9551-A1AF452C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37709-6087-450C-9855-03A97BF2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6E2A7-73E2-4F29-BC44-3F3A44E1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ED36-60B7-48CA-BDC0-4357669D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04309-8A0D-41A8-8939-E1BEA4DB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19DB6-1F8B-472B-B884-0547BEA7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B7E14-8DDF-410A-B4AE-D53F6562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17197-A91F-41E8-9FF7-DA55ACD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99C17-375E-4599-8A18-6BECD2DC37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4219-6C72-408E-9ABC-59BD012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BFD7D-1E6A-4F30-8760-87D002EAF71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96FED6-C3B4-4A1D-AC24-76F2C67BAF9E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4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1C1AF6-ADC5-41F0-8E53-933793AEAFFE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3883F5-C44A-4200-84B1-C82CAD38CC60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569867-19A9-4381-94E0-76DD876D963E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4A1E59-5CE6-41B4-A37F-FBBB180C35EB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E9B4A4-2EB4-40F1-BA24-44FC134094F2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82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   «Шиловская средняя общеобразовательнаяШкола № 2»</a:t>
            </a:r>
            <a:endParaRPr b="0" lang="en-US" sz="14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6772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b8d"/>
                </a:solidFill>
                <a:latin typeface="Corbel"/>
              </a:rPr>
              <a:t>                  </a:t>
            </a:r>
            <a:r>
              <a:rPr b="0" lang="ru-RU" sz="4400" spc="-1" strike="noStrike">
                <a:solidFill>
                  <a:srgbClr val="006b8d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6b8d"/>
                </a:solidFill>
                <a:latin typeface="Corbel"/>
              </a:rPr>
              <a:t>«Газированные напитки– </a:t>
            </a:r>
            <a:br>
              <a:rPr sz="3600"/>
            </a:br>
            <a:r>
              <a:rPr b="0" lang="ru-RU" sz="3600" spc="-1" strike="noStrike">
                <a:solidFill>
                  <a:srgbClr val="006b8d"/>
                </a:solidFill>
                <a:latin typeface="Corbel"/>
              </a:rPr>
              <a:t>                      вред или польза?»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/>
          <p:nvPr/>
        </p:nvSpPr>
        <p:spPr>
          <a:xfrm>
            <a:off x="5400720" y="5111640"/>
            <a:ext cx="36464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Выполнила:</a:t>
            </a:r>
            <a:r>
              <a:rPr b="0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e56"/>
                </a:solidFill>
                <a:latin typeface="Arial"/>
              </a:rPr>
              <a:t>ученица 3 «А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e5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e56"/>
                </a:solidFill>
                <a:latin typeface="Arial"/>
              </a:rPr>
              <a:t>Барановская Пол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Дорохина Ольга Евген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16000" y="3240000"/>
            <a:ext cx="3816360" cy="3475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Углекислый газ</a:t>
            </a:r>
            <a:br>
              <a:rPr sz="39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1447920"/>
            <a:ext cx="3713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Сам по себе углекислый газ не вреден, но он вызывает отрыжку, вздутие живота, газы. Это касается людей, имеющих заболевания ЖКТ (желудочно – кишечного тракт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rcRect l="9739" t="0" r="13732" b="0"/>
          <a:stretch/>
        </p:blipFill>
        <p:spPr>
          <a:xfrm>
            <a:off x="5003640" y="2205000"/>
            <a:ext cx="3961080" cy="344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Сахар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32360" y="1447920"/>
            <a:ext cx="4002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Негативно влияет на функционирование поджелудочной железы и эндокринной системы человека, может вызвать ожирение у детей и взрослых, сахарный диабет и атеросклеро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3889440" cy="361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753080" cy="4305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Красители и ароматизатор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34960" y="1447920"/>
            <a:ext cx="349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Дают нагрузку на печень, приводят к различным аллергическим реакциям – от насморка и сыпи до бронхиальной астмы, разрушают эмаль зубов, что приводит к кариес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Кофеин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03640" y="1413000"/>
            <a:ext cx="385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Способствует истощению нервной системы, сопровождающейся головными болями, усталостью, повышает нагрузку на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383400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Консервант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3280" y="1268280"/>
            <a:ext cx="6769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Основными консервантами являются лимонная или ортофосфорная кислота, а также бензоат натрия (Е21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4832280" cy="32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1 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 мелом)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01480" y="2638440"/>
            <a:ext cx="4034160" cy="2762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rcRect l="5963" t="0" r="13499" b="0"/>
          <a:stretch/>
        </p:blipFill>
        <p:spPr>
          <a:xfrm rot="60000">
            <a:off x="4991040" y="2649240"/>
            <a:ext cx="3888000" cy="2716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03280" y="1368360"/>
            <a:ext cx="8558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ли газированную воду «Пепси-Кола», «Фанта», «Бурати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писала ёмкости и разлили воду : «Пепси-Кола», «Фанта», «Бурати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ли по кусочку 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6000" y="5400720"/>
            <a:ext cx="8940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БЛЮД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обенно бурно протекала реакция в пробах:«Пепси-Кола», «Фанта», «Буратин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азированная вода всех видов содержит ионы водорода, что способствует выделению углекислого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65200" y="79200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2 </a:t>
            </a:r>
            <a:br>
              <a:rPr sz="3600"/>
            </a:br>
            <a:r>
              <a:rPr b="1" lang="ru-RU" sz="36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о ржавчиной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Microsoft YaHei"/>
              </a:rPr>
              <a:t>Мы взяли бутылочку «Пепси-Колы». Налили её в ёмкость .Взяли монету и опустили  её в стакан с газированной водой «Пепси-Кола».Оставили монету в воде на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863640" y="2735280"/>
            <a:ext cx="3173400" cy="2484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327640" y="2808360"/>
            <a:ext cx="3384720" cy="2519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54160" y="5754600"/>
            <a:ext cx="87469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НАБЛЮДЕНИЯ:</a:t>
            </a:r>
            <a:r>
              <a:rPr b="0" lang="ru-RU" sz="1600" spc="-1" strike="noStrike">
                <a:solidFill>
                  <a:srgbClr val="006b8d"/>
                </a:solidFill>
                <a:latin typeface="Corbel"/>
                <a:ea typeface="Microsoft YaHe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Microsoft YaHei"/>
              </a:rPr>
              <a:t>Прошли сутки: Мы вынули  монету из  «Пепси-Колы», хорошо вытерли салфеткой. На салфетке осталась ржавч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986120" y="735120"/>
            <a:ext cx="514332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24000" y="8017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3 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 накипью)</a:t>
            </a:r>
            <a:br>
              <a:rPr sz="39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В чайнике была накипь. Я налила «Фанту» в чайник с  накипью и  прокипятили 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rcRect l="0" t="0" r="0" b="14180"/>
          <a:stretch/>
        </p:blipFill>
        <p:spPr>
          <a:xfrm>
            <a:off x="1224000" y="2311560"/>
            <a:ext cx="2565360" cy="3447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rcRect l="0" t="0" r="0" b="12052"/>
          <a:stretch/>
        </p:blipFill>
        <p:spPr>
          <a:xfrm>
            <a:off x="5975280" y="2475000"/>
            <a:ext cx="2232000" cy="3213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228680" y="6186600"/>
            <a:ext cx="654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акипь почти  исчезла, чайник стал  чи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4 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 яичной скорлупой)</a:t>
            </a:r>
            <a:br>
              <a:rPr sz="39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Налила газированную воду: «Пепси-Кола»  в чистую подготовленную тару. Положила в неё  кусочки яичной скорлупы. Через сутки скорлуп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приняла тёмно-коричневую окраску и стала вязкой и мяг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20960" y="2664000"/>
            <a:ext cx="3840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1871640" y="3240000"/>
            <a:ext cx="2382840" cy="1629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5651640" y="316872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33440" y="5170320"/>
            <a:ext cx="8566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</a:rPr>
              <a:t>ВЫВОД: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«Пепси-кола» содержит красители, которые окрашивают яичную скорлупу и хорошо растворяют неорганические вещества в яичной  скорл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Цель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03280" y="170028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оказать, какая газированная вода полезна, а какая представляет реальную угрозу для здор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813200" y="3743280"/>
            <a:ext cx="41864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20720" y="249120"/>
            <a:ext cx="770400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5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на наличие газов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только что открытую бутылку с газированной водой я надела воздушный шарик и стала слегка трясти бутылку. Шарик мгновенно наду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519280" y="2592360"/>
            <a:ext cx="4295880" cy="26668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1200" y="5277960"/>
            <a:ext cx="749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 газированной воде есть газ. При употреблении газировки может заболеть живот, появится вздутие и отрыжка.</a:t>
            </a:r>
            <a:endParaRPr b="0" lang="en-US" sz="18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6360" y="527796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 моем случае оказалась химия, т. к. газировка цвет не изменила.Реакция газированных напитков с содой протекала очень бурно, с выделением углекислого газа.</a:t>
            </a:r>
            <a:endParaRPr b="0" lang="en-US" sz="18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89" name=""/>
          <p:cNvSpPr/>
          <p:nvPr/>
        </p:nvSpPr>
        <p:spPr>
          <a:xfrm>
            <a:off x="287280" y="360360"/>
            <a:ext cx="8640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6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на натуральность газированных напитков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Я налила в стакан газированную воду «Кока-Кола» и добавита в него столовую ложку с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697040" y="2930400"/>
            <a:ext cx="5791320" cy="2038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Выводы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Сладкие газированные напитки не утоляют жажду, хотя мы покупаем их именно для этог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Химический состав напитков оказывает губительное действие на здоровье: разрушаются зубы, становятся хрупкими кости,  может возникнуть ожирение, аллергия, заболевания желудка, кофеиновая зависимость по типу наркотическо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Для утоления жажды лучше использовать морсы, минеральную воду, очищенную питьевую воду.         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4400" y="1035000"/>
            <a:ext cx="91422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зучить литературу по теоретическим вопросам темы исслед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оказать отрицательное влияние газированных напитков на организм человека через исследование их кислотных свой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сти опыты с различными марками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6b8d"/>
                </a:solidFill>
                <a:latin typeface="Corbel"/>
                <a:ea typeface="Microsoft YaHei"/>
              </a:rPr>
              <a:t>Гипотеза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3280" y="184464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  <a:ea typeface="Microsoft YaHe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 всю газированную воду, которую мы покупаем в магазинах,  можно п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543640" y="3168720"/>
            <a:ext cx="2868480" cy="347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История газиро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4960" y="1447920"/>
            <a:ext cx="3568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Газированную воду в 1767 г. изобрел английский химик Джозеф Пристли. Он проводил различные эксперименты с газом, который выделяется при брожении в чанах пивоваренного за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3382920" cy="461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967280" y="1657440"/>
            <a:ext cx="4176720" cy="52005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История газиро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4360" y="1655640"/>
            <a:ext cx="4822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жозеф Пристли разработал аппарат, который при помощи насоса давал возможность насыщать воду углекислыми пузырьками. Этот аппарат был назван «сатуратор» от лат. saturo — насыщ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История газиро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64000" y="1700280"/>
            <a:ext cx="34959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В 1783 г. промышленное производство начал Якоб Швепп, который и создал торговую марку Schwep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4105080" cy="449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мые популярные марки газированной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936720" y="1666800"/>
            <a:ext cx="2454120" cy="2652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5616720" y="1798560"/>
            <a:ext cx="3166920" cy="26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63640" y="4535640"/>
            <a:ext cx="309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10253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выми марками газировки,выпущенной в Америке, ст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Кока-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Фа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Спр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48360" y="4483080"/>
            <a:ext cx="259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России первыми ста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Байк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Бурати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Тарху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76360" y="54936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Состав газированной 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5280" y="2133720"/>
            <a:ext cx="666576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Углекислый 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Красители и ароматиз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Коф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Консерв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9T16:19:36Z</dcterms:created>
  <dc:creator>XTreme.ws</dc:creator>
  <dc:description/>
  <dc:language>en-US</dc:language>
  <cp:lastModifiedBy>XTreme.ws</cp:lastModifiedBy>
  <dcterms:modified xsi:type="dcterms:W3CDTF">2017-03-15T19:33:46Z</dcterms:modified>
  <cp:revision>14</cp:revision>
  <dc:subject/>
  <dc:title>Газированная вода –  вред или польза</dc:title>
</cp:coreProperties>
</file>