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435E-C8A0-4C30-8E37-F22FCCE48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D1F6-C343-4EAE-B61D-6572F271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2E8C-D5C5-4945-888A-B49C7FC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8651-AAAF-4D53-81B7-940F4E820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E0A1B-355E-40DC-B6EB-958C43395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359FD-6070-44FD-81E8-AEEDE429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2704C-2AFD-45FC-8CDA-FEA302D5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CC5F4-1C53-4BC8-96DE-7D4B5090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AB4E0-4EF0-4577-9C9B-A62A1B77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72E1E-4E8C-46B8-84CD-0E39CFBE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0D1C6-AE97-4941-9B43-A78782CB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A358-5B12-42EF-B1B6-0B4817D3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C27D2-770E-4CEE-B961-AEA9060B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59853-D6C9-467B-968C-5BBBECA7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95165-4F7A-496B-BA18-F4168F69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B9C4B-552A-4A45-8D78-3D556E0A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E8CF3-6D15-478F-8664-E358222BC2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641B-9BC6-4345-8AE7-6C6DD649A4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0682-BD51-437B-8AA1-B3403479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F224-E78B-401D-B7CF-15481EA1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A90B-4314-49F3-8E11-3146B0F8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3D32-44E7-42A0-A57E-5DF8A813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88DD-9B32-49BA-A954-2762A24F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E78F-2232-40C5-A29E-AE3511CB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B7F0-B978-4354-B21E-FECB2325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2992-5828-4AF3-973C-6B7A47F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74AC-3A38-4E14-A249-85B4FEAA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B432-FCB6-4CAE-BF90-F2E072AF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0374-FF52-48C4-A789-BD09FAC6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DE70-D1AD-4D9C-86C6-9BFA389AB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0C77C-92C9-41C6-8C7D-4DF071EAF2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BB952-38FF-4EC3-A2D5-C5404B9A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2E488-8E44-4E42-AB36-D3BBF4AD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E370-D3DB-4B7A-8954-FBA6587B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0F6EC-0DDC-47BE-A3B9-205D7CE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0C866-1622-4F23-A124-779467CC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93B4F-D62F-4AE8-8115-855A7A63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AC1E6-11F5-4E78-B9C8-EF77533C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C7CE8-D884-4E86-BECC-E6DCB9BF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07E8E-6ED4-4261-9651-4AFA45DB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7486E-31CC-4AF3-9AF1-DB4C8C6C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F59C0-120B-48D3-8DB6-84650B20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D62B9-6BEB-4D7A-ABE4-8172837F2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2808FC-8721-4192-9A8F-423A6F57C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51A1-F0D9-4260-BFF8-E3AF33D8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60D11-DD98-458E-B7AA-8A222709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3F332-C1B9-4FD6-96AD-0CEA77DD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B0C53-3254-4179-85E6-91E26A58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1A688-5128-400A-A7FC-2B08C669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F8A7E-4020-4A4D-BA54-42BFEFDB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B03EE-627E-47FA-8198-22533C05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A1293-3762-4A4F-B9FF-AE770CB7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65761-E216-4B99-844A-EF48F5D1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287E09-1961-4D00-9992-AEF5AFFC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1A5AA-4E56-4088-993A-D2F6807B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1695-D77D-4013-A297-4376DDA4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90442-42D8-40B3-9386-93678440A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336B-6542-4EA4-8713-609CC48828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C9EA-AF51-4CA9-BF97-A067BF14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5D11-D07F-4CB1-8D39-F2AF550D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23B70-595C-497C-ABFF-A33DE536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EBBD-7A0E-483D-9362-1D747A13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3F6C7-7151-45BE-BDEF-9FA451E9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8B7F-26BE-4232-9EED-3AAAF2B3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BBF6-60BD-4F24-921F-3C9B568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4A44-5DAF-404E-B9F1-C747B75C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A63E-973C-463E-9A74-1B3EF41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E713A-44C9-4E6E-97AB-1D60623C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D56EC-B93A-4A8A-A3E9-1B329ECB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DB89A-68B5-4682-9EA3-2AA6B3F084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7D32D-6311-41A5-8089-007AE0ABB5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77026-7613-479B-8144-1E778234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5842E-EBF2-47C2-B709-DD1A3E9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92178-B188-40D1-BED1-C7CFD177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4770D-6764-48C0-B23F-C4C66E46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37245-46F7-4BCB-B19F-26ED436B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7186B-BD4C-4D1E-B3B4-1CB3F968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9B0E-DB5E-4E5E-AC71-66B8EA6E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833E8-1B38-4CAF-A6DF-1E13E328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13C61-44F8-4925-AF39-FE3FE99F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DC709-EAF1-4E6A-BB7A-7CE8B08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DDC13-2FB0-4A6E-8710-F21A624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473D2-B331-4017-A541-EB61123402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DA50-21BC-49C0-8AC8-0EAF28FE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7EEE2-1E1E-4303-A66B-E4C4AD88B1F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58F609-16FE-438C-AF4A-55D449DA8202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4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B744E3-D269-4671-A360-30D4DE73798E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043430-C6EE-473E-B6B0-D3135F242D23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B9D53A-6552-4F68-AD46-BF75568F5B21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C1D11B-A5F0-457B-BDF4-4A88D61E07C7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3A5C60-15C8-4C7C-937A-D8B399B85857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82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   «Шиловская средняя общеобразовательнаяШкола № 2»</a:t>
            </a:r>
            <a:endParaRPr b="0" lang="en-US" sz="14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6772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b8d"/>
                </a:solidFill>
                <a:latin typeface="Corbel"/>
              </a:rPr>
              <a:t>                  </a:t>
            </a:r>
            <a:r>
              <a:rPr b="0" lang="ru-RU" sz="4400" spc="-1" strike="noStrike">
                <a:solidFill>
                  <a:srgbClr val="006b8d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6b8d"/>
                </a:solidFill>
                <a:latin typeface="Corbel"/>
              </a:rPr>
              <a:t>«Газированные напитки– </a:t>
            </a:r>
            <a:br>
              <a:rPr sz="3600"/>
            </a:br>
            <a:r>
              <a:rPr b="0" lang="ru-RU" sz="3600" spc="-1" strike="noStrike">
                <a:solidFill>
                  <a:srgbClr val="006b8d"/>
                </a:solidFill>
                <a:latin typeface="Corbel"/>
              </a:rPr>
              <a:t>                      вред или польза?»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/>
          <p:nvPr/>
        </p:nvSpPr>
        <p:spPr>
          <a:xfrm>
            <a:off x="5400720" y="5111640"/>
            <a:ext cx="36464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Выполнила:</a:t>
            </a:r>
            <a:r>
              <a:rPr b="0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e56"/>
                </a:solidFill>
                <a:latin typeface="Arial"/>
              </a:rPr>
              <a:t>ученица 3 «А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e5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e56"/>
                </a:solidFill>
                <a:latin typeface="Arial"/>
              </a:rPr>
              <a:t>Барановская Пол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Дорохина Ольга Евген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16000" y="3240000"/>
            <a:ext cx="3816360" cy="3475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Углекислый газ</a:t>
            </a:r>
            <a:br>
              <a:rPr sz="39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1447920"/>
            <a:ext cx="3713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Сам по себе углекислый газ не вреден, но он вызывает отрыжку, вздутие живота, газы. Это касается людей, имеющих заболевания ЖКТ (желудочно – кишечного тракт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rcRect l="9739" t="0" r="13732" b="0"/>
          <a:stretch/>
        </p:blipFill>
        <p:spPr>
          <a:xfrm>
            <a:off x="5003640" y="2205000"/>
            <a:ext cx="3961080" cy="344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Сахар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32360" y="1447920"/>
            <a:ext cx="4002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Негативно влияет на функционирование поджелудочной железы и эндокринной системы человека, может вызвать ожирение у детей и взрослых, сахарный диабет и атеросклеро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3889440" cy="361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753080" cy="4305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Красители и ароматизатор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34960" y="1447920"/>
            <a:ext cx="349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Дают нагрузку на печень, приводят к различным аллергическим реакциям – от насморка и сыпи до бронхиальной астмы, разрушают эмаль зубов, что приводит к кариес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Кофеин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03640" y="1413000"/>
            <a:ext cx="385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Способствует истощению нервной системы, сопровождающейся головными болями, усталостью, повышает нагрузку на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383400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Консервант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3280" y="1268280"/>
            <a:ext cx="6769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Основными консервантами являются лимонная или ортофосфорная кислота, а также бензоат натрия (Е21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4832280" cy="32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1 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 мелом)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01480" y="2638440"/>
            <a:ext cx="4034160" cy="2762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rcRect l="5963" t="0" r="13499" b="0"/>
          <a:stretch/>
        </p:blipFill>
        <p:spPr>
          <a:xfrm rot="60000">
            <a:off x="4991040" y="2649240"/>
            <a:ext cx="3888000" cy="2716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03280" y="1368360"/>
            <a:ext cx="8558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ли газированную воду «Пепси-Кола», «Фанта», «Бурати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писала ёмкости и разлили воду : «Пепси-Кола», «Фанта», «Бурати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ли по кусочку 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6000" y="5400720"/>
            <a:ext cx="8940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БЛЮД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обенно бурно протекала реакция в пробах:«Пепси-Кола», «Фанта», «Буратин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азированная вода всех видов содержит ионы водорода, что способствует выделению углекислого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65200" y="79200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2 </a:t>
            </a:r>
            <a:br>
              <a:rPr sz="3600"/>
            </a:br>
            <a:r>
              <a:rPr b="1" lang="ru-RU" sz="36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о ржавчиной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Microsoft YaHei"/>
              </a:rPr>
              <a:t>Мы взяли бутылочку «Пепси-Колы». Налили её в ёмкость .Взяли монету и опустили  её в стакан с газированной водой «Пепси-Кола».Оставили монету в воде на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863640" y="2735280"/>
            <a:ext cx="3173400" cy="2484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327640" y="2808360"/>
            <a:ext cx="3384720" cy="2519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54160" y="5754600"/>
            <a:ext cx="87469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НАБЛЮДЕНИЯ:</a:t>
            </a:r>
            <a:r>
              <a:rPr b="0" lang="ru-RU" sz="1600" spc="-1" strike="noStrike">
                <a:solidFill>
                  <a:srgbClr val="006b8d"/>
                </a:solidFill>
                <a:latin typeface="Corbel"/>
                <a:ea typeface="Microsoft YaHe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Microsoft YaHei"/>
              </a:rPr>
              <a:t>Прошли сутки: Мы вынули  монету из  «Пепси-Колы», хорошо вытерли салфеткой. На салфетке осталась ржавч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986120" y="735120"/>
            <a:ext cx="514332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24000" y="8017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3 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 накипью)</a:t>
            </a:r>
            <a:br>
              <a:rPr sz="39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В чайнике была накипь. Я налила «Фанту» в чайник с  накипью и  прокипятили 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rcRect l="0" t="0" r="0" b="14180"/>
          <a:stretch/>
        </p:blipFill>
        <p:spPr>
          <a:xfrm>
            <a:off x="1224000" y="2311560"/>
            <a:ext cx="2565360" cy="3447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rcRect l="0" t="0" r="0" b="12052"/>
          <a:stretch/>
        </p:blipFill>
        <p:spPr>
          <a:xfrm>
            <a:off x="5975280" y="2475000"/>
            <a:ext cx="2232000" cy="3213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228680" y="6186600"/>
            <a:ext cx="654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акипь почти  исчезла, чайник стал  чи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4 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 яичной скорлупой)</a:t>
            </a:r>
            <a:br>
              <a:rPr sz="39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Налила газированную воду: «Пепси-Кола»  в чистую подготовленную тару. Положила в неё  кусочки яичной скорлупы. Через сутки скорлуп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приняла тёмно-коричневую окраску и стала вязкой и мяг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20960" y="2664000"/>
            <a:ext cx="3840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1871640" y="3240000"/>
            <a:ext cx="2382840" cy="1629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5651640" y="316872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33440" y="5170320"/>
            <a:ext cx="8566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</a:rPr>
              <a:t>ВЫВОД: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«Пепси-кола» содержит красители, которые окрашивают яичную скорлупу и хорошо растворяют неорганические вещества в яичной  скорл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Цель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03280" y="170028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оказать, какая газированная вода полезна, а какая представляет реальную угрозу для здор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813200" y="3743280"/>
            <a:ext cx="41864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20720" y="249120"/>
            <a:ext cx="770400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5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на наличие газов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только что открытую бутылку с газированной водой я надела воздушный шарик и стала слегка трясти бутылку. Шарик мгновенно наду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519280" y="2592360"/>
            <a:ext cx="4295880" cy="26668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1200" y="5277960"/>
            <a:ext cx="749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 газированной воде есть газ. При употреблении газировки может заболеть живот, появится вздутие и отрыжка.</a:t>
            </a:r>
            <a:endParaRPr b="0" lang="en-US" sz="18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6360" y="527796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 моем случае оказалась химия, т. к. газировка цвет не изменила.Реакция газированных напитков с содой протекала очень бурно, с выделением углекислого газа.</a:t>
            </a:r>
            <a:endParaRPr b="0" lang="en-US" sz="18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89" name=""/>
          <p:cNvSpPr/>
          <p:nvPr/>
        </p:nvSpPr>
        <p:spPr>
          <a:xfrm>
            <a:off x="287280" y="360360"/>
            <a:ext cx="8640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6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на натуральность газированных напитков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Я налила в стакан газированную воду «Кока-Кола» и добавита в него столовую ложку с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697040" y="2930400"/>
            <a:ext cx="5791320" cy="2038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Выводы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Сладкие газированные напитки не утоляют жажду, хотя мы покупаем их именно для этог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Химический состав напитков оказывает губительное действие на здоровье: разрушаются зубы, становятся хрупкими кости,  может возникнуть ожирение, аллергия, заболевания желудка, кофеиновая зависимость по типу наркотическо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Для утоления жажды лучше использовать морсы, минеральную воду, очищенную питьевую воду.         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4400" y="1035000"/>
            <a:ext cx="91422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зучить литературу по теоретическим вопросам темы исслед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оказать отрицательное влияние газированных напитков на организм человека через исследование их кислотных свой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сти опыты с различными марками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6b8d"/>
                </a:solidFill>
                <a:latin typeface="Corbel"/>
                <a:ea typeface="Microsoft YaHei"/>
              </a:rPr>
              <a:t>Гипотеза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3280" y="184464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  <a:ea typeface="Microsoft YaHe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 всю газированную воду, которую мы покупаем в магазинах,  можно п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543640" y="3168720"/>
            <a:ext cx="2868480" cy="347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История газиро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4960" y="1447920"/>
            <a:ext cx="3568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Газированную воду в 1767 г. изобрел английский химик Джозеф Пристли. Он проводил различные эксперименты с газом, который выделяется при брожении в чанах пивоваренного за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3382920" cy="461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967280" y="1657440"/>
            <a:ext cx="4176720" cy="52005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История газиро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4360" y="1655640"/>
            <a:ext cx="4822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жозеф Пристли разработал аппарат, который при помощи насоса давал возможность насыщать воду углекислыми пузырьками. Этот аппарат был назван «сатуратор» от лат. saturo — насыщ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История газиро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64000" y="1700280"/>
            <a:ext cx="34959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В 1783 г. промышленное производство начал Якоб Швепп, который и создал торговую марку Schwep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4105080" cy="449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мые популярные марки газированной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936720" y="1666800"/>
            <a:ext cx="2454120" cy="2652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5616720" y="1798560"/>
            <a:ext cx="3166920" cy="26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63640" y="4535640"/>
            <a:ext cx="309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10253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выми марками газировки,выпущенной в Америке, ст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Кока-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Фа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Спр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48360" y="4483080"/>
            <a:ext cx="259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России первыми ста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Байк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Бурати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Тарху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76360" y="54936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Состав газированной 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5280" y="2133720"/>
            <a:ext cx="666576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Углекислый 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Красители и ароматиз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Коф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Консерв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9T16:19:36Z</dcterms:created>
  <dc:creator>XTreme.ws</dc:creator>
  <dc:description/>
  <dc:language>en-US</dc:language>
  <cp:lastModifiedBy>XTreme.ws</cp:lastModifiedBy>
  <dcterms:modified xsi:type="dcterms:W3CDTF">2017-03-15T19:33:46Z</dcterms:modified>
  <cp:revision>14</cp:revision>
  <dc:subject/>
  <dc:title>Газированная вода –  вред или польза</dc:title>
</cp:coreProperties>
</file>