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2D4E-C1BE-4006-A165-72399186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FF2D-495F-4C91-B479-A0D14326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103-16E8-4001-8B6E-F3DDAA6F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6748-1F9E-4765-B42E-ECEF1DA9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B12C-D7F9-4FCA-AFA7-FB429310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2518-75FD-4669-99BD-D570C4B9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D5FC-EAD3-455D-9F49-F9D791DC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442C-B472-4429-9EE2-2380B1E4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0F3F-1BF7-477B-9A3C-9E838F7D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9DC0-6975-4C18-A01A-873E0E92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C1BF-AF60-49ED-B957-676556F3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D63E-D604-434B-A274-0E33146E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220D-A789-4E28-9AAF-5D3DC697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E650-17BF-4CF5-8116-90334948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0EEB-EA85-44C6-90F5-B56010EF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1D2D-F849-4877-BB7B-15B8F40A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A658-7BE4-4C70-8C88-B9FB8888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DD5-1ED2-4D4B-A65D-4EF58038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3571-C3B0-4F4C-9C61-3208B312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281-53A1-4011-8996-AA6BEB75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F8EA-B704-46E5-84DE-3F6A37A7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EF0-8737-4C5C-8BAF-3054254F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75AF-C03B-4481-BD27-F3985DD0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AA1-E3FF-4646-BFBA-22478EE9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782E-4430-41F1-90B9-DE51EB72E0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AF9A-B98B-4E30-BD2D-3858AC9DBAC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00"/>
                </a:solidFill>
                <a:latin typeface="Book Antiqua"/>
              </a:rPr>
              <a:t>Законность и правопорядо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02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1. Сущность, принципы и роль зако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2. Требования и гарантии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3. Соотношение законности, дисциплины и правопоря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еподаватель ПОЧУ «Техникум экономики  и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Е.В. Кула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3. Соотношение законности, правопорядка и дисциплин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Правопорядок 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– это состояние (система) общественных отношений, являющаяся результатом фактического осуществления законодательных полож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990000"/>
                </a:solidFill>
                <a:latin typeface="Times New Roman"/>
              </a:rPr>
              <a:t>Он служит итогом всей реализации пра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Дисциплина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 – это определенный порядок поведения людей, соответствующий нормам права и морали, требованиям конкретной организации или вида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slide-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Book Antiqua"/>
              </a:rPr>
              <a:t>3. Соотношение законности, правопорядка и дисциплин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slide-38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Times New Roman"/>
              </a:rPr>
              <a:t>Законность, правопорядок и дисциплин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i"/>
          <p:cNvPicPr/>
          <p:nvPr/>
        </p:nvPicPr>
        <p:blipFill>
          <a:blip r:embed="rId1"/>
          <a:stretch/>
        </p:blipFill>
        <p:spPr>
          <a:xfrm>
            <a:off x="539640" y="1628640"/>
            <a:ext cx="8604360" cy="42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.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вторите основные  юридические термины: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56800" y="1600200"/>
            <a:ext cx="78296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ципл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ы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ые нор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вые нор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ственный поряд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поряд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о зако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твратимость ответстве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общность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отивопоставление законности и целесообраз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ьность зако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гарантии зако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гарантии зако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im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img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img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img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032"/>
                </a:solidFill>
                <a:latin typeface="Book Antiqua"/>
              </a:rPr>
              <a:t>Законность</a:t>
            </a:r>
            <a:r>
              <a:rPr b="1" i="1" lang="ru-RU" sz="3200" spc="-1" strike="noStrike">
                <a:solidFill>
                  <a:srgbClr val="320032"/>
                </a:solidFill>
                <a:latin typeface="Book Antiqua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990000"/>
                </a:solidFill>
                <a:latin typeface="Book Antiqua"/>
              </a:rPr>
              <a:t> это точное и неуклонное соблюдение правовых норм всеми субъектами права</a:t>
            </a:r>
            <a:r>
              <a:rPr b="0" lang="ru-RU" sz="3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8595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Субъекты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законности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- это всегда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субъекты</a:t>
            </a:r>
            <a:r>
              <a:rPr b="0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права, т.е. лица и организации, наделенные правосубъектностью, соответствующими правами и обязанн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Объекты законности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–поведение(сознание/воля, поступок) юридически обязанных л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Book Antiqua"/>
              </a:rPr>
              <a:t>Принципы законност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1. Всеобщность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2. Верховенство зак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3. Единство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4. Неразрывная связь законности с культу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5. Неотвратимость ответств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6. Контроль за реализацией зак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2. Гарантии законност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Гарантии законности</a:t>
            </a:r>
            <a:r>
              <a:rPr b="0" lang="ru-RU" sz="2800" spc="-1" strike="noStrike">
                <a:solidFill>
                  <a:srgbClr val="230f14"/>
                </a:solidFill>
                <a:latin typeface="Times New Roman"/>
              </a:rPr>
              <a:t> — это определенный комплекс организационных, экономических, политических, идеологических факторов и юридических мер, обеспечивающих соблюдение норм права, защиту прав граждан и интересов общества и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Book Antiqua"/>
              </a:rPr>
              <a:t>Гарантии законност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Bookman Old Style"/>
              </a:rPr>
              <a:t>ОБ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- Эконом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- Поли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- Культурные (духов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- Материальные (экономическ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6920" y="1599840"/>
            <a:ext cx="4016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Book Antiqua"/>
              </a:rPr>
              <a:t>ПРАВ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(специальные юридическ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- нормативное закре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идей зако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- состояние действую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законодатель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- эффективный механизм защиты прав и свобод гражд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- контроль и надз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- правосознание и высокий уровень правов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6T08:22:53Z</dcterms:created>
  <dc:creator>1</dc:creator>
  <dc:description/>
  <dc:language>en-US</dc:language>
  <cp:lastModifiedBy>Елена Владимировна</cp:lastModifiedBy>
  <dcterms:modified xsi:type="dcterms:W3CDTF">2024-01-06T13:19:12Z</dcterms:modified>
  <cp:revision>10</cp:revision>
  <dc:subject/>
  <dc:title>Слайд 1</dc:title>
</cp:coreProperties>
</file>