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92F1-5FDC-45F5-B783-25046B8D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A32-2F9B-4798-8575-0EF10E16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CBB-56C1-48E3-98DD-D99BC1FD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F488-61A6-4A80-9E82-659AB214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DFDB-D905-4DB0-9623-B0641B0B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7B47-7D31-498F-9CAB-62587969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5712-2151-4479-B9C9-CA61BD04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4372-151C-41BE-A207-24AD9B5A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174A-626E-4593-872B-0657284F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20AA-C0A7-44F2-A59B-03B5CDCA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D1A9-F300-4834-9989-938D06FC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94C5-3720-4752-B799-6410905E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0991-A83D-4CD9-A892-DC155663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5DDA-0F79-47C7-ADE6-72FCD79F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98C0-BBB1-44A0-81A4-233F3FC9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2C8A-A230-4514-B424-870A262C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913D-EC12-4D43-95C7-E40E0A94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A27-EE3F-4127-8F85-FDBFEC0A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C77-00A2-446B-B1C6-B8ED6158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E270-DB1F-4830-ADC9-09CE484B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5A2-DA98-47E1-A448-13DCA11C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52C5-7C61-4C65-AF9E-D23D482A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80A-BB31-46EB-9AF6-1B92DE4D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164-728F-4BAD-92D0-31544497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6028-2E3F-4E02-97BA-4F2AA5DCB85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8592-B4EB-4073-B05C-EAD18189213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00"/>
                </a:solidFill>
                <a:latin typeface="Book Antiqua"/>
              </a:rPr>
              <a:t>Законность и правопорядо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02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1. Сущность, принципы и роль зако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2. Требования и гарантии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3. Соотношение законности, дисциплины и правопоря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еподаватель ПОЧУ «Техникум экономики  и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Е.В. Кула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3. Соотношение законности, правопорядка и дисциплин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Правопорядок 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– это состояние (система) общественных отношений, являющаяся результатом фактического осуществления законодательных полож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990000"/>
                </a:solidFill>
                <a:latin typeface="Times New Roman"/>
              </a:rPr>
              <a:t>Он служит итогом всей реализации пра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Дисциплина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 – это определенный порядок поведения людей, соответствующий нормам права и морали, требованиям конкретной организации или вида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slide-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Book Antiqua"/>
              </a:rPr>
              <a:t>3. Соотношение законности, правопорядка и дисциплин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slide-38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Times New Roman"/>
              </a:rPr>
              <a:t>Законность, правопорядок и дисциплин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i"/>
          <p:cNvPicPr/>
          <p:nvPr/>
        </p:nvPicPr>
        <p:blipFill>
          <a:blip r:embed="rId1"/>
          <a:stretch/>
        </p:blipFill>
        <p:spPr>
          <a:xfrm>
            <a:off x="539640" y="1628640"/>
            <a:ext cx="8604360" cy="42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.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вторите основные  юридические термины: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56800" y="1600200"/>
            <a:ext cx="78296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ципл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ы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ые нор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вые нор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ственный поряд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поряд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о зако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твратимость ответстве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общность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отивопоставление законности и целесообраз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ьность зако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гарантии зако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гарантии зако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im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img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img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img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032"/>
                </a:solidFill>
                <a:latin typeface="Book Antiqua"/>
              </a:rPr>
              <a:t>Законность</a:t>
            </a:r>
            <a:r>
              <a:rPr b="1" i="1" lang="ru-RU" sz="3200" spc="-1" strike="noStrike">
                <a:solidFill>
                  <a:srgbClr val="320032"/>
                </a:solidFill>
                <a:latin typeface="Book Antiqua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990000"/>
                </a:solidFill>
                <a:latin typeface="Book Antiqua"/>
              </a:rPr>
              <a:t> это точное и неуклонное соблюдение правовых норм всеми субъектами права</a:t>
            </a:r>
            <a:r>
              <a:rPr b="0" lang="ru-RU" sz="3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8595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Субъекты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законности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- это всегда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субъекты</a:t>
            </a:r>
            <a:r>
              <a:rPr b="0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права, т.е. лица и организации, наделенные правосубъектностью, соответствующими правами и обязанн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Объекты законности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–поведение(сознание/воля, поступок) юридически обязанных л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Book Antiqua"/>
              </a:rPr>
              <a:t>Принципы законност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1. Всеобщность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2. Верховенство зак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3. Единство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4. Неразрывная связь законности с культу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5. Неотвратимость ответств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6. Контроль за реализацией зак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2. Гарантии законност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Гарантии законности</a:t>
            </a:r>
            <a:r>
              <a:rPr b="0" lang="ru-RU" sz="2800" spc="-1" strike="noStrike">
                <a:solidFill>
                  <a:srgbClr val="230f14"/>
                </a:solidFill>
                <a:latin typeface="Times New Roman"/>
              </a:rPr>
              <a:t> — это определенный комплекс организационных, экономических, политических, идеологических факторов и юридических мер, обеспечивающих соблюдение норм права, защиту прав граждан и интересов общества и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Book Antiqua"/>
              </a:rPr>
              <a:t>Гарантии законност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Bookman Old Style"/>
              </a:rPr>
              <a:t>ОБ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- Эконом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- Поли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- Культурные (духов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- Материальные (экономическ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6920" y="1599840"/>
            <a:ext cx="4016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Book Antiqua"/>
              </a:rPr>
              <a:t>ПРАВ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(специальные юридическ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- нормативное закре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идей зако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- состояние действую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законодатель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- эффективный механизм защиты прав и свобод гражд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- контроль и надз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- правосознание и высокий уровень правов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6T08:22:53Z</dcterms:created>
  <dc:creator>1</dc:creator>
  <dc:description/>
  <dc:language>en-US</dc:language>
  <cp:lastModifiedBy>Елена Владимировна</cp:lastModifiedBy>
  <dcterms:modified xsi:type="dcterms:W3CDTF">2024-01-06T13:19:12Z</dcterms:modified>
  <cp:revision>10</cp:revision>
  <dc:subject/>
  <dc:title>Слайд 1</dc:title>
</cp:coreProperties>
</file>