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C07-5626-44DA-9D8D-B52F27B5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756-1444-4C72-B687-9F4F0F18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5D3-BC45-406E-A2F0-809CAF3E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E96-E634-47D3-9517-4B35B8DD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9329-1BC9-449A-A091-BD5CC523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7333-9FC1-42F1-ADD6-4DEB248F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D056-ED6F-4FF1-8E51-EA6AB9D1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BE71-3EDC-4BF2-ABF5-D1DAB9EC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C840-41F3-472A-A5CA-70428245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D503-4118-421B-B0FB-B7276823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4FB2-EC8C-4362-8A1D-4A63AA27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F69-3267-4B31-9045-BB67821A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5E0A-5362-4DCE-8DDD-C95A595C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D85D-B607-4CCC-BE9E-DFE88969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91B1-A517-4AAF-A2E3-599A03D0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5B63-BF48-42C6-B816-F7EC1FE4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D20E-B613-4F8A-87DA-ECF72E7B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248-8135-4E00-A695-663397B0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3EF-B76C-40A2-89A2-1CDB24DD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36C-93A9-4868-9090-4A6A0415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41F-29CF-4D5B-B145-E94CB7E1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9000-99D6-4201-AB28-B0843135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690-D6AF-41A6-894F-98D31CBE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2946-766E-4339-AE9E-7729545A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D1CE-55F0-4608-9E3B-BD24779E99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FD6D-8F59-41B3-8244-52A32EC7E95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990000"/>
                </a:solidFill>
                <a:latin typeface="Book Antiqua"/>
              </a:rPr>
              <a:t>Законность и правопорядо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002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1. Сущность, принципы и роль зако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2. Требования и гарантии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3. Соотношение законности, дисциплины и правопоряд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Преподаватель ПОЧУ «Техникум экономики  и пра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Times New Roman"/>
              </a:rPr>
              <a:t>Е.В. Кула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3. Соотношение законности, правопорядка и дисциплины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Правопорядок 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– это состояние (система) общественных отношений, являющаяся результатом фактического осуществления законодательных полож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   </a:t>
            </a:r>
            <a:r>
              <a:rPr b="0" i="1" lang="ru-RU" sz="2800" spc="-1" strike="noStrike">
                <a:solidFill>
                  <a:srgbClr val="990000"/>
                </a:solidFill>
                <a:latin typeface="Times New Roman"/>
              </a:rPr>
              <a:t>Он служит итогом всей реализации пра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Дисциплина</a:t>
            </a: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– это определенный порядок поведения людей, соответствующий нормам права и морали, требованиям конкретной организации или вида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slide-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Book Antiqua"/>
              </a:rPr>
              <a:t>3. Соотношение законности, правопорядка и дисциплины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slide-38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Times New Roman"/>
              </a:rPr>
              <a:t>Законность, правопорядок и дисциплин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i"/>
          <p:cNvPicPr/>
          <p:nvPr/>
        </p:nvPicPr>
        <p:blipFill>
          <a:blip r:embed="rId1"/>
          <a:stretch/>
        </p:blipFill>
        <p:spPr>
          <a:xfrm>
            <a:off x="539640" y="1628640"/>
            <a:ext cx="8604360" cy="42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.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вторите основные  юридические термины: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56800" y="1600200"/>
            <a:ext cx="78296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сципл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рмы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ые нор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вые норм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ественный поряд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поряд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о зако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твратимость ответств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общность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противопоставление законности и целесообраз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ьность зако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гарантии зако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альные гарантии зако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mg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img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img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img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20032"/>
                </a:solidFill>
                <a:latin typeface="Book Antiqua"/>
              </a:rPr>
              <a:t>Законность</a:t>
            </a:r>
            <a:r>
              <a:rPr b="1" i="1" lang="ru-RU" sz="3200" spc="-1" strike="noStrike">
                <a:solidFill>
                  <a:srgbClr val="320032"/>
                </a:solidFill>
                <a:latin typeface="Book Antiqua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990000"/>
                </a:solidFill>
                <a:latin typeface="Book Antiqua"/>
              </a:rPr>
              <a:t> это точное и неуклонное соблюдение правовых норм всеми субъектами права</a:t>
            </a:r>
            <a:r>
              <a:rPr b="0" lang="ru-RU" sz="3800" spc="-1" strike="noStrike">
                <a:solidFill>
                  <a:srgbClr val="990000"/>
                </a:solidFill>
                <a:latin typeface="Times New Roman"/>
              </a:rPr>
              <a:t>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8595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убъекты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законности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- это всегда </a:t>
            </a:r>
            <a:r>
              <a:rPr b="1" i="1" lang="ru-RU" sz="2800" spc="-1" strike="noStrike">
                <a:solidFill>
                  <a:srgbClr val="800000"/>
                </a:solidFill>
                <a:latin typeface="Times New Roman"/>
              </a:rPr>
              <a:t>субъекты</a:t>
            </a:r>
            <a:r>
              <a:rPr b="0" i="1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права, т.е. лица и организации, наделенные правосубъектностью, соответствующими правами и обязанност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бъекты законности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–поведение(сознание/воля, поступок) юридически обязанных л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Book Antiqua"/>
              </a:rPr>
              <a:t>Принципы законност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1. Всеобщность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2. Верховенство зак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3. Единство зако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4. Неразрывная связь законности с культу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5. Неотвратимость ответ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6. Контроль за реализацией зако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Book Antiqua"/>
              </a:rPr>
              <a:t>2. Гарантии законност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Гарантии законности</a:t>
            </a:r>
            <a:r>
              <a:rPr b="0" lang="ru-RU" sz="2800" spc="-1" strike="noStrike">
                <a:solidFill>
                  <a:srgbClr val="230f14"/>
                </a:solidFill>
                <a:latin typeface="Times New Roman"/>
              </a:rPr>
              <a:t> — это определенный комплекс организационных, экономических, политических, идеологических факторов и юридических мер, обеспечивающих соблюдение норм права, защиту прав граждан и интересов общества и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Book Antiqua"/>
              </a:rPr>
              <a:t>Гарантии законност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Bookman Old Style"/>
              </a:rPr>
              <a:t>ОБ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- Эконом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- Поли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- Культурные (духов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Bookman Old Style"/>
              </a:rPr>
              <a:t>- Материальные (экономическ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920" y="1599840"/>
            <a:ext cx="4016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Book Antiqua"/>
              </a:rPr>
              <a:t>ПРАВ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(специальные юридическ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нормативное закре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идей закон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состояние действующ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законодатель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эффективный механизм защиты прав и свобод гражд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контроль и надзо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Book Antiqua"/>
              </a:rPr>
              <a:t>- правосознание и высокий уровень правово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6T08:22:53Z</dcterms:created>
  <dc:creator>1</dc:creator>
  <dc:description/>
  <dc:language>en-US</dc:language>
  <cp:lastModifiedBy>Елена Владимировна</cp:lastModifiedBy>
  <dcterms:modified xsi:type="dcterms:W3CDTF">2024-01-06T13:19:12Z</dcterms:modified>
  <cp:revision>10</cp:revision>
  <dc:subject/>
  <dc:title>Слайд 1</dc:title>
</cp:coreProperties>
</file>