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601-4447-416B-BD7F-EB15B5C3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3C0-9DFC-4D4C-809B-7C3CE7DF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A15-F46F-44B3-B94B-FB5D2CB0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783-52D5-411D-A92B-54BE9410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626-AB39-4CEC-AE02-8AE62C1F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532-0967-47BE-8BE8-7BD6CC2C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46D-8551-4018-B320-DC06473F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5A4-7F85-4C42-8477-3584A652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1A2-E9D9-4997-9EA4-AD3A7760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52B-8FBE-421F-9B9D-F6762793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34B-ACC7-45AD-A9EF-4CCF3B44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A62-76D5-4F15-9E63-33DFC9D3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9B73-70CD-4E48-ADC4-2C229703A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ы социальных отно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Картинка 95 из 14313"/>
          <p:cNvPicPr/>
          <p:nvPr/>
        </p:nvPicPr>
        <p:blipFill>
          <a:blip r:embed="rId1"/>
          <a:stretch/>
        </p:blipFill>
        <p:spPr>
          <a:xfrm>
            <a:off x="304920" y="1143000"/>
            <a:ext cx="3657600" cy="3440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Картинка 88 из 35790"/>
          <p:cNvPicPr/>
          <p:nvPr/>
        </p:nvPicPr>
        <p:blipFill>
          <a:blip r:embed="rId2"/>
          <a:stretch/>
        </p:blipFill>
        <p:spPr>
          <a:xfrm>
            <a:off x="4648320" y="1828800"/>
            <a:ext cx="41907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Картинка 262 из 6618"/>
          <p:cNvPicPr/>
          <p:nvPr/>
        </p:nvPicPr>
        <p:blipFill>
          <a:blip r:embed="rId1"/>
          <a:stretch/>
        </p:blipFill>
        <p:spPr>
          <a:xfrm>
            <a:off x="1752480" y="3352680"/>
            <a:ext cx="4800600" cy="320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Картинка 193 из 6618"/>
          <p:cNvPicPr/>
          <p:nvPr/>
        </p:nvPicPr>
        <p:blipFill>
          <a:blip r:embed="rId2"/>
          <a:stretch/>
        </p:blipFill>
        <p:spPr>
          <a:xfrm>
            <a:off x="4495680" y="380880"/>
            <a:ext cx="4114800" cy="2733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228600" y="457200"/>
            <a:ext cx="405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зрешение конфлик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завершение инцидента, устранение причин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социальных конфл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09480" y="1143000"/>
            <a:ext cx="3048120" cy="2590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дли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о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я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яю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62720" y="1143000"/>
            <a:ext cx="3124080" cy="2590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объё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о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к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33520" y="4267080"/>
            <a:ext cx="3200400" cy="228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источ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зникнов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бъ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5562720" y="4267080"/>
            <a:ext cx="32004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используем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редств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наси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наси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572000" y="685800"/>
            <a:ext cx="0" cy="617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3657600" y="1828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373392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социальных конфл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09480" y="1143000"/>
            <a:ext cx="3048120" cy="1981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410080" y="1143000"/>
            <a:ext cx="3200400" cy="1981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влия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ход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есс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ресс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3520" y="3657600"/>
            <a:ext cx="3124080" cy="2895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характ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зви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наме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нт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334120" y="3657600"/>
            <a:ext cx="3276360" cy="2971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сфер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ств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но-быт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3657600" y="4343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3657600" y="1828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572000" y="76212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ствия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 flipH="1">
            <a:off x="1752120" y="914400"/>
            <a:ext cx="25909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4343400" y="914400"/>
            <a:ext cx="27432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57200" y="2209680"/>
            <a:ext cx="3200400" cy="2133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тег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ш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тнёр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410080" y="2209680"/>
            <a:ext cx="3353040" cy="21337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80880" y="49518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тегр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 лат. integrum — целое; лат. integratio — восстановление, восполнение)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обозначае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ъединение, взаимопроникновение. Объединение каких-либо элементов (частей) в цело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image_31"/>
          <p:cNvPicPr/>
          <p:nvPr/>
        </p:nvPicPr>
        <p:blipFill>
          <a:blip r:embed="rId1"/>
          <a:srcRect l="0" t="0" r="0" b="5308"/>
          <a:stretch/>
        </p:blipFill>
        <p:spPr>
          <a:xfrm>
            <a:off x="2133720" y="0"/>
            <a:ext cx="491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809880" y="3049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ые аспекты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Картинка 307 из 322"/>
          <p:cNvPicPr/>
          <p:nvPr/>
        </p:nvPicPr>
        <p:blipFill>
          <a:blip r:embed="rId1"/>
          <a:stretch/>
        </p:blipFill>
        <p:spPr>
          <a:xfrm>
            <a:off x="6181560" y="3048120"/>
            <a:ext cx="2962440" cy="3809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Картинка 311 из 322"/>
          <p:cNvPicPr/>
          <p:nvPr/>
        </p:nvPicPr>
        <p:blipFill>
          <a:blip r:embed="rId2"/>
          <a:stretch/>
        </p:blipFill>
        <p:spPr>
          <a:xfrm>
            <a:off x="228600" y="3581280"/>
            <a:ext cx="350532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Картинка 184 из 321"/>
          <p:cNvPicPr/>
          <p:nvPr/>
        </p:nvPicPr>
        <p:blipFill>
          <a:blip r:embed="rId3"/>
          <a:stretch/>
        </p:blipFill>
        <p:spPr>
          <a:xfrm>
            <a:off x="0" y="0"/>
            <a:ext cx="3429000" cy="2981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i?id=116377780&amp;tov=2"/>
          <p:cNvPicPr/>
          <p:nvPr/>
        </p:nvPicPr>
        <p:blipFill>
          <a:blip r:embed="rId4"/>
          <a:stretch/>
        </p:blipFill>
        <p:spPr>
          <a:xfrm>
            <a:off x="3809880" y="3200400"/>
            <a:ext cx="2171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Картинка 312 из 322"/>
          <p:cNvPicPr/>
          <p:nvPr/>
        </p:nvPicPr>
        <p:blipFill>
          <a:blip r:embed="rId1"/>
          <a:stretch/>
        </p:blipFill>
        <p:spPr>
          <a:xfrm>
            <a:off x="5791320" y="228600"/>
            <a:ext cx="316224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Картинка 150 из 11750"/>
          <p:cNvPicPr/>
          <p:nvPr/>
        </p:nvPicPr>
        <p:blipFill>
          <a:blip r:embed="rId2"/>
          <a:stretch/>
        </p:blipFill>
        <p:spPr>
          <a:xfrm>
            <a:off x="533520" y="1522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а 152 из 11750"/>
          <p:cNvPicPr/>
          <p:nvPr/>
        </p:nvPicPr>
        <p:blipFill>
          <a:blip r:embed="rId3"/>
          <a:stretch/>
        </p:blipFill>
        <p:spPr>
          <a:xfrm>
            <a:off x="3276720" y="4191120"/>
            <a:ext cx="5610240" cy="247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Картинка 289 из 11680"/>
          <p:cNvPicPr/>
          <p:nvPr/>
        </p:nvPicPr>
        <p:blipFill>
          <a:blip r:embed="rId4"/>
          <a:stretch/>
        </p:blipFill>
        <p:spPr>
          <a:xfrm>
            <a:off x="152280" y="3124080"/>
            <a:ext cx="2697120" cy="3733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2"/>
          <p:cNvSpPr/>
          <p:nvPr/>
        </p:nvSpPr>
        <p:spPr>
          <a:xfrm>
            <a:off x="2824560" y="335268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ультура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533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ая сист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множество элементов (индивидов, групп, общностей), находящихся во взаимодействиях и отношения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ующих единое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Картинка 113 из 35790"/>
          <p:cNvPicPr/>
          <p:nvPr/>
        </p:nvPicPr>
        <p:blipFill>
          <a:blip r:embed="rId1"/>
          <a:stretch/>
        </p:blipFill>
        <p:spPr>
          <a:xfrm>
            <a:off x="1905120" y="2286000"/>
            <a:ext cx="55623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ая связ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набор фактов, обусловливающих совместную деятельность в конкретных общностях, в конкретное время для достижения тех или и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Картинка 271 из 6618"/>
          <p:cNvPicPr/>
          <p:nvPr/>
        </p:nvPicPr>
        <p:blipFill>
          <a:blip r:embed="rId1"/>
          <a:stretch/>
        </p:blipFill>
        <p:spPr>
          <a:xfrm>
            <a:off x="1523880" y="1600200"/>
            <a:ext cx="5715000" cy="4289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0" y="6132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ракция – ?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чебник стр. 1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12760" y="327672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е взаимодействи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Картинка 279 из 6618"/>
          <p:cNvPicPr/>
          <p:nvPr/>
        </p:nvPicPr>
        <p:blipFill>
          <a:blip r:embed="rId1"/>
          <a:stretch/>
        </p:blipFill>
        <p:spPr>
          <a:xfrm>
            <a:off x="380880" y="380880"/>
            <a:ext cx="3886200" cy="269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Картинка 243 из 6618"/>
          <p:cNvPicPr/>
          <p:nvPr/>
        </p:nvPicPr>
        <p:blipFill>
          <a:blip r:embed="rId2"/>
          <a:stretch/>
        </p:blipFill>
        <p:spPr>
          <a:xfrm>
            <a:off x="4419720" y="685800"/>
            <a:ext cx="457200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152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116240" y="4343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6095880" y="228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Картинка 479 из 6245"/>
          <p:cNvPicPr/>
          <p:nvPr/>
        </p:nvPicPr>
        <p:blipFill>
          <a:blip r:embed="rId3"/>
          <a:stretch/>
        </p:blipFill>
        <p:spPr>
          <a:xfrm>
            <a:off x="38088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144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Картинка 557 из 6321"/>
          <p:cNvPicPr/>
          <p:nvPr/>
        </p:nvPicPr>
        <p:blipFill>
          <a:blip r:embed="rId4"/>
          <a:stretch/>
        </p:blipFill>
        <p:spPr>
          <a:xfrm>
            <a:off x="4572000" y="4114800"/>
            <a:ext cx="43434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28600" y="3808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ые отнош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людьми (или группами людей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ющиеся в соответствии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ами социальной организаци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60 из 35790"/>
          <p:cNvPicPr/>
          <p:nvPr/>
        </p:nvPicPr>
        <p:blipFill>
          <a:blip r:embed="rId1"/>
          <a:stretch/>
        </p:blipFill>
        <p:spPr>
          <a:xfrm>
            <a:off x="228600" y="20574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Картинка 325 из 35837"/>
          <p:cNvPicPr/>
          <p:nvPr/>
        </p:nvPicPr>
        <p:blipFill>
          <a:blip r:embed="rId2"/>
          <a:stretch/>
        </p:blipFill>
        <p:spPr>
          <a:xfrm>
            <a:off x="4381560" y="2666880"/>
            <a:ext cx="4762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8"/>
          <p:cNvPicPr/>
          <p:nvPr/>
        </p:nvPicPr>
        <p:blipFill>
          <a:blip r:embed="rId1"/>
          <a:srcRect l="5624" t="5906" r="5624" b="5906"/>
          <a:stretch/>
        </p:blipFill>
        <p:spPr>
          <a:xfrm>
            <a:off x="1905120" y="152280"/>
            <a:ext cx="5395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0" y="304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ый конфли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высшая стадия развития противоречий в системе отношений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х групп, институтов, представля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ые интересы и ц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676520" y="2133720"/>
            <a:ext cx="594360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 социальных конфл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52280" y="3505320"/>
            <a:ext cx="2057400" cy="2514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днород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514600" y="3505320"/>
            <a:ext cx="2286000" cy="2514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ях доход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сти,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стиж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029200" y="3505320"/>
            <a:ext cx="17524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о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010280" y="3505320"/>
            <a:ext cx="1981440" cy="2514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мперамен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ллек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культур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990720" y="2743200"/>
            <a:ext cx="18288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37339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57913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6553080" y="2743200"/>
            <a:ext cx="17528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3" descr="Картинка 88 из 3942"/>
          <p:cNvPicPr/>
          <p:nvPr/>
        </p:nvPicPr>
        <p:blipFill>
          <a:blip r:embed="rId1"/>
          <a:stretch/>
        </p:blipFill>
        <p:spPr>
          <a:xfrm>
            <a:off x="4495680" y="1066680"/>
            <a:ext cx="4419720" cy="3713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адии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28600" y="1066680"/>
            <a:ext cx="4419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конфликтная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нфликтная си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роны осознают существующее эмоциональное напряжение, стремятся преодолеть его, осознать причины конфликта, оценивают свои возможности; выбор способа воздействия на проти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Картинка 8 из 3942"/>
          <p:cNvPicPr/>
          <p:nvPr/>
        </p:nvPicPr>
        <p:blipFill>
          <a:blip r:embed="rId1"/>
          <a:stretch/>
        </p:blipFill>
        <p:spPr>
          <a:xfrm>
            <a:off x="228600" y="3200400"/>
            <a:ext cx="4572000" cy="310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Картинка 7 из 3942"/>
          <p:cNvPicPr/>
          <p:nvPr/>
        </p:nvPicPr>
        <p:blipFill>
          <a:blip r:embed="rId2"/>
          <a:stretch/>
        </p:blipFill>
        <p:spPr>
          <a:xfrm>
            <a:off x="4800600" y="380880"/>
            <a:ext cx="4191120" cy="2351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52280" y="4572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посредственно конфли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верие и отсут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ения к противнику; согласие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5029200" y="3124080"/>
            <a:ext cx="39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инцидента, т.е. социальных действ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ых на изменение поведения сопер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ые и скрытые действия сопе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5:17:54Z</dcterms:created>
  <dc:creator>1</dc:creator>
  <dc:description/>
  <dc:language>en-US</dc:language>
  <cp:lastModifiedBy>*</cp:lastModifiedBy>
  <dcterms:modified xsi:type="dcterms:W3CDTF">2023-12-04T16:09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