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C51-471F-47B3-AF01-51067E5A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720-580E-4C25-91D1-81FACF96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0DC-12C7-48E0-9B2D-0F166BB5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D2C-DDE5-47FF-AACE-AC2E07F3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493F-10F3-4944-A720-1B4C78A5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3A0-82CE-4C84-8955-40DDDDD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5FF3-9C4D-4E65-A5A7-CCFEA8F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18D-7318-4445-AC87-8F24C2BA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3B8B-B42D-485C-9008-7AC4F185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686-3C97-4C7E-A359-7CE1EAC60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B88-F75B-4EBE-886F-B6BAE68F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01AE-241F-4236-9988-9978AED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819-943F-40A7-9EC8-9343F2361F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ипы социальных отно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Картинка 95 из 14313"/>
          <p:cNvPicPr/>
          <p:nvPr/>
        </p:nvPicPr>
        <p:blipFill>
          <a:blip r:embed="rId1"/>
          <a:stretch/>
        </p:blipFill>
        <p:spPr>
          <a:xfrm>
            <a:off x="304920" y="1143000"/>
            <a:ext cx="3657600" cy="3440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Картинка 88 из 35790"/>
          <p:cNvPicPr/>
          <p:nvPr/>
        </p:nvPicPr>
        <p:blipFill>
          <a:blip r:embed="rId2"/>
          <a:stretch/>
        </p:blipFill>
        <p:spPr>
          <a:xfrm>
            <a:off x="4648320" y="1828800"/>
            <a:ext cx="41907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1" descr="Картинка 262 из 6618"/>
          <p:cNvPicPr/>
          <p:nvPr/>
        </p:nvPicPr>
        <p:blipFill>
          <a:blip r:embed="rId1"/>
          <a:stretch/>
        </p:blipFill>
        <p:spPr>
          <a:xfrm>
            <a:off x="1752480" y="3352680"/>
            <a:ext cx="4800600" cy="3208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Картинка 193 из 6618"/>
          <p:cNvPicPr/>
          <p:nvPr/>
        </p:nvPicPr>
        <p:blipFill>
          <a:blip r:embed="rId2"/>
          <a:stretch/>
        </p:blipFill>
        <p:spPr>
          <a:xfrm>
            <a:off x="4495680" y="380880"/>
            <a:ext cx="4114800" cy="27338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228600" y="4572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решение конфликт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завершение инцидента, устранение причин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09480" y="1143000"/>
            <a:ext cx="3048120" cy="2590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дли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аткосро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тя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яю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562720" y="1143000"/>
            <a:ext cx="3124080" cy="2590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объё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об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упп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33520" y="4267080"/>
            <a:ext cx="3200400" cy="22860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источ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зникнов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ъ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бъе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5562720" y="4267080"/>
            <a:ext cx="3200400" cy="2210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используем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средств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наси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насиль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3"/>
          <p:cNvSpPr/>
          <p:nvPr/>
        </p:nvSpPr>
        <p:spPr>
          <a:xfrm>
            <a:off x="4572000" y="685800"/>
            <a:ext cx="0" cy="6172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3657600" y="18288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3733920" y="50292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д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609480" y="1143000"/>
            <a:ext cx="3048120" cy="19810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форм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410080" y="1143000"/>
            <a:ext cx="3200400" cy="1981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влия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а ход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есс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ресс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3520" y="3657600"/>
            <a:ext cx="3124080" cy="28954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характ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зви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намер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онт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334120" y="3657600"/>
            <a:ext cx="3276360" cy="2971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 сфер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бществен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з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н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йно-быт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3657600" y="434340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3657600" y="18288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572000" y="762120"/>
            <a:ext cx="0" cy="358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 flipH="1">
            <a:off x="1752120" y="914400"/>
            <a:ext cx="259092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4343400" y="914400"/>
            <a:ext cx="274320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457200" y="2209680"/>
            <a:ext cx="3200400" cy="2133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тег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уш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тнёр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5410080" y="2209680"/>
            <a:ext cx="3353040" cy="2133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га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еш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380880" y="49518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нтегр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т лат. integrum — целое; лат. integratio — восстановление, восполнение)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обозначае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динение, взаимопроникновение. Объединение каких-либо элементов (частей) в цело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image_31"/>
          <p:cNvPicPr/>
          <p:nvPr/>
        </p:nvPicPr>
        <p:blipFill>
          <a:blip r:embed="rId1"/>
          <a:srcRect l="0" t="0" r="0" b="5308"/>
          <a:stretch/>
        </p:blipFill>
        <p:spPr>
          <a:xfrm>
            <a:off x="2133720" y="0"/>
            <a:ext cx="4917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809880" y="3049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циальные аспекты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Картинка 307 из 322"/>
          <p:cNvPicPr/>
          <p:nvPr/>
        </p:nvPicPr>
        <p:blipFill>
          <a:blip r:embed="rId1"/>
          <a:stretch/>
        </p:blipFill>
        <p:spPr>
          <a:xfrm>
            <a:off x="6181560" y="3048120"/>
            <a:ext cx="2962440" cy="3809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Картинка 311 из 322"/>
          <p:cNvPicPr/>
          <p:nvPr/>
        </p:nvPicPr>
        <p:blipFill>
          <a:blip r:embed="rId2"/>
          <a:stretch/>
        </p:blipFill>
        <p:spPr>
          <a:xfrm>
            <a:off x="228600" y="3581280"/>
            <a:ext cx="350532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Картинка 184 из 321"/>
          <p:cNvPicPr/>
          <p:nvPr/>
        </p:nvPicPr>
        <p:blipFill>
          <a:blip r:embed="rId3"/>
          <a:stretch/>
        </p:blipFill>
        <p:spPr>
          <a:xfrm>
            <a:off x="0" y="0"/>
            <a:ext cx="3429000" cy="2981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i?id=116377780&amp;tov=2"/>
          <p:cNvPicPr/>
          <p:nvPr/>
        </p:nvPicPr>
        <p:blipFill>
          <a:blip r:embed="rId4"/>
          <a:stretch/>
        </p:blipFill>
        <p:spPr>
          <a:xfrm>
            <a:off x="3809880" y="3200400"/>
            <a:ext cx="2171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Картинка 312 из 322"/>
          <p:cNvPicPr/>
          <p:nvPr/>
        </p:nvPicPr>
        <p:blipFill>
          <a:blip r:embed="rId1"/>
          <a:stretch/>
        </p:blipFill>
        <p:spPr>
          <a:xfrm>
            <a:off x="5791320" y="228600"/>
            <a:ext cx="3162240" cy="3809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Картинка 150 из 11750"/>
          <p:cNvPicPr/>
          <p:nvPr/>
        </p:nvPicPr>
        <p:blipFill>
          <a:blip r:embed="rId2"/>
          <a:stretch/>
        </p:blipFill>
        <p:spPr>
          <a:xfrm>
            <a:off x="533520" y="152280"/>
            <a:ext cx="3886200" cy="29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а 152 из 11750"/>
          <p:cNvPicPr/>
          <p:nvPr/>
        </p:nvPicPr>
        <p:blipFill>
          <a:blip r:embed="rId3"/>
          <a:stretch/>
        </p:blipFill>
        <p:spPr>
          <a:xfrm>
            <a:off x="3276720" y="4191120"/>
            <a:ext cx="5610240" cy="2473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Картинка 289 из 11680"/>
          <p:cNvPicPr/>
          <p:nvPr/>
        </p:nvPicPr>
        <p:blipFill>
          <a:blip r:embed="rId4"/>
          <a:stretch/>
        </p:blipFill>
        <p:spPr>
          <a:xfrm>
            <a:off x="152280" y="3124080"/>
            <a:ext cx="2697120" cy="3733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2"/>
          <p:cNvSpPr/>
          <p:nvPr/>
        </p:nvSpPr>
        <p:spPr>
          <a:xfrm>
            <a:off x="2824560" y="3352680"/>
            <a:ext cx="29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ультура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5335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ая систем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множество элементов (индивидов, групп, общностей), находящихся во взаимодействиях и отношениях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ующих единое ц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Картинка 113 из 35790"/>
          <p:cNvPicPr/>
          <p:nvPr/>
        </p:nvPicPr>
        <p:blipFill>
          <a:blip r:embed="rId1"/>
          <a:stretch/>
        </p:blipFill>
        <p:spPr>
          <a:xfrm>
            <a:off x="1905120" y="2286000"/>
            <a:ext cx="556236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0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ая св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набор фактов, обусловливающих совместную деятельность в конкретных общностях, в конкретное время для достижения тех или иных ц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Картинка 271 из 6618"/>
          <p:cNvPicPr/>
          <p:nvPr/>
        </p:nvPicPr>
        <p:blipFill>
          <a:blip r:embed="rId1"/>
          <a:stretch/>
        </p:blipFill>
        <p:spPr>
          <a:xfrm>
            <a:off x="1523880" y="1600200"/>
            <a:ext cx="5715000" cy="4289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0" y="6132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нтеракция – 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учебник стр. 1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12760" y="327672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ое взаимодействие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Картинка 279 из 6618"/>
          <p:cNvPicPr/>
          <p:nvPr/>
        </p:nvPicPr>
        <p:blipFill>
          <a:blip r:embed="rId1"/>
          <a:stretch/>
        </p:blipFill>
        <p:spPr>
          <a:xfrm>
            <a:off x="380880" y="380880"/>
            <a:ext cx="3886200" cy="269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Картинка 243 из 6618"/>
          <p:cNvPicPr/>
          <p:nvPr/>
        </p:nvPicPr>
        <p:blipFill>
          <a:blip r:embed="rId2"/>
          <a:stretch/>
        </p:blipFill>
        <p:spPr>
          <a:xfrm>
            <a:off x="4419720" y="685800"/>
            <a:ext cx="4572000" cy="2286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0" y="152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116240" y="4343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095880" y="228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Картинка 479 из 6245"/>
          <p:cNvPicPr/>
          <p:nvPr/>
        </p:nvPicPr>
        <p:blipFill>
          <a:blip r:embed="rId3"/>
          <a:stretch/>
        </p:blipFill>
        <p:spPr>
          <a:xfrm>
            <a:off x="380880" y="4114800"/>
            <a:ext cx="3429000" cy="25574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1440" y="4191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8" descr="Картинка 557 из 6321"/>
          <p:cNvPicPr/>
          <p:nvPr/>
        </p:nvPicPr>
        <p:blipFill>
          <a:blip r:embed="rId4"/>
          <a:stretch/>
        </p:blipFill>
        <p:spPr>
          <a:xfrm>
            <a:off x="4572000" y="4114800"/>
            <a:ext cx="434340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8600" y="380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ые отнош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отно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людьми (или группами людей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уществляющиеся в соответстви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конами социальной организаци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Картинка 60 из 35790"/>
          <p:cNvPicPr/>
          <p:nvPr/>
        </p:nvPicPr>
        <p:blipFill>
          <a:blip r:embed="rId1"/>
          <a:stretch/>
        </p:blipFill>
        <p:spPr>
          <a:xfrm>
            <a:off x="228600" y="205740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Картинка 325 из 35837"/>
          <p:cNvPicPr/>
          <p:nvPr/>
        </p:nvPicPr>
        <p:blipFill>
          <a:blip r:embed="rId2"/>
          <a:stretch/>
        </p:blipFill>
        <p:spPr>
          <a:xfrm>
            <a:off x="4381560" y="2666880"/>
            <a:ext cx="4762440" cy="36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8"/>
          <p:cNvPicPr/>
          <p:nvPr/>
        </p:nvPicPr>
        <p:blipFill>
          <a:blip r:embed="rId1"/>
          <a:srcRect l="5624" t="5906" r="5624" b="5906"/>
          <a:stretch/>
        </p:blipFill>
        <p:spPr>
          <a:xfrm>
            <a:off x="1905120" y="152280"/>
            <a:ext cx="5395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0" y="304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оциальный конфли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высшая стадия развития противоречий в системе отношений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ых групп, институтов, представля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ые интересы и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1676520" y="2133720"/>
            <a:ext cx="5943600" cy="609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социальных конфли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52280" y="3505320"/>
            <a:ext cx="2057400" cy="25146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днород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полож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2514600" y="3505320"/>
            <a:ext cx="2286000" cy="2514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нях доход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ласти, культу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аль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стиж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ни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5029200" y="3505320"/>
            <a:ext cx="175248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лигио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010280" y="3505320"/>
            <a:ext cx="1981440" cy="2514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социа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темперам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ллек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культур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 flipH="1">
            <a:off x="990720" y="2743200"/>
            <a:ext cx="182880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37339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5791320" y="274320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553080" y="2743200"/>
            <a:ext cx="175284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3" descr="Картинка 88 из 3942"/>
          <p:cNvPicPr/>
          <p:nvPr/>
        </p:nvPicPr>
        <p:blipFill>
          <a:blip r:embed="rId1"/>
          <a:stretch/>
        </p:blipFill>
        <p:spPr>
          <a:xfrm>
            <a:off x="4495680" y="1066680"/>
            <a:ext cx="4419720" cy="3713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0" y="18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тади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1066680"/>
            <a:ext cx="4419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едконфликтная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нфликтная си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роны осознают существующее эмоциональное напряжение, стремятся преодолеть его, осознать причины конфликта, оценивают свои возможности; выбор способа воздействия на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Картинка 8 из 3942"/>
          <p:cNvPicPr/>
          <p:nvPr/>
        </p:nvPicPr>
        <p:blipFill>
          <a:blip r:embed="rId1"/>
          <a:stretch/>
        </p:blipFill>
        <p:spPr>
          <a:xfrm>
            <a:off x="228600" y="3200400"/>
            <a:ext cx="4572000" cy="310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Картинка 7 из 3942"/>
          <p:cNvPicPr/>
          <p:nvPr/>
        </p:nvPicPr>
        <p:blipFill>
          <a:blip r:embed="rId2"/>
          <a:stretch/>
        </p:blipFill>
        <p:spPr>
          <a:xfrm>
            <a:off x="4800600" y="380880"/>
            <a:ext cx="4191120" cy="235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152280" y="4572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посредственно конфлик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доверие и отсутст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ажения к противнику; согласие невозм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5029200" y="3124080"/>
            <a:ext cx="396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инцидента, т.е. социальных действ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ных на изменение поведения сопер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ые и скрытые действия сопе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5:17:54Z</dcterms:created>
  <dc:creator>1</dc:creator>
  <dc:description/>
  <dc:language>en-US</dc:language>
  <cp:lastModifiedBy>*</cp:lastModifiedBy>
  <dcterms:modified xsi:type="dcterms:W3CDTF">2023-12-04T16:09:1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