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97FC-AD21-4E7E-BEA0-0FCA5D4FA40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AD4F-BBAF-438F-8073-1A569E5855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F83-EED9-42BA-9EAB-A6826805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1F19-86E3-42B5-8FD1-57FD0E8D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654-BF1C-466A-9D90-7DFDDAEF3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C62-FA85-4CA0-A2B0-8A1CB983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D23A0-B2F6-4460-A137-21CA60E04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A404-78FC-4B17-AC94-7E9752DF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CE44-7FF6-4FD2-B2A3-5A53ACB8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2BC1-3821-4B13-A217-B5D37FD4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DFB9-C648-43A0-9A64-AF723095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A1A1-53A6-40CD-9F61-1C1150CB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D0CF-047D-4E4B-91A2-7C5DD38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46F-7064-454A-85F0-75163617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646A-63CE-46DB-BFC8-3836DA76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138A-7079-46BF-9E53-06B54247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97EA-85D8-4832-AC8C-EB078ABB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1281-F768-48EE-9B2C-BB7B09A8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AECC-24FA-4545-9FF9-8596CFF7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E06E-2476-45C3-A853-DA368323E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AD90-DDC8-42D6-B38C-0B7EB4C9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D6D-4F74-4310-82A4-13241F7F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BE7-5365-4AD8-A2A0-12B66038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F48-EF1D-4451-A0D9-948EE79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274-13B2-495A-970E-0A0924D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F824-EB71-4E6D-AD1B-108E4D2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51AD-C65D-4A17-BD7D-5F6026FD678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5924-1D28-4793-91B8-21AD1B52073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992640" cy="224172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Уголовное право</a:t>
            </a:r>
            <a:br>
              <a:rPr sz="4000"/>
            </a:br>
            <a:r>
              <a:rPr b="1" lang="ru-RU" sz="4000" spc="-1" strike="noStrike">
                <a:solidFill>
                  <a:srgbClr val="330066"/>
                </a:solidFill>
                <a:latin typeface="Times New Roman"/>
                <a:ea typeface="Times New Roman"/>
              </a:rPr>
              <a:t>Тема: </a:t>
            </a:r>
            <a:r>
              <a:rPr b="1" lang="ru-RU" sz="4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адии совершения   преступлений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68000" y="3068640"/>
            <a:ext cx="867564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Понятие и виды стадий соверш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туп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Приготовление к преступ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Покушение на преступление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Оконченное и не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Добровольный отказ от преступления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ятельное раска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еподаватель ПОЧУ «Техникум экономики и права МСПК»: Е.В. Кул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. Понятие и виды стадий совершения преступлени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Bookman Old Style"/>
              </a:rPr>
              <a:t>Стадии совершения преступления</a:t>
            </a:r>
            <a:r>
              <a:rPr b="0" lang="ru-RU" sz="2800" spc="-1" strike="noStrike">
                <a:solidFill>
                  <a:srgbClr val="0033cc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объединенные единым умыслом этапы развития умышленного преступления, отличающиеся друг от друга развитием осуществления объективной стороны, степенью общественной опасности, моментом прекращения преступной деятельности и степенью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ысла виновного.</a:t>
            </a:r>
            <a:br>
              <a:rPr sz="2800"/>
            </a:b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тадии совершения умышленного преступ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5410080" cy="863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915920"/>
            <a:ext cx="586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готовление к преступлению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умышленное создание условий для соверше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1 ст. 30 УК Р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кушение на преступлени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мышленное действие (бездействие) лица, непосредственно направленное на совершение преступления, если при этом преступление не было доведено до конца по независящим от этого лица обстоятельствам (ч. 3 ст. 30 У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овершается только с прямым умысло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84720" y="980640"/>
            <a:ext cx="3059280" cy="863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rmAutofit fontScale="90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онченное пре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724000" y="1989000"/>
            <a:ext cx="32403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ние, содержащее все признаки состава преступления, предусмотренное УК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. 1 ст. 29 УК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05264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Times New Roman"/>
              </a:rPr>
              <a:t>2. Приготовление к преступлению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иискание, изготовление или приспособление средств или орудий совершен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ступ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иискание соучастников престу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говор на совершение преступл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ное умышленное создание услов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3. Покушение на преступление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Виды покушен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1. По степени завершенности дея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Оконченное поку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. Неоконченное покуш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</a:rPr>
              <a:t>2. По степени годност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 Покушение на негодный объек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. Покушение с негодными средствам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3.Негодное покушение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. Оконченное и неоконченное преступлени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9280" y="1483920"/>
            <a:ext cx="8569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ОКОНЧЕННОЕ ПРЕСТУП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я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материальным составом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ено с момента наступления указанных в законе последствий (ст. 264 УК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еступления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формальным составом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ено с момента совершения указанного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Ф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 преступлениях 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 усеченным состав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 окончания перенесен на более раннюю стадию (приготовления или покушения) (ст. 162 УК РФ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НЕОКОНЧЕННОЕ   ПРЕСТУПЛЕНИЕ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78920" y="1412640"/>
            <a:ext cx="87138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может быть не доведено до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нца 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 воле лица, начавшего совершение преступления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следует говорить о добровольном отказ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упление может быть </a:t>
            </a:r>
            <a:r>
              <a:rPr b="1" i="1" lang="ru-RU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рервано по не зависящим от лица обстоятельства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да имеют место приготовление к преступлению или покушение на совершение преступ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. 29 УК РФ говорится лишь о двух видах неоконченного преступления: приготовлении и покуш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solidFill>
            <a:srgbClr val="cde8ed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5. Добровольный отказ от преступления и деятельное раскаяние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Составить сравнительную таблицу отличий добровольного отказ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(ст. 31 УК РФ) </a:t>
            </a: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от деятельного раскаяния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(ст. 75 УК РФ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5T04:24:17Z</dcterms:created>
  <dc:creator>1</dc:creator>
  <dc:description/>
  <dc:language>en-US</dc:language>
  <cp:lastModifiedBy>Елена Владимировна</cp:lastModifiedBy>
  <dcterms:modified xsi:type="dcterms:W3CDTF">2024-01-06T13:26:40Z</dcterms:modified>
  <cp:revision>15</cp:revision>
  <dc:subject/>
  <dc:title> УРОК 6.  Стадии совершения преступлений.</dc:title>
</cp:coreProperties>
</file>