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250-F87D-4D9B-ABD8-2591D3083C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0DF-79B0-4697-80A1-77756D156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63D-9CEA-4132-B8E3-7B84D37E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5F1-7B58-46D8-B758-31A86B03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E4C-B575-4D4F-8CE7-BEBD82EC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557-A9D2-441A-8A46-35296DF9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6225-DE91-426F-AA81-961A9AE4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93BD-5315-4790-B0CD-02D5B182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38DB-971D-42D8-B822-AC9072E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0BD-BAE6-463D-B8A1-8AD9C99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1F6-B1B3-421A-BF20-5BC7F05A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D050-499D-4135-AE88-C7AE97A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9C25-0F29-4E8C-9D33-BE4D7B0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32B-F990-4AB5-9D43-16E787A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197-B035-446F-8282-EC83F30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4CBE-9C35-4B7E-871D-3EB2FC7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399E-CE67-4F39-BEC9-71B34E3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1F97-A6FC-46D0-8031-885A2BB8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EC1B-6FC6-486D-BC85-6119D5B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158-C85E-4001-8878-0F8EE8CC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25F-4833-40A2-84E3-367515F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AC6-33B9-4C57-BC2D-04D32C5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3D2-E841-47E4-940D-1C89DBC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C2A-1114-47A2-AB43-9744A9D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03E-CFC4-491D-961E-2DA10C7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407-C35F-4802-9554-76B55C9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29D-74D4-423A-9FA5-E54F453D55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055-4EC5-4FF4-A644-0136A1721F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992640" cy="22417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Уголовное право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  преступлений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8675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нятие и виды стадий совер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иготовление к преступ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кушение на преступл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Оконченное и 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Добровольный отказ от преступл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е раска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ПОЧУ «Техникум экономики и права МСПК»: 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 Понятие и виды стадий совершения преступлен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man Old Style"/>
              </a:rPr>
              <a:t>Стадии совершения преступления</a:t>
            </a:r>
            <a:r>
              <a:rPr b="0" lang="ru-RU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бъединенные единым умыслом этапы развития умышленного преступления, отличающиеся друг от друга развитием осуществления объективной стороны, степенью общественной опасности, моментом прекращения преступной деятельности и степенью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ысла виновного.</a:t>
            </a:r>
            <a:br>
              <a:rPr sz="28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умышленного преступ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54100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915920"/>
            <a:ext cx="586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готовление к преступлен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ышленное создание условий для совер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30 УК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кушение на преступ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мышленное действие (бездействие) лица, непосредственно направленное на совершение преступления, если при этом преступление не было доведено до конца по независящим от этого лица обстоятельствам (ч. 3 ст. 30 У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ершается только с прямым умысло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84720" y="980640"/>
            <a:ext cx="30592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24000" y="1989000"/>
            <a:ext cx="324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, содержащее все признаки состава преступления, предусмотренное УК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29 УК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052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2. Приготовление к преступлению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искание, изготовление или приспособление средств или орудий соверш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искание соучастников пре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говор на совершение преступ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ое умышленное создание услов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3. Покушение на преступле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Виды поку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1. По степени завершенности дея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е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2. По степени годнос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Покушение на негодный объ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Покушение с негодными средства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Негодное покушение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. Оконченное и неоконченное преступле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матери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наступления указанных в законе последствий (ст. 264 УК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ступл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орм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совершения указ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реступлениях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усеченным состав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 окончания перенесен на более раннюю стадию (приготовления или покушения) (ст. 162 УК РФ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  ПРЕСТУПЛЕ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8920" y="1412640"/>
            <a:ext cx="8713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не доведено до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ца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воле лица, начавшего совершение преступления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следует говорить о добровольном отка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рвано по не зависящим от лица обстоятельства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имеют место приготовление к преступлению или покушение на совершени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. 29 УК РФ говорится лишь о двух видах неоконченного преступления: приготовлении и покуш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5. Добровольный отказ от преступления и деятельное раская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оставить сравнительную таблицу отличий добровольного от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31 УК РФ)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от деятельного раскаяния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75 УК Р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6T13:26:40Z</dcterms:modified>
  <cp:revision>15</cp:revision>
  <dc:subject/>
  <dc:title> УРОК 6.  Стадии совершения преступлений.</dc:title>
</cp:coreProperties>
</file>