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DA9D-33D7-434C-9A38-7366FE106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C62-29A1-425A-AF7C-6175D0012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770-025D-46C3-AEEF-69F64D46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01C-69FE-49F5-B5DB-CDE065F7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974-4DE9-45D5-B00D-7D569A24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E6C-1B87-488C-82B0-12C9C0BE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8034-A2B9-4948-9F96-FF671B41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9807-41FD-4596-AE38-CA1DD5B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CE22-231E-4C8C-A523-F32C9BB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C41-D421-42F1-B27F-590D04A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5674-51A2-4E28-A215-929977A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14A-21E7-4CFA-9C4F-560BF01B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5EFA-3F6D-4EDA-B5C0-69A31540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24D-EFA1-4A81-9CA1-EB63430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EB35-025A-4DF3-B69D-1B63FB2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82F9-2E6C-4237-AC8E-DAC96CF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E696-A42F-49CD-ADC8-B50AF289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3A9-0053-4420-9B3E-E8FCE040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324-1985-45AA-BC36-F078A88B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9A3-EAFC-4EEF-A724-962EECDE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271-DAD5-4EF9-83ED-4BA2E142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0FE-9FD9-4946-9273-5FEBAB2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22A-4532-4835-A6A3-7D505152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BC9-ED9C-4B9B-AE76-20EB637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592-0E20-4F37-88C0-D141669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50F-D417-491E-82F0-6712F06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4A5-6DD0-4D17-9C0B-0A3AE6721A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A68C-D119-4283-8366-E68F20701E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992640" cy="22417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Уголовное право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  преступлений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8675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нятие и виды стадий совер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иготовление к преступ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кушение на преступл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Оконченное и 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Добровольный отказ от преступл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е раска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ПОЧУ «Техникум экономики и права МСПК»: 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 Понятие и виды стадий совершения преступлен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man Old Style"/>
              </a:rPr>
              <a:t>Стадии совершения преступления</a:t>
            </a:r>
            <a:r>
              <a:rPr b="0" lang="ru-RU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бъединенные единым умыслом этапы развития умышленного преступления, отличающиеся друг от друга развитием осуществления объективной стороны, степенью общественной опасности, моментом прекращения преступной деятельности и степенью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ысла виновного.</a:t>
            </a:r>
            <a:br>
              <a:rPr sz="28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умышленного преступ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54100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915920"/>
            <a:ext cx="586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готовление к преступлен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ышленное создание условий для совер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30 УК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кушение на преступ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мышленное действие (бездействие) лица, непосредственно направленное на совершение преступления, если при этом преступление не было доведено до конца по независящим от этого лица обстоятельствам (ч. 3 ст. 30 У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ершается только с прямым умысло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84720" y="980640"/>
            <a:ext cx="30592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24000" y="1989000"/>
            <a:ext cx="324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, содержащее все признаки состава преступления, предусмотренное УК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29 УК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052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2. Приготовление к преступлению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искание, изготовление или приспособление средств или орудий соверш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искание соучастников пре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говор на совершение преступ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ое умышленное создание услов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3. Покушение на преступле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Виды поку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1. По степени завершенности дея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е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2. По степени годнос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Покушение на негодный объ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Покушение с негодными средства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Негодное покушение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. Оконченное и неоконченное преступле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матери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наступления указанных в законе последствий (ст. 264 УК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ступл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орм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совершения указ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реступлениях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усеченным состав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 окончания перенесен на более раннюю стадию (приготовления или покушения) (ст. 162 УК РФ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  ПРЕСТУПЛЕ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8920" y="1412640"/>
            <a:ext cx="8713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не доведено до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ца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воле лица, начавшего совершение преступления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следует говорить о добровольном отка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рвано по не зависящим от лица обстоятельства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имеют место приготовление к преступлению или покушение на совершени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. 29 УК РФ говорится лишь о двух видах неоконченного преступления: приготовлении и покуш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5. Добровольный отказ от преступления и деятельное раская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оставить сравнительную таблицу отличий добровольного от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31 УК РФ)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от деятельного раскаяния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75 УК Р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6T13:26:40Z</dcterms:modified>
  <cp:revision>15</cp:revision>
  <dc:subject/>
  <dc:title> УРОК 6.  Стадии совершения преступлений.</dc:title>
</cp:coreProperties>
</file>