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.gif" ContentType="image/gif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2A17-1B94-4EE2-8E82-047F074E67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DA63-8461-49CD-A337-93AEB4F862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375-B197-4C04-A07D-5F5F33AB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317B-D1F7-4104-A469-9DDA1220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394-3732-4703-A1DB-316F9AF8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FAB-ADCE-4A34-9635-F11E30064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31C-0233-4A7E-B4B8-B5566F48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48B-C13C-41F0-ACB4-73D3302F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B93-FF8B-4E11-8074-0C6D65F8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0A9-9C90-4C11-AE30-4B8F56DF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D177-DD91-4823-8546-407DF1CC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96F-EB1E-44C9-BB6C-01BDA260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A2B-FCB4-457E-BE3B-0F6F09C4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C2E-03C6-41C3-BCDB-EB66A73E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3B41-98CE-4271-A437-E413E7F70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19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8000" spc="-1" strike="noStrike">
                <a:solidFill>
                  <a:srgbClr val="7030a0"/>
                </a:solidFill>
                <a:latin typeface="Calibri"/>
              </a:rPr>
              <a:t>Викторин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:\Documents and Settings\Aida\Рабочий стол\НОвая ГРАФИКА сборник\блестяшки\БАБОЧКИ\35.3-web[1].gif"/>
          <p:cNvPicPr/>
          <p:nvPr/>
        </p:nvPicPr>
        <p:blipFill>
          <a:blip r:embed="rId1"/>
          <a:stretch/>
        </p:blipFill>
        <p:spPr>
          <a:xfrm>
            <a:off x="500040" y="785880"/>
            <a:ext cx="890640" cy="254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:\Documents and Settings\Aida\Рабочий стол\НОвая ГРАФИКА сборник\блестяшки\БАБОЧКИ\35.3-web[1].gif"/>
          <p:cNvPicPr/>
          <p:nvPr/>
        </p:nvPicPr>
        <p:blipFill>
          <a:blip r:embed="rId2"/>
          <a:stretch/>
        </p:blipFill>
        <p:spPr>
          <a:xfrm flipH="1">
            <a:off x="7357680" y="3046320"/>
            <a:ext cx="1071720" cy="2440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928960" y="4149720"/>
            <a:ext cx="32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Arial"/>
              </a:rPr>
              <a:t>По краевед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500200" y="5500800"/>
            <a:ext cx="451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ОШ им.А.Ларионова» г.Емвы Козлова Еле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Бусы красные висят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з кустов на нас глядя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Очень любят бусы эт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ети, птицы и медвед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1583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алина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10" descr="Рисунок10"/>
          <p:cNvPicPr/>
          <p:nvPr/>
        </p:nvPicPr>
        <p:blipFill>
          <a:blip r:embed="rId1"/>
          <a:stretch/>
        </p:blipFill>
        <p:spPr>
          <a:xfrm>
            <a:off x="1258920" y="1484280"/>
            <a:ext cx="619272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187280" y="11970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 малинка так мал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олько в рот ее взял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ут же все растая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аленькие шарик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1280" y="16002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од листом на каждой ветк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идят маленькие детк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от, кто деток соберё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уки вымажет и рот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Черни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p1006"/>
          <p:cNvPicPr/>
          <p:nvPr/>
        </p:nvPicPr>
        <p:blipFill>
          <a:blip r:embed="rId1"/>
          <a:stretch/>
        </p:blipFill>
        <p:spPr>
          <a:xfrm>
            <a:off x="2268360" y="1413000"/>
            <a:ext cx="6480360" cy="4851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Рисунок13"/>
          <p:cNvPicPr/>
          <p:nvPr/>
        </p:nvPicPr>
        <p:blipFill>
          <a:blip r:embed="rId2"/>
          <a:stretch/>
        </p:blipFill>
        <p:spPr>
          <a:xfrm>
            <a:off x="250920" y="2781360"/>
            <a:ext cx="367344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9964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ернику рвите осторожн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красит руки, как чернила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тмыть их сразу невозможно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не поможет даже мыло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о радует черника нас —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на полезная для глаз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71640" y="1557000"/>
            <a:ext cx="7797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ного ягоды в лукошках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ут и клюква, и морошка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Голубика и черника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ядом - красная ..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русн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Рисунок2"/>
          <p:cNvPicPr/>
          <p:nvPr/>
        </p:nvPicPr>
        <p:blipFill>
          <a:blip r:embed="rId1"/>
          <a:stretch/>
        </p:blipFill>
        <p:spPr>
          <a:xfrm>
            <a:off x="1979640" y="1773360"/>
            <a:ext cx="51228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547640" y="907920"/>
            <a:ext cx="67788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 брусники вкус особы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о ли кислый, то ли н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колько ты ее ни пробуй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 найдешь на то отв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 зеленые листоч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е желтеют и зим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осили мы из ле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у ягоду дом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Этот кустарник – ближайший родственник садовой красавицы, царицы цветов – роз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844280"/>
            <a:ext cx="76312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расные и чёрные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ислые и сладкие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ак и просятся в рот,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И в варенье и в компо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3200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alibri"/>
              </a:rPr>
              <a:t>Ягод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1476360" y="119700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04a7b"/>
                </a:solidFill>
                <a:latin typeface="Arial"/>
              </a:rPr>
              <a:t>Отгадайте тему виктор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Шиповник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4803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55640" y="1052640"/>
            <a:ext cx="794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уст с шипами, куст колючи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о совсем, совсем не злючи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озой он цветет прелестной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год нет его полезней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7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58560" y="170028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Расту я на болоте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озреваю в середине лет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 сочна и сладк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ранжевая ягод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орош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click?url=http%3A%2F%2Fwww"/>
          <p:cNvPicPr/>
          <p:nvPr/>
        </p:nvPicPr>
        <p:blipFill>
          <a:blip r:embed="rId1"/>
          <a:stretch/>
        </p:blipFill>
        <p:spPr>
          <a:xfrm>
            <a:off x="1979640" y="1413000"/>
            <a:ext cx="6561000" cy="4848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Рисунок11"/>
          <p:cNvPicPr/>
          <p:nvPr/>
        </p:nvPicPr>
        <p:blipFill>
          <a:blip r:embed="rId2"/>
          <a:stretch/>
        </p:blipFill>
        <p:spPr>
          <a:xfrm>
            <a:off x="0" y="3789360"/>
            <a:ext cx="24843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76000" y="16002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орошка, морошк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Тоненькая ножка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Ягодка – фонар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ладостью одарит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Ягоды не сладость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Зато глазу радост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 садам украшенье,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 птицам угощенье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ябина</a:t>
            </a: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 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0" descr="Рисунок12"/>
          <p:cNvPicPr/>
          <p:nvPr/>
        </p:nvPicPr>
        <p:blipFill>
          <a:blip r:embed="rId1"/>
          <a:stretch/>
        </p:blipFill>
        <p:spPr>
          <a:xfrm>
            <a:off x="1403280" y="1557360"/>
            <a:ext cx="583272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042560" y="1125000"/>
            <a:ext cx="7572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Хоть зима свои пер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Расстелила у рябины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И вокруг морозом веет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Ярко ягода алеет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9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528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то за куст такой душистый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Лист резной и бархатистый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Ягодки-подруженьки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Черные жемчужинк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мороди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cc"/>
                </a:solidFill>
                <a:latin typeface="Calibri"/>
              </a:rPr>
              <a:t>Северные ягоды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9280" y="1052280"/>
            <a:ext cx="8147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уст смородины в сад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 лукошко ягод собер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варит бабушка варенье,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печет для нас печень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10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02920" y="155736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зял Ванюша туесок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шел Ваня во лесо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ит: ягодка на коч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крывается листочко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за ягодка такая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ловно небо, голуб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Голуб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6" descr="click?url=http%3A%2F%2Fwww"/>
          <p:cNvPicPr/>
          <p:nvPr/>
        </p:nvPicPr>
        <p:blipFill>
          <a:blip r:embed="rId1"/>
          <a:stretch/>
        </p:blipFill>
        <p:spPr>
          <a:xfrm>
            <a:off x="1692360" y="1557360"/>
            <a:ext cx="7216560" cy="474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Рисунок6"/>
          <p:cNvPicPr/>
          <p:nvPr/>
        </p:nvPicPr>
        <p:blipFill>
          <a:blip r:embed="rId2"/>
          <a:stretch/>
        </p:blipFill>
        <p:spPr>
          <a:xfrm>
            <a:off x="0" y="3429000"/>
            <a:ext cx="3203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1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очные эти ягоды, но очень уж крупные в них косточки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остяни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6546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акие вы знаете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пословицы о ягодах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2349360"/>
            <a:ext cx="8435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расна ягодка, да на вкус горь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то еще цветочки, а ягодки вперед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ужбина - калина, родина – мали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824120" y="4761000"/>
            <a:ext cx="2457360" cy="183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5292720" y="4724280"/>
            <a:ext cx="24130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528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http://www.playroom.ru/content/view/1956/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http://prezentacii.com/obschestvoznanie/3557-severnye-yagody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priroda40a.narod.ru/veresk/Brus_sti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detskiychas.ru/zagadochki/zagadki-brusnik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crazymama.ru/zagad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images.yandex.ru/yand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yandex.ru/yandsear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http://www.o-smorodine.ru/stihi-skazki-pro-smorodinu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Calibri"/>
              </a:rPr>
              <a:t>Краеведение. Второй класс. (Первый год обучения). Методическое пособие. Ярасова Е.К. Сыктывкар:сыктывкарский городской творческий клуб учителей начальных классов «Поиск», 2001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1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71280" y="1600200"/>
            <a:ext cx="75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Эти ягоды найдёте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На лесном болоте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Словно там наброса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расные горошины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люкв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ФОТОработы.ru - Denba76 - дары природы - клюква"/>
          <p:cNvPicPr/>
          <p:nvPr/>
        </p:nvPicPr>
        <p:blipFill>
          <a:blip r:embed="rId1"/>
          <a:stretch/>
        </p:blipFill>
        <p:spPr>
          <a:xfrm>
            <a:off x="2771640" y="148428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Рисунок9"/>
          <p:cNvPicPr/>
          <p:nvPr/>
        </p:nvPicPr>
        <p:blipFill>
          <a:blip r:embed="rId2"/>
          <a:stretch/>
        </p:blipFill>
        <p:spPr>
          <a:xfrm>
            <a:off x="0" y="2637000"/>
            <a:ext cx="356400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50560" y="160020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ет кислее ягод этих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олько все равно приветь и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тамин в них - лучший друг в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мечательная клюкв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Calibri"/>
              </a:rPr>
              <a:t>загадка №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76360" y="1267920"/>
            <a:ext cx="6921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припёке у пень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ного тонких стебель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ждый тонкий стебелё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ржит алый огонёк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Разгибаем стебельки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бираем огонь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Земляника 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Рисунок8"/>
          <p:cNvPicPr/>
          <p:nvPr/>
        </p:nvPicPr>
        <p:blipFill>
          <a:blip r:embed="rId1"/>
          <a:stretch/>
        </p:blipFill>
        <p:spPr>
          <a:xfrm>
            <a:off x="1619280" y="1413000"/>
            <a:ext cx="5977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280" y="1267920"/>
            <a:ext cx="793116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от стоит, полна тумана,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Земляничная поляна,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А вокруг — зелёный лес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Ёлки, сосны до небес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                      С. Козл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8:39:08Z</dcterms:created>
  <dc:creator>Большаков</dc:creator>
  <dc:description/>
  <dc:language>en-US</dc:language>
  <cp:lastModifiedBy>Елена</cp:lastModifiedBy>
  <dcterms:modified xsi:type="dcterms:W3CDTF">2024-01-06T11:21:40Z</dcterms:modified>
  <cp:revision>73</cp:revision>
  <dc:subject/>
  <dc:title>Северные ягоды</dc:title>
</cp:coreProperties>
</file>