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2.gif" ContentType="image/gif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18.png" ContentType="image/png"/>
  <Override PartName="/ppt/media/image7.jpeg" ContentType="image/jpeg"/>
  <Override PartName="/ppt/media/image12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A24A-60FA-46F0-BC64-B42D0D1E1D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F11C-371A-435E-9E4B-60DEF2273D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8863-695F-48AE-9E33-81542432F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3DF1-478A-49F8-B1CA-43F548A2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537F-2DE7-419B-977A-932769615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87B4-8F14-473B-862B-866425302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5EB1-D9A1-4AD5-AA15-4FCB8FB8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25C1-C44A-4E27-BCCF-3C1CB6C0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D3DE-75CF-423B-8D90-0F69B452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D3FF-0959-48BC-AD17-A35E0CB7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0B26-99FF-43C4-998D-46306942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06A3-0F97-42F1-BF7F-E5145CAD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CA5A-9C40-486B-A272-56261038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56E5-B503-4768-9718-1368A527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5426-DD0F-4F70-9168-085B8FB008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7360" y="19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ru-RU" sz="8000" spc="-1" strike="noStrike">
                <a:solidFill>
                  <a:srgbClr val="7030a0"/>
                </a:solidFill>
                <a:latin typeface="Calibri"/>
              </a:rPr>
              <a:t>Викторин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:\Documents and Settings\Aida\Рабочий стол\НОвая ГРАФИКА сборник\блестяшки\БАБОЧКИ\35.3-web[1].gif"/>
          <p:cNvPicPr/>
          <p:nvPr/>
        </p:nvPicPr>
        <p:blipFill>
          <a:blip r:embed="rId1"/>
          <a:stretch/>
        </p:blipFill>
        <p:spPr>
          <a:xfrm>
            <a:off x="500040" y="785880"/>
            <a:ext cx="890640" cy="2547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:\Documents and Settings\Aida\Рабочий стол\НОвая ГРАФИКА сборник\блестяшки\БАБОЧКИ\35.3-web[1].gif"/>
          <p:cNvPicPr/>
          <p:nvPr/>
        </p:nvPicPr>
        <p:blipFill>
          <a:blip r:embed="rId2"/>
          <a:stretch/>
        </p:blipFill>
        <p:spPr>
          <a:xfrm flipH="1">
            <a:off x="7357680" y="3046320"/>
            <a:ext cx="1071720" cy="244008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2928960" y="4149720"/>
            <a:ext cx="32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53735"/>
                </a:solidFill>
                <a:latin typeface="Arial"/>
              </a:rPr>
              <a:t>По краевед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2500200" y="5500800"/>
            <a:ext cx="451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СОШ им.А.Ларионова» г.Емвы Козлова Еле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Calibri"/>
              </a:rPr>
              <a:t>загадка №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Бусы красные висят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Из кустов на нас глядят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Очень любят бусы эт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Дети, птицы и медведи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1583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Малина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10" descr="Рисунок10"/>
          <p:cNvPicPr/>
          <p:nvPr/>
        </p:nvPicPr>
        <p:blipFill>
          <a:blip r:embed="rId1"/>
          <a:stretch/>
        </p:blipFill>
        <p:spPr>
          <a:xfrm>
            <a:off x="1258920" y="1484280"/>
            <a:ext cx="619272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187280" y="11970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А малинка так мала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Только в рот ее взяла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Тут же все растаял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Маленькие шарики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Calibri"/>
              </a:rPr>
              <a:t>загадка №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11280" y="160020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Под листом на каждой ветк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Сидят маленькие детки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Тот, кто деток соберёт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Руки вымажет и рот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Черни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8" descr="p1006"/>
          <p:cNvPicPr/>
          <p:nvPr/>
        </p:nvPicPr>
        <p:blipFill>
          <a:blip r:embed="rId1"/>
          <a:stretch/>
        </p:blipFill>
        <p:spPr>
          <a:xfrm>
            <a:off x="2268360" y="1413000"/>
            <a:ext cx="6480360" cy="4851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Рисунок13"/>
          <p:cNvPicPr/>
          <p:nvPr/>
        </p:nvPicPr>
        <p:blipFill>
          <a:blip r:embed="rId2"/>
          <a:stretch/>
        </p:blipFill>
        <p:spPr>
          <a:xfrm>
            <a:off x="250920" y="2781360"/>
            <a:ext cx="3673440" cy="34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89964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ернику рвите осторожно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красит руки, как чернила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тмыть их сразу невозможно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 не поможет даже мыло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о радует черника нас —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на полезная для глаз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Calibri"/>
              </a:rPr>
              <a:t>загадка №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71640" y="1557000"/>
            <a:ext cx="7797600" cy="40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Много ягоды в лукошках,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Тут и клюква, и морошка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Голубика и черника,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Рядом - красная ..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Брусни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0" descr="Рисунок2"/>
          <p:cNvPicPr/>
          <p:nvPr/>
        </p:nvPicPr>
        <p:blipFill>
          <a:blip r:embed="rId1"/>
          <a:stretch/>
        </p:blipFill>
        <p:spPr>
          <a:xfrm>
            <a:off x="1979640" y="1773360"/>
            <a:ext cx="512280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547640" y="907920"/>
            <a:ext cx="677880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 брусники вкус особый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о ли кислый, то ли не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колько ты ее ни пробуй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е найдешь на то отве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 зеленые листоч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е желтеют и зимо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иносили мы из ле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Эту ягоду домо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Calibri"/>
              </a:rPr>
              <a:t>загадка №6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Этот кустарник – ближайший родственник садовой красавицы, царицы цветов – розы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6920" y="1844280"/>
            <a:ext cx="763128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расные и чёрные,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ислые и сладкие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ак и просятся в рот,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И в варенье и в компо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32000" y="530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Calibri"/>
              </a:rPr>
              <a:t>Ягоды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1476360" y="1197000"/>
            <a:ext cx="67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04a7b"/>
                </a:solidFill>
                <a:latin typeface="Arial"/>
              </a:rPr>
              <a:t>Отгадайте тему виктор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Шиповник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48036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755640" y="1052640"/>
            <a:ext cx="794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уст с шипами, куст колючий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о совсем, совсем не злючий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озой он цветет прелестной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Ягод нет его полезней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Calibri"/>
              </a:rPr>
              <a:t>загадка №7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258560" y="1700280"/>
            <a:ext cx="78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Расту я на болоте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Созреваю в середине лета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И сочна и сладка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Оранжевая ягодка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Морош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6" descr="click?url=http%3A%2F%2Fwww"/>
          <p:cNvPicPr/>
          <p:nvPr/>
        </p:nvPicPr>
        <p:blipFill>
          <a:blip r:embed="rId1"/>
          <a:stretch/>
        </p:blipFill>
        <p:spPr>
          <a:xfrm>
            <a:off x="1979640" y="1413000"/>
            <a:ext cx="6561000" cy="4848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Рисунок11"/>
          <p:cNvPicPr/>
          <p:nvPr/>
        </p:nvPicPr>
        <p:blipFill>
          <a:blip r:embed="rId2"/>
          <a:stretch/>
        </p:blipFill>
        <p:spPr>
          <a:xfrm>
            <a:off x="0" y="3789360"/>
            <a:ext cx="248436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476000" y="160020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Морошка, морошка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Тоненькая ножка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Ягодка – фонари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Сладостью одарит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Calibri"/>
              </a:rPr>
              <a:t>загадка №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Ягоды не сладость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Зато глазу радость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И садам украшенье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А птицам угощенье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Рябина</a:t>
            </a:r>
            <a:r>
              <a:rPr b="1" lang="ru-RU" sz="6000" spc="-1" strike="noStrike">
                <a:solidFill>
                  <a:srgbClr val="7030a0"/>
                </a:solidFill>
                <a:latin typeface="Calibri"/>
              </a:rPr>
              <a:t> </a:t>
            </a:r>
            <a:br>
              <a:rPr sz="28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0" descr="Рисунок12"/>
          <p:cNvPicPr/>
          <p:nvPr/>
        </p:nvPicPr>
        <p:blipFill>
          <a:blip r:embed="rId1"/>
          <a:stretch/>
        </p:blipFill>
        <p:spPr>
          <a:xfrm>
            <a:off x="1403280" y="1557360"/>
            <a:ext cx="583272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042560" y="1125000"/>
            <a:ext cx="7572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Хоть зима свои перин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Расстелила у рябины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И вокруг морозом веет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Ярко ягода алеет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Calibri"/>
              </a:rPr>
              <a:t>загадка №9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Что за куст такой душистый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Лист резной и бархатистый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Ягодки-подруженьки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Черные жемчужинки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Смородин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cc"/>
                </a:solidFill>
                <a:latin typeface="Calibri"/>
              </a:rPr>
              <a:t>Северные ягоды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39280" y="1052280"/>
            <a:ext cx="8147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Куст смородины в саду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 лукошко ягод соберу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Сварит бабушка варенье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Напечет для нас печень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Calibri"/>
              </a:rPr>
              <a:t>загадка №1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02920" y="155736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зял Ванюша туесок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шел Ваня во лесок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дит: ягодка на коч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крывается листочко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Что за ягодка такая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ловно небо, голуба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Голуби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6" descr="click?url=http%3A%2F%2Fwww"/>
          <p:cNvPicPr/>
          <p:nvPr/>
        </p:nvPicPr>
        <p:blipFill>
          <a:blip r:embed="rId1"/>
          <a:stretch/>
        </p:blipFill>
        <p:spPr>
          <a:xfrm>
            <a:off x="1692360" y="1557360"/>
            <a:ext cx="7216560" cy="4745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Рисунок6"/>
          <p:cNvPicPr/>
          <p:nvPr/>
        </p:nvPicPr>
        <p:blipFill>
          <a:blip r:embed="rId2"/>
          <a:stretch/>
        </p:blipFill>
        <p:spPr>
          <a:xfrm>
            <a:off x="0" y="3429000"/>
            <a:ext cx="320364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Calibri"/>
              </a:rPr>
              <a:t>загадка №1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Сочные эти ягоды, но очень уж крупные в них косточки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Костяни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6546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Какие вы знаете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пословицы о ягодах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0560" y="2349360"/>
            <a:ext cx="84358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расна ягодка, да на вкус горьк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Это еще цветочки, а ягодки вперед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Чужбина - калина, родина – малин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1824120" y="4761000"/>
            <a:ext cx="2457360" cy="1836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"/>
          <p:cNvPicPr/>
          <p:nvPr/>
        </p:nvPicPr>
        <p:blipFill>
          <a:blip r:embed="rId2"/>
          <a:stretch/>
        </p:blipFill>
        <p:spPr>
          <a:xfrm>
            <a:off x="5292720" y="4724280"/>
            <a:ext cx="241308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5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9528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2060"/>
                </a:solidFill>
                <a:uFillTx/>
                <a:latin typeface="Calibri"/>
              </a:rPr>
              <a:t>http://www.playroom.ru/content/view/1956/1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http://prezentacii.com/obschestvoznanie/3557-severnye-yagody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http://priroda40a.narod.ru/veresk/Brus_stix.ht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http://detskiychas.ru/zagadochki/zagadki-brusnika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http://crazymama.ru/zagad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http://images.yandex.ru/yandsear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http://yandex.ru/yandsear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http://www.o-smorodine.ru/stihi-skazki-pro-smorodinu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2060"/>
                </a:solidFill>
                <a:uFillTx/>
                <a:latin typeface="Calibri"/>
              </a:rPr>
              <a:t>Краеведение. Второй класс. (Первый год обучения). Методическое пособие. Ярасова Е.К. Сыктывкар:сыктывкарский городской творческий клуб учителей начальных классов «Поиск», 2001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Calibri"/>
              </a:rPr>
              <a:t>загадка №1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71280" y="1600200"/>
            <a:ext cx="756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Эти ягоды найдёте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На лесном болоте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Словно там набросан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Красные горошины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Клюкв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ФОТОработы.ru - Denba76 - дары природы - клюква"/>
          <p:cNvPicPr/>
          <p:nvPr/>
        </p:nvPicPr>
        <p:blipFill>
          <a:blip r:embed="rId1"/>
          <a:stretch/>
        </p:blipFill>
        <p:spPr>
          <a:xfrm>
            <a:off x="2771640" y="1484280"/>
            <a:ext cx="603576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Рисунок9"/>
          <p:cNvPicPr/>
          <p:nvPr/>
        </p:nvPicPr>
        <p:blipFill>
          <a:blip r:embed="rId2"/>
          <a:stretch/>
        </p:blipFill>
        <p:spPr>
          <a:xfrm>
            <a:off x="0" y="2637000"/>
            <a:ext cx="356400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ет кислее ягод этих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олько все равно приветь их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тамин в них - лучший друг ва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мечательная клюква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Calibri"/>
              </a:rPr>
              <a:t>загадка №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476360" y="1267920"/>
            <a:ext cx="69213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 припёке у пеньков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ного тонких стебелько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аждый тонкий стебелё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ержит алый огонёк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згибаем стебельки 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обираем огоньк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Земляника </a:t>
            </a:r>
            <a:br>
              <a:rPr sz="28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0" descr="Рисунок8"/>
          <p:cNvPicPr/>
          <p:nvPr/>
        </p:nvPicPr>
        <p:blipFill>
          <a:blip r:embed="rId1"/>
          <a:stretch/>
        </p:blipFill>
        <p:spPr>
          <a:xfrm>
            <a:off x="1619280" y="1413000"/>
            <a:ext cx="597708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280" y="1267920"/>
            <a:ext cx="793116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от стоит, полна тумана,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Земляничная поляна,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А вокруг — зелёный лес,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Ёлки, сосны до небес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                            С. Козлов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3T08:39:08Z</dcterms:created>
  <dc:creator>Большаков</dc:creator>
  <dc:description/>
  <dc:language>en-US</dc:language>
  <cp:lastModifiedBy>Елена</cp:lastModifiedBy>
  <dcterms:modified xsi:type="dcterms:W3CDTF">2024-01-06T11:21:40Z</dcterms:modified>
  <cp:revision>73</cp:revision>
  <dc:subject/>
  <dc:title>Северные ягоды</dc:title>
</cp:coreProperties>
</file>